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6A1-B8DA-4358-ADFA-0A9F20E9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532-1D51-419F-9357-C9202C67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128-F089-4C1A-B5BB-ECC71968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EC0-BB57-4C01-ACA2-493211B9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CE4-F824-4CC6-8BB6-CFF147AA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C3F-5E62-410D-9AA3-87FAE6B4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C98-C51B-4A84-83D9-F5634C34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CE9-FA6F-41B3-9C16-14D156B2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4D2-9DB1-4C23-B056-F09F9475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41A-004B-4E4D-9595-53D25E2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74E-BA52-466A-BC54-EFE59A5F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0DE-7775-44FD-A4DB-CF027FE6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CF35-419B-459B-9C60-67D7F1A6C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256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детский сад комбинированного вида № 56 « Северяноч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68360" y="1052640"/>
            <a:ext cx="849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 « Дружок -Чесночок»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268360" y="5734080"/>
            <a:ext cx="60865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итатель высшей категории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тенко О.В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3816360" cy="28242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46" name="Rectangle 7"/>
          <p:cNvSpPr/>
          <p:nvPr/>
        </p:nvSpPr>
        <p:spPr>
          <a:xfrm>
            <a:off x="179280" y="281772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осрочный,   групповой, исследовательско - творческ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14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392720" cy="32990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49" name="Rectangle 7"/>
          <p:cNvSpPr/>
          <p:nvPr/>
        </p:nvSpPr>
        <p:spPr>
          <a:xfrm>
            <a:off x="250920" y="1260360"/>
            <a:ext cx="4105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дамент здоровья и формирования тела закладывается в дошкольном возра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та о здоровье детей дошкольного возраста складывается из создания условий, способствующих благоприятному функционированию и развитию различных органов и систем, а также мер, направленных на активизацию и совершенствование физических возможностей воспит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1979640" y="476280"/>
            <a:ext cx="482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туальност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xit" presetID="4" presetSubtype="16">
                                  <p:stCondLst>
                                    <p:cond delay="14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и укрепление   установок  здорового образа жизни у детей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условий, направленных  на    сохранение, восстановление и укрепления здоровья детей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549360"/>
            <a:ext cx="2590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716360" y="4292640"/>
            <a:ext cx="3095640" cy="23209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4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4" presetSubtype="16">
                                  <p:stCondLst>
                                    <p:cond delay="36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Укрепление здоровь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овышение   активности функций организма и общей работоспособ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Обеспечение психологического комфорта на протяжении всего времени пребывания в детском сад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На основе наблюдения за ростом чеснока  4.Сформировать умение распознавать    состояния растущих орг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Овладение детьми элементарными знаниями о своем организме,  способах   укрепления собственного здоров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2771640" y="549360"/>
            <a:ext cx="32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232000" cy="1674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основание актуальности темы, мотивация её выбора. Формулирование задач и цели проекта. Подбор методической. справочной, энциклопедической и художественной литературы по тематике проекта. Подбор необходимого оборудования и  пособий для практического обогащения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3203640" y="54936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этап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211640" y="3789360"/>
            <a:ext cx="4248000" cy="24796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3" name="Рисунок 1" descr="Food081"/>
          <p:cNvPicPr/>
          <p:nvPr/>
        </p:nvPicPr>
        <p:blipFill>
          <a:blip r:embed="rId2"/>
          <a:stretch/>
        </p:blipFill>
        <p:spPr>
          <a:xfrm>
            <a:off x="826920" y="4437000"/>
            <a:ext cx="1905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4" presetSubtype="16">
                                  <p:stCondLst>
                                    <p:cond delay="26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дактические  иг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уктивные виды деятель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укты устного народного творчества (загадки, стихотворения,      поговорки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тивные материа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ющи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3348000" y="549360"/>
            <a:ext cx="2519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этап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187800" cy="23875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4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крытое занятие “Дружок-чесночок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ставка продуктов детск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ценка этапов реализации проекта детьм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3564000" y="620640"/>
            <a:ext cx="266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этап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276720" y="3860640"/>
            <a:ext cx="3168360" cy="27576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4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4" presetSubtype="16">
                                  <p:stCondLst>
                                    <p:cond delay="26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5:10:36Z</dcterms:created>
  <dc:creator>Owner</dc:creator>
  <dc:description/>
  <dc:language>en-US</dc:language>
  <cp:lastModifiedBy>Алёна</cp:lastModifiedBy>
  <dcterms:modified xsi:type="dcterms:W3CDTF">2010-11-18T19:36:54Z</dcterms:modified>
  <cp:revision>7</cp:revision>
  <dc:subject/>
  <dc:title> </dc:title>
</cp:coreProperties>
</file>