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2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92AD-53CB-48B1-98DF-3939C45AE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792D-9A26-4413-A9E1-DD30FAFCA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002B-4B19-43B6-A78C-0EBFADA9C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C682-7EF6-4658-9795-D43B60764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5D89-1DA6-4EFF-AF68-7F04A4559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4AFF-D94A-43E7-B371-C576077E9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F437-C10E-43A3-8E79-CB30FD1BB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75E2-85CA-4370-BF64-D0E4B6883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4D73-AF5C-4519-B434-CFFEDE543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D91A-0CD5-4BC9-8077-62510656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CA96-9478-4524-982A-4437378E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8532-7813-454A-AD55-365A0C89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7B80A-1271-463D-AB28-540E50A96F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0" descr="0_28b9d_169d0181_XL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3054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0" y="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0" y="208764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500" spc="-1" strike="noStrike">
                <a:solidFill>
                  <a:srgbClr val="333399"/>
                </a:solidFill>
                <a:latin typeface="Arial"/>
              </a:rPr>
              <a:t>ТРАНСЦЕДЕНТНЫЕ ЧИСЛА π</a:t>
            </a:r>
            <a:r>
              <a:rPr b="1" lang="ru-RU" sz="55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5500" spc="-1" strike="noStrike">
                <a:solidFill>
                  <a:srgbClr val="333399"/>
                </a:solidFill>
                <a:latin typeface="Arial"/>
              </a:rPr>
              <a:t>И</a:t>
            </a:r>
            <a:r>
              <a:rPr b="1" lang="ru-RU" sz="5500" spc="-1" strike="noStrike">
                <a:solidFill>
                  <a:srgbClr val="333399"/>
                </a:solidFill>
                <a:latin typeface="Arial"/>
              </a:rPr>
              <a:t> е</a:t>
            </a:r>
            <a:endParaRPr b="1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1692360" y="4287960"/>
            <a:ext cx="5761080" cy="25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Выполнил: ученик 10-б класса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Атаев Владимир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Учитель Большакова Екатерина      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Николаевна  ГБОУ 489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Санкт-Петербург                    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1" descr="j0225290"/>
          <p:cNvPicPr/>
          <p:nvPr/>
        </p:nvPicPr>
        <p:blipFill>
          <a:blip r:embed="rId2"/>
          <a:stretch/>
        </p:blipFill>
        <p:spPr>
          <a:xfrm>
            <a:off x="7812000" y="4508640"/>
            <a:ext cx="1067040" cy="18777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0_28b9d_169d0181_XL"/>
          <p:cNvPicPr/>
          <p:nvPr/>
        </p:nvPicPr>
        <p:blipFill>
          <a:blip r:embed="rId1"/>
          <a:stretch/>
        </p:blipFill>
        <p:spPr>
          <a:xfrm>
            <a:off x="0" y="138240"/>
            <a:ext cx="9144000" cy="6581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j0225290"/>
          <p:cNvPicPr/>
          <p:nvPr/>
        </p:nvPicPr>
        <p:blipFill>
          <a:blip r:embed="rId2"/>
          <a:stretch/>
        </p:blipFill>
        <p:spPr>
          <a:xfrm>
            <a:off x="7812000" y="4508640"/>
            <a:ext cx="1067040" cy="187776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1"/>
          <p:cNvSpPr/>
          <p:nvPr/>
        </p:nvSpPr>
        <p:spPr>
          <a:xfrm>
            <a:off x="250920" y="549360"/>
            <a:ext cx="889308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1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явилось сравнительно недавно. Его иногда необоснованно называют «неперовым числом» в честь изобретателя логарифмов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жона Непер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1550 – 1617)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2"/>
          <p:cNvSpPr/>
          <p:nvPr/>
        </p:nvSpPr>
        <p:spPr>
          <a:xfrm>
            <a:off x="2411280" y="1870200"/>
            <a:ext cx="6732720" cy="29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1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первые обозначение 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вёл швейцарский и российский математик, академик Петер-бургской АН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Леонард Эйле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1707 – 1783). Выбор буквы, возможно, связан с тем, что         с неё начинается слово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exponential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«пока-зательный», «экспоненциальный»). Эйлер вычислил точные 23 десятичны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4" descr="b907bcb3d2c879656c30fd07cfc137781bddd7fb"/>
          <p:cNvPicPr/>
          <p:nvPr/>
        </p:nvPicPr>
        <p:blipFill>
          <a:blip r:embed="rId3"/>
          <a:stretch/>
        </p:blipFill>
        <p:spPr>
          <a:xfrm>
            <a:off x="460440" y="1987560"/>
            <a:ext cx="2085840" cy="26956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5"/>
          <p:cNvSpPr/>
          <p:nvPr/>
        </p:nvSpPr>
        <p:spPr>
          <a:xfrm>
            <a:off x="212760" y="4695840"/>
            <a:ext cx="7959600" cy="17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ка числа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использовав его представление в виде бесконечного числового ряда. Соответственно,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ычно называют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числом Эйлер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0_28b9d_169d0181_XL"/>
          <p:cNvPicPr/>
          <p:nvPr/>
        </p:nvPicPr>
        <p:blipFill>
          <a:blip r:embed="rId1"/>
          <a:stretch/>
        </p:blipFill>
        <p:spPr>
          <a:xfrm>
            <a:off x="0" y="138240"/>
            <a:ext cx="9144000" cy="6581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j0225290"/>
          <p:cNvPicPr/>
          <p:nvPr/>
        </p:nvPicPr>
        <p:blipFill>
          <a:blip r:embed="rId2"/>
          <a:stretch/>
        </p:blipFill>
        <p:spPr>
          <a:xfrm>
            <a:off x="7812000" y="4508640"/>
            <a:ext cx="1067040" cy="187776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7"/>
          <p:cNvSpPr/>
          <p:nvPr/>
        </p:nvSpPr>
        <p:spPr>
          <a:xfrm>
            <a:off x="592200" y="603360"/>
            <a:ext cx="8300880" cy="281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Приближенное значение числа 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вно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2,718281828..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Aft>
                <a:spcPts val="187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Aft>
                <a:spcPts val="45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ихотворная мнемофраза, помогающая его запомнить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Aft>
                <a:spcPts val="45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кспоненту помнить способ есть простой: два и семь десятых, дважды Лев Толст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 (1828 – год рождения Л.Н. Толстого)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9" descr="Untitled-16(3)"/>
          <p:cNvPicPr/>
          <p:nvPr/>
        </p:nvPicPr>
        <p:blipFill>
          <a:blip r:embed="rId3"/>
          <a:stretch/>
        </p:blipFill>
        <p:spPr>
          <a:xfrm>
            <a:off x="611280" y="3429000"/>
            <a:ext cx="2047680" cy="241632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10"/>
          <p:cNvSpPr/>
          <p:nvPr/>
        </p:nvSpPr>
        <p:spPr>
          <a:xfrm>
            <a:off x="2870280" y="3465360"/>
            <a:ext cx="5041800" cy="22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станту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первые вычислил швейцарский математик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аниил Бернулл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1700 – 1782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ходе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я задачи о предельной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личине процентного дохода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0_28b9d_169d0181_XL"/>
          <p:cNvPicPr/>
          <p:nvPr/>
        </p:nvPicPr>
        <p:blipFill>
          <a:blip r:embed="rId1"/>
          <a:stretch/>
        </p:blipFill>
        <p:spPr>
          <a:xfrm>
            <a:off x="0" y="0"/>
            <a:ext cx="9144000" cy="6581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j0225290"/>
          <p:cNvPicPr/>
          <p:nvPr/>
        </p:nvPicPr>
        <p:blipFill>
          <a:blip r:embed="rId2"/>
          <a:stretch/>
        </p:blipFill>
        <p:spPr>
          <a:xfrm>
            <a:off x="7812000" y="4508640"/>
            <a:ext cx="1067040" cy="18777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5"/>
          <p:cNvSpPr/>
          <p:nvPr/>
        </p:nvSpPr>
        <p:spPr>
          <a:xfrm>
            <a:off x="2994120" y="2611440"/>
            <a:ext cx="59403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первое число, которое не было выведено как трансцендентное специально, его трансцендентность была доказана только в 1873 году французским математиком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Шарлем Эрмит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9" descr="i?id=301690295-66-72&amp;n=21"/>
          <p:cNvPicPr/>
          <p:nvPr/>
        </p:nvPicPr>
        <p:blipFill>
          <a:blip r:embed="rId3"/>
          <a:stretch/>
        </p:blipFill>
        <p:spPr>
          <a:xfrm>
            <a:off x="611280" y="2708280"/>
            <a:ext cx="2130480" cy="28796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1"/>
          <p:cNvSpPr/>
          <p:nvPr/>
        </p:nvSpPr>
        <p:spPr>
          <a:xfrm>
            <a:off x="1371600" y="663480"/>
            <a:ext cx="756144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являетс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рансцендентны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.е. его нельзя получить в виде корня алгебраического уравнения с целыми коэффициентами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2" descr="tips"/>
          <p:cNvPicPr/>
          <p:nvPr/>
        </p:nvPicPr>
        <p:blipFill>
          <a:blip r:embed="rId4"/>
          <a:stretch/>
        </p:blipFill>
        <p:spPr>
          <a:xfrm>
            <a:off x="515880" y="701640"/>
            <a:ext cx="809640" cy="10810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_28b9d_169d0181_XL"/>
          <p:cNvPicPr/>
          <p:nvPr/>
        </p:nvPicPr>
        <p:blipFill>
          <a:blip r:embed="rId1"/>
          <a:stretch/>
        </p:blipFill>
        <p:spPr>
          <a:xfrm>
            <a:off x="0" y="0"/>
            <a:ext cx="9144000" cy="6581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j0225290"/>
          <p:cNvPicPr/>
          <p:nvPr/>
        </p:nvPicPr>
        <p:blipFill>
          <a:blip r:embed="rId2"/>
          <a:stretch/>
        </p:blipFill>
        <p:spPr>
          <a:xfrm>
            <a:off x="7812000" y="4508640"/>
            <a:ext cx="1067040" cy="187776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4"/>
          <p:cNvSpPr/>
          <p:nvPr/>
        </p:nvSpPr>
        <p:spPr>
          <a:xfrm>
            <a:off x="409680" y="549360"/>
            <a:ext cx="832464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. Эйлер открыл бесконечную цепную дробь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представления числа е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e = 2+\cfrac{1}{1 + \cfrac{1}{2 + \cfrac{2}{3 + \cfrac{3}{4+\cfrac{4}{\ldots}}}}} "/>
          <p:cNvPicPr/>
          <p:nvPr/>
        </p:nvPicPr>
        <p:blipFill>
          <a:blip r:embed="rId3"/>
          <a:stretch/>
        </p:blipFill>
        <p:spPr>
          <a:xfrm>
            <a:off x="2411280" y="1628640"/>
            <a:ext cx="3961080" cy="267984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477720" y="4343400"/>
            <a:ext cx="756144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обь 2721/1001 дает значение числа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 шестью верными десятичными знаками, дробь 878/323 – с тремя верными десятичными знаками, а дробь 87/32 – с двумя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0_28b9d_169d0181_XL"/>
          <p:cNvPicPr/>
          <p:nvPr/>
        </p:nvPicPr>
        <p:blipFill>
          <a:blip r:embed="rId1"/>
          <a:stretch/>
        </p:blipFill>
        <p:spPr>
          <a:xfrm>
            <a:off x="0" y="0"/>
            <a:ext cx="9144000" cy="6581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j0225290"/>
          <p:cNvPicPr/>
          <p:nvPr/>
        </p:nvPicPr>
        <p:blipFill>
          <a:blip r:embed="rId2"/>
          <a:stretch/>
        </p:blipFill>
        <p:spPr>
          <a:xfrm>
            <a:off x="7812000" y="4508640"/>
            <a:ext cx="1067040" cy="187776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6"/>
          <p:cNvSpPr/>
          <p:nvPr/>
        </p:nvSpPr>
        <p:spPr>
          <a:xfrm>
            <a:off x="790560" y="374040"/>
            <a:ext cx="75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пособы определения числа е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250920" y="1627560"/>
            <a:ext cx="3600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4600" indent="-174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ез преде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250920" y="3427560"/>
            <a:ext cx="36003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4600" indent="-174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ез определенный интегра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9" descr="e = \lim_{x\to\infty} \left(1+\frac{1}{x}\right)^x"/>
          <p:cNvPicPr/>
          <p:nvPr/>
        </p:nvPicPr>
        <p:blipFill>
          <a:blip r:embed="rId3"/>
          <a:stretch/>
        </p:blipFill>
        <p:spPr>
          <a:xfrm>
            <a:off x="4211640" y="1628640"/>
            <a:ext cx="2881440" cy="793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1" descr="e=\int \limits_{0}^{1}1+\operatorname {sh}(x)+ \operatorname {ch}(x)\,dx "/>
          <p:cNvPicPr/>
          <p:nvPr/>
        </p:nvPicPr>
        <p:blipFill>
          <a:blip r:embed="rId4"/>
          <a:stretch/>
        </p:blipFill>
        <p:spPr>
          <a:xfrm>
            <a:off x="4211640" y="3068640"/>
            <a:ext cx="4572000" cy="13669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0_28b9d_169d0181_XL"/>
          <p:cNvPicPr/>
          <p:nvPr/>
        </p:nvPicPr>
        <p:blipFill>
          <a:blip r:embed="rId1"/>
          <a:stretch/>
        </p:blipFill>
        <p:spPr>
          <a:xfrm>
            <a:off x="0" y="0"/>
            <a:ext cx="9144000" cy="65818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j0225290"/>
          <p:cNvPicPr/>
          <p:nvPr/>
        </p:nvPicPr>
        <p:blipFill>
          <a:blip r:embed="rId2"/>
          <a:stretch/>
        </p:blipFill>
        <p:spPr>
          <a:xfrm>
            <a:off x="7812000" y="4508640"/>
            <a:ext cx="1067040" cy="187776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4"/>
          <p:cNvSpPr/>
          <p:nvPr/>
        </p:nvSpPr>
        <p:spPr>
          <a:xfrm>
            <a:off x="790560" y="374040"/>
            <a:ext cx="75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пособы определения числа е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611280" y="1266480"/>
            <a:ext cx="360036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4600" indent="-174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единственное число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для которого выполняется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611280" y="3066840"/>
            <a:ext cx="360036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4600" indent="-174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единственное положительное число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для которого верно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1" descr="\int\limits_{1}^{a} \frac{dt}{t} = 1."/>
          <p:cNvPicPr/>
          <p:nvPr/>
        </p:nvPicPr>
        <p:blipFill>
          <a:blip r:embed="rId3"/>
          <a:stretch/>
        </p:blipFill>
        <p:spPr>
          <a:xfrm>
            <a:off x="5292720" y="1268280"/>
            <a:ext cx="1800360" cy="1273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\frac d {dt} a^t = a^t."/>
          <p:cNvPicPr/>
          <p:nvPr/>
        </p:nvPicPr>
        <p:blipFill>
          <a:blip r:embed="rId4"/>
          <a:stretch/>
        </p:blipFill>
        <p:spPr>
          <a:xfrm>
            <a:off x="5292720" y="3100320"/>
            <a:ext cx="2158920" cy="10796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0_28b9d_169d0181_XL"/>
          <p:cNvPicPr/>
          <p:nvPr/>
        </p:nvPicPr>
        <p:blipFill>
          <a:blip r:embed="rId1"/>
          <a:stretch/>
        </p:blipFill>
        <p:spPr>
          <a:xfrm>
            <a:off x="0" y="0"/>
            <a:ext cx="9144000" cy="6581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j0225290"/>
          <p:cNvPicPr/>
          <p:nvPr/>
        </p:nvPicPr>
        <p:blipFill>
          <a:blip r:embed="rId2"/>
          <a:stretch/>
        </p:blipFill>
        <p:spPr>
          <a:xfrm>
            <a:off x="7812000" y="4508640"/>
            <a:ext cx="1067040" cy="18777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eandln"/>
          <p:cNvPicPr/>
          <p:nvPr/>
        </p:nvPicPr>
        <p:blipFill>
          <a:blip r:embed="rId3"/>
          <a:stretch/>
        </p:blipFill>
        <p:spPr>
          <a:xfrm>
            <a:off x="611280" y="1628640"/>
            <a:ext cx="3762360" cy="385776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5"/>
          <p:cNvSpPr/>
          <p:nvPr/>
        </p:nvSpPr>
        <p:spPr>
          <a:xfrm>
            <a:off x="896760" y="489240"/>
            <a:ext cx="73504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гарифмы по основанию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зываютс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туральны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обозначаются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4572000" y="1283760"/>
            <a:ext cx="4321080" cy="45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гарифмическую функцию, обратную показательной функции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 = еˣ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ринято обозначать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 =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фики этих функций симметричны относительно прямой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= 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нкция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 = еˣ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означается также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 exp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х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ывается 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экспоненциальн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0_28b9d_169d0181_XL"/>
          <p:cNvPicPr/>
          <p:nvPr/>
        </p:nvPicPr>
        <p:blipFill>
          <a:blip r:embed="rId1"/>
          <a:stretch/>
        </p:blipFill>
        <p:spPr>
          <a:xfrm>
            <a:off x="0" y="0"/>
            <a:ext cx="9144000" cy="65818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j0225290"/>
          <p:cNvPicPr/>
          <p:nvPr/>
        </p:nvPicPr>
        <p:blipFill>
          <a:blip r:embed="rId2"/>
          <a:stretch/>
        </p:blipFill>
        <p:spPr>
          <a:xfrm>
            <a:off x="7812000" y="4508640"/>
            <a:ext cx="1067040" cy="187776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6"/>
          <p:cNvSpPr/>
          <p:nvPr/>
        </p:nvSpPr>
        <p:spPr>
          <a:xfrm>
            <a:off x="468360" y="301320"/>
            <a:ext cx="7704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 числах π и 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50920" y="1203840"/>
            <a:ext cx="936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49280" indent="-361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дивительно красива комбинация записи тождеств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заимосвязи чисел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π и е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3618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3618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падение вплоть до 4-го знака после запятой;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чёт на ПК показал величину 403,4287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265680" y="3789360"/>
            <a:ext cx="781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азывается, что значени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</a:rPr>
              <a:t>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имерно равны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2"/>
          <p:cNvSpPr/>
          <p:nvPr/>
        </p:nvSpPr>
        <p:spPr>
          <a:xfrm>
            <a:off x="611280" y="4508640"/>
            <a:ext cx="7200720" cy="16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Arial"/>
              </a:rPr>
              <a:t>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≈ 23,14069262 и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≈ 22,4591577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азать (без вычислений), что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&lt;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</a:rPr>
              <a:t>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ими способами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3492360" y="2112840"/>
            <a:ext cx="28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+π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0_28b9d_169d0181_XL"/>
          <p:cNvPicPr/>
          <p:nvPr/>
        </p:nvPicPr>
        <p:blipFill>
          <a:blip r:embed="rId1"/>
          <a:stretch/>
        </p:blipFill>
        <p:spPr>
          <a:xfrm>
            <a:off x="0" y="0"/>
            <a:ext cx="9144000" cy="65818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j0225290"/>
          <p:cNvPicPr/>
          <p:nvPr/>
        </p:nvPicPr>
        <p:blipFill>
          <a:blip r:embed="rId2"/>
          <a:stretch/>
        </p:blipFill>
        <p:spPr>
          <a:xfrm>
            <a:off x="7812000" y="4508640"/>
            <a:ext cx="1067040" cy="18777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6"/>
          <p:cNvSpPr/>
          <p:nvPr/>
        </p:nvSpPr>
        <p:spPr>
          <a:xfrm>
            <a:off x="250920" y="2007000"/>
            <a:ext cx="864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Спасибо за внимание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золотые стихи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2232000" y="3143160"/>
            <a:ext cx="468000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0_28b9d_169d0181_XL"/>
          <p:cNvPicPr/>
          <p:nvPr/>
        </p:nvPicPr>
        <p:blipFill>
          <a:blip r:embed="rId1"/>
          <a:stretch/>
        </p:blipFill>
        <p:spPr>
          <a:xfrm>
            <a:off x="0" y="0"/>
            <a:ext cx="9144000" cy="6581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j0225290"/>
          <p:cNvPicPr/>
          <p:nvPr/>
        </p:nvPicPr>
        <p:blipFill>
          <a:blip r:embed="rId2"/>
          <a:stretch/>
        </p:blipFill>
        <p:spPr>
          <a:xfrm>
            <a:off x="7812000" y="4508640"/>
            <a:ext cx="1067040" cy="187776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4"/>
          <p:cNvSpPr/>
          <p:nvPr/>
        </p:nvSpPr>
        <p:spPr>
          <a:xfrm>
            <a:off x="4572000" y="722160"/>
            <a:ext cx="4094280" cy="31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а много тысячелетий назад вошли в жизнь и быт людей. Человек использует их не только при счете и вычислениях, он придумал различные игры с числами и шарады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9" descr="m23age"/>
          <p:cNvPicPr/>
          <p:nvPr/>
        </p:nvPicPr>
        <p:blipFill>
          <a:blip r:embed="rId3"/>
          <a:stretch/>
        </p:blipFill>
        <p:spPr>
          <a:xfrm>
            <a:off x="439560" y="907920"/>
            <a:ext cx="3961080" cy="28148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0"/>
          <p:cNvSpPr/>
          <p:nvPr/>
        </p:nvSpPr>
        <p:spPr>
          <a:xfrm>
            <a:off x="477720" y="3810600"/>
            <a:ext cx="805500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некоторые числа наделил сверхъестественными свойствами. К таким «особенным» числам относятся математические константы 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π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Они имеют свои собственные обозначения, так как их нельзя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сать точно с помощью цифр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0_28b9d_169d0181_XL"/>
          <p:cNvPicPr/>
          <p:nvPr/>
        </p:nvPicPr>
        <p:blipFill>
          <a:blip r:embed="rId1"/>
          <a:stretch/>
        </p:blipFill>
        <p:spPr>
          <a:xfrm>
            <a:off x="0" y="0"/>
            <a:ext cx="9144000" cy="6581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j0225290"/>
          <p:cNvPicPr/>
          <p:nvPr/>
        </p:nvPicPr>
        <p:blipFill>
          <a:blip r:embed="rId2"/>
          <a:stretch/>
        </p:blipFill>
        <p:spPr>
          <a:xfrm>
            <a:off x="7812000" y="4508640"/>
            <a:ext cx="1067040" cy="187776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4"/>
          <p:cNvSpPr/>
          <p:nvPr/>
        </p:nvSpPr>
        <p:spPr>
          <a:xfrm>
            <a:off x="4572000" y="549000"/>
            <a:ext cx="436104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а 3,14 и 2,7 лишь одни из приближённых значений чисел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Эти числа являются иррациональными и трансцендентными, для их точного определения не хватило бы и триллиона десятичных знак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s31561833"/>
          <p:cNvPicPr/>
          <p:nvPr/>
        </p:nvPicPr>
        <p:blipFill>
          <a:blip r:embed="rId3"/>
          <a:stretch/>
        </p:blipFill>
        <p:spPr>
          <a:xfrm>
            <a:off x="515880" y="1066680"/>
            <a:ext cx="3809880" cy="253368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9"/>
          <p:cNvSpPr/>
          <p:nvPr/>
        </p:nvSpPr>
        <p:spPr>
          <a:xfrm>
            <a:off x="250920" y="4130280"/>
            <a:ext cx="80550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Иррациональные  числ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е могут быть точно выражены ни целыми числами, ни арифметическими дробями, а представляются бесконечными и непериодическими десятичными дробями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1" descr="0_28b9d_169d0181_XL"/>
          <p:cNvPicPr/>
          <p:nvPr/>
        </p:nvPicPr>
        <p:blipFill>
          <a:blip r:embed="rId1"/>
          <a:stretch/>
        </p:blipFill>
        <p:spPr>
          <a:xfrm>
            <a:off x="0" y="0"/>
            <a:ext cx="9144000" cy="6581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j0225290"/>
          <p:cNvPicPr/>
          <p:nvPr/>
        </p:nvPicPr>
        <p:blipFill>
          <a:blip r:embed="rId2"/>
          <a:stretch/>
        </p:blipFill>
        <p:spPr>
          <a:xfrm>
            <a:off x="7812000" y="4508640"/>
            <a:ext cx="1067040" cy="1877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5"/>
          <p:cNvSpPr/>
          <p:nvPr/>
        </p:nvSpPr>
        <p:spPr>
          <a:xfrm>
            <a:off x="3625920" y="1554120"/>
            <a:ext cx="5040360" cy="31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Трансцендентное числ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от лат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transcender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переходить, превосходить) — это число, не являющееся алгебраическим, т.е. не удовлетворяющее никакому алгебраическому уравнению с целыми коэффициентами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0" descr="421776"/>
          <p:cNvPicPr/>
          <p:nvPr/>
        </p:nvPicPr>
        <p:blipFill>
          <a:blip r:embed="rId3"/>
          <a:stretch/>
        </p:blipFill>
        <p:spPr>
          <a:xfrm>
            <a:off x="611280" y="1500120"/>
            <a:ext cx="2619360" cy="38577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0_28b9d_169d0181_XL"/>
          <p:cNvPicPr/>
          <p:nvPr/>
        </p:nvPicPr>
        <p:blipFill>
          <a:blip r:embed="rId1"/>
          <a:stretch/>
        </p:blipFill>
        <p:spPr>
          <a:xfrm>
            <a:off x="0" y="0"/>
            <a:ext cx="9144000" cy="6581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j0225290"/>
          <p:cNvPicPr/>
          <p:nvPr/>
        </p:nvPicPr>
        <p:blipFill>
          <a:blip r:embed="rId2"/>
          <a:stretch/>
        </p:blipFill>
        <p:spPr>
          <a:xfrm>
            <a:off x="7812000" y="4508640"/>
            <a:ext cx="1067040" cy="187776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6"/>
          <p:cNvSpPr/>
          <p:nvPr/>
        </p:nvSpPr>
        <p:spPr>
          <a:xfrm>
            <a:off x="4135320" y="714240"/>
            <a:ext cx="4681800" cy="31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Число π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тематическая константа, выражающая отношение длины окружности к длине её диаметра. Впервые в этом смысле символ 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-зовал британский математик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ильям Джон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1706 г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9526626"/>
          <p:cNvPicPr/>
          <p:nvPr/>
        </p:nvPicPr>
        <p:blipFill>
          <a:blip r:embed="rId3"/>
          <a:stretch/>
        </p:blipFill>
        <p:spPr>
          <a:xfrm>
            <a:off x="611280" y="774720"/>
            <a:ext cx="3240000" cy="310824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9"/>
          <p:cNvSpPr/>
          <p:nvPr/>
        </p:nvSpPr>
        <p:spPr>
          <a:xfrm>
            <a:off x="250920" y="3999600"/>
            <a:ext cx="805500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647 г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ильям Оутре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именил букву 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ля обозначения длины окружности. Это обозначение происходит от начальной буквы греческих слов περιφέρεια — окружность, периферия и περίμετρος — периметр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0_28b9d_169d0181_XL"/>
          <p:cNvPicPr/>
          <p:nvPr/>
        </p:nvPicPr>
        <p:blipFill>
          <a:blip r:embed="rId1"/>
          <a:stretch/>
        </p:blipFill>
        <p:spPr>
          <a:xfrm>
            <a:off x="0" y="0"/>
            <a:ext cx="9144000" cy="6581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j0225290"/>
          <p:cNvPicPr/>
          <p:nvPr/>
        </p:nvPicPr>
        <p:blipFill>
          <a:blip r:embed="rId2"/>
          <a:stretch/>
        </p:blipFill>
        <p:spPr>
          <a:xfrm>
            <a:off x="7812000" y="4508640"/>
            <a:ext cx="1067040" cy="187776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4"/>
          <p:cNvSpPr/>
          <p:nvPr/>
        </p:nvSpPr>
        <p:spPr>
          <a:xfrm>
            <a:off x="3132000" y="321120"/>
            <a:ext cx="5832720" cy="33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ближение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≈22/7≈3,1428  нашёл величайший математик древности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рхимед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III век до н.э.), в честь которого это отношение часто называют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«архимедовым числом»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Архимед, возможно, первым предложил способ вычислени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атематическим способом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i?id=316605004-39-72&amp;n=21"/>
          <p:cNvPicPr/>
          <p:nvPr/>
        </p:nvPicPr>
        <p:blipFill>
          <a:blip r:embed="rId3"/>
          <a:stretch/>
        </p:blipFill>
        <p:spPr>
          <a:xfrm>
            <a:off x="706320" y="644400"/>
            <a:ext cx="2200320" cy="252108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6"/>
          <p:cNvSpPr/>
          <p:nvPr/>
        </p:nvSpPr>
        <p:spPr>
          <a:xfrm>
            <a:off x="611280" y="3594600"/>
            <a:ext cx="7200720" cy="29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этого он вписывал в окружность и описывал около неё правильные многоугольники. Принимая диаметр окружности за единицу, Архимед рассматривал периметр вписанного многоугольника как нижнюю оценку длины окружности, а периметр описанного многоугольника как верхнюю оценку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0_28b9d_169d0181_XL"/>
          <p:cNvPicPr/>
          <p:nvPr/>
        </p:nvPicPr>
        <p:blipFill>
          <a:blip r:embed="rId1"/>
          <a:stretch/>
        </p:blipFill>
        <p:spPr>
          <a:xfrm>
            <a:off x="0" y="0"/>
            <a:ext cx="9144000" cy="6581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j0225290"/>
          <p:cNvPicPr/>
          <p:nvPr/>
        </p:nvPicPr>
        <p:blipFill>
          <a:blip r:embed="rId2"/>
          <a:stretch/>
        </p:blipFill>
        <p:spPr>
          <a:xfrm>
            <a:off x="7812000" y="4508640"/>
            <a:ext cx="1067040" cy="18777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4135320" y="714240"/>
            <a:ext cx="4681800" cy="31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означение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ак величины, равной 3,141592…, получило широкое распространение  после того, как в своих трудах начиная с 1736 г. его стал применять выдающийся математик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еонард Эйле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250920" y="3751920"/>
            <a:ext cx="805500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протяжении всего существования числа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вплоть до наших дней, велась своеобразная «погоня» за десятичными знаками числа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еонардо Фибоначч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коло 1220 г. определил три первых точных десятичных знака числа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87730_FkJ1Ju"/>
          <p:cNvPicPr/>
          <p:nvPr/>
        </p:nvPicPr>
        <p:blipFill>
          <a:blip r:embed="rId3"/>
          <a:stretch/>
        </p:blipFill>
        <p:spPr>
          <a:xfrm>
            <a:off x="611280" y="958680"/>
            <a:ext cx="3287520" cy="24703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0_28b9d_169d0181_XL"/>
          <p:cNvPicPr/>
          <p:nvPr/>
        </p:nvPicPr>
        <p:blipFill>
          <a:blip r:embed="rId1"/>
          <a:stretch/>
        </p:blipFill>
        <p:spPr>
          <a:xfrm>
            <a:off x="0" y="0"/>
            <a:ext cx="9144000" cy="6581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j0225290"/>
          <p:cNvPicPr/>
          <p:nvPr/>
        </p:nvPicPr>
        <p:blipFill>
          <a:blip r:embed="rId2"/>
          <a:stretch/>
        </p:blipFill>
        <p:spPr>
          <a:xfrm>
            <a:off x="7812000" y="4508640"/>
            <a:ext cx="1067040" cy="187776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5"/>
          <p:cNvSpPr/>
          <p:nvPr/>
        </p:nvSpPr>
        <p:spPr>
          <a:xfrm>
            <a:off x="2847960" y="321120"/>
            <a:ext cx="6124680" cy="33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дерландский математик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удольф ван Цейле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1540 – 1610), применив метод Архимеда, вычислил число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  35 деся-тичными знаками. Лудольф завещал, чтобы найденные им знаки были высе-чены на его надгробном камне. В его честь число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временники называл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«лудольфовым числом»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250920" y="3519720"/>
            <a:ext cx="86421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тематик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 вычислили сотни десятичных знаков числа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 1853 г. З. Дазе получает 440, а У. Шенкс – 513 знаков. С появлением компьютеров количество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ных десятичных знако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езко возрастает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2011 г. ученые рассчитали последовательност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точностью в 10 триллионов цифр после запятой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0" descr="Van_Ceulen"/>
          <p:cNvPicPr/>
          <p:nvPr/>
        </p:nvPicPr>
        <p:blipFill>
          <a:blip r:embed="rId3"/>
          <a:stretch/>
        </p:blipFill>
        <p:spPr>
          <a:xfrm>
            <a:off x="496800" y="725400"/>
            <a:ext cx="2176560" cy="26481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0_28b9d_169d0181_XL"/>
          <p:cNvPicPr/>
          <p:nvPr/>
        </p:nvPicPr>
        <p:blipFill>
          <a:blip r:embed="rId1"/>
          <a:stretch/>
        </p:blipFill>
        <p:spPr>
          <a:xfrm>
            <a:off x="0" y="0"/>
            <a:ext cx="9144000" cy="6581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j0225290"/>
          <p:cNvPicPr/>
          <p:nvPr/>
        </p:nvPicPr>
        <p:blipFill>
          <a:blip r:embed="rId2"/>
          <a:stretch/>
        </p:blipFill>
        <p:spPr>
          <a:xfrm>
            <a:off x="7812000" y="4508640"/>
            <a:ext cx="1067040" cy="18777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5"/>
          <p:cNvSpPr/>
          <p:nvPr/>
        </p:nvSpPr>
        <p:spPr>
          <a:xfrm>
            <a:off x="501480" y="3647880"/>
            <a:ext cx="767088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еофициальный праздник «День числа π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тмечается 14 марта, которое в американском формате дат записывается как 3.14, что соответствует приближённому значению числа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1" descr="\pi"/>
          <p:cNvPicPr/>
          <p:nvPr/>
        </p:nvPicPr>
        <p:blipFill>
          <a:blip r:embed="rId3"/>
          <a:stretch/>
        </p:blipFill>
        <p:spPr>
          <a:xfrm>
            <a:off x="-1857240" y="3386160"/>
            <a:ext cx="114120" cy="856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3"/>
          <p:cNvSpPr/>
          <p:nvPr/>
        </p:nvSpPr>
        <p:spPr>
          <a:xfrm>
            <a:off x="-1855440" y="34711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4" descr="220px-Pi_monumentum"/>
          <p:cNvPicPr/>
          <p:nvPr/>
        </p:nvPicPr>
        <p:blipFill>
          <a:blip r:embed="rId4"/>
          <a:stretch/>
        </p:blipFill>
        <p:spPr>
          <a:xfrm>
            <a:off x="611280" y="736560"/>
            <a:ext cx="3600360" cy="27003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15"/>
          <p:cNvSpPr/>
          <p:nvPr/>
        </p:nvSpPr>
        <p:spPr>
          <a:xfrm>
            <a:off x="4421160" y="772200"/>
            <a:ext cx="46814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амятник числу «пи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известному еще древним людям, установлен на ступенях перед зданием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узея искусств в Сиэтле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4T18:58:25Z</dcterms:created>
  <dc:creator>лапа</dc:creator>
  <dc:description/>
  <dc:language>en-US</dc:language>
  <cp:lastModifiedBy>Екатерина</cp:lastModifiedBy>
  <dcterms:modified xsi:type="dcterms:W3CDTF">2015-10-05T14:28:45Z</dcterms:modified>
  <cp:revision>110</cp:revision>
  <dc:subject/>
  <dc:title>Слайд 1</dc:title>
</cp:coreProperties>
</file>