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F3E-1480-4454-8C6A-177AB7D8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94A-1B18-4291-9A55-860E8AB6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668-4E01-4EC0-826D-96C6B5AF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811-10F1-4327-B8E6-C3A015C2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27D-BD9B-4044-BA22-AC0915E6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027-E9C4-4255-B4C8-556BED8D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5C6-630D-49CB-A554-D7ED0CE9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804-4E79-4143-BB2F-73DC9204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198-D4C7-4A4C-81E0-32CFEFA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59C-9CE9-40F4-8F02-F6D692C7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325-6059-4826-9F7D-FC27476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AA0-7EEC-4446-A5FD-9A75E50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B885-0F24-4FC8-A67A-3DA0A2A5D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_28b9d_169d0181_XL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5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2087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ТРАНСЦЕДЕНТНЫЕ ЧИСЛА π</a:t>
            </a:r>
            <a:r>
              <a:rPr b="1" lang="ru-RU" sz="5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ru-RU" sz="5500" spc="-1" strike="noStrike">
                <a:solidFill>
                  <a:srgbClr val="333399"/>
                </a:solidFill>
                <a:latin typeface="Arial"/>
              </a:rPr>
              <a:t> е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92360" y="4287960"/>
            <a:ext cx="576108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ил: ученик 10-б класса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таев Владими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ель Большакова Екатерина  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иколаевна  ГБОУ 489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анкт-Петербург                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250920" y="549360"/>
            <a:ext cx="8893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ось сравнительно недавно. Его иногда необоснованно называют «неперовым числом» в честь изобретателя логарифм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на Неп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50 – 1617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2411280" y="1870200"/>
            <a:ext cx="6732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бозначение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ёл швейцарский и российский математик, академик Петер-бургской АН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7 – 1783). Выбор буквы, возможно, связан с тем, что         с неё начинается сло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xponentia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пока-зательный», «экспоненциальный»). Эйлер вычислил точные 23 десятич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907bcb3d2c879656c30fd07cfc137781bddd7fb"/>
          <p:cNvPicPr/>
          <p:nvPr/>
        </p:nvPicPr>
        <p:blipFill>
          <a:blip r:embed="rId3"/>
          <a:stretch/>
        </p:blipFill>
        <p:spPr>
          <a:xfrm>
            <a:off x="460440" y="1987560"/>
            <a:ext cx="208584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5"/>
          <p:cNvSpPr/>
          <p:nvPr/>
        </p:nvSpPr>
        <p:spPr>
          <a:xfrm>
            <a:off x="212760" y="4695840"/>
            <a:ext cx="79596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а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спользовав его представление в виде бесконечного числового ряда. Соответственно,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м Эйл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92200" y="603360"/>
            <a:ext cx="830088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иближенное значение числа 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,718281828..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187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хотворная мнемофраза, помогающая его запомнить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споненту помнить способ есть простой: два и семь десятых, дважды Лев Толст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1828 – год рождения Л.Н. Толстого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Untitled-16(3)"/>
          <p:cNvPicPr/>
          <p:nvPr/>
        </p:nvPicPr>
        <p:blipFill>
          <a:blip r:embed="rId3"/>
          <a:stretch/>
        </p:blipFill>
        <p:spPr>
          <a:xfrm>
            <a:off x="611280" y="3429000"/>
            <a:ext cx="2047680" cy="2416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2870280" y="3465360"/>
            <a:ext cx="504180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ант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первые вычислил швейцар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ниил Бернул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0 – 178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 задачи о предельно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е процентного доход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2994120" y="2611440"/>
            <a:ext cx="5940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число, которое не было выведено как трансцендентное специально, его трансцендентность была доказана только в 1873 году французским математико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рлем Эрми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i?id=301690295-66-72&amp;n=21"/>
          <p:cNvPicPr/>
          <p:nvPr/>
        </p:nvPicPr>
        <p:blipFill>
          <a:blip r:embed="rId3"/>
          <a:stretch/>
        </p:blipFill>
        <p:spPr>
          <a:xfrm>
            <a:off x="611280" y="2708280"/>
            <a:ext cx="2130480" cy="2879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1371600" y="663480"/>
            <a:ext cx="756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ансценден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е. его нельзя получить в виде корня алгебраического уравнения с целыми коэффициентам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tips"/>
          <p:cNvPicPr/>
          <p:nvPr/>
        </p:nvPicPr>
        <p:blipFill>
          <a:blip r:embed="rId4"/>
          <a:stretch/>
        </p:blipFill>
        <p:spPr>
          <a:xfrm>
            <a:off x="515880" y="701640"/>
            <a:ext cx="809640" cy="10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9680" y="549360"/>
            <a:ext cx="8324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 Эйлер открыл бесконечную цепную дроб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числа 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e = 2+\cfrac{1}{1 + \cfrac{1}{2 + \cfrac{2}{3 + \cfrac{3}{4+\cfrac{4}{\ldots}}}}} "/>
          <p:cNvPicPr/>
          <p:nvPr/>
        </p:nvPicPr>
        <p:blipFill>
          <a:blip r:embed="rId3"/>
          <a:stretch/>
        </p:blipFill>
        <p:spPr>
          <a:xfrm>
            <a:off x="2411280" y="1628640"/>
            <a:ext cx="3961080" cy="2679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77720" y="4343400"/>
            <a:ext cx="756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ь 2721/1001 дает значение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шестью верными десятичными знаками, дробь 878/323 – с тремя верными десятичными знаками, а дробь 87/32 – с двум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790560" y="3740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определения числа 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0920" y="1627560"/>
            <a:ext cx="360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ед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50920" y="3427560"/>
            <a:ext cx="360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определенный интегра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e = \lim_{x\to\infty} \left(1+\frac{1}{x}\right)^x"/>
          <p:cNvPicPr/>
          <p:nvPr/>
        </p:nvPicPr>
        <p:blipFill>
          <a:blip r:embed="rId3"/>
          <a:stretch/>
        </p:blipFill>
        <p:spPr>
          <a:xfrm>
            <a:off x="4211640" y="1628640"/>
            <a:ext cx="2881440" cy="79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e=\int \limits_{0}^{1}1+\operatorname {sh}(x)+ \operatorname {ch}(x)\,dx "/>
          <p:cNvPicPr/>
          <p:nvPr/>
        </p:nvPicPr>
        <p:blipFill>
          <a:blip r:embed="rId4"/>
          <a:stretch/>
        </p:blipFill>
        <p:spPr>
          <a:xfrm>
            <a:off x="4211640" y="3068640"/>
            <a:ext cx="457200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790560" y="3740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определения числа 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11280" y="1266480"/>
            <a:ext cx="360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динственное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которого выполняетс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11280" y="3066840"/>
            <a:ext cx="360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динственное положительное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которого верно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\int\limits_{1}^{a} \frac{dt}{t} = 1."/>
          <p:cNvPicPr/>
          <p:nvPr/>
        </p:nvPicPr>
        <p:blipFill>
          <a:blip r:embed="rId3"/>
          <a:stretch/>
        </p:blipFill>
        <p:spPr>
          <a:xfrm>
            <a:off x="5292720" y="1268280"/>
            <a:ext cx="1800360" cy="127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\frac d {dt} a^t = a^t."/>
          <p:cNvPicPr/>
          <p:nvPr/>
        </p:nvPicPr>
        <p:blipFill>
          <a:blip r:embed="rId4"/>
          <a:stretch/>
        </p:blipFill>
        <p:spPr>
          <a:xfrm>
            <a:off x="5292720" y="3100320"/>
            <a:ext cx="215892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eandln"/>
          <p:cNvPicPr/>
          <p:nvPr/>
        </p:nvPicPr>
        <p:blipFill>
          <a:blip r:embed="rId3"/>
          <a:stretch/>
        </p:blipFill>
        <p:spPr>
          <a:xfrm>
            <a:off x="611280" y="1628640"/>
            <a:ext cx="3762360" cy="3857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896760" y="489240"/>
            <a:ext cx="7350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ы по основани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тура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72000" y="1283760"/>
            <a:ext cx="43210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ическую функцию, обратную показательной функци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= еˣ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нято обознач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этих функций симметричны относительно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= е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ется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exp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экспоненци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468360" y="301320"/>
            <a:ext cx="770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числах π и 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1203840"/>
            <a:ext cx="93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о красива комбинация записи тожде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 и 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падение вплоть до 4-го знака после запятой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ёт на ПК показал величину 403,428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65680" y="3789360"/>
            <a:ext cx="78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ывается, что знач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рно рав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611280" y="4508640"/>
            <a:ext cx="720072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≈ 23,14069262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≈ 22,4591577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 (без вычислений), ч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ми способ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492360" y="21128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250920" y="2007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золотые стихи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232000" y="3143160"/>
            <a:ext cx="4680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572000" y="722160"/>
            <a:ext cx="40942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много тысячелетий назад вошли в жизнь и быт людей. Человек использует их не только при счете и вычислениях, он придумал различные игры с числами и шарады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m23age"/>
          <p:cNvPicPr/>
          <p:nvPr/>
        </p:nvPicPr>
        <p:blipFill>
          <a:blip r:embed="rId3"/>
          <a:stretch/>
        </p:blipFill>
        <p:spPr>
          <a:xfrm>
            <a:off x="439560" y="907920"/>
            <a:ext cx="3961080" cy="2814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477720" y="381060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екоторые числа наделил сверхъестественными свойствами. К таким «особенным» числам относятся математические константы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π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Они имеют свои собственные обозначения, так как их нельз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точно с помощью цифр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572000" y="549000"/>
            <a:ext cx="43610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3,14 и 2,7 лишь одни из приближённых значений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числа являются иррациональными и трансцендентными, для их точного определения не хватило бы и триллиона десятичных зн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31561833"/>
          <p:cNvPicPr/>
          <p:nvPr/>
        </p:nvPicPr>
        <p:blipFill>
          <a:blip r:embed="rId3"/>
          <a:stretch/>
        </p:blipFill>
        <p:spPr>
          <a:xfrm>
            <a:off x="515880" y="106668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50920" y="4130280"/>
            <a:ext cx="8055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Иррациональные 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могут быть точно выражены ни целыми числами, ни арифметическими дробями, а представляются бесконечными и непериодическими десятичными дробя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3625920" y="1554120"/>
            <a:ext cx="5040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ансцендентное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ranscende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ереходить, превосходить) — это число, не являющееся алгебраическим, т.е. не удовлетворяющее никакому алгебраическому уравнению с целыми коэффициент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421776"/>
          <p:cNvPicPr/>
          <p:nvPr/>
        </p:nvPicPr>
        <p:blipFill>
          <a:blip r:embed="rId3"/>
          <a:stretch/>
        </p:blipFill>
        <p:spPr>
          <a:xfrm>
            <a:off x="611280" y="1500120"/>
            <a:ext cx="261936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135320" y="714240"/>
            <a:ext cx="468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Число 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константа, выражающая отношение длины окружности к длине её диаметра. Впервые в этом смысле символ 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-зовал британ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ильям Джон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706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9526626"/>
          <p:cNvPicPr/>
          <p:nvPr/>
        </p:nvPicPr>
        <p:blipFill>
          <a:blip r:embed="rId3"/>
          <a:stretch/>
        </p:blipFill>
        <p:spPr>
          <a:xfrm>
            <a:off x="611280" y="774720"/>
            <a:ext cx="3240000" cy="3108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250920" y="399960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47 г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ильям Оутре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нил букву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обозначения длины окружности. Это обозначение происходит от начальной буквы греческих слов περιφέρεια — окружность, периферия и περίμετρος — периметр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3132000" y="321120"/>
            <a:ext cx="5832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лиж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22/7≈3,1428  нашёл величайший математик древ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химе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III век до н.э.), в честь которого это отношение часто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архимедовым числом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химед, возможно, первым предложил способ вычисл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ематическим способом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?id=316605004-39-72&amp;n=21"/>
          <p:cNvPicPr/>
          <p:nvPr/>
        </p:nvPicPr>
        <p:blipFill>
          <a:blip r:embed="rId3"/>
          <a:stretch/>
        </p:blipFill>
        <p:spPr>
          <a:xfrm>
            <a:off x="706320" y="644400"/>
            <a:ext cx="2200320" cy="2521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611280" y="3594600"/>
            <a:ext cx="7200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он вписывал в окружность и описывал около неё правильные многоугольники. Принимая диаметр окружности за единицу, Архимед рассматривал периметр вписанного многоугольника как нижнюю оценку длины окружности, а периметр описанного многоугольника как верхнюю оценк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135320" y="714240"/>
            <a:ext cx="468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величины, равной 3,141592…, получило широкое распространение  после того, как в своих трудах начиная с 1736 г. его стал применять выдающийся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50920" y="375192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всего существования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плоть до наших дней, велась своеобразная «погоня» за десятичными знаками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онардо Фибонач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1220 г. определил три первых точных десятичных знака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87730_FkJ1Ju"/>
          <p:cNvPicPr/>
          <p:nvPr/>
        </p:nvPicPr>
        <p:blipFill>
          <a:blip r:embed="rId3"/>
          <a:stretch/>
        </p:blipFill>
        <p:spPr>
          <a:xfrm>
            <a:off x="611280" y="958680"/>
            <a:ext cx="328752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847960" y="321120"/>
            <a:ext cx="61246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дерланд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дольф ван Цейл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40 – 1610), применив метод Архимеда, вычислил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 35 деся-тичными знаками. Лудольф завещал, чтобы найденные им знаки были высе-чены на его надгробном камне. В его честь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временники называ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лудольфовым числом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3519720"/>
            <a:ext cx="8642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вычислили сотни десятичных знаков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1853 г. З. Дазе получает 440, а У. Шенкс – 513 знаков. С появлением компьютеров количеств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х десятичных зна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зко возрастает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1 г. ученые рассчитали последователь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очностью в 10 триллионов цифр после запято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Van_Ceulen"/>
          <p:cNvPicPr/>
          <p:nvPr/>
        </p:nvPicPr>
        <p:blipFill>
          <a:blip r:embed="rId3"/>
          <a:stretch/>
        </p:blipFill>
        <p:spPr>
          <a:xfrm>
            <a:off x="496800" y="725400"/>
            <a:ext cx="2176560" cy="264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501480" y="3647880"/>
            <a:ext cx="7670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официальный праздник «День числа π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чается 14 марта, которое в американском формате дат записывается как 3.14, что соответствует приближённому значению числ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\pi"/>
          <p:cNvPicPr/>
          <p:nvPr/>
        </p:nvPicPr>
        <p:blipFill>
          <a:blip r:embed="rId3"/>
          <a:stretch/>
        </p:blipFill>
        <p:spPr>
          <a:xfrm>
            <a:off x="-1857240" y="3386160"/>
            <a:ext cx="114120" cy="85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3"/>
          <p:cNvSpPr/>
          <p:nvPr/>
        </p:nvSpPr>
        <p:spPr>
          <a:xfrm>
            <a:off x="-1855440" y="347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220px-Pi_monumentum"/>
          <p:cNvPicPr/>
          <p:nvPr/>
        </p:nvPicPr>
        <p:blipFill>
          <a:blip r:embed="rId4"/>
          <a:stretch/>
        </p:blipFill>
        <p:spPr>
          <a:xfrm>
            <a:off x="611280" y="7365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5"/>
          <p:cNvSpPr/>
          <p:nvPr/>
        </p:nvSpPr>
        <p:spPr>
          <a:xfrm>
            <a:off x="4421160" y="772200"/>
            <a:ext cx="4681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мятник числу «п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вестному еще древним людям, установлен на ступенях перед здание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ея искусств в Сиэтл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58:25Z</dcterms:created>
  <dc:creator>лапа</dc:creator>
  <dc:description/>
  <dc:language>en-US</dc:language>
  <cp:lastModifiedBy>Екатерина</cp:lastModifiedBy>
  <dcterms:modified xsi:type="dcterms:W3CDTF">2015-10-05T14:28:45Z</dcterms:modified>
  <cp:revision>110</cp:revision>
  <dc:subject/>
  <dc:title>Слайд 1</dc:title>
</cp:coreProperties>
</file>