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DF9-75B0-4605-ADEF-0E95E990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8702-6A89-41F7-A961-1ECF84A7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9C7F-75B6-4C33-8D1B-70F0D034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0EEE-C4C9-419E-99DC-53ADF8E8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770-1D39-4137-B726-E3C48C62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73CB-658A-427C-8FD4-3F984D64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1C55-17A6-403E-98F3-5CCEC472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F48-0803-45AB-957C-56C0B20B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2F0-8E43-4956-9A04-9EB2FF52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F9F5-62B9-4516-971A-4EE11D91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160A-8EDC-4C69-B02D-867F6C62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4BC-1A75-45B1-B085-C03591C9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2CFB-DC13-4C64-BAA8-F7C6C48EC9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0_28b9d_169d0181_XL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3054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0" y="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0" y="20876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333399"/>
                </a:solidFill>
                <a:latin typeface="Arial"/>
              </a:rPr>
              <a:t>ТРАНСЦЕДЕНТНЫЕ ЧИСЛА π</a:t>
            </a:r>
            <a:r>
              <a:rPr b="1" lang="ru-RU" sz="55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55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1" lang="ru-RU" sz="5500" spc="-1" strike="noStrike">
                <a:solidFill>
                  <a:srgbClr val="333399"/>
                </a:solidFill>
                <a:latin typeface="Arial"/>
              </a:rPr>
              <a:t> е</a:t>
            </a:r>
            <a:endParaRPr b="1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692360" y="4287960"/>
            <a:ext cx="5761080" cy="25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ыполнил: ученик 10-б класса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таев Владимир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читель Большакова Екатерина      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иколаевна  ГБОУ 489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анкт-Петербург                    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1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0_28b9d_169d0181_XL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581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1"/>
          <p:cNvSpPr/>
          <p:nvPr/>
        </p:nvSpPr>
        <p:spPr>
          <a:xfrm>
            <a:off x="250920" y="549360"/>
            <a:ext cx="88930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явилось сравнительно недавно. Его иногда необоснованно называют «неперовым числом» в честь изобретателя логарифмо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жона Неп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550 – 1617)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2411280" y="1870200"/>
            <a:ext cx="673272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вые обозначение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вёл швейцарский и российский математик, академик Петер-бургской АН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онард Эйл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707 – 1783). Выбор буквы, возможно, связан с тем, что         с неё начинается слов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exponentia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«пока-зательный», «экспоненциальный»). Эйлер вычислил точные 23 десятич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b907bcb3d2c879656c30fd07cfc137781bddd7fb"/>
          <p:cNvPicPr/>
          <p:nvPr/>
        </p:nvPicPr>
        <p:blipFill>
          <a:blip r:embed="rId3"/>
          <a:stretch/>
        </p:blipFill>
        <p:spPr>
          <a:xfrm>
            <a:off x="460440" y="1987560"/>
            <a:ext cx="2085840" cy="26956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5"/>
          <p:cNvSpPr/>
          <p:nvPr/>
        </p:nvSpPr>
        <p:spPr>
          <a:xfrm>
            <a:off x="212760" y="4695840"/>
            <a:ext cx="7959600" cy="17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а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спользовав его представление в виде бесконечного числового ряда. Соответственно,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чно называю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ислом Эйл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0_28b9d_169d0181_XL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58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592200" y="603360"/>
            <a:ext cx="830088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риближенное значение числа 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,718281828..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187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хотворная мнемофраза, помогающая его запомнить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споненту помнить способ есть простой: два и семь десятых, дважды Лев Толст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(1828 – год рождения Л.Н. Толстого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Untitled-16(3)"/>
          <p:cNvPicPr/>
          <p:nvPr/>
        </p:nvPicPr>
        <p:blipFill>
          <a:blip r:embed="rId3"/>
          <a:stretch/>
        </p:blipFill>
        <p:spPr>
          <a:xfrm>
            <a:off x="611280" y="3429000"/>
            <a:ext cx="2047680" cy="24163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0"/>
          <p:cNvSpPr/>
          <p:nvPr/>
        </p:nvSpPr>
        <p:spPr>
          <a:xfrm>
            <a:off x="2870280" y="3465360"/>
            <a:ext cx="5041800" cy="22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анту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первые вычислил швейцарский математи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аниил Бернул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700 – 178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д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я задачи о предельно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е процентного доход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2994120" y="2611440"/>
            <a:ext cx="59403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ервое число, которое не было выведено как трансцендентное специально, его трансцендентность была доказана только в 1873 году французским математиком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рлем Эрми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i?id=301690295-66-72&amp;n=21"/>
          <p:cNvPicPr/>
          <p:nvPr/>
        </p:nvPicPr>
        <p:blipFill>
          <a:blip r:embed="rId3"/>
          <a:stretch/>
        </p:blipFill>
        <p:spPr>
          <a:xfrm>
            <a:off x="611280" y="2708280"/>
            <a:ext cx="2130480" cy="2879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1"/>
          <p:cNvSpPr/>
          <p:nvPr/>
        </p:nvSpPr>
        <p:spPr>
          <a:xfrm>
            <a:off x="1371600" y="663480"/>
            <a:ext cx="7561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ансцендент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.е. его нельзя получить в виде корня алгебраического уравнения с целыми коэффициентами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tips"/>
          <p:cNvPicPr/>
          <p:nvPr/>
        </p:nvPicPr>
        <p:blipFill>
          <a:blip r:embed="rId4"/>
          <a:stretch/>
        </p:blipFill>
        <p:spPr>
          <a:xfrm>
            <a:off x="515880" y="701640"/>
            <a:ext cx="809640" cy="108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409680" y="549360"/>
            <a:ext cx="8324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. Эйлер открыл бесконечную цепную дробь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едставления числа е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e = 2+\cfrac{1}{1 + \cfrac{1}{2 + \cfrac{2}{3 + \cfrac{3}{4+\cfrac{4}{\ldots}}}}} "/>
          <p:cNvPicPr/>
          <p:nvPr/>
        </p:nvPicPr>
        <p:blipFill>
          <a:blip r:embed="rId3"/>
          <a:stretch/>
        </p:blipFill>
        <p:spPr>
          <a:xfrm>
            <a:off x="2411280" y="1628640"/>
            <a:ext cx="3961080" cy="26798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477720" y="4343400"/>
            <a:ext cx="75614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обь 2721/1001 дает значение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шестью верными десятичными знаками, дробь 878/323 – с тремя верными десятичными знаками, а дробь 87/32 – с двум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790560" y="3740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особы определения числа е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50920" y="1627560"/>
            <a:ext cx="360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преде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250920" y="3427560"/>
            <a:ext cx="360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определенный интегра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e = \lim_{x\to\infty} \left(1+\frac{1}{x}\right)^x"/>
          <p:cNvPicPr/>
          <p:nvPr/>
        </p:nvPicPr>
        <p:blipFill>
          <a:blip r:embed="rId3"/>
          <a:stretch/>
        </p:blipFill>
        <p:spPr>
          <a:xfrm>
            <a:off x="4211640" y="1628640"/>
            <a:ext cx="2881440" cy="793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e=\int \limits_{0}^{1}1+\operatorname {sh}(x)+ \operatorname {ch}(x)\,dx "/>
          <p:cNvPicPr/>
          <p:nvPr/>
        </p:nvPicPr>
        <p:blipFill>
          <a:blip r:embed="rId4"/>
          <a:stretch/>
        </p:blipFill>
        <p:spPr>
          <a:xfrm>
            <a:off x="4211640" y="3068640"/>
            <a:ext cx="4572000" cy="1366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790560" y="3740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особы определения числа е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611280" y="1266480"/>
            <a:ext cx="3600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единственное числ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ля которого выполняется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611280" y="3066840"/>
            <a:ext cx="3600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единственное положительное числ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ля которого верно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\int\limits_{1}^{a} \frac{dt}{t} = 1."/>
          <p:cNvPicPr/>
          <p:nvPr/>
        </p:nvPicPr>
        <p:blipFill>
          <a:blip r:embed="rId3"/>
          <a:stretch/>
        </p:blipFill>
        <p:spPr>
          <a:xfrm>
            <a:off x="5292720" y="1268280"/>
            <a:ext cx="1800360" cy="1273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\frac d {dt} a^t = a^t."/>
          <p:cNvPicPr/>
          <p:nvPr/>
        </p:nvPicPr>
        <p:blipFill>
          <a:blip r:embed="rId4"/>
          <a:stretch/>
        </p:blipFill>
        <p:spPr>
          <a:xfrm>
            <a:off x="5292720" y="3100320"/>
            <a:ext cx="215892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eandln"/>
          <p:cNvPicPr/>
          <p:nvPr/>
        </p:nvPicPr>
        <p:blipFill>
          <a:blip r:embed="rId3"/>
          <a:stretch/>
        </p:blipFill>
        <p:spPr>
          <a:xfrm>
            <a:off x="611280" y="1628640"/>
            <a:ext cx="3762360" cy="3857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896760" y="489240"/>
            <a:ext cx="7350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арифмы по основанию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ю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тураль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бозначаю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572000" y="1283760"/>
            <a:ext cx="432108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арифмическую функцию, обратную показательной функци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 = еˣ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инято обозначать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и этих функций симметричны относительно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 = е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ается такж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exp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экспоненциа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468360" y="301320"/>
            <a:ext cx="770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числах π и 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50920" y="1203840"/>
            <a:ext cx="93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928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ивительно красива комбинация записи тождеств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и чисел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 и е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падение вплоть до 4-го знака после запятой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чёт на ПК показал величину 403,4287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65680" y="3789360"/>
            <a:ext cx="78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ывается, что знач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мерно равны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611280" y="4508640"/>
            <a:ext cx="720072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≈ 23,14069262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≈ 22,4591577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ь (без вычислений), ч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ми способам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492360" y="211284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π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250920" y="200700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золотые стихи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232000" y="3143160"/>
            <a:ext cx="4680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4572000" y="722160"/>
            <a:ext cx="409428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а много тысячелетий назад вошли в жизнь и быт людей. Человек использует их не только при счете и вычислениях, он придумал различные игры с числами и шарады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m23age"/>
          <p:cNvPicPr/>
          <p:nvPr/>
        </p:nvPicPr>
        <p:blipFill>
          <a:blip r:embed="rId3"/>
          <a:stretch/>
        </p:blipFill>
        <p:spPr>
          <a:xfrm>
            <a:off x="439560" y="907920"/>
            <a:ext cx="3961080" cy="2814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0"/>
          <p:cNvSpPr/>
          <p:nvPr/>
        </p:nvSpPr>
        <p:spPr>
          <a:xfrm>
            <a:off x="477720" y="3810600"/>
            <a:ext cx="8055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некоторые числа наделил сверхъестественными свойствами. К таким «особенным» числам относятся математические константы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π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Они имеют свои собственные обозначения, так как их нельз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ать точно с помощью цифр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4572000" y="549000"/>
            <a:ext cx="436104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а 3,14 и 2,7 лишь одни из приближённых значений чисел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и числа являются иррациональными и трансцендентными, для их точного определения не хватило бы и триллиона десятичных зна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s31561833"/>
          <p:cNvPicPr/>
          <p:nvPr/>
        </p:nvPicPr>
        <p:blipFill>
          <a:blip r:embed="rId3"/>
          <a:stretch/>
        </p:blipFill>
        <p:spPr>
          <a:xfrm>
            <a:off x="515880" y="1066680"/>
            <a:ext cx="3809880" cy="25336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250920" y="4130280"/>
            <a:ext cx="8055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Иррациональные 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могут быть точно выражены ни целыми числами, ни арифметическими дробями, а представляются бесконечными и непериодическими десятичными дробям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5"/>
          <p:cNvSpPr/>
          <p:nvPr/>
        </p:nvSpPr>
        <p:spPr>
          <a:xfrm>
            <a:off x="3625920" y="1554120"/>
            <a:ext cx="504036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рансцендентное чис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лат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transcende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переходить, превосходить) — это число, не являющееся алгебраическим, т.е. не удовлетворяющее никакому алгебраическому уравнению с целыми коэффициентам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0" descr="421776"/>
          <p:cNvPicPr/>
          <p:nvPr/>
        </p:nvPicPr>
        <p:blipFill>
          <a:blip r:embed="rId3"/>
          <a:stretch/>
        </p:blipFill>
        <p:spPr>
          <a:xfrm>
            <a:off x="611280" y="1500120"/>
            <a:ext cx="261936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4135320" y="714240"/>
            <a:ext cx="46818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Число π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ая константа, выражающая отношение длины окружности к длине её диаметра. Впервые в этом смысле символ 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-зовал британский математи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ильям Джон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1706 г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9526626"/>
          <p:cNvPicPr/>
          <p:nvPr/>
        </p:nvPicPr>
        <p:blipFill>
          <a:blip r:embed="rId3"/>
          <a:stretch/>
        </p:blipFill>
        <p:spPr>
          <a:xfrm>
            <a:off x="611280" y="774720"/>
            <a:ext cx="3240000" cy="31082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250920" y="3999600"/>
            <a:ext cx="8055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647 г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ильям Оутре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менил букву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обозначения длины окружности. Это обозначение происходит от начальной буквы греческих слов περιφέρεια — окружность, периферия и περίμετρος — периметр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3132000" y="321120"/>
            <a:ext cx="58327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лижен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≈22/7≈3,1428  нашёл величайший математик древност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химе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III век до н.э.), в честь которого это отношение часто называю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архимедовым числом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рхимед, возможно, первым предложил способ вычисл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тематическим способом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i?id=316605004-39-72&amp;n=21"/>
          <p:cNvPicPr/>
          <p:nvPr/>
        </p:nvPicPr>
        <p:blipFill>
          <a:blip r:embed="rId3"/>
          <a:stretch/>
        </p:blipFill>
        <p:spPr>
          <a:xfrm>
            <a:off x="706320" y="644400"/>
            <a:ext cx="2200320" cy="2521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611280" y="3594600"/>
            <a:ext cx="720072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этого он вписывал в окружность и описывал около неё правильные многоугольники. Принимая диаметр окружности за единицу, Архимед рассматривал периметр вписанного многоугольника как нижнюю оценку длины окружности, а периметр описанного многоугольника как верхнюю оценку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4135320" y="714240"/>
            <a:ext cx="46818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к величины, равной 3,141592…, получило широкое распространение  после того, как в своих трудах начиная с 1736 г. его стал применять выдающийся математи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онард Эйл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50920" y="3751920"/>
            <a:ext cx="8055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тяжении всего существования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плоть до наших дней, велась своеобразная «погоня» за десятичными знаками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онардо Фибонач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оло 1220 г. определил три первых точных десятичных знака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87730_FkJ1Ju"/>
          <p:cNvPicPr/>
          <p:nvPr/>
        </p:nvPicPr>
        <p:blipFill>
          <a:blip r:embed="rId3"/>
          <a:stretch/>
        </p:blipFill>
        <p:spPr>
          <a:xfrm>
            <a:off x="611280" y="958680"/>
            <a:ext cx="3287520" cy="2470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2847960" y="321120"/>
            <a:ext cx="612468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дерландский математи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удольф ван Цейл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540 – 1610), применив метод Архимеда, вычислил числ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 35 деся-тичными знаками. Лудольф завещал, чтобы найденные им знаки были высе-чены на его надгробном камне. В его честь числ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временники называ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лудольфовым числом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50920" y="3519720"/>
            <a:ext cx="86421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вычислили сотни десятичных знаков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1853 г. З. Дазе получает 440, а У. Шенкс – 513 знаков. С появлением компьютеров количеств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ых десятичных знак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зко возрастает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11 г. ученые рассчитали последователь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точностью в 10 триллионов цифр после запятой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Van_Ceulen"/>
          <p:cNvPicPr/>
          <p:nvPr/>
        </p:nvPicPr>
        <p:blipFill>
          <a:blip r:embed="rId3"/>
          <a:stretch/>
        </p:blipFill>
        <p:spPr>
          <a:xfrm>
            <a:off x="496800" y="725400"/>
            <a:ext cx="2176560" cy="2648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501480" y="3647880"/>
            <a:ext cx="76708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официальный праздник «День числа π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мечается 14 марта, которое в американском формате дат записывается как 3.14, что соответствует приближённому значению числ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\pi"/>
          <p:cNvPicPr/>
          <p:nvPr/>
        </p:nvPicPr>
        <p:blipFill>
          <a:blip r:embed="rId3"/>
          <a:stretch/>
        </p:blipFill>
        <p:spPr>
          <a:xfrm>
            <a:off x="-1857240" y="3386160"/>
            <a:ext cx="114120" cy="85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3"/>
          <p:cNvSpPr/>
          <p:nvPr/>
        </p:nvSpPr>
        <p:spPr>
          <a:xfrm>
            <a:off x="-1855440" y="3471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220px-Pi_monumentum"/>
          <p:cNvPicPr/>
          <p:nvPr/>
        </p:nvPicPr>
        <p:blipFill>
          <a:blip r:embed="rId4"/>
          <a:stretch/>
        </p:blipFill>
        <p:spPr>
          <a:xfrm>
            <a:off x="611280" y="73656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5"/>
          <p:cNvSpPr/>
          <p:nvPr/>
        </p:nvSpPr>
        <p:spPr>
          <a:xfrm>
            <a:off x="4421160" y="772200"/>
            <a:ext cx="46814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мятник числу «п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вестному еще древним людям, установлен на ступенях перед зданием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ея искусств в Сиэтл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58:25Z</dcterms:created>
  <dc:creator>лапа</dc:creator>
  <dc:description/>
  <dc:language>en-US</dc:language>
  <cp:lastModifiedBy>Екатерина</cp:lastModifiedBy>
  <dcterms:modified xsi:type="dcterms:W3CDTF">2015-10-05T14:28:45Z</dcterms:modified>
  <cp:revision>110</cp:revision>
  <dc:subject/>
  <dc:title>Слайд 1</dc:title>
</cp:coreProperties>
</file>