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F6F3-DD9F-49F2-80CA-79F39CC5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CD0BF-A887-4028-BFFA-6DB9A41D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D14A-A00F-4FF6-98AD-E08EBDEC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821C8-977F-4FD2-9E72-21FF2241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E379-8534-435F-AD07-0288C4ED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7912-5B72-4B79-905E-5B72220F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F1AF-3AAF-4258-91FC-E3D63F44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13FE-A40A-4A93-9B8D-992A22B3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68A6-155F-4AEB-B143-FC54AC60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1229-60CE-4B41-AD88-5B0A7B4B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E23D-6207-4B9B-8225-671D2F17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896B-493D-4812-86D9-345DD5E4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0978-2E95-42C2-90C3-26E7806F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3685-DF14-4351-9CEA-7808CCB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A762-B8C4-46B9-A3CE-829C67F7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5E19-E8CE-4EE6-8B1D-51BFDD19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0656-C730-4319-8343-EE7819B8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2422-8B8F-4745-8C63-D1CBCA4A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CB9B-5643-4C47-B87A-A9DA3981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87DC-718C-402C-BB9B-DE6C05C1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7B5D-3F78-4CAD-BB9D-EDEA3C9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B5D2-8702-4A55-A6F3-61DD251C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AD15-57C7-4719-901A-DB9F8061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729B-90E6-4B84-A2B5-E51D2B4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3D9D-1BCF-4BE2-8D12-119E15613F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1623-A806-4C2E-8AD3-AC038FE5A7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112500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Что значит писать и говорить на тем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26920" y="4941360"/>
            <a:ext cx="74901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рок развития речи в 5 класс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64296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это время появилось солнце! Было так прекрасно: кони в золотых лучах сол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скакали, едва касаясь копытами земли. Их хвосты и гривы развевались на ветру и казались золоты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колько минут я стоял как завороженный, хотя кони были уже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ни в золоте луч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okg8-9ZHAso.jpg"/>
          <p:cNvPicPr/>
          <p:nvPr/>
        </p:nvPicPr>
        <p:blipFill>
          <a:blip r:embed="rId1"/>
          <a:stretch/>
        </p:blipFill>
        <p:spPr>
          <a:xfrm>
            <a:off x="1101600" y="1500120"/>
            <a:ext cx="7056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928800"/>
            <a:ext cx="822960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мый памятный день 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жды, теплым летним днем, мы с отцом пошли в лес по грибы. Лес был полон звуков и голосов птиц. С грибами нам в этот раз очень повезло - довольно быстро набрали полную корзину с верхом. Пора было отправляться д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оль лесной тропы росли маленькие елочки, и я случайно задел одну из них ногой. Неожиданно оттуда вспорхнула какая-то пти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3" descr="b-680028.jpg"/>
          <p:cNvPicPr/>
          <p:nvPr/>
        </p:nvPicPr>
        <p:blipFill>
          <a:blip r:embed="rId1"/>
          <a:stretch/>
        </p:blipFill>
        <p:spPr>
          <a:xfrm>
            <a:off x="428760" y="75240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64296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ечно, я решил полюбопытствовать, что там, под елочкой. Наклонился, раздвинул ветки и увидел несколько яичек голубоватого цвета, лежащих в гнезде. А птичка, оказывается, не улетела далеко. Она села на дерево неподалеку и стала жалобно чирикать. Пришлось звать на помощь отца - я не знал, что делать дал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осоветовал не трогать гнезда - иначе птичка не вернется туда. Само место мы запомнили и благополучно вернулись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85680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потом, когда прошло некоторое время, решили вернуться, чтобы посмотреть, не появились ли птенцы. И в самом деле, появились! Маленькие, еще слепые и беспомощ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вернулись еще раз, через неделю. На этот раз птенчиков уже не было. Наверно, мать увела их с собой, хотела защитить и убе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3" descr="я.jpg"/>
          <p:cNvPicPr/>
          <p:nvPr/>
        </p:nvPicPr>
        <p:blipFill>
          <a:blip r:embed="rId1"/>
          <a:stretch/>
        </p:blipFill>
        <p:spPr>
          <a:xfrm>
            <a:off x="1285920" y="642960"/>
            <a:ext cx="66438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714240"/>
            <a:ext cx="8748720" cy="22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шите сочинение об одном из     летних происшествий, самом памятном для вас и, может быть, поучительном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напишите сочинение на тему «Как я провел лет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0040" y="414324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берите для своего сочинения такое заглавие, которое бы отражало его 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фографическ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ьте в слова пропущенные букв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33cc"/>
                </a:solidFill>
                <a:latin typeface="Arial"/>
              </a:rPr>
              <a:t>уд…вительный, пам…тный, увл…кательный, пр…кра…ный, инт…р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уйте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ссоциации к слову «лето»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жара солнце теп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екнр.jpg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представление о широкой и узкой теме соч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умение распознавать широкие и узкие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умение писать и говорить на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 эстетический вкус так, чтобы учащиеся научились видеть и оценивать прекрас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никулы пляж  отдых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одержимое 3" descr="full.jpg"/>
          <p:cNvPicPr/>
          <p:nvPr/>
        </p:nvPicPr>
        <p:blipFill>
          <a:blip r:embed="rId1"/>
          <a:stretch/>
        </p:blipFill>
        <p:spPr>
          <a:xfrm>
            <a:off x="1143000" y="1647720"/>
            <a:ext cx="688032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трава зелень лес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setwalls.ru-11553.jpg"/>
          <p:cNvPicPr/>
          <p:nvPr/>
        </p:nvPicPr>
        <p:blipFill>
          <a:blip r:embed="rId1"/>
          <a:stretch/>
        </p:blipFill>
        <p:spPr>
          <a:xfrm>
            <a:off x="785880" y="1785960"/>
            <a:ext cx="74358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Бабочки 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аен.jpg"/>
          <p:cNvPicPr/>
          <p:nvPr/>
        </p:nvPicPr>
        <p:blipFill>
          <a:blip r:embed="rId1"/>
          <a:stretch/>
        </p:blipFill>
        <p:spPr>
          <a:xfrm>
            <a:off x="750960" y="1674720"/>
            <a:ext cx="7821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ухота  дож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3" descr="iт.jpg"/>
          <p:cNvPicPr/>
          <p:nvPr/>
        </p:nvPicPr>
        <p:blipFill>
          <a:blip r:embed="rId1"/>
          <a:stretch/>
        </p:blipFill>
        <p:spPr>
          <a:xfrm>
            <a:off x="500040" y="207180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листья ягоды зе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Содержимое 3" descr="iу.jpg"/>
          <p:cNvPicPr/>
          <p:nvPr/>
        </p:nvPicPr>
        <p:blipFill>
          <a:blip r:embed="rId1"/>
          <a:stretch/>
        </p:blipFill>
        <p:spPr>
          <a:xfrm>
            <a:off x="1174680" y="1643040"/>
            <a:ext cx="668340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август зной луг поле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3" descr="25 Июля 08г. 138.jpg"/>
          <p:cNvPicPr/>
          <p:nvPr/>
        </p:nvPicPr>
        <p:blipFill>
          <a:blip r:embed="rId1"/>
          <a:stretch/>
        </p:blipFill>
        <p:spPr>
          <a:xfrm>
            <a:off x="1000080" y="15667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еревня бабушка к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3" descr="1347305747393145686.jpeg"/>
          <p:cNvPicPr/>
          <p:nvPr/>
        </p:nvPicPr>
        <p:blipFill>
          <a:blip r:embed="rId1"/>
          <a:stretch/>
        </p:blipFill>
        <p:spPr>
          <a:xfrm>
            <a:off x="1714680" y="1684440"/>
            <a:ext cx="5286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457200"/>
            <a:ext cx="840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летний лагерь друзья ра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Содержимое 3" descr="5371a423511b3.jpg"/>
          <p:cNvPicPr/>
          <p:nvPr/>
        </p:nvPicPr>
        <p:blipFill>
          <a:blip r:embed="rId1"/>
          <a:stretch/>
        </p:blipFill>
        <p:spPr>
          <a:xfrm>
            <a:off x="1000080" y="1643040"/>
            <a:ext cx="70088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-схема сочинения на тему «Самый памятный день лета»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357200"/>
            <a:ext cx="82296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ступление. Где, когда происходило 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сновная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происходило интересного в этот д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оё настроение в течение дня (менялось или нет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Что оказалось самым интересным и запоминающим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Почему мне запомнился именно этот д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дания к сочин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жите об одном дне летних каникул так, чтобы было ясно, почему он запомнился больше друг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аглавьте сочи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br>
              <a:rPr sz="32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Тема тек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248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текст создается на определенную тему. 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Тема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то, о чем (или о ком) в нём говорится. Очень часто тема текста отражается в его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-схема сочинения на тему «Как я провел ле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ето - пора отдыха )( о том, как мечталось о лете и что планировалось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ая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ето- это маленькая жизнь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тдыхалки - где я был и что увиде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бучалки - что нового узнал, освоил, прочё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звлекалки - новые радости и успех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это слишком короткое л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сочи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ы на вы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к я провел 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амый памятный день 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Содержимое 3" descr="img12.jpg"/>
          <p:cNvPicPr/>
          <p:nvPr/>
        </p:nvPicPr>
        <p:blipFill>
          <a:blip r:embed="rId1"/>
          <a:stretch/>
        </p:blipFill>
        <p:spPr>
          <a:xfrm>
            <a:off x="1285920" y="76356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Широкая и узкая тема сочи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ирокая 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Как я провел ле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зкая 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Самый памятный день л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680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нение ученика на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Летнее происшеств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удачно ли озаглавлено сочи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 в тексте предложения, которые не помогают раскрытию его темы. Опустите их при повторном прочтени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71424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ни в золоте л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мы со старшим братом были у бабушки в деревне. Брат в прошлом году окончил технологическое училище и теперь работает на заводе. Осенью он пойдет в армию, а потом будет учиться в университ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85680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мы на рассвете отправились на рыбалку. Пришли на место. Закинули удочки. Но я смотрел не на поплавок, а на то, как у другого берега ребята купали лошадей. Искупали, сели на них верхом и поскакали по крутому берегу реки. И в это время появилось солнце! Было так прекрасно: кони в золотых лучах сол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71424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скакали, едва касаясь копытами земли. Их хвосты и гривы развевались на ветру и казались золоты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колько минут я стоял как завороженный, хотя кони были уже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в на утро был отменный. Бабушка нашим уловом была дово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у нас получило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мы со старшим братом были у бабушки в деревне. Однажды мы на рассвете отправились на рыба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инули удочки. Но я смотрел не на поплавок, а на то, как у другого берега ребята купали лошадей. Искупали, сели на них верхом и поскакали по крутому берегу ре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5:46:56Z</dcterms:created>
  <dc:creator>Дом</dc:creator>
  <dc:description/>
  <dc:language>en-US</dc:language>
  <cp:lastModifiedBy>Татьяна</cp:lastModifiedBy>
  <dcterms:modified xsi:type="dcterms:W3CDTF">2015-10-07T15:46:55Z</dcterms:modified>
  <cp:revision>22</cp:revision>
  <dc:subject/>
  <dc:title>Что значит писать и говорить на тему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