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92F2-8FFD-4C44-B6E3-9E1D2B27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5EAF-55B2-4AF4-8595-60CCA2E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4CF6-5B8B-498C-8801-1A1B2440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9515-A57B-41F3-9502-1297609A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D63B-4A43-4582-B445-B3FCF7C2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F72-ED3B-4D8A-9E04-861E98E1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94DA-9E1D-4D04-9A55-A985263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1208-45A0-4AF5-841A-FBC5EEA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9041-5AAA-4522-AF96-58724950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98B-387F-43A1-A511-6F76A604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BBA-114A-4AFD-B024-3F45DAE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F0E1-E251-4BAF-BF00-CBE6E90A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DC56-1890-4D96-B310-C9F2855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D9E6-C7E1-4F55-9DD8-C04222B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12DD-0F8C-4312-B678-258956E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E5BD-8254-47A4-86A7-BA88AC5B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DC0C-2CF6-433D-9687-FEBB362F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F856-B12B-4AEE-AD5B-DC66F77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4727-E718-4911-A234-156235E5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CF85-747F-4760-A2C9-21C921D5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72E60-1F91-41CF-AEB6-521BFF8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248B-74C7-4882-8F85-5511183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D440-CA49-49A5-BB7A-7235A66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EA44-2C5B-4823-A4DE-D4D4575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3FF-83F5-4CDB-896A-D406292218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BC5-E35E-4AAC-BC01-2C3725919C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112500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Что значит писать и говорить на т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6920" y="4941360"/>
            <a:ext cx="7490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рок развития речи в 5 класс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это время появилось солнце! Было так прекрасно: кони в золотых лучах сол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скакали, едва касаясь копытами земли. Их хвосты и гривы развевались на ветру и казались золот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минут я стоял как завороженный, хотя кони были уже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ни в золоте луч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okg8-9ZHAso.jpg"/>
          <p:cNvPicPr/>
          <p:nvPr/>
        </p:nvPicPr>
        <p:blipFill>
          <a:blip r:embed="rId1"/>
          <a:stretch/>
        </p:blipFill>
        <p:spPr>
          <a:xfrm>
            <a:off x="1101600" y="1500120"/>
            <a:ext cx="7056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92880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мый памятный день 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, теплым летним днем, мы с отцом пошли в лес по грибы. Лес был полон звуков и голосов птиц. С грибами нам в этот раз очень повезло - довольно быстро набрали полную корзину с верхом. Пора было отправляться д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ль лесной тропы росли маленькие елочки, и я случайно задел одну из них ногой. Неожиданно оттуда вспорхнула какая-то пт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3" descr="b-680028.jpg"/>
          <p:cNvPicPr/>
          <p:nvPr/>
        </p:nvPicPr>
        <p:blipFill>
          <a:blip r:embed="rId1"/>
          <a:stretch/>
        </p:blipFill>
        <p:spPr>
          <a:xfrm>
            <a:off x="428760" y="75240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но, я решил полюбопытствовать, что там, под елочкой. Наклонился, раздвинул ветки и увидел несколько яичек голубоватого цвета, лежащих в гнезде. А птичка, оказывается, не улетела далеко. Она села на дерево неподалеку и стала жалобно чирикать. Пришлось звать на помощь отца - я не знал, что делать да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осоветовал не трогать гнезда - иначе птичка не вернется туда. Само место мы запомнили и благополучно вернулись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85680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потом, когда прошло некоторое время, решили вернуться, чтобы посмотреть, не появились ли птенцы. И в самом деле, появились! Маленькие, еще слепые и беспомощ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вернулись еще раз, через неделю. На этот раз птенчиков уже не было. Наверно, мать увела их с собой, хотела защитить и убе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я.jpg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714240"/>
            <a:ext cx="8748720" cy="22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сочинение об одном из     летних происшествий, самом памятном для вас и, может быть, поучительно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напишите сочинение на тему «Как я провел ле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0040" y="414324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берите для своего сочинения такое заглавие, которое бы отражало его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фограф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ьте в слова пропущенные букв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33cc"/>
                </a:solidFill>
                <a:latin typeface="Arial"/>
              </a:rPr>
              <a:t>уд…вительный, пам…тный, увл…кательный, пр…кра…ный, инт…р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уйте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ссоциации к слову «лето»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жара солнце те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екнр.jpg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представление о широкой и узкой теме соч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умение распознавать широкие и узкие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писать и говорить на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 эстетический вкус так, чтобы учащиеся научились видеть и оценивать прекрас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никулы пляж  отдых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3" descr="full.jpg"/>
          <p:cNvPicPr/>
          <p:nvPr/>
        </p:nvPicPr>
        <p:blipFill>
          <a:blip r:embed="rId1"/>
          <a:stretch/>
        </p:blipFill>
        <p:spPr>
          <a:xfrm>
            <a:off x="1143000" y="1647720"/>
            <a:ext cx="68803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трава зелень лес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setwalls.ru-11553.jpg"/>
          <p:cNvPicPr/>
          <p:nvPr/>
        </p:nvPicPr>
        <p:blipFill>
          <a:blip r:embed="rId1"/>
          <a:stretch/>
        </p:blipFill>
        <p:spPr>
          <a:xfrm>
            <a:off x="785880" y="1785960"/>
            <a:ext cx="74358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Бабочки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аен.jpg"/>
          <p:cNvPicPr/>
          <p:nvPr/>
        </p:nvPicPr>
        <p:blipFill>
          <a:blip r:embed="rId1"/>
          <a:stretch/>
        </p:blipFill>
        <p:spPr>
          <a:xfrm>
            <a:off x="750960" y="1674720"/>
            <a:ext cx="7821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ухота  дож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3" descr="iт.jpg"/>
          <p:cNvPicPr/>
          <p:nvPr/>
        </p:nvPicPr>
        <p:blipFill>
          <a:blip r:embed="rId1"/>
          <a:stretch/>
        </p:blipFill>
        <p:spPr>
          <a:xfrm>
            <a:off x="500040" y="207180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листья ягоды 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3" descr="iу.jpg"/>
          <p:cNvPicPr/>
          <p:nvPr/>
        </p:nvPicPr>
        <p:blipFill>
          <a:blip r:embed="rId1"/>
          <a:stretch/>
        </p:blipFill>
        <p:spPr>
          <a:xfrm>
            <a:off x="1174680" y="1643040"/>
            <a:ext cx="66834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вгуст зной луг поле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25 Июля 08г. 138.jpg"/>
          <p:cNvPicPr/>
          <p:nvPr/>
        </p:nvPicPr>
        <p:blipFill>
          <a:blip r:embed="rId1"/>
          <a:stretch/>
        </p:blipFill>
        <p:spPr>
          <a:xfrm>
            <a:off x="1000080" y="15667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еревня бабушка к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3" descr="1347305747393145686.jpeg"/>
          <p:cNvPicPr/>
          <p:nvPr/>
        </p:nvPicPr>
        <p:blipFill>
          <a:blip r:embed="rId1"/>
          <a:stretch/>
        </p:blipFill>
        <p:spPr>
          <a:xfrm>
            <a:off x="1714680" y="1684440"/>
            <a:ext cx="528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457200"/>
            <a:ext cx="840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летний лагерь друзья 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3" descr="5371a423511b3.jpg"/>
          <p:cNvPicPr/>
          <p:nvPr/>
        </p:nvPicPr>
        <p:blipFill>
          <a:blip r:embed="rId1"/>
          <a:stretch/>
        </p:blipFill>
        <p:spPr>
          <a:xfrm>
            <a:off x="1000080" y="1643040"/>
            <a:ext cx="7008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-схема сочинения на тему «Самый памятный день лета»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35720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ступление. Где, когда происходило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происходило интересного в этот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оё настроение в течение дня (менялось или нет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Что оказалось самым интересным и запоминающим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очему мне запомнился именно этот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ния к сочин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 об одном дне летних каникул так, чтобы было ясно, почему он запомнился больше друг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аглавьте сочи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br>
              <a:rPr sz="32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Тема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248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текст создается на определенную тему.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Тема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о, о чем (или о ком) в нём говорится. Очень часто тема текста отражается в его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-схема сочинения на тему «Как я провел ле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ето - пора отдыха )( о том, как мечталось о лете и что планировалось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ая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ето- это маленькая жизнь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тдыхалки - где я был и что увиде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бучалки - что нового узнал, освоил, прочё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влекалки - новые радости и успех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это слишком короткое л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сочи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ы на вы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к я провел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амый памятный день 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img12.jpg"/>
          <p:cNvPicPr/>
          <p:nvPr/>
        </p:nvPicPr>
        <p:blipFill>
          <a:blip r:embed="rId1"/>
          <a:stretch/>
        </p:blipFill>
        <p:spPr>
          <a:xfrm>
            <a:off x="1285920" y="76356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ирокая и узкая тема сочи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ирокая 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Как я провел ле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зкая 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Самый памятный день л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680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ение ученика на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Летнее происшеств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удачно ли озаглавлено сочи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в тексте предложения, которые не помогают раскрытию его темы. Опустите их при повторном прочтени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1424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и в золоте л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мы со старшим братом были у бабушки в деревне. Брат в прошлом году окончил технологическое училище и теперь работает на заводе. Осенью он пойдет в армию, а потом будет учиться в университ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85680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мы на рассвете отправились на рыбалку. Пришли на место. Закинули удочки. Но я смотрел не на поплавок, а на то, как у другого берега ребята купали лошадей. Искупали, сели на них верхом и поскакали по крутому берегу реки. И в это время появилось солнце! Было так прекрасно: кони в золотых лучах сол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71424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скакали, едва касаясь копытами земли. Их хвосты и гривы развевались на ветру и казались золот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минут я стоял как завороженный, хотя кони были уже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в на утро был отменный. Бабушка нашим уловом была дово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у нас получи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мы со старшим братом были у бабушки в деревне. Однажды мы на рассвете отправились на рыба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инули удочки. Но я смотрел не на поплавок, а на то, как у другого берега ребята купали лошадей. Искупали, сели на них верхом и поскакали по крутому берегу ре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5:46:56Z</dcterms:created>
  <dc:creator>Дом</dc:creator>
  <dc:description/>
  <dc:language>en-US</dc:language>
  <cp:lastModifiedBy>Татьяна</cp:lastModifiedBy>
  <dcterms:modified xsi:type="dcterms:W3CDTF">2015-10-07T15:46:55Z</dcterms:modified>
  <cp:revision>22</cp:revision>
  <dc:subject/>
  <dc:title>Что значит писать и говорить на тему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