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1.jpeg" ContentType="image/jpeg"/>
  <Override PartName="/ppt/media/image12.gif" ContentType="image/gif"/>
  <Override PartName="/ppt/media/image3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16.png" ContentType="image/pn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D02-3671-4720-925B-5984DF24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7B3-2FC0-4916-A87D-D8E1D61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E83-5DF4-4230-AD04-EDBAB250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204-F1F3-48A1-80A1-744869BF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E84-0622-49F6-BF8B-E82A040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B27B-C543-4AB0-A985-A6A0612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F82-7ECD-455C-A7EC-C603C529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4E83-0DDB-49BE-A8E6-73268F0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A3DE-994B-4F6B-8F51-DDA105C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4CA9-5FFF-4338-8446-75B8639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3E2-944C-41B2-9C98-26B0614E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27A-AA26-4E36-8D56-BB57692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B6B0-984A-4CE9-B2FF-4A4A04D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7E1-B2EB-4D66-8FA0-0E9CBAF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C0C-F0CA-440A-83E7-F02C852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1428-1B39-4F5D-BD0B-D2E88ED8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C95B-384F-42A7-8667-61606499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8B91-98E4-4F77-BDDB-7F4D0C60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691B-4BE5-47A1-8349-2F5263B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3A2A5-D0CB-4EBC-854A-C780469B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5E35-84B5-4883-9F0B-F52651D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7333-DF09-4D30-B933-51B94964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CC5-6622-48B4-AFEA-AB6EEA1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36EA-0561-4A51-8E70-10A38F1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685B-A4B8-4F97-9D9F-A670E47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6298-9819-4E9C-BAEE-A7BE907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5AB2-C5F7-4F0F-80F3-7B9CB0A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4564-5954-401B-92F3-ACB4FAD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229B-25BF-47E1-A67A-097C85B5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3CFA-DDE0-45A6-BAE2-06D0BF1F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8A0E-6C02-4869-A11F-796B0EB0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B445-FFA4-4ABD-B659-1175473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66D9-7D6D-4CDF-990F-15767EC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7C5-A91B-4A5C-81D7-74CB7FE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BC50-B70B-4482-8404-9531386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09C5-D0F7-4AF9-838A-CE6BDE91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0960-A5F8-4658-B663-AE6C83AB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32D7-EFBB-435F-AE0E-8B7F84B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7EFD-FF13-43BE-9612-7863E68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1EF8-3959-49DA-A53B-7E5A9A6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BB89-C141-4B5F-A704-35DE420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B206-9AC8-4542-BA90-AAC0D020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40B1-4735-468D-A1DF-B6E19ABC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75729-E8AB-45B9-84E5-C7B19D7B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9CA-B79B-4F30-B4CF-DB8D104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C95C-55B8-42DA-8672-9E7ECE42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72F8-E270-48E2-BEFB-17BFE527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AB35-C79D-4D57-8E2B-A4FFB16A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61D8-5853-4B7B-85EF-452CA82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9BAE-9EE5-42FF-AEEB-7196504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6A6D-5D47-48D0-BC47-AD2467F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11A0-736B-4AD7-AF24-9F435048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EC91-9C41-4F59-8B67-356278F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6426-6FE3-43C7-9335-DA18A0D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A979-C838-4733-9DBA-9E51C64E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531-29D1-4BF1-BE1E-A82189B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A9BF-17E4-4B61-B330-69046F8B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BEFE-9658-4792-9DC7-5F9FB074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BD18-0352-4346-9678-92834C7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B5D0-F5DC-4BFA-8560-85BAD190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9CE9-C6A9-492E-A9BD-99EDC022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F186-8D1B-4E01-8636-809B111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2155-AF14-4BDD-89B6-DAEAA31F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6A36-FC0A-4980-86AF-7B3E13B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0AF4-5F18-4830-8299-7B6100E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84FC2-E5E6-4E54-91CE-6255BD1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158-85AE-4630-9C00-06A3CF3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AF51-8FF4-4283-A738-22768A1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E4F0-22A7-4413-BC43-4659D77B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5A72-099A-457C-8041-01560F82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966A-52AA-430A-BDB3-ECC4E4C8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A08F-BCDB-4068-98A3-02CAD347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4B3F-FA38-4259-AD2D-F9450AA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F81B-0D47-43DE-83D8-8DE9C196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056D-E382-4257-9847-9C5D41B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1272-CB8F-49EC-8C4A-4F4958F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8460E-14E6-4B8C-8005-55EC224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39E-BF06-4123-BDA2-A141F01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8E22-4734-4D2F-89A6-BAF9EDA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04B8-75AF-4B40-91F5-1444DAB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E901-6EE7-4A91-BDCF-C3E750CD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3FA42-5008-42AE-8407-7BE49F87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7EAF-A29E-48F2-8347-FC08E1BD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E0E-16EF-4570-B832-9DA25AF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3B6-4651-46EC-BB65-A815A1DDE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20E-78AC-40DF-850F-FB7E6230C45F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3B5-4C86-473E-AC4A-EA8258987E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DE0A-52CE-474D-A0C6-6F94EAA51C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2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8730-2F82-4AFD-95FE-0D02A0884503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D52-2646-4E1F-A6EB-00B1554C04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D40-2CDB-4FB4-A8A0-7D4114DB19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J0178632"/>
          <p:cNvPicPr/>
          <p:nvPr/>
        </p:nvPicPr>
        <p:blipFill>
          <a:blip r:embed="rId1"/>
          <a:stretch/>
        </p:blipFill>
        <p:spPr>
          <a:xfrm rot="21596400">
            <a:off x="-326520" y="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4596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6600" spc="-1" strike="noStrike">
                <a:solidFill>
                  <a:srgbClr val="ff0066"/>
                </a:solidFill>
                <a:latin typeface="Times New Roman"/>
              </a:rPr>
              <a:t>Детско-родительские отно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285880" y="5000400"/>
            <a:ext cx="3708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Аспекты воспита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468360" y="1989000"/>
            <a:ext cx="813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712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того, чтобы поддержать ребенка, необходим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94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Gothic"/>
              </a:rPr>
              <a:t>Слова, которые поддерживают и которые разрушают его веру в себ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85480" y="1499760"/>
            <a:ext cx="5429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Слова поддерж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Calibri"/>
              </a:rPr>
              <a:t>Слова разочар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я тебя и твои способности. Я думаю, ты смог бы сделать это гораздо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 идея никогда не сможет быть реализов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для тебя слишком трудно, поэтому я сам это сдел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7" descr="C:\Users\1\Documents\Картинки\орр.jpg"/>
          <p:cNvPicPr/>
          <p:nvPr/>
        </p:nvPicPr>
        <p:blipFill>
          <a:blip r:embed="rId1"/>
          <a:stretch/>
        </p:blipFill>
        <p:spPr>
          <a:xfrm>
            <a:off x="5664240" y="1500120"/>
            <a:ext cx="3139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59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3" descr="J0282747"/>
          <p:cNvPicPr/>
          <p:nvPr/>
        </p:nvPicPr>
        <p:blipFill>
          <a:blip r:embed="rId2"/>
          <a:stretch/>
        </p:blipFill>
        <p:spPr>
          <a:xfrm>
            <a:off x="250920" y="4797360"/>
            <a:ext cx="1218960" cy="1435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6" descr="J0283640"/>
          <p:cNvPicPr/>
          <p:nvPr/>
        </p:nvPicPr>
        <p:blipFill>
          <a:blip r:embed="rId3"/>
          <a:stretch/>
        </p:blipFill>
        <p:spPr>
          <a:xfrm>
            <a:off x="179280" y="141300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9" descr="J0283653"/>
          <p:cNvPicPr/>
          <p:nvPr/>
        </p:nvPicPr>
        <p:blipFill>
          <a:blip r:embed="rId4"/>
          <a:stretch/>
        </p:blipFill>
        <p:spPr>
          <a:xfrm>
            <a:off x="7404120" y="458136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J0316862"/>
          <p:cNvPicPr/>
          <p:nvPr/>
        </p:nvPicPr>
        <p:blipFill>
          <a:blip r:embed="rId2"/>
          <a:stretch/>
        </p:blipFill>
        <p:spPr>
          <a:xfrm>
            <a:off x="4143240" y="1643040"/>
            <a:ext cx="5000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5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50"/>
                            </p:stCondLst>
                            <p:childTnLst>
                              <p:par>
                                <p:cTn id="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5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5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5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5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6"/>
          <p:cNvSpPr/>
          <p:nvPr/>
        </p:nvSpPr>
        <p:spPr>
          <a:xfrm>
            <a:off x="755640" y="476280"/>
            <a:ext cx="7848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огда мы выражаем удовольствие оттого, что делает наш ребенок, это поддерживает его и стимулирует продолжать дело или делать новые попытки. Тогда он получает удовольствие о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линная поддержка родителями своего ребенка должна основываться на подчеркивании его способностей, возможностей его положительны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ажно, чтобы родитель научился принимать ребенка таким, какой он есть, включая все его достижения и промахи, а в общении с ним учитывать значение таких вещей, как тон, жесты,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Times New Roman"/>
              </a:rPr>
              <a:t>Тест </a:t>
            </a:r>
            <a:r>
              <a:rPr b="0" lang="tt-RU" sz="2900" spc="-1" strike="noStrike">
                <a:solidFill>
                  <a:srgbClr val="ff3300"/>
                </a:solidFill>
                <a:latin typeface="Times New Roman"/>
              </a:rPr>
              <a:t>«Мера заботы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6760" y="642960"/>
            <a:ext cx="853596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Инструкция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: известно, что многие нарушения в поведении и развитии ребенка связаны с недостаточным вниманием к нему родителей. Однако, как считают психологи, чрезмерная опека может оказаться опасна так же, как и ее недостаток. Этот тест поможет Вам разобраться, насколько верна Ваша воспитательная позиция. Перед Вами 15 утверждений. На первый взгляд, может показаться, что не все они имеют отношение к воспитанию. Тем не менее против каждой фразы отметьте число баллов, соответствующие вашему суждению по данному вопрос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Категорически не согласен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1 балл.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Я не спешил бы с этим согласиться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2 балла.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Это, пожалуй, верно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3 бал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"Совершенно верно, я считаю именно так" - </a:t>
            </a: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4 балла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4" descr="C:\Users\1\Documents\Картинки\rebenok-roditeli.jpg"/>
          <p:cNvPicPr/>
          <p:nvPr/>
        </p:nvPicPr>
        <p:blipFill>
          <a:blip r:embed="rId1"/>
          <a:stretch/>
        </p:blipFill>
        <p:spPr>
          <a:xfrm>
            <a:off x="4857840" y="402444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Утвер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предвидеть все проблемы ребенка, чтобы помочь ему их преодолет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Для хорошей матери достаточно общения только с собственной семье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Маленького ребенка следует всегда крепко держать во время мытья, чтобы он не упал и не ушибс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Когда ребенок делает то, что обязан, он находится на правильном пути и благодаря этому будет счастли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Хорошо, если ребенок занимается спортом. Но спортивными единоборствами ему заниматься не следует, так как это чревато физическими увечьями и нарушениями психи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Воспитание - это тяжелый труд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У ребенка не должно быть тайн от родителе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Если мать не справляется со своими обязанностями по отношению к детям, это, скорее всего, означает, что отец плохо выполняет свои обязанности по содержанию семь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Материнская любовь не может быть чрезмерной: любовью ребенка не испортиш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ограждать ребенка от негативных сторон жизн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Не следует приучать ребенка к рутинной домашней работе, чтобы он не потерял охоту к любой работе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Если бы мать не руководила домом, мужем, детьми, все происходило бы менее организованно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В рационе семьи все самое вкусное и полезное должно в первую очередь доставаться ребенк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Лучшая защита от инфекционных заболеваний - ограничение контактов с окружающим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5. </a:t>
            </a:r>
            <a:r>
              <a:rPr b="0" lang="tt-RU" sz="1900" spc="-1" strike="noStrike">
                <a:solidFill>
                  <a:srgbClr val="000000"/>
                </a:solidFill>
                <a:latin typeface="Calibri"/>
              </a:rPr>
              <a:t>Родители должны активно влиять на то, кого из сверстников выбирает ребенок себе в друзь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500" spc="-1" strike="noStrike">
                <a:solidFill>
                  <a:srgbClr val="000000"/>
                </a:solidFill>
                <a:latin typeface="Calibri"/>
              </a:rPr>
              <a:t>Обработка результат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Если вы набрали свыше 40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, то Вашу семью, вероятнее всего, можно назвать детоцентристской. То есть интересы ребенка - главный мотив Вашего поведения. Такая позиция достойна одобрения. Однако у Вас она несколько заострена. Психологи называют это чрезмерной опекой. В подобных семьях взрослые все выполняют за ребенка, стремятся оградить его от мнимых опасностей, заставляют следовать своим требованиям, суждениям, настроениям. В результате у ребенка формируется пассивная зависимость от родителей, которая по мере взросления все более препятствует личностному росту. Вам следовало бы больше доверять своему ребенку, верить в него, прислушиваться к его собственным интересам, ведь верно замечено: "Воспитывать детей - значит учить их обходиться без нас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От 25 до 40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. Вашему ребенку не грозит стать распущенным и избалованным, поскольку вы уделяете ему достаточное, но не чрезмерное внимание. Постарайтесь сохранить этот уровень отнош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3300"/>
                </a:solidFill>
                <a:latin typeface="Calibri"/>
              </a:rPr>
              <a:t>Если Вы набрали менее 25 баллов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, то Вы явно недооцениваете себя как воспитателя, слишком полагаетесь на случай и благоприятное стечение обстоятельств. Проблемы в деловых и супружеских взаимоотношениях часто отвлекают Ваше внимание от ребенка. А он вправе ожидать от вас большого участия и забо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4000" y="549360"/>
            <a:ext cx="633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Ребенок учится том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Что видит у себя в дом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Родители пример 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. Бранд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Picture 4" descr="C:\Users\1\Documents\Картинки\SkolaRoditeleiProgramma.jpg"/>
          <p:cNvPicPr/>
          <p:nvPr/>
        </p:nvPicPr>
        <p:blipFill>
          <a:blip r:embed="rId1"/>
          <a:stretch/>
        </p:blipFill>
        <p:spPr>
          <a:xfrm>
            <a:off x="3691080" y="3000240"/>
            <a:ext cx="4802040" cy="360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765000"/>
            <a:ext cx="7643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ОВЕРЬ МН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СЧАСТЬЕ ТОЛЬКО Т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ЛЮБЯТ НАС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ВЕРЯТ Н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М.ЛЕРМО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5" descr="C:\Users\1\Documents\скачанные файлы.jpg"/>
          <p:cNvPicPr/>
          <p:nvPr/>
        </p:nvPicPr>
        <p:blipFill>
          <a:blip r:embed="rId1"/>
          <a:stretch/>
        </p:blipFill>
        <p:spPr>
          <a:xfrm>
            <a:off x="5429160" y="3286080"/>
            <a:ext cx="35006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6760" y="285480"/>
            <a:ext cx="72010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требность в родительской любви не только самая сильная из всех человеческих потребностей, но и самая длительная. Пройдут увлечения, отзвучат некогда потрясавшие нашу жизнь страсти, минут многие привязанности, но любовь к родителям и необходимость ответной любви остается с нами до конца наших дн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ла Спиваков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4" descr="C:\Users\1\Documents\Картинки\688.jpg"/>
          <p:cNvPicPr/>
          <p:nvPr/>
        </p:nvPicPr>
        <p:blipFill>
          <a:blip r:embed="rId1"/>
          <a:stretch/>
        </p:blipFill>
        <p:spPr>
          <a:xfrm>
            <a:off x="4143240" y="4757760"/>
            <a:ext cx="46958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836640"/>
            <a:ext cx="7696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пешность воспитания детей стоит в прямой зависимости от личностного роста, гармонии и душевного равновесия родителей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4" descr="C:\Users\1\Documents\Картинки\images (2).jpg"/>
          <p:cNvPicPr/>
          <p:nvPr/>
        </p:nvPicPr>
        <p:blipFill>
          <a:blip r:embed="rId1"/>
          <a:stretch/>
        </p:blipFill>
        <p:spPr>
          <a:xfrm>
            <a:off x="5357880" y="3929040"/>
            <a:ext cx="3571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57168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Любовь, принятие, уважение, понимание которые родители заложат в своего дитя в первые пять лет, он пронесет по жиз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4" descr="C:\Users\1\Documents\Картинки\images (4).jpg"/>
          <p:cNvPicPr/>
          <p:nvPr/>
        </p:nvPicPr>
        <p:blipFill>
          <a:blip r:embed="rId1"/>
          <a:stretch/>
        </p:blipFill>
        <p:spPr>
          <a:xfrm>
            <a:off x="5572080" y="3643200"/>
            <a:ext cx="33019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Детская психология выделяет 3 основных типа отношений родителей и их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7120" y="13572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1.Оптимальный тип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2.Тип излишней вовлечённости (авторитарный контроль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alibri"/>
              </a:rPr>
              <a:t>3.Тип излишней отстраненности (эмоциональное отвержение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" descr="C:\Users\1\Documents\Картинки\ууу.jpg"/>
          <p:cNvPicPr/>
          <p:nvPr/>
        </p:nvPicPr>
        <p:blipFill>
          <a:blip r:embed="rId1"/>
          <a:stretch/>
        </p:blipFill>
        <p:spPr>
          <a:xfrm>
            <a:off x="2857680" y="4529160"/>
            <a:ext cx="3500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Courier New"/>
              </a:rPr>
              <a:t>Аспекты воспитания детей:</a:t>
            </a:r>
            <a:br>
              <a:rPr sz="3200"/>
            </a:br>
            <a:r>
              <a:rPr b="1" i="1" lang="ru-RU" sz="3200" spc="-1" strike="noStrike">
                <a:solidFill>
                  <a:srgbClr val="ff9966"/>
                </a:solidFill>
                <a:latin typeface="Courier New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J0223735"/>
          <p:cNvPicPr/>
          <p:nvPr/>
        </p:nvPicPr>
        <p:blipFill>
          <a:blip r:embed="rId1"/>
          <a:stretch/>
        </p:blipFill>
        <p:spPr>
          <a:xfrm>
            <a:off x="0" y="260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336887"/>
          <p:cNvPicPr/>
          <p:nvPr/>
        </p:nvPicPr>
        <p:blipFill>
          <a:blip r:embed="rId2"/>
          <a:stretch/>
        </p:blipFill>
        <p:spPr>
          <a:xfrm flipH="1">
            <a:off x="7316640" y="4437000"/>
            <a:ext cx="1827360" cy="2160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10"/>
          <p:cNvSpPr/>
          <p:nvPr/>
        </p:nvSpPr>
        <p:spPr>
          <a:xfrm>
            <a:off x="2411280" y="1557360"/>
            <a:ext cx="5400720" cy="4608360"/>
          </a:xfrm>
          <a:prstGeom prst="flowChartMagneticTap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3132000" y="2133720"/>
            <a:ext cx="37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евная теп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и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четко разделять отцовские и матерински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6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6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ительская поддержка – это процесс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 ходе которого родитель сосредотачивается на достоинствах ребен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Который помогает ребенку поверить в себя и в свои способ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Который поддерживает ребенка при неудач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9" descr="C:\Users\1\Documents\Картинки\bamby_main.jpg"/>
          <p:cNvPicPr/>
          <p:nvPr/>
        </p:nvPicPr>
        <p:blipFill>
          <a:blip r:embed="rId1"/>
          <a:stretch/>
        </p:blipFill>
        <p:spPr>
          <a:xfrm>
            <a:off x="4143240" y="3500280"/>
            <a:ext cx="4762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6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03638"/>
                </a:solidFill>
                <a:latin typeface="Calibri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7" descr="J0223740"/>
          <p:cNvPicPr/>
          <p:nvPr/>
        </p:nvPicPr>
        <p:blipFill>
          <a:blip r:embed="rId1"/>
          <a:stretch/>
        </p:blipFill>
        <p:spPr>
          <a:xfrm>
            <a:off x="468360" y="1844640"/>
            <a:ext cx="3449520" cy="3745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67280" y="1773360"/>
            <a:ext cx="4619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Забыть о прошлых неудач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03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3638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44:45Z</dcterms:created>
  <dc:creator>Артур</dc:creator>
  <dc:description/>
  <dc:language>en-US</dc:language>
  <cp:lastModifiedBy>1</cp:lastModifiedBy>
  <dcterms:modified xsi:type="dcterms:W3CDTF">2015-02-09T06:29:53Z</dcterms:modified>
  <cp:revision>11</cp:revision>
  <dc:subject/>
  <dc:title>Психологическая поддержка в семье</dc:title>
</cp:coreProperties>
</file>