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gif" ContentType="image/gif"/>
  <Override PartName="/ppt/media/image9.jpeg" ContentType="image/jpeg"/>
  <Override PartName="/ppt/media/image11.jpeg" ContentType="image/jpeg"/>
  <Override PartName="/ppt/media/image12.gif" ContentType="image/gif"/>
  <Override PartName="/ppt/media/image3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5.gif" ContentType="image/gif"/>
  <Override PartName="/ppt/media/image14.gif" ContentType="image/gif"/>
  <Override PartName="/ppt/media/image2.jpeg" ContentType="image/jpeg"/>
  <Override PartName="/ppt/media/image4.jpeg" ContentType="image/jpeg"/>
  <Override PartName="/ppt/media/image8.gif" ContentType="image/gif"/>
  <Override PartName="/ppt/media/image18.jpeg" ContentType="image/jpeg"/>
  <Override PartName="/ppt/media/image13.gif" ContentType="image/gif"/>
  <Override PartName="/ppt/media/image16.png" ContentType="image/png"/>
  <Override PartName="/ppt/media/image6.jpeg" ContentType="image/jpeg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CEA-EC04-46D7-A8D5-2CEDD99D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E24-92AC-4093-A60D-B82961E5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651-C637-4D6D-BC2E-3C40A294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F7C4-5E8F-4496-89DC-F62F1A71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BC85-95A8-446F-92DF-4639FB06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9172-D54B-4ED8-802A-231628CF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0B43-FA5F-4F84-B01A-7F260BEE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950A-76C0-4261-A851-EB7C0C74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6B29-2822-4C89-AD13-6F995815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56B8-407C-4B5C-B6BB-8250E6BB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45E9-DF3E-4CC7-8D73-A348978A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9E8-1F73-46A6-9835-95221998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D9A2-954D-48B6-90CA-98F4E891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6AB6-26DD-4DD7-B181-57A5AE8D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D354-A7B8-43E7-AC85-2C81F7A0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040E-DC9F-4976-A9DA-3542E571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57BD-7C18-4A2E-9C18-733D111B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73BF9-3120-4BFB-BBA2-1F70D4CA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DFFFF-05D9-4E36-B554-848A9BC6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ECC64-A8B4-4463-BBE8-223C81FE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2F32B-A2AA-4DF5-BADC-41AA83C8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34071-3265-4CF9-B6DB-75C8EE69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CCBF-2321-463D-9B8F-5D9754C3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64026-30DC-47FE-B368-5BBFF1DF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E0C3E-F538-411B-A448-A7167D4A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73515-A1A0-42C1-8F42-E885628B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8CE4-5AED-4DBE-82C2-AF922231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202F-B3F2-4662-8989-BBD46E68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1ED90-0058-4B9A-935F-C3157B62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AB434-6E18-4C55-B9F0-AF66D3D3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E47C7-EFF2-46E0-BB91-73395A12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F4F8E-6F5D-4A76-B347-895031D9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7D03B-5CD4-4959-A2F8-B3C2EE74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3C3-8AEF-4AE7-9E03-5E0641D3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420E9-0011-45AE-891C-5A701854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3CC93-DBD4-4F9E-AF77-155AC14B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253E-9D27-41CE-BF97-FBF57108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D3D7D-F1D7-41BE-9623-D09A5267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B8781-7311-49CB-A58B-C236D125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67D45-3A69-4166-961B-89954D6F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99078-4A6D-44C8-B91F-2B3914B0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1D4F7-FAFB-4E83-B50D-57C23585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2F69B-1E8A-44EE-86B6-29C12F80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2B28F-D344-4678-A7BC-8482061D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85D-09CF-4F79-815A-90B5CAC0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4CB5F-26DF-48F2-9452-24FFB739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C82E1-5F1C-43DA-84B5-844CADC4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82AC8-A816-43AD-8ADB-0544B908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34CE3-5795-408D-B814-82591E5A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07C1C-5649-4A32-8845-124CB5BC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0B48D-48BD-4BC7-BB08-0FD4FC04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AE62F-A408-4532-9C0B-14827D29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6055C-0839-4D02-BD9A-209BF451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C1C6E-2BDF-4338-ADBB-48D522A1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83E2B-B074-4CEC-BED7-6E4B8A75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01B-2F1C-4C03-8738-FB5D5941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93AF4-B8D1-4935-95D1-9936D81E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2BE4F-232A-488E-B20E-B29C2668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B810C-4F37-44FE-AF56-7F0C0615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41A31-7733-420A-9D90-D15C2BAE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35F42-8D9A-4CDE-9138-39A38F91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AB3AF-BAA6-4D0F-A4FE-DFEEE7E0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E276B-E255-4E0B-880A-4AD5A887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402D6-52C8-42C2-A4C9-376BFC7D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62F52-3E42-4D46-ACF8-A6D702BF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19991-50EF-4B53-9269-EBC6133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076-C9C6-4E8A-8952-23D5B376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E1749-5B00-4621-AA63-1A361C6C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FFD9F-6010-4DFB-87B8-35EE00ED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FB569-22B3-4601-B044-30C8BC10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82D02-B993-402D-86C0-57DD10E3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854EE-FB45-4CD6-B320-8EF9CFF5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8D1B8-A7D4-4CDE-8DE2-8215F9E6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F125C-5BFB-4FF7-982E-8E152797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CE098-73A6-490A-840F-607B2DF8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1DE7C-20A6-4FF2-8BC4-9C8B3774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3464F-724E-476F-811E-8152DBEA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2FB-D166-4FC2-969E-B5BFF03E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4B174-BE35-4576-B715-B30D295E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2CA8E-F65D-420E-A05D-B2A69851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95AE7-AEED-4C3C-9290-23107A83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60CE1-1546-49A3-92C2-DED72796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9804D-8BE4-4EB3-B11A-FC3F2A8E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27C-F51C-445F-8097-4FFFBA40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1B65-82E6-4DAE-9AE3-75C114A6F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7F78-1EF4-4BEB-8200-615DFAB932BB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97D9-284C-40F1-AF86-B18F56E60CD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A600-6490-4DD7-9731-0976811E41F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2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2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6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F892-983D-443A-B882-AF49A2EBBF96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A2AA-9D2C-43E4-BCAE-34F29B9C045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6EB9-6123-43B4-B587-E41C8ED4F53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6" descr="J0178632"/>
          <p:cNvPicPr/>
          <p:nvPr/>
        </p:nvPicPr>
        <p:blipFill>
          <a:blip r:embed="rId1"/>
          <a:stretch/>
        </p:blipFill>
        <p:spPr>
          <a:xfrm rot="21596400">
            <a:off x="-326520" y="0"/>
            <a:ext cx="9470880" cy="70246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45964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6600" spc="-1" strike="noStrike">
                <a:solidFill>
                  <a:srgbClr val="ff0066"/>
                </a:solidFill>
                <a:latin typeface="Times New Roman"/>
              </a:rPr>
              <a:t>Детско-родительские отнош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5285880" y="5000400"/>
            <a:ext cx="37083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Arial"/>
              </a:rPr>
              <a:t>Аспекты воспитания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"/>
          <p:cNvSpPr/>
          <p:nvPr/>
        </p:nvSpPr>
        <p:spPr>
          <a:xfrm>
            <a:off x="468360" y="1989000"/>
            <a:ext cx="8136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Опираться на сильные стороны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Избегать подчеркивания промахов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Уметь и хотеть демонстрировать любовь к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Внести юмор во взаимоотношения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оводить больше времени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оявлять эмпатию к ребенку и веру в Вашего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инимать индивидуальность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озволить ребенку самому решать проблемы там, где это воз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Избегать дисциплинарных поощрений и наказаний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460080"/>
            <a:ext cx="7126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ля того, чтобы поддержать ребенка, необходим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94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Century Gothic"/>
              </a:rPr>
              <a:t>Слова, которые поддерживают и которые разрушают его веру в себя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85480" y="1499760"/>
            <a:ext cx="5429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Слова поддерж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я тебя, я уверен, что вы все сделали, хорош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ы делаешь это очень хорош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тебя есть некоторые соображения по этому поводу? Готов ли ты нач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серьезный вызов. Но я уверен. Что ты готов к не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Calibri"/>
              </a:rPr>
              <a:t>Слова разочаро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я тебя и твои способности. Я думаю, ты смог бы сделать это гораздо луч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а идея никогда не сможет быть реализова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для тебя слишком трудно, поэтому я сам это сдел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7" descr="C:\Users\1\Documents\Картинки\орр.jpg"/>
          <p:cNvPicPr/>
          <p:nvPr/>
        </p:nvPicPr>
        <p:blipFill>
          <a:blip r:embed="rId1"/>
          <a:stretch/>
        </p:blipFill>
        <p:spPr>
          <a:xfrm>
            <a:off x="5664240" y="1500120"/>
            <a:ext cx="3139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Поддерживать можно посредством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5975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х слов (красиво, прекрасно, здоров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казываний («Я горжусь тобой», «Спасибо», «Все идет хорошо»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косновений (дотронуться до руки, обнять его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ых действий (сидеть, стоять рядом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жение лица (улыбка, кивок, сме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7" descr="J0282750"/>
          <p:cNvPicPr/>
          <p:nvPr/>
        </p:nvPicPr>
        <p:blipFill>
          <a:blip r:embed="rId1"/>
          <a:stretch/>
        </p:blipFill>
        <p:spPr>
          <a:xfrm>
            <a:off x="7924680" y="16286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3" descr="J0282747"/>
          <p:cNvPicPr/>
          <p:nvPr/>
        </p:nvPicPr>
        <p:blipFill>
          <a:blip r:embed="rId2"/>
          <a:stretch/>
        </p:blipFill>
        <p:spPr>
          <a:xfrm>
            <a:off x="250920" y="4797360"/>
            <a:ext cx="1218960" cy="1435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6" descr="J0283640"/>
          <p:cNvPicPr/>
          <p:nvPr/>
        </p:nvPicPr>
        <p:blipFill>
          <a:blip r:embed="rId3"/>
          <a:stretch/>
        </p:blipFill>
        <p:spPr>
          <a:xfrm>
            <a:off x="179280" y="141300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9" descr="J0283653"/>
          <p:cNvPicPr/>
          <p:nvPr/>
        </p:nvPicPr>
        <p:blipFill>
          <a:blip r:embed="rId4"/>
          <a:stretch/>
        </p:blipFill>
        <p:spPr>
          <a:xfrm>
            <a:off x="7404120" y="4581360"/>
            <a:ext cx="17398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еразлучные друзья – родители и де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сь быть своему ребенку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ритикуйте, не унижая, а поддержи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 своего ребенка быть честным с друзьями и не искать выгоды от др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глашайте друзей своего ребенка в дом, общайтесь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 ваш ребенок поверят вам свои тайны как друзьям, не шантажируйте его 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7" descr="J0316862"/>
          <p:cNvPicPr/>
          <p:nvPr/>
        </p:nvPicPr>
        <p:blipFill>
          <a:blip r:embed="rId2"/>
          <a:stretch/>
        </p:blipFill>
        <p:spPr>
          <a:xfrm>
            <a:off x="4143240" y="1643040"/>
            <a:ext cx="5000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50"/>
                            </p:stCondLst>
                            <p:childTnLst>
                              <p:par>
                                <p:cTn id="3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50"/>
                            </p:stCondLst>
                            <p:childTnLst>
                              <p:par>
                                <p:cTn id="3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5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050"/>
                            </p:stCondLst>
                            <p:childTnLst>
                              <p:par>
                                <p:cTn id="3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50"/>
                            </p:stCondLst>
                            <p:childTnLst>
                              <p:par>
                                <p:cTn id="3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2050"/>
                            </p:stCondLst>
                            <p:childTnLst>
                              <p:par>
                                <p:cTn id="3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6"/>
          <p:cNvSpPr/>
          <p:nvPr/>
        </p:nvSpPr>
        <p:spPr>
          <a:xfrm>
            <a:off x="755640" y="476280"/>
            <a:ext cx="78487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Когда мы выражаем удовольствие оттого, что делает наш ребенок, это поддерживает его и стимулирует продолжать дело или делать новые попытки. Тогда он получает удовольствие от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линная поддержка родителями своего ребенка должна основываться на подчеркивании его способностей, возможностей его положительны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ажно, чтобы родитель научился принимать ребенка таким, какой он есть, включая все его достижения и промахи, а в общении с ним учитывать значение таких вещей, как тон, жесты, вы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3300"/>
                </a:solidFill>
                <a:latin typeface="Times New Roman"/>
              </a:rPr>
              <a:t>Тест </a:t>
            </a:r>
            <a:r>
              <a:rPr b="0" lang="tt-RU" sz="2900" spc="-1" strike="noStrike">
                <a:solidFill>
                  <a:srgbClr val="ff3300"/>
                </a:solidFill>
                <a:latin typeface="Times New Roman"/>
              </a:rPr>
              <a:t>«Мера заботы»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56760" y="642960"/>
            <a:ext cx="853596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3300"/>
                </a:solidFill>
                <a:latin typeface="Calibri"/>
              </a:rPr>
              <a:t>Инструкция</a:t>
            </a: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: известно, что многие нарушения в поведении и развитии ребенка связаны с недостаточным вниманием к нему родителей. Однако, как считают психологи, чрезмерная опека может оказаться опасна так же, как и ее недостаток. Этот тест поможет Вам разобраться, насколько верна Ваша воспитательная позиция. Перед Вами 15 утверждений. На первый взгляд, может показаться, что не все они имеют отношение к воспитанию. Тем не менее против каждой фразы отметьте число баллов, соответствующие вашему суждению по данному вопрос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"Категорически не согласен" - </a:t>
            </a:r>
            <a:r>
              <a:rPr b="1" lang="tt-RU" sz="2000" spc="-1" strike="noStrike">
                <a:solidFill>
                  <a:srgbClr val="000000"/>
                </a:solidFill>
                <a:latin typeface="Calibri"/>
              </a:rPr>
              <a:t>1 балл.</a:t>
            </a: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"Я не спешил бы с этим согласиться" - </a:t>
            </a:r>
            <a:r>
              <a:rPr b="1" lang="tt-RU" sz="2000" spc="-1" strike="noStrike">
                <a:solidFill>
                  <a:srgbClr val="000000"/>
                </a:solidFill>
                <a:latin typeface="Calibri"/>
              </a:rPr>
              <a:t>2 балла.</a:t>
            </a: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"Это, пожалуй, верно" - </a:t>
            </a:r>
            <a:r>
              <a:rPr b="1" lang="tt-RU" sz="2000" spc="-1" strike="noStrike">
                <a:solidFill>
                  <a:srgbClr val="000000"/>
                </a:solidFill>
                <a:latin typeface="Calibri"/>
              </a:rPr>
              <a:t>3 балл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"Совершенно верно, я считаю именно так" - </a:t>
            </a:r>
            <a:r>
              <a:rPr b="1" lang="tt-RU" sz="2000" spc="-1" strike="noStrike">
                <a:solidFill>
                  <a:srgbClr val="000000"/>
                </a:solidFill>
                <a:latin typeface="Calibri"/>
              </a:rPr>
              <a:t>4 балла</a:t>
            </a: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4" descr="C:\Users\1\Documents\Картинки\rebenok-roditeli.jpg"/>
          <p:cNvPicPr/>
          <p:nvPr/>
        </p:nvPicPr>
        <p:blipFill>
          <a:blip r:embed="rId1"/>
          <a:stretch/>
        </p:blipFill>
        <p:spPr>
          <a:xfrm>
            <a:off x="4857840" y="4024440"/>
            <a:ext cx="4071960" cy="27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Утверж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Родители должны предвидеть все проблемы ребенка, чтобы помочь ему их преодолеть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Для хорошей матери достаточно общения только с собственной семьей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Маленького ребенка следует всегда крепко держать во время мытья, чтобы он не упал и не ушибся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Когда ребенок делает то, что обязан, он находится на правильном пути и благодаря этому будет счастлив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Хорошо, если ребенок занимается спортом. Но спортивными единоборствами ему заниматься не следует, так как это чревато физическими увечьями и нарушениями психик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Воспитание - это тяжелый труд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У ребенка не должно быть тайн от родителей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Если мать не справляется со своими обязанностями по отношению к детям, это, скорее всего, означает, что отец плохо выполняет свои обязанности по содержанию семь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Материнская любовь не может быть чрезмерной: любовью ребенка не испортишь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Родители должны ограждать ребенка от негативных сторон жизн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Не следует приучать ребенка к рутинной домашней работе, чтобы он не потерял охоту к любой работе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Если бы мать не руководила домом, мужем, детьми, все происходило бы менее организованно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3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В рационе семьи все самое вкусное и полезное должно в первую очередь доставаться ребенку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4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Лучшая защита от инфекционных заболеваний - ограничение контактов с окружающим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5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Родители должны активно влиять на то, кого из сверстников выбирает ребенок себе в друзья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500" spc="-1" strike="noStrike">
                <a:solidFill>
                  <a:srgbClr val="000000"/>
                </a:solidFill>
                <a:latin typeface="Calibri"/>
              </a:rPr>
              <a:t>Обработка результатов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0" y="62028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3300"/>
                </a:solidFill>
                <a:latin typeface="Calibri"/>
              </a:rPr>
              <a:t>Если вы набрали свыше 40 баллов</a:t>
            </a: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, то Вашу семью, вероятнее всего, можно назвать детоцентристской. То есть интересы ребенка - главный мотив Вашего поведения. Такая позиция достойна одобрения. Однако у Вас она несколько заострена. Психологи называют это чрезмерной опекой. В подобных семьях взрослые все выполняют за ребенка, стремятся оградить его от мнимых опасностей, заставляют следовать своим требованиям, суждениям, настроениям. В результате у ребенка формируется пассивная зависимость от родителей, которая по мере взросления все более препятствует личностному росту. Вам следовало бы больше доверять своему ребенку, верить в него, прислушиваться к его собственным интересам, ведь верно замечено: "Воспитывать детей - значит учить их обходиться без нас"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3300"/>
                </a:solidFill>
                <a:latin typeface="Calibri"/>
              </a:rPr>
              <a:t>От 25 до 40 баллов</a:t>
            </a: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. Вашему ребенку не грозит стать распущенным и избалованным, поскольку вы уделяете ему достаточное, но не чрезмерное внимание. Постарайтесь сохранить этот уровень отнош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3300"/>
                </a:solidFill>
                <a:latin typeface="Calibri"/>
              </a:rPr>
              <a:t>Если Вы набрали менее 25 баллов</a:t>
            </a: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, то Вы явно недооцениваете себя как воспитателя, слишком полагаетесь на случай и благоприятное стечение обстоятельств. Проблемы в деловых и супружеских взаимоотношениях часто отвлекают Ваше внимание от ребенка. А он вправе ожидать от вас большого участия и забот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684000" y="549360"/>
            <a:ext cx="63356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Ребенок учится тому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Что видит у себя в дому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Родители пример е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С. Бранд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3" name="Picture 4" descr="C:\Users\1\Documents\Картинки\SkolaRoditeleiProgramma.jpg"/>
          <p:cNvPicPr/>
          <p:nvPr/>
        </p:nvPicPr>
        <p:blipFill>
          <a:blip r:embed="rId1"/>
          <a:stretch/>
        </p:blipFill>
        <p:spPr>
          <a:xfrm>
            <a:off x="3691080" y="3000240"/>
            <a:ext cx="4802040" cy="3602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765000"/>
            <a:ext cx="76438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ПОВЕРЬ МН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СЧАСТЬЕ ТОЛЬКО ТА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ГДЕ ЛЮБЯТ НАС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ГДЕ ВЕРЯТ НА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М.ЛЕРМО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5" descr="C:\Users\1\Documents\скачанные файлы.jpg"/>
          <p:cNvPicPr/>
          <p:nvPr/>
        </p:nvPicPr>
        <p:blipFill>
          <a:blip r:embed="rId1"/>
          <a:stretch/>
        </p:blipFill>
        <p:spPr>
          <a:xfrm>
            <a:off x="5429160" y="3286080"/>
            <a:ext cx="350064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56760" y="285480"/>
            <a:ext cx="720108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требность в родительской любви не только самая сильная из всех человеческих потребностей, но и самая длительная. Пройдут увлечения, отзвучат некогда потрясавшие нашу жизнь страсти, минут многие привязанности, но любовь к родителям и необходимость ответной любви остается с нами до конца наших дн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ла Спиваковск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Picture 4" descr="C:\Users\1\Documents\Картинки\688.jpg"/>
          <p:cNvPicPr/>
          <p:nvPr/>
        </p:nvPicPr>
        <p:blipFill>
          <a:blip r:embed="rId1"/>
          <a:stretch/>
        </p:blipFill>
        <p:spPr>
          <a:xfrm>
            <a:off x="4143240" y="4757760"/>
            <a:ext cx="469584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39280" y="836640"/>
            <a:ext cx="7696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пешность воспитания детей стоит в прямой зависимости от личностного роста, гармонии и душевного равновесия родителей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4" descr="C:\Users\1\Documents\Картинки\images (2).jpg"/>
          <p:cNvPicPr/>
          <p:nvPr/>
        </p:nvPicPr>
        <p:blipFill>
          <a:blip r:embed="rId1"/>
          <a:stretch/>
        </p:blipFill>
        <p:spPr>
          <a:xfrm>
            <a:off x="5357880" y="3929040"/>
            <a:ext cx="35719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57168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ff0066"/>
                </a:solidFill>
                <a:latin typeface="Calibri"/>
              </a:rPr>
              <a:t>Любовь, принятие, уважение, понимание которые родители заложат в своего дитя в первые пять лет, он пронесет по жизн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4" descr="C:\Users\1\Documents\Картинки\images (4).jpg"/>
          <p:cNvPicPr/>
          <p:nvPr/>
        </p:nvPicPr>
        <p:blipFill>
          <a:blip r:embed="rId1"/>
          <a:stretch/>
        </p:blipFill>
        <p:spPr>
          <a:xfrm>
            <a:off x="5572080" y="3643200"/>
            <a:ext cx="33019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Детская психология выделяет 3 основных типа отношений родителей и их дет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57120" y="13572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Calibri"/>
              </a:rPr>
              <a:t>1.Оптимальный тип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Calibri"/>
              </a:rPr>
              <a:t>2.Тип излишней вовлечённости (авторитарный контроль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Calibri"/>
              </a:rPr>
              <a:t>3.Тип излишней отстраненности (эмоциональное отвержение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4" descr="C:\Users\1\Documents\Картинки\ууу.jpg"/>
          <p:cNvPicPr/>
          <p:nvPr/>
        </p:nvPicPr>
        <p:blipFill>
          <a:blip r:embed="rId1"/>
          <a:stretch/>
        </p:blipFill>
        <p:spPr>
          <a:xfrm>
            <a:off x="2857680" y="4529160"/>
            <a:ext cx="35002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987280" y="333360"/>
            <a:ext cx="554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Courier New"/>
              </a:rPr>
              <a:t>Аспекты воспитания детей:</a:t>
            </a:r>
            <a:br>
              <a:rPr sz="3200"/>
            </a:br>
            <a:r>
              <a:rPr b="1" i="1" lang="ru-RU" sz="3200" spc="-1" strike="noStrike">
                <a:solidFill>
                  <a:srgbClr val="ff9966"/>
                </a:solidFill>
                <a:latin typeface="Courier New"/>
              </a:rPr>
              <a:t>Чего хотят сами де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J0223735"/>
          <p:cNvPicPr/>
          <p:nvPr/>
        </p:nvPicPr>
        <p:blipFill>
          <a:blip r:embed="rId1"/>
          <a:stretch/>
        </p:blipFill>
        <p:spPr>
          <a:xfrm>
            <a:off x="0" y="260280"/>
            <a:ext cx="3024360" cy="2881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J0336887"/>
          <p:cNvPicPr/>
          <p:nvPr/>
        </p:nvPicPr>
        <p:blipFill>
          <a:blip r:embed="rId2"/>
          <a:stretch/>
        </p:blipFill>
        <p:spPr>
          <a:xfrm flipH="1">
            <a:off x="7316640" y="4437000"/>
            <a:ext cx="1827360" cy="216072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10"/>
          <p:cNvSpPr/>
          <p:nvPr/>
        </p:nvSpPr>
        <p:spPr>
          <a:xfrm>
            <a:off x="2411280" y="1557360"/>
            <a:ext cx="5400720" cy="4608360"/>
          </a:xfrm>
          <a:prstGeom prst="flowChartMagneticTap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"/>
          <p:cNvSpPr/>
          <p:nvPr/>
        </p:nvSpPr>
        <p:spPr>
          <a:xfrm>
            <a:off x="3132000" y="2133720"/>
            <a:ext cx="37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й уход (еда, тепло, одежда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шевная теп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ство и ограни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би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четко разделять отцовские и материнские обяза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6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60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дительская поддержка – это процесс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В ходе которого родитель сосредотачивается на достоинствах ребен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Который помогает ребенку поверить в себя и в свои способ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Который поддерживает ребенка при неудача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9" descr="C:\Users\1\Documents\Картинки\bamby_main.jpg"/>
          <p:cNvPicPr/>
          <p:nvPr/>
        </p:nvPicPr>
        <p:blipFill>
          <a:blip r:embed="rId1"/>
          <a:stretch/>
        </p:blipFill>
        <p:spPr>
          <a:xfrm>
            <a:off x="4143240" y="3500280"/>
            <a:ext cx="4762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6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10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6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03638"/>
                </a:solidFill>
                <a:latin typeface="Calibri"/>
              </a:rPr>
              <a:t>Для того, чтобы показать веру в ребенка, родитель должен иметь мужество и желание сделать следующе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7" descr="J0223740"/>
          <p:cNvPicPr/>
          <p:nvPr/>
        </p:nvPicPr>
        <p:blipFill>
          <a:blip r:embed="rId1"/>
          <a:stretch/>
        </p:blipFill>
        <p:spPr>
          <a:xfrm>
            <a:off x="468360" y="1844640"/>
            <a:ext cx="3449520" cy="37450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067280" y="1773360"/>
            <a:ext cx="46195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036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03638"/>
                </a:solidFill>
                <a:latin typeface="Calibri"/>
              </a:rPr>
              <a:t>Забыть о прошлых неудач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036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03638"/>
                </a:solidFill>
                <a:latin typeface="Calibri"/>
              </a:rPr>
              <a:t>Помочь ребенку обрести уверенность в том, что он справится с данной задач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036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03638"/>
                </a:solidFill>
                <a:latin typeface="Calibri"/>
              </a:rPr>
              <a:t>Позволить  ребенку начать «с нуля», опираясь на то, что родитель верит в него, в его способность достичь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036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03638"/>
                </a:solidFill>
                <a:latin typeface="Calibri"/>
              </a:rPr>
              <a:t>Помнить о прошлых удачах и возвращаться к ним, а не к ошиб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4:44:45Z</dcterms:created>
  <dc:creator>Артур</dc:creator>
  <dc:description/>
  <dc:language>en-US</dc:language>
  <cp:lastModifiedBy>1</cp:lastModifiedBy>
  <dcterms:modified xsi:type="dcterms:W3CDTF">2015-02-09T06:29:53Z</dcterms:modified>
  <cp:revision>11</cp:revision>
  <dc:subject/>
  <dc:title>Психологическая поддержка в семье</dc:title>
</cp:coreProperties>
</file>