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B0B-8F40-416C-AC38-282EAA75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DDF-CBB5-44AD-A903-9AD5A206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9AC-7654-4E70-AC5B-003A4690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A2C-E3A2-456F-9D09-DB67E18A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848-9796-4A1D-B1A2-4A5FFE7C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1B04-3144-4D83-A955-58E3ED09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95A-52F9-4531-ABE5-1DDBE092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0F7-71BC-432B-86D5-72C1E6E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32C-9F40-4462-9DB1-E74364D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4B9A-EF26-40DE-928D-A90955D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4F4F-6E2E-4FE7-B587-6386E74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F52-CB24-4782-9806-19017A72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11C3-ECE6-4DA5-AC4C-6534110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4056-811F-4D1F-ABD3-CEEFDC4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E3B5-8A1E-4A45-B534-D01F7B8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D774-E79A-428A-9B2D-F0A2DE38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7415-5BC1-401F-8E1F-3A4327E8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E5A-9801-4305-A5F9-4098611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453-0244-4253-AEDF-EB55C53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98C-8DDC-4254-97E2-76445D3D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28E-9512-4C7F-A384-B80D322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BD6-7BC0-4D32-B504-0EE05C9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566-D5E3-42FF-AA76-96A1B97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FBD-715B-4BEB-82B6-EEFF66C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067-0B3A-45B3-B090-FEC6D1959A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FEA-2654-4DB1-A18A-68D882BDB7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7b00"/>
                </a:solidFill>
                <a:latin typeface="Times New Roman"/>
              </a:rPr>
              <a:t>МБОУ «Адыковская СОШ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Итоговый урок по те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«Литература»</a:t>
            </a:r>
            <a:r>
              <a:rPr b="0" lang="en-US" sz="4000" spc="-1" strike="noStrike">
                <a:solidFill>
                  <a:srgbClr val="7b7b00"/>
                </a:solidFill>
                <a:latin typeface="Monotype Corsiva"/>
              </a:rPr>
              <a:t> XVIII</a:t>
            </a: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7b00"/>
                </a:solidFill>
                <a:latin typeface="Monotype Corsiva"/>
              </a:rPr>
              <a:t>в 9 классе</a:t>
            </a: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Учитель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7b7b00"/>
                </a:solidFill>
                <a:latin typeface="Monotype Corsiva"/>
              </a:rPr>
              <a:t>и литературы Анжаева Ж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041840" y="404640"/>
            <a:ext cx="65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Торжественный, величавый язык од и трагед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-32760" y="1515960"/>
            <a:ext cx="957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оде Ломоносова употребляется мног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тарославянских слов, усеченных форм прилагательных и т.д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ержавин «Властителям и судьям»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Восстал всевышний Бог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Да судит Земных богов во сонме их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Доколе, рек, доколь вам буде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400" spc="-1" strike="noStrike">
                <a:solidFill>
                  <a:srgbClr val="660033"/>
                </a:solidFill>
                <a:latin typeface="Harlow Solid Italic"/>
              </a:rPr>
              <a:t>Щадить неправедных и злых?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970920" y="42876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зображение в комедиях людей разных сословий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23280" y="1658880"/>
            <a:ext cx="75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«Недоросле» действуют поместные дворяне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учителя, Тришка, Еремеевна, слуга, камердинер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0200" y="266076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Язык комедии приближается к разговорному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02640" y="3213000"/>
            <a:ext cx="73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«Не прогневайся, мой батюшка, что урод мой вас прозева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Отроду никого угостить не смыслит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Уж такой рохлею родился, мой батюшка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классици_0"/>
          <p:cNvPicPr/>
          <p:nvPr/>
        </p:nvPicPr>
        <p:blipFill>
          <a:blip r:embed="rId1"/>
          <a:stretch/>
        </p:blipFill>
        <p:spPr>
          <a:xfrm>
            <a:off x="5724360" y="3645000"/>
            <a:ext cx="32562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82920" y="333360"/>
            <a:ext cx="67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Люди в произведениях классицистов – носители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преобладающих качеств личности (храбрость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благородство, коварство, лицемерие и т.д.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68840" y="1700280"/>
            <a:ext cx="633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авдин, Милон, Софья, Староду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площают справедливость, честь, достоинств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10920" y="2637000"/>
            <a:ext cx="487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Деление героев на положительн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и отрицательны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040" y="3645000"/>
            <a:ext cx="480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«Недоросле» четкое делен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героев на группы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оложительные – Милон, Стародум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Софья, Правдин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отрицательные – Простаков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остаков, Скотинин, Митрофан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классици_0"/>
          <p:cNvPicPr/>
          <p:nvPr/>
        </p:nvPicPr>
        <p:blipFill>
          <a:blip r:embed="rId1"/>
          <a:stretch/>
        </p:blipFill>
        <p:spPr>
          <a:xfrm>
            <a:off x="4859280" y="2997360"/>
            <a:ext cx="40831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268360" y="404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1720" y="404640"/>
            <a:ext cx="821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Соблюдение правила «трех единств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драматическом произведени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5760" y="1731960"/>
            <a:ext cx="573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Единство места, времени, действ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о забывать нельзя, поэты, о рассудке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Одно событие, вместившееся в сутки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В едином месте пусть на сцене протечет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Лишь в этом случае оно вас увлечет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Сюжет не осложнен побочными эпизода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лассици_0"/>
          <p:cNvPicPr/>
          <p:nvPr/>
        </p:nvPicPr>
        <p:blipFill>
          <a:blip r:embed="rId1"/>
          <a:stretch/>
        </p:blipFill>
        <p:spPr>
          <a:xfrm>
            <a:off x="6300720" y="1700280"/>
            <a:ext cx="2259000" cy="318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классици_0"/>
          <p:cNvPicPr/>
          <p:nvPr/>
        </p:nvPicPr>
        <p:blipFill>
          <a:blip r:embed="rId2"/>
          <a:stretch/>
        </p:blipFill>
        <p:spPr>
          <a:xfrm>
            <a:off x="1547640" y="4005360"/>
            <a:ext cx="3816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709560" y="433440"/>
            <a:ext cx="83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Harlow Solid Italic"/>
              </a:rPr>
              <a:t>Своеобразие русского классицизм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93360" y="1557360"/>
            <a:ext cx="84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нтерес к настоящему и прошлому родной страны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15600" y="2205000"/>
            <a:ext cx="56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Ломоносов и Державин говорят в ода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о современном состоянии Росси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Фонвизин изобразил в «Недоросле»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современную ему русскую действительнос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торой половины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XVIII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ек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28000" y="3789360"/>
            <a:ext cx="64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нтерес к народной поэзии, ее жанр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спользование в произведениях народной реч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73920" y="4724280"/>
            <a:ext cx="804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Использование пословиц и поговорок в «Недоросле» Фонвизина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«Пропала моя головушка», «Собака лает, ветер носит»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«Повинную голову меч не сечет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644040" y="404640"/>
            <a:ext cx="84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ритика недостатков общества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ктивно развивающееся сатирическое направление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-146520" y="1628640"/>
            <a:ext cx="96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атиры Кантемира обличают невежество, злонравие дворян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урное воспитание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Державин обличает «неправедных и злых»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критика общественных пороков</a:t>
            </a:r>
            <a:r>
              <a:rPr b="1" i="1" lang="ru-RU" sz="24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в «Недоросле» Фонвизин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52760" y="33814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ритическое отношение к абсолютной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но непросвещенной монархии и помещикам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-крепостникам во второй половине 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XVIII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ве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18080" y="4724280"/>
            <a:ext cx="914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трагедии Сумарокова «Димитрий Самозванец» обличалась тирания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рассуждениях Стародума подвергался критике двор Екатерин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крепостничество в лице Простаковой и Скотинина «Недоросль»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340000" y="0"/>
            <a:ext cx="22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лассицизм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14720" y="135720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Цель урока: выведение  общих закономерностей  литературы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век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763640" y="3860640"/>
            <a:ext cx="34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слов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государственность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«светская» культура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классицизм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Harlow Solid Italic"/>
              </a:rPr>
              <a:t>гражданственность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классици_0"/>
          <p:cNvPicPr/>
          <p:nvPr/>
        </p:nvPicPr>
        <p:blipFill>
          <a:blip r:embed="rId1"/>
          <a:stretch/>
        </p:blipFill>
        <p:spPr>
          <a:xfrm>
            <a:off x="6372360" y="189000"/>
            <a:ext cx="2522520" cy="33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классици_0"/>
          <p:cNvPicPr/>
          <p:nvPr/>
        </p:nvPicPr>
        <p:blipFill>
          <a:blip r:embed="rId2"/>
          <a:stretch/>
        </p:blipFill>
        <p:spPr>
          <a:xfrm>
            <a:off x="5364000" y="4044960"/>
            <a:ext cx="3097440" cy="253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классици_0"/>
          <p:cNvPicPr/>
          <p:nvPr/>
        </p:nvPicPr>
        <p:blipFill>
          <a:blip r:embed="rId3"/>
          <a:stretch/>
        </p:blipFill>
        <p:spPr>
          <a:xfrm>
            <a:off x="357120" y="6001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классици_0"/>
          <p:cNvPicPr/>
          <p:nvPr/>
        </p:nvPicPr>
        <p:blipFill>
          <a:blip r:embed="rId4"/>
          <a:stretch/>
        </p:blipFill>
        <p:spPr>
          <a:xfrm>
            <a:off x="4667400" y="988920"/>
            <a:ext cx="1533240" cy="19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классици_0"/>
          <p:cNvPicPr/>
          <p:nvPr/>
        </p:nvPicPr>
        <p:blipFill>
          <a:blip r:embed="rId5"/>
          <a:stretch/>
        </p:blipFill>
        <p:spPr>
          <a:xfrm>
            <a:off x="214200" y="3860640"/>
            <a:ext cx="1463760" cy="2082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6"/>
          <p:cNvSpPr/>
          <p:nvPr/>
        </p:nvSpPr>
        <p:spPr>
          <a:xfrm>
            <a:off x="161928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81160" y="277488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.К.Тредиаковски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487760" y="30510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.Б.Княжни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17800" y="60721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.М.Хераск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9040" y="260280"/>
            <a:ext cx="58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сновные черты классицизм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82200" y="3068640"/>
            <a:ext cx="4433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рославление Ломоносовы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тра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как идеального монарх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и национального героя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 укрепление могущест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русского государст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оенными победами, развитие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науки и культур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40000" y="1700280"/>
            <a:ext cx="47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Утверждение идей просвещенного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бсолютизма, патриотизм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гражданственности, единства наци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классици_0"/>
          <p:cNvPicPr/>
          <p:nvPr/>
        </p:nvPicPr>
        <p:blipFill>
          <a:blip r:embed="rId1"/>
          <a:stretch/>
        </p:blipFill>
        <p:spPr>
          <a:xfrm>
            <a:off x="5364000" y="765000"/>
            <a:ext cx="2691000" cy="374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классици_0"/>
          <p:cNvPicPr/>
          <p:nvPr/>
        </p:nvPicPr>
        <p:blipFill>
          <a:blip r:embed="rId2"/>
          <a:stretch/>
        </p:blipFill>
        <p:spPr>
          <a:xfrm>
            <a:off x="6516720" y="3645000"/>
            <a:ext cx="24462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95640" y="333360"/>
            <a:ext cx="599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риентация на традиции античного искусства, подражание ему.                                                           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920" y="2205000"/>
            <a:ext cx="720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часто использует в одах античные образ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мифологические имена и сюжеты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В полях кровавый Марс страшился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Свой меч в Петровых зря руках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И с трепетом Нептун чудился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Взирая на российский флаг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ржавин создал вольное переложение оды древне-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римского поэта Горац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Я памятник воздвиг чудесный, веч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Металлов тверже он и выше пирами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Ни вихрь его, ни гром не сломит быстротеч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1" i="1" lang="ru-RU" sz="2000" spc="-1" strike="noStrike">
                <a:solidFill>
                  <a:srgbClr val="660033"/>
                </a:solidFill>
                <a:latin typeface="Harlow Solid Italic"/>
              </a:rPr>
              <a:t>И времени полет его не сокрушит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лассици_0"/>
          <p:cNvPicPr/>
          <p:nvPr/>
        </p:nvPicPr>
        <p:blipFill>
          <a:blip r:embed="rId1"/>
          <a:stretch/>
        </p:blipFill>
        <p:spPr>
          <a:xfrm>
            <a:off x="324000" y="260280"/>
            <a:ext cx="178092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лассици_0"/>
          <p:cNvPicPr/>
          <p:nvPr/>
        </p:nvPicPr>
        <p:blipFill>
          <a:blip r:embed="rId2"/>
          <a:stretch/>
        </p:blipFill>
        <p:spPr>
          <a:xfrm>
            <a:off x="6691320" y="3933720"/>
            <a:ext cx="22082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лассици_0"/>
          <p:cNvPicPr/>
          <p:nvPr/>
        </p:nvPicPr>
        <p:blipFill>
          <a:blip r:embed="rId3"/>
          <a:stretch/>
        </p:blipFill>
        <p:spPr>
          <a:xfrm>
            <a:off x="6877080" y="836640"/>
            <a:ext cx="19494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47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06600" y="452520"/>
            <a:ext cx="85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ционализм – философская основа классицизм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фликт между чувством и долгом решается в пользу долг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-21240" y="1484280"/>
            <a:ext cx="78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предпочитает изображать героев и их подвиг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а не личные, интимные чувства («Разговор с Анакреоном»)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Хоть нежности сердечной в любви я не лишен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Героев славой вечной я боле восхищен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классици_0"/>
          <p:cNvPicPr/>
          <p:nvPr/>
        </p:nvPicPr>
        <p:blipFill>
          <a:blip r:embed="rId1"/>
          <a:stretch/>
        </p:blipFill>
        <p:spPr>
          <a:xfrm>
            <a:off x="6732720" y="2494080"/>
            <a:ext cx="2203200" cy="31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лассици_0"/>
          <p:cNvPicPr/>
          <p:nvPr/>
        </p:nvPicPr>
        <p:blipFill>
          <a:blip r:embed="rId2"/>
          <a:stretch/>
        </p:blipFill>
        <p:spPr>
          <a:xfrm>
            <a:off x="395280" y="2925720"/>
            <a:ext cx="298116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3415680" y="2997360"/>
            <a:ext cx="315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Фонвизин рассматрива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оспитание молоды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дворян как важнейш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долг родителе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еред общество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08760" y="450720"/>
            <a:ext cx="761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Деление литературы на строго определенные жанры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ысокие (ода, героическая поэма, трагедия) 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изкие (комедия, басня)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4520" y="1557360"/>
            <a:ext cx="718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Никола Буало «Поэтическое искусство» 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Какой ни взять сюжет, высокий иль забавны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мысл должен быть всегда в согласьи с рифмой плавно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………………………………………………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Г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ерою своему искусно сохранит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ерты характера среди любых событ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классици_0"/>
          <p:cNvPicPr/>
          <p:nvPr/>
        </p:nvPicPr>
        <p:blipFill>
          <a:blip r:embed="rId1"/>
          <a:stretch/>
        </p:blipFill>
        <p:spPr>
          <a:xfrm>
            <a:off x="5796000" y="2997360"/>
            <a:ext cx="2327400" cy="348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25360" y="3789360"/>
            <a:ext cx="581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А.П.Сумароков эпистолы «О стихотворстве»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тарайся мне в игре часы часами мери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тоб я, забывшися, возмог тебе повери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Что будто не игра то действие твое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о самое тогда случившись быти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классици_0"/>
          <p:cNvPicPr/>
          <p:nvPr/>
        </p:nvPicPr>
        <p:blipFill>
          <a:blip r:embed="rId2"/>
          <a:stretch/>
        </p:blipFill>
        <p:spPr>
          <a:xfrm>
            <a:off x="7020000" y="981000"/>
            <a:ext cx="1595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62680" y="333360"/>
            <a:ext cx="85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ославление в высоких жанрах благородных деяний людей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торые ставят долг перед государством выше личного благополуч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72600" y="1557360"/>
            <a:ext cx="4743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Ломоносов призывает Елизавету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заботиться о благе отечеств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окровительствовать  наука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 просвещению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ржавин рисует образ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деального вельмож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сполняющего свой долг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еред отечеством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и клеймит тех, кто забывает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о священных обязанностях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 имя личного благополучи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Ваш долг есть: сохранять законы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На лица сильных не взирать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Без помощи, без оборон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    </a:t>
            </a:r>
            <a:r>
              <a:rPr b="0" i="1" lang="ru-RU" sz="2000" spc="-1" strike="noStrike">
                <a:solidFill>
                  <a:srgbClr val="660033"/>
                </a:solidFill>
                <a:latin typeface="Harlow Solid Italic"/>
              </a:rPr>
              <a:t>Сирот и вдов не оставлять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классици_0"/>
          <p:cNvPicPr/>
          <p:nvPr/>
        </p:nvPicPr>
        <p:blipFill>
          <a:blip r:embed="rId1"/>
          <a:stretch/>
        </p:blipFill>
        <p:spPr>
          <a:xfrm>
            <a:off x="4427640" y="1916280"/>
            <a:ext cx="42735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32000" y="333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3720" y="333360"/>
            <a:ext cx="77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основе произведений высоких жанров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–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ыдающиеся событ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1320" y="1628640"/>
            <a:ext cx="510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Темы оды Ломоносова – тема Росси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ойны и мира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деяний выдающихся людей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в том числе Петра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просвещенного монарха.</a:t>
            </a:r>
            <a:r>
              <a:rPr b="0" lang="en-US" sz="2000" spc="-1" strike="noStrike">
                <a:solidFill>
                  <a:srgbClr val="660033"/>
                </a:solidFill>
                <a:latin typeface="Harlow Solid Italic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Тема трагедии Сумароков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«Димитрй Самозванец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борьба против тирани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08200" y="3422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классици_0"/>
          <p:cNvPicPr/>
          <p:nvPr/>
        </p:nvPicPr>
        <p:blipFill>
          <a:blip r:embed="rId1"/>
          <a:stretch/>
        </p:blipFill>
        <p:spPr>
          <a:xfrm>
            <a:off x="3924360" y="3068640"/>
            <a:ext cx="2852640" cy="352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классици_0"/>
          <p:cNvPicPr/>
          <p:nvPr/>
        </p:nvPicPr>
        <p:blipFill>
          <a:blip r:embed="rId2"/>
          <a:stretch/>
        </p:blipFill>
        <p:spPr>
          <a:xfrm>
            <a:off x="6156360" y="1052640"/>
            <a:ext cx="2587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09840" y="260280"/>
            <a:ext cx="72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Герои произведений высоких жанров – монарх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государственные деятели, полководцы, придворны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89080" y="169056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Герои Державина – вельможи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императрица, военачаль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6240" y="4221000"/>
            <a:ext cx="834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Стремление выделить в героях общие, «вечные» черты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                              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присущие людям разных стран и народ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5200" y="5300640"/>
            <a:ext cx="88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Harlow Solid Italic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Положительным героям Фонвизина свойственн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           </a:t>
            </a:r>
            <a:r>
              <a:rPr b="0" lang="ru-RU" sz="2400" spc="-1" strike="noStrike">
                <a:solidFill>
                  <a:srgbClr val="660033"/>
                </a:solidFill>
                <a:latin typeface="Harlow Solid Italic"/>
              </a:rPr>
              <a:t>справедливость, честь, верность долгу, гуманность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классици_0"/>
          <p:cNvPicPr/>
          <p:nvPr/>
        </p:nvPicPr>
        <p:blipFill>
          <a:blip r:embed="rId1"/>
          <a:stretch/>
        </p:blipFill>
        <p:spPr>
          <a:xfrm>
            <a:off x="5003640" y="1052640"/>
            <a:ext cx="3311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8:56:22Z</dcterms:created>
  <dc:creator>Виктор Сатаевич</dc:creator>
  <dc:description/>
  <dc:language>en-US</dc:language>
  <cp:lastModifiedBy>жанна</cp:lastModifiedBy>
  <dcterms:modified xsi:type="dcterms:W3CDTF">2015-10-07T09:17:03Z</dcterms:modified>
  <cp:revision>16</cp:revision>
  <dc:subject/>
  <dc:title>Слайд 1</dc:title>
</cp:coreProperties>
</file>