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714-0D60-4328-9F7C-0E00DA86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522-1E6F-4181-90E0-3884E8F5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534-F7BC-4476-BD44-AC47C88E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D3D-164A-4AC3-A25D-2B5949F1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26FA-4BED-4BE9-A459-38D193BF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814F-847F-4F05-B638-2E5BFCBC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EDFA-20B6-40FC-ADA0-E4D0F8EF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57CE-4D9D-4C41-AF70-A814BBD1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4B02-E08B-4BC5-918C-B16DEA99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8D43-9EC0-41A3-B6A1-4E1D86E9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E050-F8C6-4DCC-A411-D46CAE5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A94-286E-48B7-89BB-EB236FE5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1FDC-4FDE-43C3-90FD-94B6066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08E3-E2AF-49CD-A1D6-8D789381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93BF-BEFA-4382-96FD-FB2678B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7C12-DFD7-4A0E-BB9B-68252DCE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EFD8-472E-4F82-841E-0D19CAAE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48E-7BA9-43CB-9446-23397E78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2BB-A5B9-45F8-A9F5-E2EB93E1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12E-DB8B-4052-B6C6-5AF85B89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677-04DF-4472-A26C-FF7641F6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0FD-9C61-479F-8BFD-2028FFC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7C4-4386-4DDC-9D2F-3386A0E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576-2110-45AF-8C63-A1F957E3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991E-C095-4BD2-BC9C-A2197A91FF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B0E1-0599-4EC1-8B5A-B23E0A54C1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7b00"/>
                </a:solidFill>
                <a:latin typeface="Times New Roman"/>
              </a:rPr>
              <a:t>МБОУ «Адыковская СОШ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7b00"/>
                </a:solidFill>
                <a:latin typeface="Monotype Corsiva"/>
              </a:rPr>
              <a:t>Итоговый урок по те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7b00"/>
                </a:solidFill>
                <a:latin typeface="Monotype Corsiva"/>
              </a:rPr>
              <a:t>«Литература»</a:t>
            </a:r>
            <a:r>
              <a:rPr b="0" lang="en-US" sz="4000" spc="-1" strike="noStrike">
                <a:solidFill>
                  <a:srgbClr val="7b7b00"/>
                </a:solidFill>
                <a:latin typeface="Monotype Corsiva"/>
              </a:rPr>
              <a:t> XVIII</a:t>
            </a:r>
            <a:r>
              <a:rPr b="0" lang="ru-RU" sz="4000" spc="-1" strike="noStrike">
                <a:solidFill>
                  <a:srgbClr val="7b7b00"/>
                </a:solidFill>
                <a:latin typeface="Monotype Corsiva"/>
              </a:rPr>
              <a:t>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7b00"/>
                </a:solidFill>
                <a:latin typeface="Monotype Corsiva"/>
              </a:rPr>
              <a:t>в 9 классе</a:t>
            </a:r>
            <a:r>
              <a:rPr b="0" lang="ru-RU" sz="2800" spc="-1" strike="noStrike">
                <a:solidFill>
                  <a:srgbClr val="7b7b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7b00"/>
                </a:solidFill>
                <a:latin typeface="Monotype Corsiva"/>
              </a:rPr>
              <a:t>Учитель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7b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7b7b00"/>
                </a:solidFill>
                <a:latin typeface="Monotype Corsiva"/>
              </a:rPr>
              <a:t>и литературы Анжаева Ж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041840" y="404640"/>
            <a:ext cx="65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Торжественный, величавый язык од и трагеди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-32760" y="1515960"/>
            <a:ext cx="9570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В оде Ломоносова употребляется мног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старославянских слов, усеченных форм прилагательных и т.д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Державин «Властителям и судьям»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Восстал всевышний Бог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Да судит Земных богов во сонме их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Доколе, рек, доколь вам буде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Щадить неправедных и злых?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970920" y="42876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зображение в комедиях людей разных сословий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23280" y="1658880"/>
            <a:ext cx="75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В «Недоросле» действуют поместные дворяне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учителя, Тришка, Еремеевна, слуга, камердинер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0200" y="266076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Язык комедии приближается к разговорному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02640" y="3213000"/>
            <a:ext cx="73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«Не прогневайся, мой батюшка, что урод мой вас прозевал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Отроду никого угостить не смыслит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Уж такой рохлею родился, мой батюшка»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классици_0"/>
          <p:cNvPicPr/>
          <p:nvPr/>
        </p:nvPicPr>
        <p:blipFill>
          <a:blip r:embed="rId1"/>
          <a:stretch/>
        </p:blipFill>
        <p:spPr>
          <a:xfrm>
            <a:off x="5724360" y="3645000"/>
            <a:ext cx="32562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682920" y="333360"/>
            <a:ext cx="67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Люди в произведениях классицистов – носители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преобладающих качеств личности (храбрость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благородство, коварство, лицемерие и т.д.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68840" y="1700280"/>
            <a:ext cx="633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равдин, Милон, Софья, Стародум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оплощают справедливость, честь, достоинств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10920" y="2637000"/>
            <a:ext cx="487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Деление героев на положительны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и отрицательных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040" y="3645000"/>
            <a:ext cx="480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 «Недоросле» четкое делени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героев на группы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оложительные – Милон, Стародум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Софья, Правдин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отрицательные – Простакова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ростаков, Скотинин, Митрофан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классици_0"/>
          <p:cNvPicPr/>
          <p:nvPr/>
        </p:nvPicPr>
        <p:blipFill>
          <a:blip r:embed="rId1"/>
          <a:stretch/>
        </p:blipFill>
        <p:spPr>
          <a:xfrm>
            <a:off x="4859280" y="2997360"/>
            <a:ext cx="408312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268360" y="404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31720" y="404640"/>
            <a:ext cx="821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Соблюдение правила «трех единств»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 драматическом произведени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5760" y="1731960"/>
            <a:ext cx="573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Единство места, времени, действия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Но забывать нельзя, поэты, о рассудке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Одно событие, вместившееся в сутки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В едином месте пусть на сцене протечет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Лишь в этом случае оно вас увлечет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Сюжет не осложнен побочными эпизодам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классици_0"/>
          <p:cNvPicPr/>
          <p:nvPr/>
        </p:nvPicPr>
        <p:blipFill>
          <a:blip r:embed="rId1"/>
          <a:stretch/>
        </p:blipFill>
        <p:spPr>
          <a:xfrm>
            <a:off x="6300720" y="1700280"/>
            <a:ext cx="2259000" cy="3181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классици_0"/>
          <p:cNvPicPr/>
          <p:nvPr/>
        </p:nvPicPr>
        <p:blipFill>
          <a:blip r:embed="rId2"/>
          <a:stretch/>
        </p:blipFill>
        <p:spPr>
          <a:xfrm>
            <a:off x="1547640" y="4005360"/>
            <a:ext cx="38163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709560" y="433440"/>
            <a:ext cx="83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Harlow Solid Italic"/>
              </a:rPr>
              <a:t>Своеобразие русского классицизм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93360" y="1557360"/>
            <a:ext cx="84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нтерес к настоящему и прошлому родной страны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15600" y="2205000"/>
            <a:ext cx="569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Ломоносов и Державин говорят в одах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о современном состоянии России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Фонвизин изобразил в «Недоросле»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современную ему русскую действительнос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второй половины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XVIII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век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28000" y="3789360"/>
            <a:ext cx="643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нтерес к народной поэзии, ее жанр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спользование в произведениях народной реч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73920" y="4724280"/>
            <a:ext cx="804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Использование пословиц и поговорок в «Недоросле» Фонвизина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«Пропала моя головушка», «Собака лает, ветер носит»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«Повинную голову меч не сечет»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644040" y="404640"/>
            <a:ext cx="84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ритика недостатков общества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ктивно развивающееся сатирическое направление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-146520" y="1628640"/>
            <a:ext cx="96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Сатиры Кантемира обличают невежество, злонравие дворян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дурное воспитание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Державин обличает «неправедных и злых»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критика общественных пороков</a:t>
            </a:r>
            <a:r>
              <a:rPr b="1" i="1" lang="ru-RU" sz="2400" spc="-1" strike="noStrike">
                <a:solidFill>
                  <a:srgbClr val="660033"/>
                </a:solidFill>
                <a:latin typeface="Harlow Solid Italic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в «Недоросле» Фонвизин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52760" y="3381480"/>
            <a:ext cx="74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ритическое отношение к абсолютной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но непросвещенной монархии и помещикам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-крепостникам во второй половине 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XVIII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ве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18080" y="4724280"/>
            <a:ext cx="914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 трагедии Сумарокова «Димитрий Самозванец» обличалась тирания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 рассуждениях Стародума подвергался критике двор Екатерины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крепостничество в лице Простаковой и Скотинина «Недоросль»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340000" y="0"/>
            <a:ext cx="22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лассицизм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214720" y="135720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Цель урока: выведение  общих закономерностей  литературы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XVIII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век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763640" y="3860640"/>
            <a:ext cx="3457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слова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Harlow Solid Italic"/>
              </a:rPr>
              <a:t>государственность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Harlow Solid Italic"/>
              </a:rPr>
              <a:t>«светская» культура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Harlow Solid Italic"/>
              </a:rPr>
              <a:t>классицизм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Harlow Solid Italic"/>
              </a:rPr>
              <a:t>гражданственность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классици_0"/>
          <p:cNvPicPr/>
          <p:nvPr/>
        </p:nvPicPr>
        <p:blipFill>
          <a:blip r:embed="rId1"/>
          <a:stretch/>
        </p:blipFill>
        <p:spPr>
          <a:xfrm>
            <a:off x="6372360" y="189000"/>
            <a:ext cx="2522520" cy="33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классици_0"/>
          <p:cNvPicPr/>
          <p:nvPr/>
        </p:nvPicPr>
        <p:blipFill>
          <a:blip r:embed="rId2"/>
          <a:stretch/>
        </p:blipFill>
        <p:spPr>
          <a:xfrm>
            <a:off x="5364000" y="4044960"/>
            <a:ext cx="3097440" cy="253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классици_0"/>
          <p:cNvPicPr/>
          <p:nvPr/>
        </p:nvPicPr>
        <p:blipFill>
          <a:blip r:embed="rId3"/>
          <a:stretch/>
        </p:blipFill>
        <p:spPr>
          <a:xfrm>
            <a:off x="357120" y="60012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классици_0"/>
          <p:cNvPicPr/>
          <p:nvPr/>
        </p:nvPicPr>
        <p:blipFill>
          <a:blip r:embed="rId4"/>
          <a:stretch/>
        </p:blipFill>
        <p:spPr>
          <a:xfrm>
            <a:off x="4667400" y="988920"/>
            <a:ext cx="1533240" cy="19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классици_0"/>
          <p:cNvPicPr/>
          <p:nvPr/>
        </p:nvPicPr>
        <p:blipFill>
          <a:blip r:embed="rId5"/>
          <a:stretch/>
        </p:blipFill>
        <p:spPr>
          <a:xfrm>
            <a:off x="214200" y="3860640"/>
            <a:ext cx="1463760" cy="2082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6"/>
          <p:cNvSpPr/>
          <p:nvPr/>
        </p:nvSpPr>
        <p:spPr>
          <a:xfrm>
            <a:off x="161928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81160" y="277488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.К.Тредиаковски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487760" y="305100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Я.Б.Княжни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17800" y="607212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.М.Хераск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9040" y="260280"/>
            <a:ext cx="58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сновные черты классицизм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82200" y="3068640"/>
            <a:ext cx="4433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рославление Ломоносовым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тра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I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как идеального монарх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и национального героя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 укрепление могуществ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русского государств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оенными победами, развитие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науки и культуры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40000" y="1700280"/>
            <a:ext cx="47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Утверждение идей просвещенного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абсолютизма, патриотизма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гражданственности, единства наци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классици_0"/>
          <p:cNvPicPr/>
          <p:nvPr/>
        </p:nvPicPr>
        <p:blipFill>
          <a:blip r:embed="rId1"/>
          <a:stretch/>
        </p:blipFill>
        <p:spPr>
          <a:xfrm>
            <a:off x="5364000" y="765000"/>
            <a:ext cx="2691000" cy="374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классици_0"/>
          <p:cNvPicPr/>
          <p:nvPr/>
        </p:nvPicPr>
        <p:blipFill>
          <a:blip r:embed="rId2"/>
          <a:stretch/>
        </p:blipFill>
        <p:spPr>
          <a:xfrm>
            <a:off x="6516720" y="3645000"/>
            <a:ext cx="24462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95640" y="333360"/>
            <a:ext cx="599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риентация на традиции античного искусства, подражание ему.                                                                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920" y="2205000"/>
            <a:ext cx="720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Ломоносов часто использует в одах античные образы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мифологические имена и сюжеты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В полях кровавый Марс страшился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Свой меч в Петровых зря руках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И с трепетом Нептун чудился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Взирая на российский флаг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Державин создал вольное переложение оды древне-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римского поэта Горация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Я памятник воздвиг чудесный, вечный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Металлов тверже он и выше пирамид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Ни вихрь его, ни гром не сломит быстротечный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И времени полет его не сокрушит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классици_0"/>
          <p:cNvPicPr/>
          <p:nvPr/>
        </p:nvPicPr>
        <p:blipFill>
          <a:blip r:embed="rId1"/>
          <a:stretch/>
        </p:blipFill>
        <p:spPr>
          <a:xfrm>
            <a:off x="324000" y="260280"/>
            <a:ext cx="1780920" cy="1873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классици_0"/>
          <p:cNvPicPr/>
          <p:nvPr/>
        </p:nvPicPr>
        <p:blipFill>
          <a:blip r:embed="rId2"/>
          <a:stretch/>
        </p:blipFill>
        <p:spPr>
          <a:xfrm>
            <a:off x="6691320" y="3933720"/>
            <a:ext cx="2208240" cy="266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классици_0"/>
          <p:cNvPicPr/>
          <p:nvPr/>
        </p:nvPicPr>
        <p:blipFill>
          <a:blip r:embed="rId3"/>
          <a:stretch/>
        </p:blipFill>
        <p:spPr>
          <a:xfrm>
            <a:off x="6877080" y="836640"/>
            <a:ext cx="19494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47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06600" y="452520"/>
            <a:ext cx="852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ционализм – философская основа классицизма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фликт между чувством и долгом решается в пользу долг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-21240" y="1484280"/>
            <a:ext cx="787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Ломоносов предпочитает изображать героев и их подвиг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а не личные, интимные чувства («Разговор с Анакреоном»)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Хоть нежности сердечной в любви я не лишен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Героев славой вечной я боле восхищен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классици_0"/>
          <p:cNvPicPr/>
          <p:nvPr/>
        </p:nvPicPr>
        <p:blipFill>
          <a:blip r:embed="rId1"/>
          <a:stretch/>
        </p:blipFill>
        <p:spPr>
          <a:xfrm>
            <a:off x="6732720" y="2494080"/>
            <a:ext cx="2203200" cy="31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классици_0"/>
          <p:cNvPicPr/>
          <p:nvPr/>
        </p:nvPicPr>
        <p:blipFill>
          <a:blip r:embed="rId2"/>
          <a:stretch/>
        </p:blipFill>
        <p:spPr>
          <a:xfrm>
            <a:off x="395280" y="2925720"/>
            <a:ext cx="2981160" cy="32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3415680" y="2997360"/>
            <a:ext cx="315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Фонвизин рассматрива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воспитание молоды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дворян как важнейши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долг родителе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перед общество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08760" y="450720"/>
            <a:ext cx="761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Деление литературы на строго определенные жанры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ысокие (ода, героическая поэма, трагедия) 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изкие (комедия, басня)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4520" y="1557360"/>
            <a:ext cx="718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Никола Буало «Поэтическое искусство» 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Какой ни взять сюжет, высокий иль забавный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Смысл должен быть всегда в согласьи с рифмой плавно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………………………………………………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Г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ерою своему искусно сохраните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Черты характера среди любых событи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классици_0"/>
          <p:cNvPicPr/>
          <p:nvPr/>
        </p:nvPicPr>
        <p:blipFill>
          <a:blip r:embed="rId1"/>
          <a:stretch/>
        </p:blipFill>
        <p:spPr>
          <a:xfrm>
            <a:off x="5796000" y="2997360"/>
            <a:ext cx="2327400" cy="348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25360" y="3789360"/>
            <a:ext cx="5816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А.П.Сумароков эпистолы «О стихотворстве»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Старайся мне в игре часы часами мерить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Чтоб я, забывшися, возмог тебе поверить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Что будто не игра то действие твое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Но самое тогда случившись быти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классици_0"/>
          <p:cNvPicPr/>
          <p:nvPr/>
        </p:nvPicPr>
        <p:blipFill>
          <a:blip r:embed="rId2"/>
          <a:stretch/>
        </p:blipFill>
        <p:spPr>
          <a:xfrm>
            <a:off x="7020000" y="981000"/>
            <a:ext cx="1595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62680" y="333360"/>
            <a:ext cx="859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рославление в высоких жанрах благородных деяний людей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оторые ставят долг перед государством выше личного благополучия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72600" y="1557360"/>
            <a:ext cx="4743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Ломоносов призывает Елизавету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заботиться о благе отечества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окровительствовать  наука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и просвещению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Державин рисует образ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идеального вельмож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исполняющего свой долг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еред отечеством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и клеймит тех, кто забывает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о священных обязанностях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о имя личного благополучия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Ваш долг есть: сохранять законы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На лица сильных не взирать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Без помощи, без обороны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Сирот и вдов не оставлять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классици_0"/>
          <p:cNvPicPr/>
          <p:nvPr/>
        </p:nvPicPr>
        <p:blipFill>
          <a:blip r:embed="rId1"/>
          <a:stretch/>
        </p:blipFill>
        <p:spPr>
          <a:xfrm>
            <a:off x="4427640" y="1916280"/>
            <a:ext cx="42735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332000" y="333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3720" y="333360"/>
            <a:ext cx="77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 основе произведений высоких жанров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–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ыдающиеся события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1320" y="1628640"/>
            <a:ext cx="510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Темы оды Ломоносова – тема Росси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ойны и мира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деяний выдающихся людей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 том числе Петра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росвещенного монарха.</a:t>
            </a:r>
            <a:r>
              <a:rPr b="0" lang="en-US" sz="2000" spc="-1" strike="noStrike">
                <a:solidFill>
                  <a:srgbClr val="660033"/>
                </a:solidFill>
                <a:latin typeface="Harlow Solid Italic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Тема трагедии Сумароков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«Димитрй Самозванец»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борьба против тирани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08200" y="3422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классици_0"/>
          <p:cNvPicPr/>
          <p:nvPr/>
        </p:nvPicPr>
        <p:blipFill>
          <a:blip r:embed="rId1"/>
          <a:stretch/>
        </p:blipFill>
        <p:spPr>
          <a:xfrm>
            <a:off x="3924360" y="3068640"/>
            <a:ext cx="2852640" cy="352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классици_0"/>
          <p:cNvPicPr/>
          <p:nvPr/>
        </p:nvPicPr>
        <p:blipFill>
          <a:blip r:embed="rId2"/>
          <a:stretch/>
        </p:blipFill>
        <p:spPr>
          <a:xfrm>
            <a:off x="6156360" y="1052640"/>
            <a:ext cx="2587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09840" y="260280"/>
            <a:ext cx="72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Герои произведений высоких жанров – монарх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государственные деятели, полководцы, придворны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89080" y="1690560"/>
            <a:ext cx="49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Герои Державина – вельможи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императрица, военачальники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6240" y="4221000"/>
            <a:ext cx="834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Стремление выделить в героях общие, «вечные» черты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                               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присущие людям разных стран и народо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15200" y="5300640"/>
            <a:ext cx="88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Положительным героям Фонвизина свойственна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         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справедливость, честь, верность долгу, гуманность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классици_0"/>
          <p:cNvPicPr/>
          <p:nvPr/>
        </p:nvPicPr>
        <p:blipFill>
          <a:blip r:embed="rId1"/>
          <a:stretch/>
        </p:blipFill>
        <p:spPr>
          <a:xfrm>
            <a:off x="5003640" y="1052640"/>
            <a:ext cx="3311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8:56:22Z</dcterms:created>
  <dc:creator>Виктор Сатаевич</dc:creator>
  <dc:description/>
  <dc:language>en-US</dc:language>
  <cp:lastModifiedBy>жанна</cp:lastModifiedBy>
  <dcterms:modified xsi:type="dcterms:W3CDTF">2015-10-07T09:17:03Z</dcterms:modified>
  <cp:revision>16</cp:revision>
  <dc:subject/>
  <dc:title>Слайд 1</dc:title>
</cp:coreProperties>
</file>