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chimes.wav" ContentType="audio/x-wav"/>
  <Override PartName="/ppt/media/image12.gif" ContentType="image/gif"/>
  <Override PartName="/ppt/media/image11.wmf" ContentType="image/x-wmf"/>
  <Override PartName="/ppt/media/image9.wmf" ContentType="image/x-wmf"/>
  <Override PartName="/ppt/media/CHIMES.WAV" ContentType="audio/x-wav"/>
  <Override PartName="/ppt/media/image16.wmf" ContentType="image/x-wmf"/>
  <Override PartName="/ppt/media/image15.wmf" ContentType="image/x-wmf"/>
  <Override PartName="/ppt/media/image14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10A9-0DBE-445C-B900-BEF6EDD2DD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889C-BF7A-4E94-86BD-B284AE46A4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1C9D-71C9-437F-B04C-021CA981D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417-483D-4059-98D3-A835C911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84A-ECDE-4850-B212-E6C27F1E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A8E-AE59-4BC7-9AA8-8849E24A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37C-60F4-4266-AB1E-A218F791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AA45-2E26-4B7F-9B8F-CE13A844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98F3-4C60-4EC7-A753-DFC561B9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0858-E71B-4C46-98A8-93FF4E68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8CF8-72EA-4EEB-A578-C3EB71D8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FBB2-122A-435C-A6AB-CFDE5B8B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9F0B-F7A3-4287-AEA9-18639793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7D54-378A-4685-BD80-F5EC4666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7A2-1FF7-42C5-A333-D8CADB0D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2AFE-6DAD-4E32-8424-A8D6E229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E1DB-2926-49BF-94FE-D81423C6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91F3-C7E7-4191-B51D-BB83AEB9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8EB8-584F-4E65-BF7A-BEE30ACA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A12C-B22E-4C1C-BBCD-FA81CFB9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61A-463B-4A35-9CF1-8B820F84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D4C-82F9-49B5-A0E7-61E3E4CE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6FD-15AE-42A7-96AD-E17EE8D3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B29-5474-4F7C-8C05-2D9FEB5D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798-BEE1-4AF3-9E0A-9FAB8B0E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4F1-6A20-40B5-B846-40E7AF08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927-4F96-4886-8284-C93EF99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B55F-E3DD-47C5-8E00-8E99C39BFD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083C-D603-4841-BC5F-178B1F7FED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258920" y="2637360"/>
            <a:ext cx="8183520" cy="1097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ема: Иярченле кушма җөмләләрне кабатлау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Күренеп тора: чыдамлыгы чигенә җиткән иде картның.(Ф.Хөсни)и.и.җ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Нәрсәгә ирәнсәң, шуны куарсың.(мәкаль)и.т.җ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Җәйге җылы яңгыр явып үткәч, бөтен аланнар яшәреп китте.(М.Гафури)и.в.җ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Кайда хезмәт, шунда хөрмәт.( мәкаль)и.у.җ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Беренче соравына җавап шул:азык-төлек документлар нигезендә җибәрелә.(М.Насыйбуллин)и.х.җ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Минем шундый гадәтем бар: амин тотмый торып, имза куймыйм.(М.Насыйбуллин)и.а.җ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Гайнан һәрвакыт шулай эшли: сөйләшәчәк кешене тикшерүче төрле шартларда күрергә тырыша. .(М.Насыйбуллин)и.р.җ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086600" cy="898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b2b2b2"/>
                </a:solidFill>
                <a:latin typeface="Times New Roman"/>
              </a:rPr>
              <a:t>Тест «Тыныш билгеләр куелышы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295280" y="137160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819520" y="1371600"/>
            <a:ext cx="601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J0079190"/>
          <p:cNvPicPr/>
          <p:nvPr/>
        </p:nvPicPr>
        <p:blipFill>
          <a:blip r:embed="rId1"/>
          <a:stretch/>
        </p:blipFill>
        <p:spPr>
          <a:xfrm flipH="1">
            <a:off x="250920" y="2060640"/>
            <a:ext cx="1512720" cy="4038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2627280" y="1484280"/>
            <a:ext cx="4321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209680" y="2205000"/>
            <a:ext cx="670572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358920" indent="280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) (1) өтер, (2) сызык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ә) (1) өтер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 өтер, (2) өтер, (3) өтер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) тыныш билгеләре куелм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tt-RU" sz="1800" spc="-1" strike="noStrike">
                <a:solidFill>
                  <a:srgbClr val="003399"/>
                </a:solidFill>
                <a:latin typeface="Times New Roman"/>
              </a:rPr>
              <a:t>2.Ярлар бик тар булса (1) ул (2) инеш.(Р.Фәйзуллин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) (1) өтер, (2) сызык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ә) (1) өт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сызык, (2) өтер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) (1) ике нокта, (2) сызы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tt-RU" sz="1800" spc="-1" strike="noStrike">
                <a:solidFill>
                  <a:srgbClr val="003399"/>
                </a:solidFill>
                <a:latin typeface="Times New Roman"/>
                <a:ea typeface="Arial"/>
              </a:rPr>
              <a:t>3. Сүз  (1) бер көнлек, тел (2) гомерлек. (М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3399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) (1) өтер, (2)өтер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ә) (1) ике нокта, (2) өтер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сызык, (2) сызык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) (1) ике нокта, (2) сызы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4140360" y="2637000"/>
            <a:ext cx="131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ә)  (1) өте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6156360" y="4221000"/>
            <a:ext cx="28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) (1) өтер), (2) сызы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 flipV="1" rot="10800000">
            <a:off x="6372360" y="6020280"/>
            <a:ext cx="30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 (1) сызык, (2) (сызык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6227640" y="7461360"/>
            <a:ext cx="151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21"/>
          <p:cNvSpPr/>
          <p:nvPr/>
        </p:nvSpPr>
        <p:spPr>
          <a:xfrm flipV="1">
            <a:off x="7380360" y="7100280"/>
            <a:ext cx="1152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2050920" y="1341360"/>
            <a:ext cx="69138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66"/>
                </a:solidFill>
                <a:latin typeface="SL_Times New Roman"/>
              </a:rPr>
              <a:t>1.Таң беленүгә (1) ул (2) торып (3) йөри башлад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66"/>
                </a:solidFill>
                <a:latin typeface="SL_Times New Roman"/>
              </a:rPr>
              <a:t>(Р. Төхфәтуллин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4760" y="380880"/>
            <a:ext cx="7086600" cy="898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b2b2b2"/>
                </a:solidFill>
                <a:latin typeface="Times New Roman"/>
              </a:rPr>
              <a:t>Тест «Тыныш билгеләр куелышы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137160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523880" y="1219320"/>
            <a:ext cx="632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819520" y="1371600"/>
            <a:ext cx="601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6" descr="J0079190"/>
          <p:cNvPicPr/>
          <p:nvPr/>
        </p:nvPicPr>
        <p:blipFill>
          <a:blip r:embed="rId1"/>
          <a:stretch/>
        </p:blipFill>
        <p:spPr>
          <a:xfrm flipH="1">
            <a:off x="250560" y="2060640"/>
            <a:ext cx="1981080" cy="40384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2627280" y="1484280"/>
            <a:ext cx="4321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209680" y="1341360"/>
            <a:ext cx="6705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tt-RU" sz="1800" spc="-1" strike="noStrike">
                <a:solidFill>
                  <a:srgbClr val="003399"/>
                </a:solidFill>
                <a:latin typeface="Times New Roman"/>
                <a:ea typeface="Arial"/>
              </a:rPr>
              <a:t>4. Ул атасына охшаган ( ) күп сөйләшми, эшли дә эшли.  (Г.Әпсәләмов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) бернинди тыныш билгесе куелмы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ә)  ике нокта куел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) өтер куел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) сызык куе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tt-RU" sz="1800" spc="-1" strike="noStrike">
                <a:solidFill>
                  <a:srgbClr val="003399"/>
                </a:solidFill>
                <a:latin typeface="Times New Roman"/>
                <a:ea typeface="Arial"/>
              </a:rPr>
              <a:t>5. Гаяз корбан булу белән (1) аңарда булган батырлык (2) аңарда булган кыюлык (3) үземә (4) сиздермәстән (5) миңа күчте. (М.Әмир)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) 2,4;      ә) 1, 2, 3, 5;        в) 2, 3;         г) 1, 2, 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</a:t>
            </a:r>
            <a:r>
              <a:rPr b="1" lang="tt-RU" sz="1800" spc="-1" strike="noStrike">
                <a:solidFill>
                  <a:srgbClr val="003399"/>
                </a:solidFill>
                <a:latin typeface="Times New Roman"/>
                <a:ea typeface="Arial"/>
              </a:rPr>
              <a:t>6. Ләкин шунысы бераз ару ( ) бик әйбәт сукмак салынган. (Г.Ибраһимов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) сызык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ә) өтер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) ике нок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) бернинди тыныш билгесе куелмы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9" descr="J0079073"/>
          <p:cNvPicPr/>
          <p:nvPr/>
        </p:nvPicPr>
        <p:blipFill>
          <a:blip r:embed="rId2"/>
          <a:stretch/>
        </p:blipFill>
        <p:spPr>
          <a:xfrm>
            <a:off x="0" y="26028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0"/>
          <p:cNvSpPr/>
          <p:nvPr/>
        </p:nvSpPr>
        <p:spPr>
          <a:xfrm>
            <a:off x="5508720" y="2205000"/>
            <a:ext cx="180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ә)  ике нок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4211640" y="4149720"/>
            <a:ext cx="165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ә)  1,2,3,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12"/>
          <p:cNvSpPr/>
          <p:nvPr/>
        </p:nvSpPr>
        <p:spPr>
          <a:xfrm flipV="1" rot="10800000">
            <a:off x="5219280" y="5733000"/>
            <a:ext cx="187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 ике нок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5"/>
          <p:cNvSpPr/>
          <p:nvPr/>
        </p:nvSpPr>
        <p:spPr>
          <a:xfrm flipV="1">
            <a:off x="7380360" y="7100280"/>
            <a:ext cx="1152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0" y="0"/>
            <a:ext cx="9144000" cy="7162920"/>
            <a:chOff x="0" y="0"/>
            <a:chExt cx="9144000" cy="7162920"/>
          </a:xfrm>
        </p:grpSpPr>
        <p:grpSp>
          <p:nvGrpSpPr>
            <p:cNvPr id="175" name="Group 3"/>
            <p:cNvGrpSpPr/>
            <p:nvPr/>
          </p:nvGrpSpPr>
          <p:grpSpPr>
            <a:xfrm>
              <a:off x="0" y="0"/>
              <a:ext cx="9144000" cy="7162920"/>
              <a:chOff x="0" y="0"/>
              <a:chExt cx="9144000" cy="7162920"/>
            </a:xfrm>
          </p:grpSpPr>
          <p:sp>
            <p:nvSpPr>
              <p:cNvPr id="176" name="Rectangle 4"/>
              <p:cNvSpPr/>
              <p:nvPr/>
            </p:nvSpPr>
            <p:spPr>
              <a:xfrm>
                <a:off x="0" y="0"/>
                <a:ext cx="9144000" cy="7162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Line 5"/>
              <p:cNvSpPr/>
              <p:nvPr/>
            </p:nvSpPr>
            <p:spPr>
              <a:xfrm>
                <a:off x="304920" y="380880"/>
                <a:ext cx="0" cy="6172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Line 6"/>
              <p:cNvSpPr/>
              <p:nvPr/>
            </p:nvSpPr>
            <p:spPr>
              <a:xfrm>
                <a:off x="457200" y="6858000"/>
                <a:ext cx="77724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Line 7"/>
              <p:cNvSpPr/>
              <p:nvPr/>
            </p:nvSpPr>
            <p:spPr>
              <a:xfrm>
                <a:off x="685800" y="1752480"/>
                <a:ext cx="0" cy="4114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990720" y="6553080"/>
                <a:ext cx="5715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181" name="Picture 9" descr="BS00554_"/>
            <p:cNvPicPr/>
            <p:nvPr/>
          </p:nvPicPr>
          <p:blipFill>
            <a:blip r:embed="rId2"/>
            <a:stretch/>
          </p:blipFill>
          <p:spPr>
            <a:xfrm>
              <a:off x="7620120" y="5416560"/>
              <a:ext cx="114912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Text Box 10"/>
          <p:cNvSpPr/>
          <p:nvPr/>
        </p:nvSpPr>
        <p:spPr>
          <a:xfrm>
            <a:off x="1143000" y="38088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3399ff"/>
                </a:solidFill>
                <a:latin typeface="Tahoma"/>
              </a:rPr>
              <a:t>Биремнәр: Җөмләләрдә тыныш билгеләрен куеп, схемаларын төзергә.</a:t>
            </a: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1" descr="BD00028_"/>
          <p:cNvPicPr/>
          <p:nvPr/>
        </p:nvPicPr>
        <p:blipFill>
          <a:blip r:embed="rId3"/>
          <a:stretch/>
        </p:blipFill>
        <p:spPr>
          <a:xfrm>
            <a:off x="609480" y="1295280"/>
            <a:ext cx="609840" cy="533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BD00028_"/>
          <p:cNvPicPr/>
          <p:nvPr/>
        </p:nvPicPr>
        <p:blipFill>
          <a:blip r:embed="rId4"/>
          <a:stretch/>
        </p:blipFill>
        <p:spPr>
          <a:xfrm>
            <a:off x="990720" y="457200"/>
            <a:ext cx="633240" cy="53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BD00028_"/>
          <p:cNvPicPr/>
          <p:nvPr/>
        </p:nvPicPr>
        <p:blipFill>
          <a:blip r:embed="rId5"/>
          <a:stretch/>
        </p:blipFill>
        <p:spPr>
          <a:xfrm>
            <a:off x="2362320" y="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BD00028_"/>
          <p:cNvPicPr/>
          <p:nvPr/>
        </p:nvPicPr>
        <p:blipFill>
          <a:blip r:embed="rId6"/>
          <a:stretch/>
        </p:blipFill>
        <p:spPr>
          <a:xfrm>
            <a:off x="3581280" y="0"/>
            <a:ext cx="609840" cy="4572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15"/>
          <p:cNvGrpSpPr/>
          <p:nvPr/>
        </p:nvGrpSpPr>
        <p:grpSpPr>
          <a:xfrm>
            <a:off x="7020000" y="1774440"/>
            <a:ext cx="528120" cy="927720"/>
            <a:chOff x="7020000" y="1774440"/>
            <a:chExt cx="528120" cy="927720"/>
          </a:xfrm>
        </p:grpSpPr>
        <p:pic>
          <p:nvPicPr>
            <p:cNvPr id="188" name="Picture 16" descr="j0251267"/>
            <p:cNvPicPr/>
            <p:nvPr/>
          </p:nvPicPr>
          <p:blipFill>
            <a:blip r:embed="rId7"/>
            <a:srcRect l="60383" t="12908" r="2147" b="-12861"/>
            <a:stretch/>
          </p:blipFill>
          <p:spPr>
            <a:xfrm rot="1230600">
              <a:off x="7086600" y="1828800"/>
              <a:ext cx="392400" cy="4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7" descr="j0251267"/>
            <p:cNvPicPr/>
            <p:nvPr/>
          </p:nvPicPr>
          <p:blipFill>
            <a:blip r:embed="rId8"/>
            <a:srcRect l="60383" t="12908" r="2147" b="-12861"/>
            <a:stretch/>
          </p:blipFill>
          <p:spPr>
            <a:xfrm rot="1230600">
              <a:off x="7089120" y="2196720"/>
              <a:ext cx="392400" cy="4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18"/>
          <p:cNvGrpSpPr/>
          <p:nvPr/>
        </p:nvGrpSpPr>
        <p:grpSpPr>
          <a:xfrm>
            <a:off x="8010720" y="1774440"/>
            <a:ext cx="528120" cy="927720"/>
            <a:chOff x="8010720" y="1774440"/>
            <a:chExt cx="528120" cy="927720"/>
          </a:xfrm>
        </p:grpSpPr>
        <p:pic>
          <p:nvPicPr>
            <p:cNvPr id="191" name="Picture 19" descr="j0251267"/>
            <p:cNvPicPr/>
            <p:nvPr/>
          </p:nvPicPr>
          <p:blipFill>
            <a:blip r:embed="rId9"/>
            <a:srcRect l="60383" t="12908" r="2147" b="-12861"/>
            <a:stretch/>
          </p:blipFill>
          <p:spPr>
            <a:xfrm rot="1230600">
              <a:off x="8077320" y="1828800"/>
              <a:ext cx="392400" cy="4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0" descr="j0251267"/>
            <p:cNvPicPr/>
            <p:nvPr/>
          </p:nvPicPr>
          <p:blipFill>
            <a:blip r:embed="rId10"/>
            <a:srcRect l="60383" t="12908" r="2147" b="-12861"/>
            <a:stretch/>
          </p:blipFill>
          <p:spPr>
            <a:xfrm rot="1230600">
              <a:off x="8079840" y="2196720"/>
              <a:ext cx="392400" cy="4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 21"/>
          <p:cNvGrpSpPr/>
          <p:nvPr/>
        </p:nvGrpSpPr>
        <p:grpSpPr>
          <a:xfrm>
            <a:off x="7858080" y="479160"/>
            <a:ext cx="528120" cy="927720"/>
            <a:chOff x="7858080" y="479160"/>
            <a:chExt cx="528120" cy="927720"/>
          </a:xfrm>
        </p:grpSpPr>
        <p:pic>
          <p:nvPicPr>
            <p:cNvPr id="194" name="Picture 22" descr="j0251267"/>
            <p:cNvPicPr/>
            <p:nvPr/>
          </p:nvPicPr>
          <p:blipFill>
            <a:blip r:embed="rId11"/>
            <a:srcRect l="60383" t="12908" r="2147" b="-12861"/>
            <a:stretch/>
          </p:blipFill>
          <p:spPr>
            <a:xfrm rot="1230600">
              <a:off x="7924680" y="533520"/>
              <a:ext cx="392400" cy="4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3" descr="j0251267"/>
            <p:cNvPicPr/>
            <p:nvPr/>
          </p:nvPicPr>
          <p:blipFill>
            <a:blip r:embed="rId12"/>
            <a:srcRect l="60383" t="12908" r="2147" b="-12861"/>
            <a:stretch/>
          </p:blipFill>
          <p:spPr>
            <a:xfrm rot="1230600">
              <a:off x="7927200" y="901440"/>
              <a:ext cx="392400" cy="45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Text Box 24"/>
          <p:cNvSpPr/>
          <p:nvPr/>
        </p:nvSpPr>
        <p:spPr>
          <a:xfrm>
            <a:off x="914400" y="1905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1) Ул килгәнче без кайтып китте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91440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2) Әни килгәндә апа киткән ид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762120" y="2819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3) Өч көн үткәч төнлә белән Якубның тәрәзәсен    чиерттелә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838080" y="3657600"/>
            <a:ext cx="6934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4) Татарстанда уннарча шәһәр нефт</a:t>
            </a:r>
            <a:r>
              <a:rPr b="0" i="1" lang="ru-RU" sz="2400" spc="-1" strike="noStrike">
                <a:solidFill>
                  <a:srgbClr val="cc0099"/>
                </a:solidFill>
                <a:latin typeface="Tahoma"/>
              </a:rPr>
              <a:t>ь</a:t>
            </a: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   </a:t>
            </a: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промышленносте барлыкка килгәч үсеп чык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990720" y="516744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5) Бүреләр аучының сарыгын аучы ауд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    </a:t>
            </a: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йөргәндә ашап киткәннә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29" descr="j0229357"/>
          <p:cNvPicPr/>
          <p:nvPr/>
        </p:nvPicPr>
        <p:blipFill>
          <a:blip r:embed="rId13"/>
          <a:stretch/>
        </p:blipFill>
        <p:spPr>
          <a:xfrm>
            <a:off x="1295280" y="6172200"/>
            <a:ext cx="906480" cy="291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0" descr="j0229357"/>
          <p:cNvPicPr/>
          <p:nvPr/>
        </p:nvPicPr>
        <p:blipFill>
          <a:blip r:embed="rId14"/>
          <a:stretch/>
        </p:blipFill>
        <p:spPr>
          <a:xfrm>
            <a:off x="2590920" y="6172200"/>
            <a:ext cx="906480" cy="291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1" descr="j0229357"/>
          <p:cNvPicPr/>
          <p:nvPr/>
        </p:nvPicPr>
        <p:blipFill>
          <a:blip r:embed="rId15"/>
          <a:stretch/>
        </p:blipFill>
        <p:spPr>
          <a:xfrm>
            <a:off x="3886200" y="6172200"/>
            <a:ext cx="906480" cy="291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2" descr="j0229357"/>
          <p:cNvPicPr/>
          <p:nvPr/>
        </p:nvPicPr>
        <p:blipFill>
          <a:blip r:embed="rId16"/>
          <a:stretch/>
        </p:blipFill>
        <p:spPr>
          <a:xfrm>
            <a:off x="5334120" y="6172200"/>
            <a:ext cx="906480" cy="291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9144000" cy="7162920"/>
            <a:chOff x="0" y="0"/>
            <a:chExt cx="9144000" cy="7162920"/>
          </a:xfrm>
        </p:grpSpPr>
        <p:grpSp>
          <p:nvGrpSpPr>
            <p:cNvPr id="206" name="Group 3"/>
            <p:cNvGrpSpPr/>
            <p:nvPr/>
          </p:nvGrpSpPr>
          <p:grpSpPr>
            <a:xfrm>
              <a:off x="0" y="0"/>
              <a:ext cx="9144000" cy="7162920"/>
              <a:chOff x="0" y="0"/>
              <a:chExt cx="9144000" cy="7162920"/>
            </a:xfrm>
          </p:grpSpPr>
          <p:sp>
            <p:nvSpPr>
              <p:cNvPr id="207" name="Rectangle 4"/>
              <p:cNvSpPr/>
              <p:nvPr/>
            </p:nvSpPr>
            <p:spPr>
              <a:xfrm>
                <a:off x="0" y="0"/>
                <a:ext cx="9144000" cy="7162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Line 5"/>
              <p:cNvSpPr/>
              <p:nvPr/>
            </p:nvSpPr>
            <p:spPr>
              <a:xfrm>
                <a:off x="304920" y="380880"/>
                <a:ext cx="0" cy="6172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Line 6"/>
              <p:cNvSpPr/>
              <p:nvPr/>
            </p:nvSpPr>
            <p:spPr>
              <a:xfrm>
                <a:off x="457200" y="6858000"/>
                <a:ext cx="77724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Line 7"/>
              <p:cNvSpPr/>
              <p:nvPr/>
            </p:nvSpPr>
            <p:spPr>
              <a:xfrm>
                <a:off x="685800" y="1752480"/>
                <a:ext cx="0" cy="4114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Line 8"/>
              <p:cNvSpPr/>
              <p:nvPr/>
            </p:nvSpPr>
            <p:spPr>
              <a:xfrm>
                <a:off x="990720" y="6553080"/>
                <a:ext cx="5715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12" name="Picture 9" descr="BS00554_"/>
            <p:cNvPicPr/>
            <p:nvPr/>
          </p:nvPicPr>
          <p:blipFill>
            <a:blip r:embed="rId2"/>
            <a:stretch/>
          </p:blipFill>
          <p:spPr>
            <a:xfrm>
              <a:off x="7620120" y="5416560"/>
              <a:ext cx="114912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 Box 10"/>
          <p:cNvSpPr/>
          <p:nvPr/>
        </p:nvSpPr>
        <p:spPr>
          <a:xfrm>
            <a:off x="1295280" y="380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cc00cc"/>
                </a:solidFill>
                <a:latin typeface="Tahoma"/>
              </a:rPr>
              <a:t>Үзеңне тикш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1" descr="j0251267"/>
          <p:cNvPicPr/>
          <p:nvPr/>
        </p:nvPicPr>
        <p:blipFill>
          <a:blip r:embed="rId3"/>
          <a:stretch/>
        </p:blipFill>
        <p:spPr>
          <a:xfrm rot="1230600">
            <a:off x="7223040" y="696960"/>
            <a:ext cx="1343160" cy="1119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j0282176"/>
          <p:cNvPicPr/>
          <p:nvPr/>
        </p:nvPicPr>
        <p:blipFill>
          <a:blip r:embed="rId4"/>
          <a:stretch/>
        </p:blipFill>
        <p:spPr>
          <a:xfrm>
            <a:off x="7696080" y="2514600"/>
            <a:ext cx="515880" cy="914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j0282176"/>
          <p:cNvPicPr/>
          <p:nvPr/>
        </p:nvPicPr>
        <p:blipFill>
          <a:blip r:embed="rId5"/>
          <a:stretch/>
        </p:blipFill>
        <p:spPr>
          <a:xfrm>
            <a:off x="8153280" y="3505320"/>
            <a:ext cx="515880" cy="914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j0282176"/>
          <p:cNvPicPr/>
          <p:nvPr/>
        </p:nvPicPr>
        <p:blipFill>
          <a:blip r:embed="rId6"/>
          <a:stretch/>
        </p:blipFill>
        <p:spPr>
          <a:xfrm>
            <a:off x="7467480" y="3733920"/>
            <a:ext cx="515880" cy="914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5"/>
          <p:cNvSpPr/>
          <p:nvPr/>
        </p:nvSpPr>
        <p:spPr>
          <a:xfrm>
            <a:off x="1143000" y="12193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Аналитик иярчен җөмлә, схем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           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(...-гәнче),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[  ]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1066680" y="228600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Аналитик иярчен җөмлә, схема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           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(...-дә),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[   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914400" y="34290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Синтетик иярчен җөмлә, схем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          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[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...,(....),…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914400" y="45720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ahoma"/>
              </a:rPr>
              <a:t>4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) 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Синтетик иярченҗөмлә, схем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        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[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...,(...-гәч),…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914400" y="556272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5) 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Синтетик иярчен җөмлә, схем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        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[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...(...-дә)…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]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- янәшә тору чара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0" descr="j0290063"/>
          <p:cNvPicPr/>
          <p:nvPr/>
        </p:nvPicPr>
        <p:blipFill>
          <a:blip r:embed="rId7"/>
          <a:stretch/>
        </p:blipFill>
        <p:spPr>
          <a:xfrm>
            <a:off x="5791320" y="380880"/>
            <a:ext cx="552240" cy="706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1" descr="j0286318"/>
          <p:cNvPicPr/>
          <p:nvPr/>
        </p:nvPicPr>
        <p:blipFill>
          <a:blip r:embed="rId8"/>
          <a:stretch/>
        </p:blipFill>
        <p:spPr>
          <a:xfrm>
            <a:off x="6705720" y="5029200"/>
            <a:ext cx="8380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500"/>
                            </p:stCondLst>
                            <p:childTnLst>
                              <p:par>
                                <p:cTn id="1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9500"/>
                            </p:stCondLst>
                            <p:childTnLst>
                              <p:par>
                                <p:cTn id="2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52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6666"/>
                </a:solidFill>
                <a:latin typeface="Times New Roman"/>
              </a:rPr>
              <a:t>Перфокарта белән эшлибез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95280" y="757080"/>
          <a:ext cx="8280360" cy="5989680"/>
        </p:xfrm>
        <a:graphic>
          <a:graphicData uri="http://schemas.openxmlformats.org/drawingml/2006/table">
            <a:tbl>
              <a:tblPr/>
              <a:tblGrid>
                <a:gridCol w="936720"/>
                <a:gridCol w="844560"/>
                <a:gridCol w="879480"/>
                <a:gridCol w="979560"/>
                <a:gridCol w="927000"/>
                <a:gridCol w="928440"/>
                <a:gridCol w="930600"/>
                <a:gridCol w="925200"/>
                <a:gridCol w="928800"/>
              </a:tblGrid>
              <a:tr h="574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үләм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ын 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әбәп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кыт 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ксат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әвеш 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ар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ир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8385120" cy="52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6666"/>
                </a:solidFill>
                <a:latin typeface="Times New Roman"/>
              </a:rPr>
              <a:t>Перфокарта белән эшлибез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68360" y="836640"/>
          <a:ext cx="8280360" cy="6045120"/>
        </p:xfrm>
        <a:graphic>
          <a:graphicData uri="http://schemas.openxmlformats.org/drawingml/2006/table">
            <a:tbl>
              <a:tblPr/>
              <a:tblGrid>
                <a:gridCol w="934920"/>
                <a:gridCol w="846360"/>
                <a:gridCol w="879480"/>
                <a:gridCol w="979200"/>
                <a:gridCol w="927360"/>
                <a:gridCol w="928440"/>
                <a:gridCol w="930240"/>
                <a:gridCol w="925560"/>
                <a:gridCol w="928800"/>
              </a:tblGrid>
              <a:tr h="55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үләм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ын 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әбәп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кыт 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ксат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әвеш 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ар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ир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Line 110"/>
          <p:cNvSpPr/>
          <p:nvPr/>
        </p:nvSpPr>
        <p:spPr>
          <a:xfrm flipV="1">
            <a:off x="1763640" y="3573000"/>
            <a:ext cx="936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111"/>
          <p:cNvSpPr/>
          <p:nvPr/>
        </p:nvSpPr>
        <p:spPr>
          <a:xfrm>
            <a:off x="2700360" y="3573360"/>
            <a:ext cx="93492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112"/>
          <p:cNvSpPr/>
          <p:nvPr/>
        </p:nvSpPr>
        <p:spPr>
          <a:xfrm flipV="1">
            <a:off x="3635280" y="1557000"/>
            <a:ext cx="936720" cy="46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118"/>
          <p:cNvSpPr/>
          <p:nvPr/>
        </p:nvSpPr>
        <p:spPr>
          <a:xfrm>
            <a:off x="4572000" y="1484280"/>
            <a:ext cx="1871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119"/>
          <p:cNvSpPr/>
          <p:nvPr/>
        </p:nvSpPr>
        <p:spPr>
          <a:xfrm>
            <a:off x="6443640" y="2852640"/>
            <a:ext cx="865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120"/>
          <p:cNvSpPr/>
          <p:nvPr/>
        </p:nvSpPr>
        <p:spPr>
          <a:xfrm flipV="1">
            <a:off x="7380360" y="4076280"/>
            <a:ext cx="863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187280" y="476280"/>
            <a:ext cx="7128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3399"/>
                </a:solidFill>
                <a:latin typeface="Times New Roman"/>
              </a:rPr>
              <a:t>Иярченле кушма җөмләлә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539640" y="1268280"/>
            <a:ext cx="8136000" cy="51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1.Ничек сөйләшенсә, шулай эшләдек тә. (Ә.Б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2.Өйгә тәмле аш исе таралгач, Сирай бабай да кузгала. (Г.С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3.Олылар үз итмәсә дә, балалар Бикәне яратты. (Г.Б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4.Кеше ничаклы иркәләнсә, чир дигән нәрсә шулчаклы ярата аны. (М.Ә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5.Бер читтә авылда Сабантуйларда гына күренә торган лимонад сатыла иде, шунда киттек. (Н.Ә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6.Яңгыр юктан бар җир кипте, корды. (Р.Ф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7.Аптырап карама син миңа, чыланса керфегем, күзләрем, йөзләрем. (И.И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8.Өем минем яктырсын дип, ут элдердем шәмнәргә. (Л.Л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Карточкалар белән эш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3399"/>
                </a:solidFill>
                <a:latin typeface="Arial"/>
              </a:rPr>
              <a:t>Схемаларга туры китереп җөмләләр төзегез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9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tt-RU" sz="29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кем..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) </a:t>
            </a: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шул..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]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9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tt-RU" sz="2900" spc="-1" strike="noStrike">
                <a:solidFill>
                  <a:srgbClr val="ff0000"/>
                </a:solidFill>
                <a:latin typeface="Verdana"/>
              </a:rPr>
              <a:t>.( кайда ...),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[ </a:t>
            </a: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шунд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]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9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0" lang="tt-RU" sz="29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(... җирдә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[  ]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457200" y="457200"/>
            <a:ext cx="78487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Дәреснең максат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609480" y="2057400"/>
            <a:ext cx="1905120" cy="106668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556000" y="21337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ксат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Укучыларның иярченле кушма җөмлә турындагы белемнәрен ныгыту, системалаштыру, схема төзү күнекмәләрен булдыру</a:t>
            </a:r>
            <a:r>
              <a:rPr b="0" lang="tt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6934320" y="3200400"/>
            <a:ext cx="1447560" cy="1219320"/>
          </a:xfrm>
          <a:custGeom>
            <a:avLst/>
            <a:gdLst>
              <a:gd name="textAreaLeft" fmla="*/ 193680 w 1447560"/>
              <a:gd name="textAreaRight" fmla="*/ 1253880 w 144756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685800" y="5791320"/>
            <a:ext cx="2819520" cy="45720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9" descr="j0290063"/>
          <p:cNvPicPr/>
          <p:nvPr/>
        </p:nvPicPr>
        <p:blipFill>
          <a:blip r:embed="rId1"/>
          <a:stretch/>
        </p:blipFill>
        <p:spPr>
          <a:xfrm>
            <a:off x="6095880" y="5181480"/>
            <a:ext cx="609840" cy="1067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j0238267"/>
          <p:cNvPicPr/>
          <p:nvPr/>
        </p:nvPicPr>
        <p:blipFill>
          <a:blip r:embed="rId2"/>
          <a:stretch/>
        </p:blipFill>
        <p:spPr>
          <a:xfrm>
            <a:off x="7086600" y="4419720"/>
            <a:ext cx="1741320" cy="14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BD00028_"/>
          <p:cNvPicPr/>
          <p:nvPr/>
        </p:nvPicPr>
        <p:blipFill>
          <a:blip r:embed="rId3"/>
          <a:stretch/>
        </p:blipFill>
        <p:spPr>
          <a:xfrm>
            <a:off x="8001000" y="25146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BD00028_"/>
          <p:cNvPicPr/>
          <p:nvPr/>
        </p:nvPicPr>
        <p:blipFill>
          <a:blip r:embed="rId4"/>
          <a:stretch/>
        </p:blipFill>
        <p:spPr>
          <a:xfrm flipH="1" rot="10800000">
            <a:off x="762120" y="30477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BD00028_"/>
          <p:cNvPicPr/>
          <p:nvPr/>
        </p:nvPicPr>
        <p:blipFill>
          <a:blip r:embed="rId5"/>
          <a:stretch/>
        </p:blipFill>
        <p:spPr>
          <a:xfrm>
            <a:off x="5334120" y="594360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4"/>
          <p:cNvSpPr/>
          <p:nvPr/>
        </p:nvSpPr>
        <p:spPr>
          <a:xfrm>
            <a:off x="611280" y="4941720"/>
            <a:ext cx="6603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Әхлак һәм әдәп тәрбиясе бирү, җаваплылык хисе тәрбияләү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395280" y="4076640"/>
            <a:ext cx="626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Verdana"/>
              </a:rPr>
              <a:t>Эзлекле фикер йөртү сәләтен формалаштыру;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1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60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39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800" spc="-1" strike="noStrike">
                <a:solidFill>
                  <a:srgbClr val="000000"/>
                </a:solidFill>
                <a:latin typeface="Verdana"/>
              </a:rPr>
              <a:t>Таблицадагы мәкальләрне  укырга һәм уртаклыгын табарг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Verdana"/>
              </a:rPr>
              <a:t>1. Җирне кем сөргәнне буразна                 1. Утны кем тотса, шул көя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Verdana"/>
              </a:rPr>
              <a:t>үзе әйтә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Verdana"/>
              </a:rPr>
              <a:t>2. Чалгысы үтмәс кешегә үлән            2. Корт анасы кайда кунса, күч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Verdana"/>
              </a:rPr>
              <a:t>урман булып күренер.                                   шунда сары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Verdana"/>
              </a:rPr>
              <a:t>3. Сары усак яфрагы җил юкта              3. Кайда белем, шунд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66"/>
                </a:solidFill>
                <a:latin typeface="Times New Roman"/>
              </a:rPr>
              <a:t>Дәрестә нәрсә белдек?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4" name="Picture 4" descr="AG00218_"/>
          <p:cNvPicPr/>
          <p:nvPr/>
        </p:nvPicPr>
        <p:blipFill>
          <a:blip r:embed="rId1"/>
          <a:stretch/>
        </p:blipFill>
        <p:spPr>
          <a:xfrm>
            <a:off x="7451640" y="260280"/>
            <a:ext cx="1470240" cy="1368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73"/>
          <p:cNvPicPr/>
          <p:nvPr/>
        </p:nvPicPr>
        <p:blipFill>
          <a:blip r:embed="rId2"/>
          <a:stretch/>
        </p:blipFill>
        <p:spPr>
          <a:xfrm>
            <a:off x="63360" y="0"/>
            <a:ext cx="2222640" cy="13809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7"/>
          <p:cNvSpPr/>
          <p:nvPr/>
        </p:nvSpPr>
        <p:spPr>
          <a:xfrm>
            <a:off x="1042920" y="1916280"/>
            <a:ext cx="7772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1042920" y="2924280"/>
            <a:ext cx="7772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324000" y="1844640"/>
            <a:ext cx="777240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Verdana"/>
              </a:rPr>
              <a:t>иярченле кушма җөмләнең мәгънә ягыннан нинди төрлә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Verdana"/>
              </a:rPr>
              <a:t>белдек инде?Алар ничәү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Verdana"/>
              </a:rPr>
              <a:t>-Яхшы, ә иярчен җөмләнең төрен ничек билгелибез соң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Verdana"/>
              </a:rPr>
              <a:t>-Сорау куеп яки мөнәсәбәтле сүздән чыгы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468360" y="3645000"/>
            <a:ext cx="77724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611280" y="5300640"/>
            <a:ext cx="777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6" dur="5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Шагыйрь Мөхәммәдьяр да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900" spc="-1" strike="noStrike">
                <a:solidFill>
                  <a:srgbClr val="000000"/>
                </a:solidFill>
                <a:latin typeface="Verdana"/>
              </a:rPr>
              <a:t>                                           “</a:t>
            </a:r>
            <a:r>
              <a:rPr b="1" lang="tt-RU" sz="2900" spc="-1" strike="noStrike">
                <a:solidFill>
                  <a:srgbClr val="000000"/>
                </a:solidFill>
                <a:latin typeface="Verdana"/>
              </a:rPr>
              <a:t>Яманлык кылучыга кылма яман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9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1" lang="tt-RU" sz="2900" spc="-1" strike="noStrike">
                <a:solidFill>
                  <a:srgbClr val="000000"/>
                </a:solidFill>
                <a:latin typeface="Verdana"/>
              </a:rPr>
              <a:t>Яхшылык кыл, әгәр булдырсаң, һәр заман”</a:t>
            </a: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 –д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6666"/>
                </a:solidFill>
                <a:latin typeface="Arial"/>
              </a:rPr>
              <a:t>V. Өй эше</a:t>
            </a:r>
            <a:r>
              <a:rPr b="0" lang="tt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Татар халык мәкальләре” китабыннан иярчен ия һәм иярчен хәбәр җөмләсе булган 5 – 6 мәкаль табып язарг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539640" y="907920"/>
            <a:ext cx="70660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99"/>
                </a:solidFill>
                <a:latin typeface="Times New Roman"/>
              </a:rPr>
              <a:t>Кыңгырау ял итәргә чакыр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3" descr="J0336978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57" name="Group 4"/>
          <p:cNvGrpSpPr/>
          <p:nvPr/>
        </p:nvGrpSpPr>
        <p:grpSpPr>
          <a:xfrm>
            <a:off x="1893600" y="3641040"/>
            <a:ext cx="4379760" cy="1000800"/>
            <a:chOff x="1893600" y="3641040"/>
            <a:chExt cx="4379760" cy="1000800"/>
          </a:xfrm>
        </p:grpSpPr>
        <p:sp>
          <p:nvSpPr>
            <p:cNvPr id="258" name="AutoShape 5"/>
            <p:cNvSpPr/>
            <p:nvPr/>
          </p:nvSpPr>
          <p:spPr>
            <a:xfrm rot="21471600">
              <a:off x="1907640" y="3719160"/>
              <a:ext cx="4202280" cy="844560"/>
            </a:xfrm>
            <a:prstGeom prst="wedgeEllipseCallout">
              <a:avLst>
                <a:gd name="adj1" fmla="val -65805"/>
                <a:gd name="adj2" fmla="val 60425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Text Box 6"/>
            <p:cNvSpPr/>
            <p:nvPr/>
          </p:nvSpPr>
          <p:spPr>
            <a:xfrm rot="21471600">
              <a:off x="2272680" y="3849480"/>
              <a:ext cx="398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0" lang="ru-RU" sz="3200" spc="-1" strike="noStrike">
                  <a:solidFill>
                    <a:srgbClr val="0000ff"/>
                  </a:solidFill>
                  <a:latin typeface="Times New Roman"/>
                </a:rPr>
                <a:t>Сау булыгыз!</a:t>
              </a:r>
              <a:r>
                <a:rPr b="0" lang="ru-RU" sz="4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0" name="Group 7"/>
          <p:cNvGrpSpPr/>
          <p:nvPr/>
        </p:nvGrpSpPr>
        <p:grpSpPr>
          <a:xfrm>
            <a:off x="2155320" y="4327920"/>
            <a:ext cx="5410800" cy="2216880"/>
            <a:chOff x="2155320" y="4327920"/>
            <a:chExt cx="5410800" cy="2216880"/>
          </a:xfrm>
        </p:grpSpPr>
        <p:sp>
          <p:nvSpPr>
            <p:cNvPr id="261" name="AutoShape 8"/>
            <p:cNvSpPr/>
            <p:nvPr/>
          </p:nvSpPr>
          <p:spPr>
            <a:xfrm rot="20879400">
              <a:off x="2216160" y="4865400"/>
              <a:ext cx="5289120" cy="1141200"/>
            </a:xfrm>
            <a:prstGeom prst="wedgeEllipseCallout">
              <a:avLst>
                <a:gd name="adj1" fmla="val 59180"/>
                <a:gd name="adj2" fmla="val -1910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 rot="20879400">
              <a:off x="2934720" y="4875840"/>
              <a:ext cx="434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Times New Roman"/>
                </a:rPr>
                <a:t>-Дәрестә актив катнашуыгыз өчен рәхмәт! Хушыгыз!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63" name="Picture 10" descr="J0232452"/>
          <p:cNvPicPr/>
          <p:nvPr/>
        </p:nvPicPr>
        <p:blipFill>
          <a:blip r:embed="rId2"/>
          <a:stretch/>
        </p:blipFill>
        <p:spPr>
          <a:xfrm>
            <a:off x="0" y="4292640"/>
            <a:ext cx="1116000" cy="2565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J0079114"/>
          <p:cNvPicPr/>
          <p:nvPr/>
        </p:nvPicPr>
        <p:blipFill>
          <a:blip r:embed="rId3"/>
          <a:stretch/>
        </p:blipFill>
        <p:spPr>
          <a:xfrm flipH="1">
            <a:off x="7694640" y="3573360"/>
            <a:ext cx="14493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1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6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600"/>
                            </p:stCondLst>
                            <p:childTnLst>
                              <p:par>
                                <p:cTn id="2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3" dur="1" fill="hold"/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85120" cy="10512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50000">
                <a:srgbClr val="ffffff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Times New Roman"/>
              </a:rPr>
              <a:t>Кем тизрәк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68360" y="3863880"/>
            <a:ext cx="821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95280" y="1700280"/>
            <a:ext cx="849636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инди  җөмләгә   кушма   җөмлә  диләр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( Берничә  гади  җөмләдән  торган  җөмлә   кушма   җөмлә  дип атал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Кушма җөмләләрнең нинди төрләрен беләсез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tt-RU" sz="2000" spc="-1" strike="noStrike">
                <a:solidFill>
                  <a:srgbClr val="000000"/>
                </a:solidFill>
                <a:latin typeface="Verdana"/>
              </a:rPr>
              <a:t>(Тезмә кушма җөмләләр, иярченле кушма җөмләләр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Нинди  җөмлә  тезмә  кушма   җөмлә  дип атала?</a:t>
            </a:r>
            <a:r>
              <a:rPr b="0" lang="tt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Үзара тезү юлы белән бәйләнгән  җөмләләрдән  торган  җөмлә  тезмә  кушма   җөмлә  дип атал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змә  кушма   җөмлә  нинди төрләргә бүлен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ркәгечле тезмә  кушма   җөмләдә , гади  җөмләләрне  үзара бәйләп, нинди теркәгечләр кил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ркәгечсез тезмә  кушма   җөмләдә , гади  җөмләләрне  үзара бәйләп, нинди чаралар килә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Санау һәм каршы кую интонациясе интонацияс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43264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50920" y="2348640"/>
            <a:ext cx="849780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000" spc="-1" strike="noStrike">
                <a:solidFill>
                  <a:srgbClr val="000000"/>
                </a:solidFill>
                <a:latin typeface="Verdana"/>
              </a:rPr>
              <a:t>(Үзара ияртү юлы белән бәйләнгән җөмләләрдән торган кушма җөмлә иярченле кушма җөмлә дип атала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Verdana"/>
              </a:rPr>
              <a:t>Ике җөмлә бер-берсенә ияреп, аны мәгънә ягыннан ачыклап килә.Ияреп килгән җөмлә-иярчен җөмлә дип, ияртеп килгәне баш җөмлә дип ата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Иярчен җөмләләрнең төзелеш ягыннан нинди төрләре бар һәм алар нәрсәгә карап аерылалар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000" spc="-1" strike="noStrike">
                <a:solidFill>
                  <a:srgbClr val="000000"/>
                </a:solidFill>
                <a:latin typeface="Verdana"/>
              </a:rPr>
              <a:t>(Төзелеш ягыннан иярчен җөмләләрнең 2 төре бар: аналитик һәм синтетик. Алар бәйләүче чараларга карап аерылала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Аналитик иярчен җөмләләр баш җөмләгә нинди чаралар ярдәмендә бәйләнәләр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0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i="1" lang="tt-RU" sz="2000" spc="-1" strike="noStrike">
                <a:solidFill>
                  <a:srgbClr val="000000"/>
                </a:solidFill>
                <a:latin typeface="Verdana"/>
              </a:rPr>
              <a:t>а) Ияртүче теркәгечләр һәм теркәгеч сүзләр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tt-RU" sz="2000" spc="-1" strike="noStrike">
                <a:solidFill>
                  <a:srgbClr val="000000"/>
                </a:solidFill>
                <a:latin typeface="Verdana"/>
              </a:rPr>
              <a:t>б) мөнәсәбәтле сүзләр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000" spc="-1" strike="noStrike">
                <a:solidFill>
                  <a:srgbClr val="000000"/>
                </a:solidFill>
                <a:latin typeface="Verdana"/>
              </a:rPr>
              <a:t>в) көттерү интонацияс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55640" y="1844640"/>
            <a:ext cx="5464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инди  җөмлә   иярченле   кушма   җөмлә  дип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tt-RU" sz="2100" spc="-1" strike="noStrike">
                <a:solidFill>
                  <a:srgbClr val="000000"/>
                </a:solidFill>
                <a:latin typeface="Verdana"/>
              </a:rPr>
              <a:t>-Синтетик иярчен җөмләләр баш җөмләгә нинди чаралар ярдәмендә бәйләнәләр</a:t>
            </a: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100" spc="-1" strike="noStrike">
                <a:solidFill>
                  <a:srgbClr val="000000"/>
                </a:solidFill>
                <a:latin typeface="Verdana"/>
              </a:rPr>
              <a:t>а) Кушымчалар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100" spc="-1" strike="noStrike">
                <a:solidFill>
                  <a:srgbClr val="000000"/>
                </a:solidFill>
                <a:latin typeface="Verdana"/>
              </a:rPr>
              <a:t>б) бәйлекләр һәм бәйлек сүзләр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100" spc="-1" strike="noStrike">
                <a:solidFill>
                  <a:srgbClr val="000000"/>
                </a:solidFill>
                <a:latin typeface="Verdana"/>
              </a:rPr>
              <a:t>в) янәшә тору чарасы ярдәмендә бәйләнәләр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tt-RU" sz="2100" spc="-1" strike="noStrike">
                <a:solidFill>
                  <a:srgbClr val="000000"/>
                </a:solidFill>
                <a:latin typeface="Verdana"/>
              </a:rPr>
              <a:t>Иярчен җөмләләрнең мәгънә ягыннан нинди төрләре бар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100" spc="-1" strike="noStrike">
                <a:solidFill>
                  <a:srgbClr val="000000"/>
                </a:solidFill>
                <a:latin typeface="Verdana"/>
              </a:rPr>
              <a:t>-Иярчен җөмләләрнең иярчен ия, иярчен хәбәр, иярчен тәмамлык, иярчен аергыч, иярчен хәл, аныклагыч төрләре бар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2"/>
          <p:cNvGrpSpPr/>
          <p:nvPr/>
        </p:nvGrpSpPr>
        <p:grpSpPr>
          <a:xfrm>
            <a:off x="250920" y="189000"/>
            <a:ext cx="8712720" cy="6262920"/>
            <a:chOff x="250920" y="189000"/>
            <a:chExt cx="8712720" cy="626292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 rot="16200000">
              <a:off x="4215600" y="3570480"/>
              <a:ext cx="783360" cy="1848240"/>
            </a:xfrm>
            <a:prstGeom prst="bentConnector3">
              <a:avLst>
                <a:gd name="adj1" fmla="val 17425"/>
              </a:avLst>
            </a:prstGeom>
            <a:ln w="57240">
              <a:solidFill>
                <a:srgbClr val="ff9900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2" idx="2"/>
            </p:cNvCxnSpPr>
            <p:nvPr/>
          </p:nvCxnSpPr>
          <p:spPr>
            <a:xfrm flipH="1" flipV="1" rot="5400000">
              <a:off x="2367360" y="3570120"/>
              <a:ext cx="783360" cy="1849320"/>
            </a:xfrm>
            <a:prstGeom prst="bentConnector3">
              <a:avLst>
                <a:gd name="adj1" fmla="val 17425"/>
              </a:avLst>
            </a:prstGeom>
            <a:ln w="57240">
              <a:solidFill>
                <a:srgbClr val="ff9900"/>
              </a:solidFill>
              <a:miter/>
            </a:ln>
          </p:spPr>
        </p:cxnSp>
        <p:cxnSp>
          <p:nvCxnSpPr>
            <p:cNvPr id="125" name="_s1030"/>
            <p:cNvCxnSpPr>
              <a:stCxn id="126" idx="0"/>
              <a:endCxn id="127" idx="2"/>
            </p:cNvCxnSpPr>
            <p:nvPr/>
          </p:nvCxnSpPr>
          <p:spPr>
            <a:xfrm flipV="1" rot="16200000">
              <a:off x="6063840" y="1221120"/>
              <a:ext cx="783360" cy="1849320"/>
            </a:xfrm>
            <a:prstGeom prst="bentConnector3">
              <a:avLst>
                <a:gd name="adj1" fmla="val 17425"/>
              </a:avLst>
            </a:prstGeom>
            <a:ln w="57240">
              <a:solidFill>
                <a:srgbClr val="ff9900"/>
              </a:solidFill>
              <a:miter/>
            </a:ln>
          </p:spPr>
        </p:cxnSp>
        <p:cxnSp>
          <p:nvCxnSpPr>
            <p:cNvPr id="128" name="_s1031"/>
            <p:cNvCxnSpPr>
              <a:stCxn id="122" idx="0"/>
              <a:endCxn id="127" idx="2"/>
            </p:cNvCxnSpPr>
            <p:nvPr/>
          </p:nvCxnSpPr>
          <p:spPr>
            <a:xfrm flipH="1" flipV="1" rot="5400000">
              <a:off x="4215600" y="1221840"/>
              <a:ext cx="783360" cy="1848240"/>
            </a:xfrm>
            <a:prstGeom prst="bentConnector3">
              <a:avLst>
                <a:gd name="adj1" fmla="val 17425"/>
              </a:avLst>
            </a:prstGeom>
            <a:ln w="57240">
              <a:solidFill>
                <a:srgbClr val="ff9900"/>
              </a:solidFill>
              <a:miter/>
            </a:ln>
          </p:spPr>
        </p:cxnSp>
        <p:sp>
          <p:nvSpPr>
            <p:cNvPr id="127" name="_s1032"/>
            <p:cNvSpPr/>
            <p:nvPr/>
          </p:nvSpPr>
          <p:spPr>
            <a:xfrm>
              <a:off x="3947040" y="189000"/>
              <a:ext cx="3168000" cy="156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3200" spc="-1" strike="noStrike">
                  <a:solidFill>
                    <a:srgbClr val="0000ff"/>
                  </a:solidFill>
                  <a:latin typeface="Arial"/>
                </a:rPr>
                <a:t>Кушма җөмлә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_s1033"/>
            <p:cNvSpPr/>
            <p:nvPr/>
          </p:nvSpPr>
          <p:spPr>
            <a:xfrm>
              <a:off x="2099520" y="2537640"/>
              <a:ext cx="31680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3000" spc="-1" strike="noStrike">
                  <a:solidFill>
                    <a:srgbClr val="0000ff"/>
                  </a:solidFill>
                  <a:latin typeface="Arial"/>
                </a:rPr>
                <a:t>Тезмә кушма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3000" spc="-1" strike="noStrike">
                  <a:solidFill>
                    <a:srgbClr val="0000ff"/>
                  </a:solidFill>
                  <a:latin typeface="Arial"/>
                </a:rPr>
                <a:t>җөмлә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_s1034"/>
            <p:cNvSpPr/>
            <p:nvPr/>
          </p:nvSpPr>
          <p:spPr>
            <a:xfrm>
              <a:off x="5795640" y="2537640"/>
              <a:ext cx="31680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3000" spc="-1" strike="noStrike">
                  <a:solidFill>
                    <a:srgbClr val="0000ff"/>
                  </a:solidFill>
                  <a:latin typeface="Arial"/>
                </a:rPr>
                <a:t>Иярченле кушма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3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tt-RU" sz="3000" spc="-1" strike="noStrike">
                  <a:solidFill>
                    <a:srgbClr val="0000ff"/>
                  </a:solidFill>
                  <a:latin typeface="Arial"/>
                </a:rPr>
                <a:t>җөмлә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250920" y="4886280"/>
              <a:ext cx="31680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800" spc="-1" strike="noStrike">
                  <a:solidFill>
                    <a:srgbClr val="0000ff"/>
                  </a:solidFill>
                  <a:latin typeface="Arial"/>
                </a:rPr>
                <a:t>Теркәгечле тезмә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800" spc="-1" strike="noStrike">
                  <a:solidFill>
                    <a:srgbClr val="0000ff"/>
                  </a:solidFill>
                  <a:latin typeface="Arial"/>
                </a:rPr>
                <a:t>кушма җөмлә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_s1036"/>
            <p:cNvSpPr/>
            <p:nvPr/>
          </p:nvSpPr>
          <p:spPr>
            <a:xfrm>
              <a:off x="3947040" y="4886280"/>
              <a:ext cx="31680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800" spc="-1" strike="noStrike">
                  <a:solidFill>
                    <a:srgbClr val="0000ff"/>
                  </a:solidFill>
                  <a:latin typeface="Arial"/>
                </a:rPr>
                <a:t>Теркәгечсез тезмә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800" spc="-1" strike="noStrike">
                  <a:solidFill>
                    <a:srgbClr val="0000ff"/>
                  </a:solidFill>
                  <a:latin typeface="Arial"/>
                </a:rPr>
                <a:t>кушма җөмлә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843280" y="62064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84360" y="1700280"/>
            <a:ext cx="23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987640" y="549360"/>
            <a:ext cx="287964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3300"/>
                </a:solidFill>
                <a:latin typeface="Arial"/>
              </a:rPr>
              <a:t>Теркәгечлә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11280" y="1557360"/>
            <a:ext cx="223200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3300"/>
                </a:solidFill>
                <a:latin typeface="Arial"/>
              </a:rPr>
              <a:t>Тезүч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156360" y="1557360"/>
            <a:ext cx="244800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3300"/>
                </a:solidFill>
                <a:latin typeface="Arial"/>
              </a:rPr>
              <a:t>Ияртүч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24000" y="2924280"/>
            <a:ext cx="1655640" cy="37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3300"/>
                </a:solidFill>
                <a:latin typeface="Arial"/>
              </a:rPr>
              <a:t>Җыюч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ff9900"/>
                </a:solidFill>
                <a:latin typeface="Arial"/>
              </a:rPr>
              <a:t>Һәм (да,дә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ff9900"/>
                </a:solidFill>
                <a:latin typeface="Arial"/>
              </a:rPr>
              <a:t>та, тә), ни...ни, янә, тагы (тагын), в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195640" y="2924280"/>
            <a:ext cx="2232000" cy="247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3300"/>
                </a:solidFill>
                <a:latin typeface="Arial"/>
              </a:rPr>
              <a:t>Каршы куюч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ff9900"/>
                </a:solidFill>
                <a:latin typeface="Arial"/>
              </a:rPr>
              <a:t>ләкин, ә, әмма, бәлки, бары, тик, фәкат</a:t>
            </a: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716360" y="2924280"/>
            <a:ext cx="1656000" cy="1381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3300"/>
                </a:solidFill>
                <a:latin typeface="Arial"/>
              </a:rPr>
              <a:t>Бүлүч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ff9900"/>
                </a:solidFill>
                <a:latin typeface="Arial"/>
              </a:rPr>
              <a:t>я, яки, яис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0"/>
          <p:cNvSpPr/>
          <p:nvPr/>
        </p:nvSpPr>
        <p:spPr>
          <a:xfrm flipH="1">
            <a:off x="2916000" y="1125360"/>
            <a:ext cx="143964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4427640" y="1125360"/>
            <a:ext cx="172872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12"/>
          <p:cNvSpPr/>
          <p:nvPr/>
        </p:nvSpPr>
        <p:spPr>
          <a:xfrm flipH="1">
            <a:off x="1476360" y="2133720"/>
            <a:ext cx="2872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1763640" y="2205000"/>
            <a:ext cx="100800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1763640" y="2205000"/>
            <a:ext cx="316872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6732720" y="2924280"/>
            <a:ext cx="216036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ff9900"/>
                </a:solidFill>
                <a:latin typeface="Arial"/>
              </a:rPr>
              <a:t>Чөнки, әгәр, гәрчә, гүя, ки, гүя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7667640" y="2133720"/>
            <a:ext cx="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tt-RU" sz="3600" spc="-1" strike="noStrike">
                <a:solidFill>
                  <a:srgbClr val="006666"/>
                </a:solidFill>
                <a:latin typeface="Arial"/>
              </a:rPr>
              <a:t>Матур гадәтле бул”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Кем рәнҗетми кечеләрне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Өлкәнгә ярдәм итә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“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Мин”, “ мин” дип кәперәйми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Дусларын хөрмәт итә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Каршы дәшми, ялганламый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Дөресен сөйли һәрчак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Гафу итә, үч сакламый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Сер саклый белә озак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Шул күркәм холыклы була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Тәрбияле, әдәпле..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Син дә, дустым, булсаң ид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Шундый матур гадәтле!.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(Йөзмөхәммәтова Д.Ш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Күренеп тора: чыдамлыгы чигенә җиткән иде картның.(Ф.Хөсн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Нәрсәгә ирәнсәң, шуны куарсың.(мәкаль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Җәйге җылы яңгыр явып үткәч, бөтен аланнар яшәреп китте.(М.Гафури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Кайда хезмәт, шунда хөрмәт.( мәкаль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Беренче соравына җавап шул:азык-төлек документлар нигезендә җибәрелә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(М.Насыйбуллин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Минем шундый гадәтем бар: амин тотмый торып, имза куймыйм.  (М.Насыйбуллин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Гайнан һәрвакыт шулай эшли: сөйләшәчәк кешене тикшерүче төрле шартларда күрергә тырыша. (М.Насыйбуллин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58:13Z</dcterms:created>
  <dc:creator>Ильгиз</dc:creator>
  <dc:description/>
  <dc:language>en-US</dc:language>
  <cp:lastModifiedBy>админ</cp:lastModifiedBy>
  <dcterms:modified xsi:type="dcterms:W3CDTF">2015-09-30T18:18:16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