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3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6.jpeg" ContentType="image/jpeg"/>
  <Override PartName="/ppt/media/image38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600-AE5D-434D-8207-DCB91C5D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CD6-EE40-4D0E-AA96-78664891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703-79CD-4779-BA9B-C30FBEA4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78C-D526-4781-99E8-D9FA6230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E9CE-E1E2-4F13-A517-774FF7C1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1515-B4C8-492A-945D-D21839DE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B404-6D93-40B1-90A0-61EA40E2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EB62-E8CF-46B5-A369-F8661641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75AC-AC2C-43CF-B05D-E26FE082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4164-B1C2-468F-A459-21437A6A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68CB-8A8E-43C0-94E7-298A78EA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902-7DB9-472B-AB05-8CB9C41C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4DD9-43A2-442F-A057-A70DBF3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F620-B2F9-4375-B25E-8522153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B0DB-66F9-424A-ABAA-31E36A8F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5A0F-3400-4164-84E6-96E95EB1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86CE-67AF-4783-9523-8312D1BF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B0A8-9A53-4904-83EF-7A1A3A66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EC85-0C1B-48E3-BF18-E2616447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0CBC-C75B-4D2A-A173-1C6ECB8C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2F68-98AD-4B4A-B7B4-7D0CD5BE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439A-00CB-4C10-B6F8-0BBD9C4A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F30-90AA-4279-9E90-B4F7CACC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BE355-AA60-4477-BF66-0FD10B6B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307C-000C-4C6C-910E-AF8998C5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BA60-9187-4B09-83E3-7C844B5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CFDF-12EA-4D8F-B659-7A663B6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E9BD-C304-461F-8F5C-12FE566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6209-D56F-43DA-A434-683839E3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E7E7-46DE-454D-BEE3-2EBEBF48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8EFC-BA60-406C-AA19-99AF3D6D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4E66-5994-4E4B-BB0B-384D725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BC2D-BB1A-4454-8B8F-303F2416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1CE-9510-4786-B9CD-9FF56B85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05EF-F69F-4BDB-BCD5-092401FF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D2A0-E06F-45D1-8519-6E7F6CF4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F2B2-70B2-4157-AFBA-5449BFDB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F4FE-9A1B-4191-8045-8A299C9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9C8C-0534-428F-8B15-1B5F019F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6EB5A-FF4D-47FD-96EA-112F6D31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439CB-A443-4FB7-869D-EB6FB9CF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00B9-6780-4CB1-BECD-D9C681A9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8279A-845C-4AA5-9DD8-6BC56406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E997E-A24E-4501-90E6-655BFB2B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867-DBDF-45F0-A18E-C4A5E543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80DEE-6CD9-4F56-A2A5-986D033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D1B9F-2FA4-4B84-B679-91A6C42D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6431-0ECE-44B2-8655-11E27ED8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2A9EB-2BDB-4768-84A5-6DE617D2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15E55-C7A5-448F-86BF-2CA88E75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5463A-86BB-4AA3-AC26-FE3CBFD6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6BEA-ACCC-48FD-89A9-3131FA1C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1A7B-13F6-4C50-BA87-9320701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949F-71F3-43C0-9F15-DE990710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E99DC-8D6D-4A3F-90FA-C898E859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A02-7C4E-457D-895D-4FDF8160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E5745-CCEE-4BFD-9807-B4C57D11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676-A962-4E9A-865F-EECB498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6AC-558D-4F84-9E9F-72F4A1C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ABC-2E2E-46F9-A74B-0B2F037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AA7-DE6A-4F7C-B393-225601C573C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ADDE-C9D4-4F69-B8E2-5D65F4918E6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B4B8-2698-4C1C-8E16-C87DA69984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C1A8-BE8B-4979-B4DE-31A6C1EA6F8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D1B4-7427-4869-A4B4-150B5DBAB48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одзаголовок 2" descr=""/>
          <p:cNvPicPr/>
          <p:nvPr/>
        </p:nvPicPr>
        <p:blipFill>
          <a:blip r:embed="rId1"/>
          <a:stretch/>
        </p:blipFill>
        <p:spPr>
          <a:xfrm>
            <a:off x="1852560" y="1255680"/>
            <a:ext cx="5499000" cy="16034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б4.jpg"/>
          <p:cNvPicPr/>
          <p:nvPr/>
        </p:nvPicPr>
        <p:blipFill>
          <a:blip r:embed="rId2"/>
          <a:stretch/>
        </p:blipFill>
        <p:spPr>
          <a:xfrm>
            <a:off x="2286000" y="3286080"/>
            <a:ext cx="48420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Ну, старуха, знатный воротник привез тебе на шубу "/>
          <p:cNvPicPr/>
          <p:nvPr/>
        </p:nvPicPr>
        <p:blipFill>
          <a:blip r:embed="rId1"/>
          <a:srcRect l="3001" t="0" r="5125" b="0"/>
          <a:stretch/>
        </p:blipFill>
        <p:spPr>
          <a:xfrm>
            <a:off x="642960" y="285840"/>
            <a:ext cx="7786800" cy="510228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5450040"/>
            <a:ext cx="85089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Нет на возу ни воротника, ни рыбы "/>
          <p:cNvPicPr/>
          <p:nvPr/>
        </p:nvPicPr>
        <p:blipFill>
          <a:blip r:embed="rId1"/>
          <a:srcRect l="0" t="0" r="6229" b="0"/>
          <a:stretch/>
        </p:blipFill>
        <p:spPr>
          <a:xfrm>
            <a:off x="1357200" y="214200"/>
            <a:ext cx="6357960" cy="411336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3" descr=""/>
          <p:cNvPicPr/>
          <p:nvPr/>
        </p:nvPicPr>
        <p:blipFill>
          <a:blip r:embed="rId2"/>
          <a:stretch/>
        </p:blipFill>
        <p:spPr>
          <a:xfrm>
            <a:off x="115920" y="4522680"/>
            <a:ext cx="91504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А лисица тем временем собрала на дороге всю рыбу в кучку, села и ест. "/>
          <p:cNvPicPr/>
          <p:nvPr/>
        </p:nvPicPr>
        <p:blipFill>
          <a:blip r:embed="rId1"/>
          <a:srcRect l="1943" t="0" r="10001" b="0"/>
          <a:stretch/>
        </p:blipFill>
        <p:spPr>
          <a:xfrm>
            <a:off x="1000080" y="357120"/>
            <a:ext cx="7007400" cy="479124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1508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Приходит к ней волк "/>
          <p:cNvPicPr/>
          <p:nvPr/>
        </p:nvPicPr>
        <p:blipFill>
          <a:blip r:embed="rId1"/>
          <a:srcRect l="832" t="0" r="7000" b="326"/>
          <a:stretch/>
        </p:blipFill>
        <p:spPr>
          <a:xfrm>
            <a:off x="642960" y="357120"/>
            <a:ext cx="7358040" cy="478944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5792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21420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 ем — свой, а ты подальше 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ай мне ры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Дай мне рыбки. "/>
          <p:cNvPicPr/>
          <p:nvPr/>
        </p:nvPicPr>
        <p:blipFill>
          <a:blip r:embed="rId1"/>
          <a:srcRect l="1497" t="0" r="5503" b="0"/>
          <a:stretch/>
        </p:blipFill>
        <p:spPr>
          <a:xfrm>
            <a:off x="1214280" y="331920"/>
            <a:ext cx="68580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2"/>
          <p:cNvSpPr/>
          <p:nvPr/>
        </p:nvSpPr>
        <p:spPr>
          <a:xfrm>
            <a:off x="214200" y="514368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лови сам, да и еш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Налови сам, да и ешь. "/>
          <p:cNvPicPr/>
          <p:nvPr/>
        </p:nvPicPr>
        <p:blipFill>
          <a:blip r:embed="rId1"/>
          <a:srcRect l="0" t="0" r="0" b="5311"/>
          <a:stretch/>
        </p:blipFill>
        <p:spPr>
          <a:xfrm>
            <a:off x="928800" y="500040"/>
            <a:ext cx="72831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Ты, куманек, ступай на реку, опусти хвост в прорубь "/>
          <p:cNvPicPr/>
          <p:nvPr/>
        </p:nvPicPr>
        <p:blipFill>
          <a:blip r:embed="rId1"/>
          <a:srcRect l="0" t="0" r="3999" b="0"/>
          <a:stretch/>
        </p:blipFill>
        <p:spPr>
          <a:xfrm>
            <a:off x="1214280" y="357120"/>
            <a:ext cx="6143760" cy="35323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2"/>
          <p:cNvSpPr/>
          <p:nvPr/>
        </p:nvSpPr>
        <p:spPr>
          <a:xfrm>
            <a:off x="214200" y="400068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а я не ум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ка! Ведь я же наловила. Ты, куманек, ступай на реку, опусти хвост в прорубь, сиди да приговаривай: «Ловись, рыбка, и мала и велика, ловись, рыбка, и мала и велика!» Так рыба тебя сама за хвост будет хватать. Как подольше посидишь, так больше науд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2"/>
          <p:cNvSpPr/>
          <p:nvPr/>
        </p:nvSpPr>
        <p:spPr>
          <a:xfrm>
            <a:off x="214200" y="400068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шел волк на реку, опустил хвост в прорубь, сидит и приговар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овись, рыбка, и мала и вел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овись, рыбка, и мала и вел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 лисица ходит около волка и приговар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сни, ясни на небе звез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рзни, мерзни, волчий хвос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Пошел волк на реку, опустил хвост в прорубь, сидит и приговаривает "/>
          <p:cNvPicPr/>
          <p:nvPr/>
        </p:nvPicPr>
        <p:blipFill>
          <a:blip r:embed="rId1"/>
          <a:srcRect l="0" t="0" r="3999" b="0"/>
          <a:stretch/>
        </p:blipFill>
        <p:spPr>
          <a:xfrm>
            <a:off x="1357200" y="214200"/>
            <a:ext cx="61819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2"/>
          <p:cNvSpPr/>
          <p:nvPr/>
        </p:nvSpPr>
        <p:spPr>
          <a:xfrm>
            <a:off x="214200" y="44290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лк спрашивает ли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то ты, кума, все говор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 я тебе помогаю, рыбку на хвост нагоня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 сама оп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сни, ясни на небе звезды, мерзни,мерзни волчий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Мерзни, мерзни, волчий хвост! "/>
          <p:cNvPicPr/>
          <p:nvPr/>
        </p:nvPicPr>
        <p:blipFill>
          <a:blip r:embed="rId1"/>
          <a:srcRect l="0" t="0" r="5503" b="2277"/>
          <a:stretch/>
        </p:blipFill>
        <p:spPr>
          <a:xfrm>
            <a:off x="1071720" y="357120"/>
            <a:ext cx="685800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285840" y="48578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идел волк целую ночь у проруби. Хвост у него и приморозило. Под утро хотел подняться — не тут-то было. Он и думает: «Эка, сколько рыбы привалило — и не вытащи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Хвост у него и приморозило. "/>
          <p:cNvPicPr/>
          <p:nvPr/>
        </p:nvPicPr>
        <p:blipFill>
          <a:blip r:embed="rId1"/>
          <a:srcRect l="0" t="0" r="5503" b="4363"/>
          <a:stretch/>
        </p:blipFill>
        <p:spPr>
          <a:xfrm>
            <a:off x="571680" y="239760"/>
            <a:ext cx="76546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detbook.ru/wp-content/uploads/2009/03/Rachev0003.jpg"/>
          <p:cNvPicPr/>
          <p:nvPr/>
        </p:nvPicPr>
        <p:blipFill>
          <a:blip r:embed="rId1"/>
          <a:stretch/>
        </p:blipFill>
        <p:spPr>
          <a:xfrm>
            <a:off x="2286000" y="642960"/>
            <a:ext cx="445788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2"/>
          <p:cNvSpPr/>
          <p:nvPr/>
        </p:nvSpPr>
        <p:spPr>
          <a:xfrm>
            <a:off x="285840" y="45007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это время идет баба с ведрами за водой. Увидела волка и закри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лк, волк! Бейте 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лк — туда-сюда, не может вытащить хвост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В это время идет баба с ведрами за водой "/>
          <p:cNvPicPr/>
          <p:nvPr/>
        </p:nvPicPr>
        <p:blipFill>
          <a:blip r:embed="rId1"/>
          <a:srcRect l="0" t="0" r="5503" b="1839"/>
          <a:stretch/>
        </p:blipFill>
        <p:spPr>
          <a:xfrm>
            <a:off x="1214280" y="285840"/>
            <a:ext cx="65725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2"/>
          <p:cNvSpPr/>
          <p:nvPr/>
        </p:nvSpPr>
        <p:spPr>
          <a:xfrm>
            <a:off x="285840" y="45007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аба бросила ведра и давай его бить коромыслом. Била, била, волк рвался, рвался, оторвал себе хвост и пустился наут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Волкоторвал себе хвост и пустился наутек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428840" y="500040"/>
            <a:ext cx="60721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2"/>
          <p:cNvSpPr/>
          <p:nvPr/>
        </p:nvSpPr>
        <p:spPr>
          <a:xfrm>
            <a:off x="285840" y="45007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Хорошо же, думает, ужо я отплачу тебе, кум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Хорошо же, думает, ужо я отплачу тебе, кума!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285920" y="285840"/>
            <a:ext cx="628632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2"/>
          <p:cNvSpPr/>
          <p:nvPr/>
        </p:nvSpPr>
        <p:spPr>
          <a:xfrm>
            <a:off x="285840" y="45007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 лисичка забралась в избу, где жила эта баба, наелась из квашни тес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А лисичка забралась в избу, где жила эта баба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428840" y="428760"/>
            <a:ext cx="59292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285840" y="55008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Голову себе тестом вымаза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Лиса голову себе тестом вымазала"/>
          <p:cNvPicPr/>
          <p:nvPr/>
        </p:nvPicPr>
        <p:blipFill>
          <a:blip r:embed="rId1"/>
          <a:srcRect l="0" t="0" r="5503" b="0"/>
          <a:stretch/>
        </p:blipFill>
        <p:spPr>
          <a:xfrm>
            <a:off x="1000080" y="309600"/>
            <a:ext cx="692964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2"/>
          <p:cNvSpPr/>
          <p:nvPr/>
        </p:nvSpPr>
        <p:spPr>
          <a:xfrm>
            <a:off x="285840" y="55008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ыбежала на дорогу, упала и лежит сто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Лиса выбежала на дорогу"/>
          <p:cNvPicPr/>
          <p:nvPr/>
        </p:nvPicPr>
        <p:blipFill>
          <a:blip r:embed="rId1"/>
          <a:srcRect l="0" t="0" r="7000" b="0"/>
          <a:stretch/>
        </p:blipFill>
        <p:spPr>
          <a:xfrm>
            <a:off x="1357200" y="357120"/>
            <a:ext cx="64296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285840" y="50007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лк ей навстре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ак вот как ты учишь, кума, рыбу ловить! Смотри, меня всего исколотил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Волк ей навстречу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143000" y="500040"/>
            <a:ext cx="657216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2"/>
          <p:cNvSpPr/>
          <p:nvPr/>
        </p:nvSpPr>
        <p:spPr>
          <a:xfrm>
            <a:off x="285840" y="500076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са ему говор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х, куманек! У тебя хвоста нет, зато голова цела, а мне голову разбили: смотри — мозг выступил, насилу плету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а мне голову разбили: смотри — мозг выступил "/>
          <p:cNvPicPr/>
          <p:nvPr/>
        </p:nvPicPr>
        <p:blipFill>
          <a:blip r:embed="rId1"/>
          <a:srcRect l="0" t="0" r="3999" b="1386"/>
          <a:stretch/>
        </p:blipFill>
        <p:spPr>
          <a:xfrm>
            <a:off x="560520" y="428760"/>
            <a:ext cx="77263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"/>
          <p:cNvSpPr/>
          <p:nvPr/>
        </p:nvSpPr>
        <p:spPr>
          <a:xfrm>
            <a:off x="285840" y="45720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то правда, — говорит ей волк. — Где тебе, кума, идти, садись на меня, я тебя дове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ела лисица волку на спину. Он ее и повез. Вот лисица едет на волке и потихоньку по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Села лисица волку на спину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214280" y="357120"/>
            <a:ext cx="62866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2"/>
          <p:cNvSpPr/>
          <p:nvPr/>
        </p:nvSpPr>
        <p:spPr>
          <a:xfrm>
            <a:off x="285840" y="45720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итый небитого вез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Битый небитого везет!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214280" y="357120"/>
            <a:ext cx="6429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img2.appstatic.opera.com/prodimg/625157_screenshot_3.jpg"/>
          <p:cNvPicPr/>
          <p:nvPr/>
        </p:nvPicPr>
        <p:blipFill>
          <a:blip r:embed="rId1"/>
          <a:srcRect l="0" t="2818" r="0" b="4199"/>
          <a:stretch/>
        </p:blipFill>
        <p:spPr>
          <a:xfrm>
            <a:off x="2357280" y="357120"/>
            <a:ext cx="3786480" cy="471492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2" descr=""/>
          <p:cNvPicPr/>
          <p:nvPr/>
        </p:nvPicPr>
        <p:blipFill>
          <a:blip r:embed="rId2"/>
          <a:stretch/>
        </p:blipFill>
        <p:spPr>
          <a:xfrm>
            <a:off x="639720" y="5162400"/>
            <a:ext cx="74566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2"/>
          <p:cNvSpPr/>
          <p:nvPr/>
        </p:nvSpPr>
        <p:spPr>
          <a:xfrm>
            <a:off x="285840" y="44290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итый небитого вез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ы чего, кума, все говоришь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, куманек, твою боль заговариваю. И сама оп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итый небитого вез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итый небитого вез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Битый небитого везет! "/>
          <p:cNvPicPr/>
          <p:nvPr/>
        </p:nvPicPr>
        <p:blipFill>
          <a:blip r:embed="rId1"/>
          <a:srcRect l="0" t="0" r="5503" b="0"/>
          <a:stretch/>
        </p:blipFill>
        <p:spPr>
          <a:xfrm>
            <a:off x="1214280" y="214200"/>
            <a:ext cx="6429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://detbook.ru/wp-content/uploads/2009/03/LisaVolk0001.jpg"/>
          <p:cNvPicPr/>
          <p:nvPr/>
        </p:nvPicPr>
        <p:blipFill>
          <a:blip r:embed="rId1"/>
          <a:stretch/>
        </p:blipFill>
        <p:spPr>
          <a:xfrm>
            <a:off x="2428920" y="428760"/>
            <a:ext cx="4071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328680"/>
            <a:ext cx="84981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Лисичка, лежит на дороге. "/>
          <p:cNvPicPr/>
          <p:nvPr/>
        </p:nvPicPr>
        <p:blipFill>
          <a:blip r:embed="rId1"/>
          <a:srcRect l="0" t="0" r="3893" b="0"/>
          <a:stretch/>
        </p:blipFill>
        <p:spPr>
          <a:xfrm>
            <a:off x="500040" y="214200"/>
            <a:ext cx="8013600" cy="50198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5162400"/>
            <a:ext cx="73040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Дед слез с воза, подошел "/>
          <p:cNvPicPr/>
          <p:nvPr/>
        </p:nvPicPr>
        <p:blipFill>
          <a:blip r:embed="rId1"/>
          <a:srcRect l="1595" t="0" r="5503" b="0"/>
          <a:stretch/>
        </p:blipFill>
        <p:spPr>
          <a:xfrm>
            <a:off x="642960" y="285840"/>
            <a:ext cx="7572240" cy="49068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5168880"/>
            <a:ext cx="73040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Будет моей старухе воротник на шубу. "/>
          <p:cNvPicPr/>
          <p:nvPr/>
        </p:nvPicPr>
        <p:blipFill>
          <a:blip r:embed="rId1"/>
          <a:srcRect l="2109" t="0" r="3061" b="0"/>
          <a:stretch/>
        </p:blipFill>
        <p:spPr>
          <a:xfrm>
            <a:off x="285840" y="285840"/>
            <a:ext cx="8253360" cy="524016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5589720"/>
            <a:ext cx="730404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Лисица стала выбрасывать по рыбке да по рыбке"/>
          <p:cNvPicPr/>
          <p:nvPr/>
        </p:nvPicPr>
        <p:blipFill>
          <a:blip r:embed="rId1"/>
          <a:srcRect l="1361" t="0" r="3152" b="0"/>
          <a:stretch/>
        </p:blipFill>
        <p:spPr>
          <a:xfrm>
            <a:off x="428760" y="214200"/>
            <a:ext cx="8270640" cy="485784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57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Повыбросила всю рыбу"/>
          <p:cNvPicPr/>
          <p:nvPr/>
        </p:nvPicPr>
        <p:blipFill>
          <a:blip r:embed="rId1"/>
          <a:srcRect l="3001" t="0" r="3999" b="7810"/>
          <a:stretch/>
        </p:blipFill>
        <p:spPr>
          <a:xfrm>
            <a:off x="857160" y="357120"/>
            <a:ext cx="7542360" cy="450072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150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Сама потихоньку ушла"/>
          <p:cNvPicPr/>
          <p:nvPr/>
        </p:nvPicPr>
        <p:blipFill>
          <a:blip r:embed="rId1"/>
          <a:srcRect l="0" t="0" r="0" b="5311"/>
          <a:stretch/>
        </p:blipFill>
        <p:spPr>
          <a:xfrm>
            <a:off x="357120" y="428760"/>
            <a:ext cx="8340840" cy="475452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3" descr=""/>
          <p:cNvPicPr/>
          <p:nvPr/>
        </p:nvPicPr>
        <p:blipFill>
          <a:blip r:embed="rId2"/>
          <a:stretch/>
        </p:blipFill>
        <p:spPr>
          <a:xfrm>
            <a:off x="208080" y="5089680"/>
            <a:ext cx="85150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1:09:13Z</dcterms:created>
  <dc:creator>Бакшаевы</dc:creator>
  <dc:description/>
  <dc:language>en-US</dc:language>
  <cp:lastModifiedBy>DNS</cp:lastModifiedBy>
  <dcterms:modified xsi:type="dcterms:W3CDTF">2015-10-07T16:55:35Z</dcterms:modified>
  <cp:revision>17</cp:revision>
  <dc:subject/>
  <dc:title>Слайд 1</dc:title>
</cp:coreProperties>
</file>