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3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6.jpeg" ContentType="image/jpeg"/>
  <Override PartName="/ppt/media/image38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165-AD73-479B-ACBC-76D63380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E61-9A22-4896-BAA2-52BDFE6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09D-8EB8-4CCA-BA95-DB481FDE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F6B-6E8F-4CED-BE05-16FB1E09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720A-0E7E-4F9F-858E-111F04DC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C73F-33B0-49EA-8DD5-73E3A2EE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F12-547A-4AAD-8E1C-3BAC7D7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3EB-187E-4FB7-A705-CBEAC8A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539B-CA5E-4F13-9FB0-E4646E4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236E-730B-48E9-A14E-8E68D5B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B793-990E-4489-9662-3278231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091-10D1-44F5-B7C3-7BA5923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C03-93D2-418B-B491-F65781F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07B-93B0-4921-A49A-6634A90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C5C4-CCD1-4046-A2E7-7E455354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4F01-3190-4F90-A983-2BE9242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0C39-F417-422B-85A7-670A2B97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BAFE-1304-4FED-93C1-6C0D7D45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6E94-E1CD-4BBB-8B46-066DA5AC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BB12-1DB1-4D1D-9231-39934A7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A649-9530-4110-84C4-222774BA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1F5A-7F90-485D-A269-D4EDF8E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5F4-4B16-48C2-BDCA-41C387F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D60B-9093-4B3D-B65F-009815F5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4AAF-44CC-4F07-A542-764A4A2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83C2-02CA-4A2E-8143-B9B37A2E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0FF8-D1E0-45F0-92D7-E159F29D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F317-32EF-4E44-89B9-E6A846ED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E74B-DDAF-416A-9E48-2606DB2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EE27-D2DB-40E9-BB83-3ADB61BA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528A-EEC3-4BB0-A145-61040EE8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CAA3-B2AA-4225-A1B9-044E016B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23FC-CD60-4FFD-85F6-1BCEFA97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40E-682B-451F-AE36-7FF26BA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B1A8-C193-4280-B9C4-36AD3E7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FF377-C05D-4FBA-AACD-A60F276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5DF2-26FE-49B2-ABCD-4F1A5006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1032-AF8A-4C47-9302-AC47D53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FC05-66E1-4471-B7FE-6840438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9F64-6B07-4ED3-8D3A-FB4817E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6F34-B966-4C91-8A84-28541CF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E2AE-D686-4E27-BFD3-2578FB97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1736-94B3-4069-923E-A823A101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A099-E543-45A3-A9B9-677685C9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88E-62D0-4349-AE8A-E263BC19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7574-D48C-4161-A521-7957F1C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F645C-5152-4763-B15C-3311A11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4A9C-058F-499A-B9C8-A07071B5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7D90-CDCB-4AD3-837C-8A83345F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5300-F5AF-4926-93ED-182E56C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715B-E785-485A-B2B0-E6D69F4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0DAB-972B-4348-93E1-1BC7298C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D429-DC22-488A-98E5-7EA7769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46A7-2E59-4090-8785-827C35F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385C-AC17-430A-B410-470B65D0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6D9-E149-4733-89F6-7479E41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8740-D5DF-4D92-8CC8-2806EA2B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29E-1C62-4886-B7DB-8AFFEB4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CB2-4DFB-4C85-A414-69B470A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093-195D-408C-9F95-4BF3A1D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838-DBED-4982-BE0B-E7521E7E7E8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899E-1D65-4F13-8888-E4D70125AD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F77-6FC2-458D-90AD-AC989640B4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E7A-3293-4E16-9007-70A3A170D2E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05E3-C9B0-42B8-800C-F5A30C3595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одзаголовок 2" descr=""/>
          <p:cNvPicPr/>
          <p:nvPr/>
        </p:nvPicPr>
        <p:blipFill>
          <a:blip r:embed="rId1"/>
          <a:stretch/>
        </p:blipFill>
        <p:spPr>
          <a:xfrm>
            <a:off x="1852560" y="1255680"/>
            <a:ext cx="5499000" cy="16034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б4.jpg"/>
          <p:cNvPicPr/>
          <p:nvPr/>
        </p:nvPicPr>
        <p:blipFill>
          <a:blip r:embed="rId2"/>
          <a:stretch/>
        </p:blipFill>
        <p:spPr>
          <a:xfrm>
            <a:off x="2286000" y="3286080"/>
            <a:ext cx="4842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Ну, старуха, знатный воротник привез тебе на шубу "/>
          <p:cNvPicPr/>
          <p:nvPr/>
        </p:nvPicPr>
        <p:blipFill>
          <a:blip r:embed="rId1"/>
          <a:srcRect l="3001" t="0" r="5125" b="0"/>
          <a:stretch/>
        </p:blipFill>
        <p:spPr>
          <a:xfrm>
            <a:off x="642960" y="285840"/>
            <a:ext cx="7786800" cy="510228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5450040"/>
            <a:ext cx="85089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Нет на возу ни воротника, ни рыбы "/>
          <p:cNvPicPr/>
          <p:nvPr/>
        </p:nvPicPr>
        <p:blipFill>
          <a:blip r:embed="rId1"/>
          <a:srcRect l="0" t="0" r="6229" b="0"/>
          <a:stretch/>
        </p:blipFill>
        <p:spPr>
          <a:xfrm>
            <a:off x="1357200" y="214200"/>
            <a:ext cx="6357960" cy="41133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3" descr=""/>
          <p:cNvPicPr/>
          <p:nvPr/>
        </p:nvPicPr>
        <p:blipFill>
          <a:blip r:embed="rId2"/>
          <a:stretch/>
        </p:blipFill>
        <p:spPr>
          <a:xfrm>
            <a:off x="115920" y="4522680"/>
            <a:ext cx="91504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А лисица тем временем собрала на дороге всю рыбу в кучку, села и ест. "/>
          <p:cNvPicPr/>
          <p:nvPr/>
        </p:nvPicPr>
        <p:blipFill>
          <a:blip r:embed="rId1"/>
          <a:srcRect l="1943" t="0" r="10001" b="0"/>
          <a:stretch/>
        </p:blipFill>
        <p:spPr>
          <a:xfrm>
            <a:off x="1000080" y="357120"/>
            <a:ext cx="7007400" cy="47912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1508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Приходит к ней волк "/>
          <p:cNvPicPr/>
          <p:nvPr/>
        </p:nvPicPr>
        <p:blipFill>
          <a:blip r:embed="rId1"/>
          <a:srcRect l="832" t="0" r="7000" b="326"/>
          <a:stretch/>
        </p:blipFill>
        <p:spPr>
          <a:xfrm>
            <a:off x="642960" y="357120"/>
            <a:ext cx="7358040" cy="478944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5792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21420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 ем — свой, а ты подальше 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ай мне ры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Дай мне рыбки. "/>
          <p:cNvPicPr/>
          <p:nvPr/>
        </p:nvPicPr>
        <p:blipFill>
          <a:blip r:embed="rId1"/>
          <a:srcRect l="1497" t="0" r="5503" b="0"/>
          <a:stretch/>
        </p:blipFill>
        <p:spPr>
          <a:xfrm>
            <a:off x="1214280" y="331920"/>
            <a:ext cx="68580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2"/>
          <p:cNvSpPr/>
          <p:nvPr/>
        </p:nvSpPr>
        <p:spPr>
          <a:xfrm>
            <a:off x="214200" y="514368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лови сам, да и еш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Налови сам, да и ешь. "/>
          <p:cNvPicPr/>
          <p:nvPr/>
        </p:nvPicPr>
        <p:blipFill>
          <a:blip r:embed="rId1"/>
          <a:srcRect l="0" t="0" r="0" b="5311"/>
          <a:stretch/>
        </p:blipFill>
        <p:spPr>
          <a:xfrm>
            <a:off x="928800" y="500040"/>
            <a:ext cx="72831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Ты, куманек, ступай на реку, опусти хвост в прорубь "/>
          <p:cNvPicPr/>
          <p:nvPr/>
        </p:nvPicPr>
        <p:blipFill>
          <a:blip r:embed="rId1"/>
          <a:srcRect l="0" t="0" r="3999" b="0"/>
          <a:stretch/>
        </p:blipFill>
        <p:spPr>
          <a:xfrm>
            <a:off x="1214280" y="357120"/>
            <a:ext cx="6143760" cy="35323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"/>
          <p:cNvSpPr/>
          <p:nvPr/>
        </p:nvSpPr>
        <p:spPr>
          <a:xfrm>
            <a:off x="214200" y="400068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а я н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ка! Ведь я же наловила. Ты, куманек, ступай на реку, опусти хвост в прорубь, сиди да приговаривай: «Ловись, рыбка, и мала и велика, ловись, рыбка, и мала и велика!» Так рыба тебя сама за хвост будет хватать. Как подольше посидишь, так больше науд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2"/>
          <p:cNvSpPr/>
          <p:nvPr/>
        </p:nvSpPr>
        <p:spPr>
          <a:xfrm>
            <a:off x="214200" y="400068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шел волк на реку, опустил хвост в прорубь, сидит и пригова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овись, рыбка, и мала и вел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овись, рыбка, и мала и вел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лисица ходит около волка и пригова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сни, ясни на небе звез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рзни, мерзни, волчий хвос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Пошел волк на реку, опустил хвост в прорубь, сидит и приговаривает "/>
          <p:cNvPicPr/>
          <p:nvPr/>
        </p:nvPicPr>
        <p:blipFill>
          <a:blip r:embed="rId1"/>
          <a:srcRect l="0" t="0" r="3999" b="0"/>
          <a:stretch/>
        </p:blipFill>
        <p:spPr>
          <a:xfrm>
            <a:off x="1357200" y="214200"/>
            <a:ext cx="6181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2"/>
          <p:cNvSpPr/>
          <p:nvPr/>
        </p:nvSpPr>
        <p:spPr>
          <a:xfrm>
            <a:off x="214200" y="44290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 спрашивает ли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ты, кума, все говор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я тебе помогаю, рыбку на хвост нагоня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сама оп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сни, ясни на небе звезды, мерзни,мерзни волчи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Мерзни, мерзни, волчий хвост! "/>
          <p:cNvPicPr/>
          <p:nvPr/>
        </p:nvPicPr>
        <p:blipFill>
          <a:blip r:embed="rId1"/>
          <a:srcRect l="0" t="0" r="5503" b="2277"/>
          <a:stretch/>
        </p:blipFill>
        <p:spPr>
          <a:xfrm>
            <a:off x="1071720" y="357120"/>
            <a:ext cx="68580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285840" y="48578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идел волк целую ночь у проруби. Хвост у него и приморозило. Под утро хотел подняться — не тут-то было. Он и думает: «Эка, сколько рыбы привалило — и не вытащи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Хвост у него и приморозило. "/>
          <p:cNvPicPr/>
          <p:nvPr/>
        </p:nvPicPr>
        <p:blipFill>
          <a:blip r:embed="rId1"/>
          <a:srcRect l="0" t="0" r="5503" b="4363"/>
          <a:stretch/>
        </p:blipFill>
        <p:spPr>
          <a:xfrm>
            <a:off x="571680" y="239760"/>
            <a:ext cx="76546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detbook.ru/wp-content/uploads/2009/03/Rachev0003.jpg"/>
          <p:cNvPicPr/>
          <p:nvPr/>
        </p:nvPicPr>
        <p:blipFill>
          <a:blip r:embed="rId1"/>
          <a:stretch/>
        </p:blipFill>
        <p:spPr>
          <a:xfrm>
            <a:off x="2286000" y="642960"/>
            <a:ext cx="44578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2"/>
          <p:cNvSpPr/>
          <p:nvPr/>
        </p:nvSpPr>
        <p:spPr>
          <a:xfrm>
            <a:off x="285840" y="45007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это время идет баба с ведрами за водой. Увидела волка и закри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, волк! Бейте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 — туда-сюда, не может вытащить хвос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В это время идет баба с ведрами за водой "/>
          <p:cNvPicPr/>
          <p:nvPr/>
        </p:nvPicPr>
        <p:blipFill>
          <a:blip r:embed="rId1"/>
          <a:srcRect l="0" t="0" r="5503" b="1839"/>
          <a:stretch/>
        </p:blipFill>
        <p:spPr>
          <a:xfrm>
            <a:off x="1214280" y="285840"/>
            <a:ext cx="65725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2"/>
          <p:cNvSpPr/>
          <p:nvPr/>
        </p:nvSpPr>
        <p:spPr>
          <a:xfrm>
            <a:off x="285840" y="45007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аба бросила ведра и давай его бить коромыслом. Била, била, волк рвался, рвался, оторвал себе хвост и пустился наут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Волкоторвал себе хвост и пустился наутек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428840" y="500040"/>
            <a:ext cx="60721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285840" y="45007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Хорошо же, думает, ужо я отплачу тебе, кум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Хорошо же, думает, ужо я отплачу тебе, кума!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85920" y="285840"/>
            <a:ext cx="628632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2"/>
          <p:cNvSpPr/>
          <p:nvPr/>
        </p:nvSpPr>
        <p:spPr>
          <a:xfrm>
            <a:off x="285840" y="4500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лисичка забралась в избу, где жила эта баба, наелась из квашни тес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А лисичка забралась в избу, где жила эта баба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428840" y="428760"/>
            <a:ext cx="59292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285840" y="55008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олову себе тестом вымаза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Лиса голову себе тестом вымазала"/>
          <p:cNvPicPr/>
          <p:nvPr/>
        </p:nvPicPr>
        <p:blipFill>
          <a:blip r:embed="rId1"/>
          <a:srcRect l="0" t="0" r="5503" b="0"/>
          <a:stretch/>
        </p:blipFill>
        <p:spPr>
          <a:xfrm>
            <a:off x="1000080" y="309600"/>
            <a:ext cx="6929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285840" y="55008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бежала на дорогу, упала и лежит сто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Лиса выбежала на дорогу"/>
          <p:cNvPicPr/>
          <p:nvPr/>
        </p:nvPicPr>
        <p:blipFill>
          <a:blip r:embed="rId1"/>
          <a:srcRect l="0" t="0" r="7000" b="0"/>
          <a:stretch/>
        </p:blipFill>
        <p:spPr>
          <a:xfrm>
            <a:off x="1357200" y="357120"/>
            <a:ext cx="64296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285840" y="50007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 ей навстре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ак вот как ты учишь, кума, рыбу ловить! Смотри, меня всего исколотил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Волк ей навстречу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143000" y="500040"/>
            <a:ext cx="657216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2"/>
          <p:cNvSpPr/>
          <p:nvPr/>
        </p:nvSpPr>
        <p:spPr>
          <a:xfrm>
            <a:off x="285840" y="500076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са ему гово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х, куманек! У тебя хвоста нет, зато голова цела, а мне голову разбили: смотри — мозг выступил, насилу плет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а мне голову разбили: смотри — мозг выступил "/>
          <p:cNvPicPr/>
          <p:nvPr/>
        </p:nvPicPr>
        <p:blipFill>
          <a:blip r:embed="rId1"/>
          <a:srcRect l="0" t="0" r="3999" b="1386"/>
          <a:stretch/>
        </p:blipFill>
        <p:spPr>
          <a:xfrm>
            <a:off x="560520" y="428760"/>
            <a:ext cx="77263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"/>
          <p:cNvSpPr/>
          <p:nvPr/>
        </p:nvSpPr>
        <p:spPr>
          <a:xfrm>
            <a:off x="285840" y="45720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то правда, — говорит ей волк. — Где тебе, кума, идти, садись на меня, я тебя дов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ела лисица волку на спину. Он ее и повез. Вот лисица едет на волке и потихоньку по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Села лисица волку на спину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14280" y="357120"/>
            <a:ext cx="62866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2"/>
          <p:cNvSpPr/>
          <p:nvPr/>
        </p:nvSpPr>
        <p:spPr>
          <a:xfrm>
            <a:off x="285840" y="45720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Битый небитого везет!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14280" y="357120"/>
            <a:ext cx="6429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img2.appstatic.opera.com/prodimg/625157_screenshot_3.jpg"/>
          <p:cNvPicPr/>
          <p:nvPr/>
        </p:nvPicPr>
        <p:blipFill>
          <a:blip r:embed="rId1"/>
          <a:srcRect l="0" t="2818" r="0" b="4199"/>
          <a:stretch/>
        </p:blipFill>
        <p:spPr>
          <a:xfrm>
            <a:off x="2357280" y="357120"/>
            <a:ext cx="3786480" cy="47149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5162400"/>
            <a:ext cx="74566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2"/>
          <p:cNvSpPr/>
          <p:nvPr/>
        </p:nvSpPr>
        <p:spPr>
          <a:xfrm>
            <a:off x="285840" y="44290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ы чего, кума, все говориш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, куманек, твою боль заговариваю. И сама оп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Битый небитого везет!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14280" y="214200"/>
            <a:ext cx="6429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detbook.ru/wp-content/uploads/2009/03/LisaVolk0001.jpg"/>
          <p:cNvPicPr/>
          <p:nvPr/>
        </p:nvPicPr>
        <p:blipFill>
          <a:blip r:embed="rId1"/>
          <a:stretch/>
        </p:blipFill>
        <p:spPr>
          <a:xfrm>
            <a:off x="2428920" y="428760"/>
            <a:ext cx="4071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328680"/>
            <a:ext cx="84981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Лисичка, лежит на дороге. "/>
          <p:cNvPicPr/>
          <p:nvPr/>
        </p:nvPicPr>
        <p:blipFill>
          <a:blip r:embed="rId1"/>
          <a:srcRect l="0" t="0" r="3893" b="0"/>
          <a:stretch/>
        </p:blipFill>
        <p:spPr>
          <a:xfrm>
            <a:off x="500040" y="214200"/>
            <a:ext cx="8013600" cy="50198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5162400"/>
            <a:ext cx="73040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Дед слез с воза, подошел "/>
          <p:cNvPicPr/>
          <p:nvPr/>
        </p:nvPicPr>
        <p:blipFill>
          <a:blip r:embed="rId1"/>
          <a:srcRect l="1595" t="0" r="5503" b="0"/>
          <a:stretch/>
        </p:blipFill>
        <p:spPr>
          <a:xfrm>
            <a:off x="642960" y="285840"/>
            <a:ext cx="7572240" cy="49068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5168880"/>
            <a:ext cx="73040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Будет моей старухе воротник на шубу. "/>
          <p:cNvPicPr/>
          <p:nvPr/>
        </p:nvPicPr>
        <p:blipFill>
          <a:blip r:embed="rId1"/>
          <a:srcRect l="2109" t="0" r="3061" b="0"/>
          <a:stretch/>
        </p:blipFill>
        <p:spPr>
          <a:xfrm>
            <a:off x="285840" y="285840"/>
            <a:ext cx="8253360" cy="52401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5589720"/>
            <a:ext cx="730404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Лисица стала выбрасывать по рыбке да по рыбке"/>
          <p:cNvPicPr/>
          <p:nvPr/>
        </p:nvPicPr>
        <p:blipFill>
          <a:blip r:embed="rId1"/>
          <a:srcRect l="1361" t="0" r="3152" b="0"/>
          <a:stretch/>
        </p:blipFill>
        <p:spPr>
          <a:xfrm>
            <a:off x="428760" y="214200"/>
            <a:ext cx="8270640" cy="485784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57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Повыбросила всю рыбу"/>
          <p:cNvPicPr/>
          <p:nvPr/>
        </p:nvPicPr>
        <p:blipFill>
          <a:blip r:embed="rId1"/>
          <a:srcRect l="3001" t="0" r="3999" b="7810"/>
          <a:stretch/>
        </p:blipFill>
        <p:spPr>
          <a:xfrm>
            <a:off x="857160" y="357120"/>
            <a:ext cx="7542360" cy="45007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15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Сама потихоньку ушла"/>
          <p:cNvPicPr/>
          <p:nvPr/>
        </p:nvPicPr>
        <p:blipFill>
          <a:blip r:embed="rId1"/>
          <a:srcRect l="0" t="0" r="0" b="5311"/>
          <a:stretch/>
        </p:blipFill>
        <p:spPr>
          <a:xfrm>
            <a:off x="357120" y="428760"/>
            <a:ext cx="8340840" cy="475452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15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1:09:13Z</dcterms:created>
  <dc:creator>Бакшаевы</dc:creator>
  <dc:description/>
  <dc:language>en-US</dc:language>
  <cp:lastModifiedBy>DNS</cp:lastModifiedBy>
  <dcterms:modified xsi:type="dcterms:W3CDTF">2015-10-07T16:55:35Z</dcterms:modified>
  <cp:revision>17</cp:revision>
  <dc:subject/>
  <dc:title>Слайд 1</dc:title>
</cp:coreProperties>
</file>