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43B-665F-4195-A091-1A87B421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1F1-F87C-45F9-B204-02BBB54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DF4-EF77-43B9-8CB7-A2267036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14C-F85E-48E2-A6FC-584A8B8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7C4-39FC-476F-BFBC-505264F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B32-0917-4F28-A8BB-2457C81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CE0-55AC-40FE-B3DC-23A65F2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6F8-4718-4E9F-910B-86F176C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BC1-8C85-4D93-8685-6DC8356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4C8-3453-4BAC-A026-9E16527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E1F-753D-429A-9E17-5E97F50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0B7-F142-49F6-8A15-5F10DD2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13C5-4A42-46EB-BBA6-166014FF9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hyperlink" Target="http://images.yandex.ru/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images.yandex.ru/yandsearch?p=1&amp;text=&#1085;.&#1074;&#1080;&#1085;&#1077;&#1088;&amp;fp=1&amp;img_url=http%3A%2F%2Flib.rus.ec%2Fi%2F23%2F413323%2Fi_009.jpg&amp;pos=34&amp;uinfo=ww-1177-wh-579-fw-952-fh-448-pd-1&amp;rpt=simage" TargetMode="External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9;&#1087;&#1080;&#1088;&#1072;&#1083;&#1100;%20&#1083;&#1077;&#1087;&#1077;&#1089;&#1090;&#1082;&#1086;&#1074;%20&#1088;&#1086;&#1079;&#1099;&amp;fp=1&amp;img_url=http%3A%2F%2Fwww.podvorje.ru%2Fimg%2Fwork%2Fnomencl%2F22523.jpg&amp;pos=44&amp;uinfo=ww-1177-wh-579-fw-952-fh-448-pd-1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images.yandex.ru/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images.yandex.ru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file://commons.wikimedia.org/wiki/File:Leonardo_self.jpg%3Fuselang=ru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51280" y="486900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ольшакова   Екатерина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04"/>
          <p:cNvSpPr txBox="1"/>
          <p:nvPr/>
        </p:nvSpPr>
        <p:spPr>
          <a:xfrm>
            <a:off x="2050920" y="3429000"/>
            <a:ext cx="576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ция наук</a:t>
            </a:r>
            <a:endParaRPr b="1" lang="en-US" sz="32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406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БОУ СОШ № 489 Московского района г. Санкт-Петербур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07"/>
          <p:cNvSpPr txBox="1"/>
          <p:nvPr/>
        </p:nvSpPr>
        <p:spPr>
          <a:xfrm>
            <a:off x="971640" y="1989000"/>
            <a:ext cx="7812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и биология: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349360" y="462600"/>
            <a:ext cx="682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2 – 1884), австрийский биолог, был в числе немногих, кто в середине XIX в. применил алгебраиче-ские формулы для анализа гибридизации растен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учёт всех типов полученных гибридов, а также вариационно-статистический подход, характерный для всего склада мышления ученого, позволили ему впервые обосновать и сформулировать закономерности свободного расхождения и комбинирования наследственных факторов. Эти закономерности, получившие наз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ов Менд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егли в основу учения о наследственности и стали первым шагом на пути к современной генети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421px-Gregor_Mendel"/>
          <p:cNvPicPr/>
          <p:nvPr/>
        </p:nvPicPr>
        <p:blipFill>
          <a:blip r:embed="rId4"/>
          <a:stretch/>
        </p:blipFill>
        <p:spPr>
          <a:xfrm>
            <a:off x="165240" y="374760"/>
            <a:ext cx="2016000" cy="286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383512_html_m477fecf3"/>
          <p:cNvPicPr/>
          <p:nvPr/>
        </p:nvPicPr>
        <p:blipFill>
          <a:blip r:embed="rId5"/>
          <a:stretch/>
        </p:blipFill>
        <p:spPr>
          <a:xfrm>
            <a:off x="71280" y="3789360"/>
            <a:ext cx="229392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92480" y="262440"/>
            <a:ext cx="68292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рман Гельмголь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1 – 1894), немецкий биофизик, впервые дал математическое обоснование закона сохранения энергии, показал всеобщность этого закона, его распространение на происходящие в живых организмах процессы. Он изучил процесс мышечного сокращения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ил и измерил теплообразование  в мышце, скорость распространения возбуждения в нервах, определил скрытый период рефлексов. Гельмгольц исследовал некоторые уравнения математической физики в связи со своими фундаментальными работами по физиологии зрения и слух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gelmgolc-german"/>
          <p:cNvPicPr/>
          <p:nvPr/>
        </p:nvPicPr>
        <p:blipFill>
          <a:blip r:embed="rId4"/>
          <a:stretch/>
        </p:blipFill>
        <p:spPr>
          <a:xfrm>
            <a:off x="150840" y="706320"/>
            <a:ext cx="209880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433600" y="381600"/>
            <a:ext cx="67104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им образом, отдельные ученые исследовали биологические проблемы, представляющие интерес с математической точки зрения. В то же время биология посте-пенно превращалась из науки наблюдательной в науку экспериментальную.  До середины          XIX века ученый-естествоиспытатель своей основной задачей  считал наблюдение за живыми организмами, описание и систематизацию всего их многообр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3600" y="4096800"/>
            <a:ext cx="905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XX веке биолог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сё глубже и интенсивнее вторгались    в область эксперимента. В результате было накоплено большое количество фактов той степени точности и абстрактности, кото-рая допускает применение математического аппарата, и это нашло отражение в специальной литературе (Дж.Смит и др.)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ппппп"/>
          <p:cNvPicPr/>
          <p:nvPr/>
        </p:nvPicPr>
        <p:blipFill>
          <a:blip r:embed="rId4"/>
          <a:stretch/>
        </p:blipFill>
        <p:spPr>
          <a:xfrm>
            <a:off x="108000" y="636480"/>
            <a:ext cx="231624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50920" y="380160"/>
            <a:ext cx="720108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го внимания заслуживают научные труд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ана Бей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татистические методы в биолог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Математика в биологии и медици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убликованные в           1960 – 70-е годы XX века. В этих работах освещалась методология применения различ-ных разделов математики в экспериментальных исследованиях по биологии. В них также проводился математический анализ конкретных биологических и медицинских проблем, в частности медицинской диагностики, моделей генетического сцепления, распространения эпидемий и роста численности популяци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preview_3032728_150x0[1]"/>
          <p:cNvPicPr/>
          <p:nvPr/>
        </p:nvPicPr>
        <p:blipFill>
          <a:blip r:embed="rId4"/>
          <a:stretch/>
        </p:blipFill>
        <p:spPr>
          <a:xfrm>
            <a:off x="108000" y="3789360"/>
            <a:ext cx="190512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000740231"/>
          <p:cNvPicPr/>
          <p:nvPr/>
        </p:nvPicPr>
        <p:blipFill>
          <a:blip r:embed="rId5"/>
          <a:stretch/>
        </p:blipFill>
        <p:spPr>
          <a:xfrm>
            <a:off x="93600" y="466560"/>
            <a:ext cx="19051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239920" y="858600"/>
            <a:ext cx="68407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новные закономерности проникновения математики в биологию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buSzPct val="102884"/>
              <a:buBlip>
                <a:blip r:embed="rId4"/>
              </a:buBlip>
              <a:tabLst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еории вероятностей и методов математической статистики (для планирова-ния и обработки результатов экспериментов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tabLst>
                <a:tab algn="l" pos="0"/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10000"/>
              </a:lnSpc>
              <a:buSzPct val="102884"/>
              <a:buBlip>
                <a:blip r:embed="rId5"/>
              </a:buBlip>
              <a:tabLst>
                <a:tab algn="l" pos="8748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математики как средства моделирования биологических систем (биологические системы часто описываются дифференциальными или интегральными уравнениями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----_1~1"/>
          <p:cNvPicPr/>
          <p:nvPr/>
        </p:nvPicPr>
        <p:blipFill>
          <a:blip r:embed="rId6"/>
          <a:stretch/>
        </p:blipFill>
        <p:spPr>
          <a:xfrm>
            <a:off x="128520" y="3600360"/>
            <a:ext cx="204336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911428[1]"/>
          <p:cNvPicPr/>
          <p:nvPr/>
        </p:nvPicPr>
        <p:blipFill>
          <a:blip r:embed="rId7"/>
          <a:stretch/>
        </p:blipFill>
        <p:spPr>
          <a:xfrm>
            <a:off x="128520" y="431640"/>
            <a:ext cx="2051280" cy="299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>
            <a:hlinkClick r:id="rId8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22480" y="222480"/>
            <a:ext cx="720072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ктивное использование в биологии методов математической статистики привело к формиро-ванию целого научного направления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Р. Фишер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биометр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Данный раздел биологии изучает наследственность, изменчивость и ряд других биологических явлений, связанных с выражением жизненных процессов в количественном виде. Проникая своим методом «числа и меры» в самые разнообразные области биологических знаний, биометрия осуществ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завет Галиле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измерять всё измеримое и делать измеримым то, что пока еще не поддается измерению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%20%D0%BF%D0%BE%20%D0%B1%D0%B8%D0%BE%D0%BC%D0%B5%D1%82%D1%80%D0%B8%D0%B8"/>
          <p:cNvPicPr/>
          <p:nvPr/>
        </p:nvPicPr>
        <p:blipFill>
          <a:blip r:embed="rId5"/>
          <a:stretch/>
        </p:blipFill>
        <p:spPr>
          <a:xfrm>
            <a:off x="185760" y="550800"/>
            <a:ext cx="1898640" cy="2732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"/>
          <p:cNvPicPr/>
          <p:nvPr/>
        </p:nvPicPr>
        <p:blipFill>
          <a:blip r:embed="rId6"/>
          <a:stretch/>
        </p:blipFill>
        <p:spPr>
          <a:xfrm>
            <a:off x="100080" y="4462560"/>
            <a:ext cx="2066760" cy="2038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2151000" y="4608360"/>
            <a:ext cx="709308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овременном мире под биометрией понимается также совокупность автоматических методо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аспознавания физиологических характеристик челове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целью его идентификации (сканирова-ние сетчатки глаза, дактилоскопия, распознавание голоса, цифровая фотография и др.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036880" y="61200"/>
            <a:ext cx="7200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Генетика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наука о законах наследственности и изменчивости организмов; наиболее математи-зированная из всех биологических дисциплин. Основы современной генетики были заложены еще Г. Менделем, а в ХХ веке решающее значе-ние для её развития имело открытие «вещества наследственности» – дезоксирибонуклеиновой кислоты (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генетического код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>
            <a:hlinkClick r:id="rId4"/>
          </p:cNvPr>
          <p:cNvSpPr/>
          <p:nvPr/>
        </p:nvSpPr>
        <p:spPr>
          <a:xfrm>
            <a:off x="2509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%D0%A1%D1%82%D0%B2%D0%BE%D0%BB%D0%BE%D0%B2%D1%8B%D0%B5-%D0%BA%D0%BB%D0%B5%D1%82%D0%BA%D0%B8_1327861949"/>
          <p:cNvPicPr/>
          <p:nvPr/>
        </p:nvPicPr>
        <p:blipFill>
          <a:blip r:embed="rId5"/>
          <a:stretch/>
        </p:blipFill>
        <p:spPr>
          <a:xfrm>
            <a:off x="71280" y="334800"/>
            <a:ext cx="1947960" cy="2519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0" y="322740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атистические (биометрические) методы играют важную роль в расшифровке генетического кода (определенных сочетаний нуклеотидов и последовательности их расположения в молекуле ДНК), а также в составлени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хромосомных кар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Без этих математически точных методов невозможно достоверно установить характер передачи наследственной информации.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енетика в настоящее время по праву считается одной из самых важных областей не только биологии, но и всей науки, определяющей развитие человечества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943280" y="15480"/>
            <a:ext cx="720072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536400"/>
                <a:tab algn="l" pos="62388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  <a:tab algn="l" pos="3933720"/>
                <a:tab algn="l" pos="4121280"/>
                <a:tab algn="l" pos="43084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ую роль в математизации биологии сыграло обращение к принципам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ибернет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идеям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теории регулирован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теории информац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Существенно изменился подход к пониманию регуляторных биологических систем, основ реализации обратных связей.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6600"/>
                </a:solidFill>
                <a:latin typeface="Arial"/>
              </a:rPr>
              <a:t>Биологическая кибернети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цел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ся изучением общих вопросов передачи, переработки и хранения информации в живых систем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иокибернетический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подход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казался особенно плодотворным в исследовании процессов жизнедеятельности клеток, морфогенеза, работы мозга и органов чувств, генетической структуры популяций, коммуникации между животными, экологических проблем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i?id=68114430-4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480" y="235080"/>
            <a:ext cx="1723680" cy="215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anohin"/>
          <p:cNvPicPr/>
          <p:nvPr/>
        </p:nvPicPr>
        <p:blipFill>
          <a:blip r:embed="rId7"/>
          <a:stretch/>
        </p:blipFill>
        <p:spPr>
          <a:xfrm>
            <a:off x="128520" y="3328920"/>
            <a:ext cx="1709640" cy="2630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4"/>
          <p:cNvSpPr/>
          <p:nvPr/>
        </p:nvSpPr>
        <p:spPr>
          <a:xfrm>
            <a:off x="0" y="23652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берт Ви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оположник кибернети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-57240" y="596592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охин П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ающийся физиолог, создатель теории функциональных сист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943280" y="171000"/>
            <a:ext cx="730872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Х веке на службу биологии были «приняты» и алгебра, и кибернетика, и теория вероятностей, и математическая статистика, и дифференциальное и интегральное исчисление, и топология, и теория конечных автоматов. Поэтому с полным основанием можно говорить          о возникновении особой научной отрасли, представляющей собой интеграцию теорети-ческой би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й математики,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ой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50920" y="34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1002517243"/>
          <p:cNvPicPr/>
          <p:nvPr/>
        </p:nvPicPr>
        <p:blipFill>
          <a:blip r:embed="rId4"/>
          <a:stretch/>
        </p:blipFill>
        <p:spPr>
          <a:xfrm>
            <a:off x="50760" y="609480"/>
            <a:ext cx="1905120" cy="2791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0" y="3961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7480">
              <a:tabLst>
                <a:tab algn="l" pos="0"/>
                <a:tab algn="l" pos="87480"/>
                <a:tab algn="l" pos="262080"/>
                <a:tab algn="l" pos="6238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  <a:tab algn="l" pos="523872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ате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биолог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еория математических моделей биологических процессов и явлений, которая занимается проблемами роста организмов, развитием образцов, статистикой роста населения, распространением болезней. Критерием истины в ней является математическое доказательство, имеющее биологическую интерпретацию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2771640" y="279360"/>
            <a:ext cx="648036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Значение математики сейчас непрерывно возрастает.                                  В математике рождаются новые идеи                  и методы. Всё это расширяет сферу             её приложения. Сейчас уже нельзя назвать такой области деятельности людей, где математика не играла бы существенной роли. Она стала незаменимым орудием во всех науках                  о природе, в технике, в обществоведении. Даже юристы и историки берут на своё вооружение математические методы»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Aleksandr Danilovich Aleksandrov 1952.jpg"/>
          <p:cNvPicPr/>
          <p:nvPr/>
        </p:nvPicPr>
        <p:blipFill>
          <a:blip r:embed="rId1"/>
          <a:stretch/>
        </p:blipFill>
        <p:spPr>
          <a:xfrm>
            <a:off x="150840" y="434880"/>
            <a:ext cx="2583000" cy="3240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136440" y="3821040"/>
            <a:ext cx="288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Д. Александр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912 – 1999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ющийся петербургский математик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адемик АН СССР, обладатель Золотой медали имени Эйлер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одержимое 2"/>
          <p:cNvSpPr/>
          <p:nvPr/>
        </p:nvSpPr>
        <p:spPr>
          <a:xfrm>
            <a:off x="1332000" y="274680"/>
            <a:ext cx="7920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14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Биология и 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то может быть  общего у этих столь различных областей знания? 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question"/>
          <p:cNvPicPr/>
          <p:nvPr/>
        </p:nvPicPr>
        <p:blipFill>
          <a:blip r:embed="rId3"/>
          <a:stretch/>
        </p:blipFill>
        <p:spPr>
          <a:xfrm>
            <a:off x="114480" y="5493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49" name="Содержимое 2"/>
          <p:cNvSpPr/>
          <p:nvPr/>
        </p:nvSpPr>
        <p:spPr>
          <a:xfrm>
            <a:off x="811080" y="1557360"/>
            <a:ext cx="8533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ая роль математики в таких точных науках,  как физика, общепризнана, однако ценность и целесообразность применения математических методов в менее «строгих» науках, например    биологии, нередко ставится под сомнение.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случаев биологический материал живой природы крайне изменчив и многообразен, подвержен влиянию многочисленных сложных факторов – поэтому точный математический анализ в этой области многие ученые считали невозможным.    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32000" y="388080"/>
            <a:ext cx="78120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роцесс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нтеграции математики и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длительную историю. Биология как источник новых моделей,            как наука, изучающая объекты, которые не имеют аналогов в физике и технике, и потому позволяющая ставить совершенно новые задачи, привлекает к себе внимание многих выдающихся математиков.            В свою очередь математика не только проникает в биологию и ранее чуждые для неё области, «завоё-вывает» их, но и сама при этом трансформируется, становится менее формальной, меняет свои методологические черты, приближаясь в какой-то степени к наукам гуманитарн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tips"/>
          <p:cNvPicPr/>
          <p:nvPr/>
        </p:nvPicPr>
        <p:blipFill>
          <a:blip r:embed="rId1"/>
          <a:stretch/>
        </p:blipFill>
        <p:spPr>
          <a:xfrm>
            <a:off x="42840" y="679320"/>
            <a:ext cx="122076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8"/>
          <p:cNvSpPr txBox="1"/>
          <p:nvPr/>
        </p:nvSpPr>
        <p:spPr>
          <a:xfrm>
            <a:off x="1692360" y="1628640"/>
            <a:ext cx="693108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1692360" y="285840"/>
            <a:ext cx="74516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еще древние мыслители считали математику основополагающей дисциплиной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алилео Гали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казал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ка – это язык, на котором написана книга прир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Широко известен и афориз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ла Гау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ка – царица на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53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– это чрезвычайно мощный и гибкий инструмент изучения окружающего нас мира. В любой научной дисциплине существует своя методология, основанная на выполнении конкретных экспериментов. Эти сведения фиксируются и обрабатываются в виде чисел. Обработкой числовой информации занимается математика, что свидетельствует о её непосредственной связи с другими науками.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>
            <a:hlinkClick r:id="rId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41091921"/>
          <p:cNvPicPr/>
          <p:nvPr/>
        </p:nvPicPr>
        <p:blipFill>
          <a:blip r:embed="rId5"/>
          <a:stretch/>
        </p:blipFill>
        <p:spPr>
          <a:xfrm>
            <a:off x="136440" y="3654360"/>
            <a:ext cx="1758960" cy="214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galileo"/>
          <p:cNvPicPr/>
          <p:nvPr/>
        </p:nvPicPr>
        <p:blipFill>
          <a:blip r:embed="rId6"/>
          <a:stretch/>
        </p:blipFill>
        <p:spPr>
          <a:xfrm>
            <a:off x="122400" y="438120"/>
            <a:ext cx="190476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Содержимое 2"/>
          <p:cNvSpPr/>
          <p:nvPr/>
        </p:nvSpPr>
        <p:spPr>
          <a:xfrm>
            <a:off x="1979640" y="285840"/>
            <a:ext cx="720072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крупный математик средневе-ковой Европ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о Пиза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170 – 1250), прославился своей знаменитой задачей, сформулированной в биологической постановке. Это задача о популяции кроликов, которые начинают размножаться со второго месяца после своего рождения и каждый месяц дают потомство в виде новой пары кроликов.                     В итоге получается числовая последова-тель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1, 2, 3, 5, 8, 13, 21, 34, 55, 89,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каждое следующее число является суммой двух предыдущих. Этот ряд                 получил назва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числа Фибоначч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rId4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fibonacci"/>
          <p:cNvPicPr/>
          <p:nvPr/>
        </p:nvPicPr>
        <p:blipFill>
          <a:blip r:embed="rId5"/>
          <a:stretch/>
        </p:blipFill>
        <p:spPr>
          <a:xfrm>
            <a:off x="179280" y="1380960"/>
            <a:ext cx="211932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9" descr="i?id=399877961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2880" y="3618000"/>
            <a:ext cx="1800000" cy="1698480"/>
          </a:xfrm>
          <a:prstGeom prst="rect">
            <a:avLst/>
          </a:prstGeom>
          <a:ln w="0">
            <a:noFill/>
          </a:ln>
        </p:spPr>
      </p:pic>
      <p:sp>
        <p:nvSpPr>
          <p:cNvPr id="64" name="Содержимое 2"/>
          <p:cNvSpPr/>
          <p:nvPr/>
        </p:nvSpPr>
        <p:spPr>
          <a:xfrm>
            <a:off x="1968480" y="142920"/>
            <a:ext cx="728352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вой ряд Фибонач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люстративно выражается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ир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величение шага которой всегда равномерно. Спиральные формы широко встречаются в природе – в раковине моллюска, во многих цветах и растениях. Есть предположение, что ряд Фибоначчи – это попытка природы адаптиро-ваться к более фундаментальной и совершен-ной логарифмической последовательност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>
            <a:hlinkClick r:id="rId4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>
            <a:hlinkClick r:id="rId5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>
            <a:hlinkClick r:id="rId6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fibonacci%20curve"/>
          <p:cNvPicPr/>
          <p:nvPr/>
        </p:nvPicPr>
        <p:blipFill>
          <a:blip r:embed="rId7"/>
          <a:stretch/>
        </p:blipFill>
        <p:spPr>
          <a:xfrm>
            <a:off x="122400" y="260280"/>
            <a:ext cx="2160360" cy="207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Раковина моллюска"/>
          <p:cNvPicPr/>
          <p:nvPr/>
        </p:nvPicPr>
        <p:blipFill>
          <a:blip r:embed="rId8"/>
          <a:stretch/>
        </p:blipFill>
        <p:spPr>
          <a:xfrm>
            <a:off x="114480" y="2463840"/>
            <a:ext cx="225900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Подсолнечник"/>
          <p:cNvPicPr/>
          <p:nvPr/>
        </p:nvPicPr>
        <p:blipFill>
          <a:blip r:embed="rId9"/>
          <a:stretch/>
        </p:blipFill>
        <p:spPr>
          <a:xfrm>
            <a:off x="2182680" y="3672000"/>
            <a:ext cx="2259000" cy="1695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>
            <a:hlinkClick r:id="rId10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>
            <a:hlinkClick r:id="rId11"/>
          </p:cNvPr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2561778790105101600S600x600Q85"/>
          <p:cNvPicPr/>
          <p:nvPr/>
        </p:nvPicPr>
        <p:blipFill>
          <a:blip r:embed="rId12"/>
          <a:stretch/>
        </p:blipFill>
        <p:spPr>
          <a:xfrm>
            <a:off x="4000680" y="498312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romanesque_240"/>
          <p:cNvPicPr/>
          <p:nvPr/>
        </p:nvPicPr>
        <p:blipFill>
          <a:blip r:embed="rId13"/>
          <a:stretch/>
        </p:blipFill>
        <p:spPr>
          <a:xfrm>
            <a:off x="142920" y="4537080"/>
            <a:ext cx="216072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shishka"/>
          <p:cNvPicPr/>
          <p:nvPr/>
        </p:nvPicPr>
        <p:blipFill>
          <a:blip r:embed="rId14"/>
          <a:stretch/>
        </p:blipFill>
        <p:spPr>
          <a:xfrm>
            <a:off x="7093080" y="486900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втопортрет Леонардо да Винч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374760"/>
            <a:ext cx="186552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050920" y="361080"/>
            <a:ext cx="70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452 – 1519), итальянский художник, ученый и изобретатель,  обогатил мировоззрение эпохи Возрождения    идеей ценности математики:                           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какое человеческое исследование не может быть названо истинной наукой,              если оно не прошло через математические доказ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я анатомию человеческого тела и функции органов, а также движение человека         и  животных, Леонардо рассматривал организм как образец «природной механики». В своих записях он подчеркивал необходимость знания геометрии, представления перспективы, метода расчета силы и крепости мышц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menurolog31"/>
          <p:cNvPicPr/>
          <p:nvPr/>
        </p:nvPicPr>
        <p:blipFill>
          <a:blip r:embed="rId6"/>
          <a:stretch/>
        </p:blipFill>
        <p:spPr>
          <a:xfrm>
            <a:off x="179280" y="3618000"/>
            <a:ext cx="172728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32080" y="728280"/>
            <a:ext cx="60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рувианский челове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Леонардо да Винчи, на котором изображена фигура обнаженного мужчины в двух наложенных одна на другую позициях, вписанных в круг и квадрат. Рисунок часто используется как неявный символ золотого сечения             и внутренней симметрии человеческого те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n-Leonardo-da-Vinci[1]"/>
          <p:cNvPicPr/>
          <p:nvPr/>
        </p:nvPicPr>
        <p:blipFill>
          <a:blip r:embed="rId4"/>
          <a:stretch/>
        </p:blipFill>
        <p:spPr>
          <a:xfrm>
            <a:off x="100080" y="907920"/>
            <a:ext cx="3132000" cy="311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4400" y="41068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олотое сеч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золотая пропорция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дел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ы (например, длины отрезка) на две части таким образом, что отно-шение большей части к меньшей равно отношению всей величины к её большей части, т.е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кругленном процент-ном соотношении это 62% и 38%. Приблизительная величина золотого сечения равна 1,6180339887 («золотое число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943360" y="173520"/>
            <a:ext cx="63435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07 – 1783), выдающийся швейцарский и российский математик, начал революционные для своего времени исследования по математическому моделированию сердечно-сосудистой системы методами теории сплошных сред. Он изучал физические и физиологические принципы движения крови в сосудах, вызываемого периодическими сокращениями сердца. Эти исследования положили начало биоматематическому подходу к описанию кровообращения с использованием дифференциальных и интегро-дифференциальных уравн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400658045"/>
          <p:cNvPicPr/>
          <p:nvPr/>
        </p:nvPicPr>
        <p:blipFill>
          <a:blip r:embed="rId4"/>
          <a:stretch/>
        </p:blipFill>
        <p:spPr>
          <a:xfrm>
            <a:off x="264960" y="365040"/>
            <a:ext cx="2295720" cy="286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79980_html_1d2d938f"/>
          <p:cNvPicPr/>
          <p:nvPr/>
        </p:nvPicPr>
        <p:blipFill>
          <a:blip r:embed="rId5"/>
          <a:stretch/>
        </p:blipFill>
        <p:spPr>
          <a:xfrm>
            <a:off x="36360" y="3386160"/>
            <a:ext cx="2921040" cy="322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662200" y="-96120"/>
            <a:ext cx="6481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мас Мальт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766 – 1854), английский демограф и экономист,           создал теорию неконтролируемого роста человеческой популяции на Земле, согласно которой народонаселение растет в геометрической прогрессии, а средства существования – в арифметической.                  С современной точки зрения данная теория имеет целый ряд недостатков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513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wp_2012_08_malthus0815"/>
          <p:cNvPicPr/>
          <p:nvPr/>
        </p:nvPicPr>
        <p:blipFill>
          <a:blip r:embed="rId4"/>
          <a:stretch/>
        </p:blipFill>
        <p:spPr>
          <a:xfrm>
            <a:off x="150840" y="361800"/>
            <a:ext cx="2333520" cy="318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news_text_971_2972_220140htmlm537f"/>
          <p:cNvPicPr/>
          <p:nvPr/>
        </p:nvPicPr>
        <p:blipFill>
          <a:blip r:embed="rId5"/>
          <a:stretch/>
        </p:blipFill>
        <p:spPr>
          <a:xfrm>
            <a:off x="108000" y="3908520"/>
            <a:ext cx="4321080" cy="2733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2"/>
          <p:cNvSpPr/>
          <p:nvPr/>
        </p:nvSpPr>
        <p:spPr>
          <a:xfrm>
            <a:off x="4572000" y="3744360"/>
            <a:ext cx="457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и Мальтуса оказали мощное позитивное воздействие на развит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матических моделей популяционной би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этнологии и экологи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58:25Z</dcterms:created>
  <dc:creator>лапа</dc:creator>
  <dc:description/>
  <dc:language>en-US</dc:language>
  <cp:lastModifiedBy>Екатерина</cp:lastModifiedBy>
  <dcterms:modified xsi:type="dcterms:W3CDTF">2015-10-05T14:31:05Z</dcterms:modified>
  <cp:revision>139</cp:revision>
  <dc:subject/>
  <dc:title>Слайд 1</dc:title>
</cp:coreProperties>
</file>