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17.png" ContentType="image/png"/>
  <Override PartName="/ppt/media/image3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39BB-B1AE-4B64-9934-E24A3941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0B7B-CA9F-4992-A938-FEC02E8C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2F3C-7412-4459-BF8A-56C06162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F0E-5EAD-4A0E-8D67-EB93BF4A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EC4-6C68-4683-AC0D-FD60F558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3C7-A259-420F-BEFF-30906F84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A9C-A0C4-4782-9E69-7BB74F99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1F6-F6C2-403A-BBF1-7374AC09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61E-24BD-4970-AE10-A1FB4B9F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323-3179-4F47-A3AE-5AD8B88E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EF3F-C357-4945-9BCF-20D6130F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41E-D020-4568-AB21-A92954D2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B2D5-3C31-4A9E-941E-2BD4965893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hyperlink" Target="http://images.yandex.ru/" TargetMode="Externa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image" Target="../media/image29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hyperlink" Target="http://images.yandex.ru/yandsearch?p=1&amp;text=&#1085;.&#1074;&#1080;&#1085;&#1077;&#1088;&amp;fp=1&amp;img_url=http%3A%2F%2Flib.rus.ec%2Fi%2F23%2F413323%2Fi_009.jpg&amp;pos=34&amp;uinfo=ww-1177-wh-579-fw-952-fh-448-pd-1&amp;rpt=simage" TargetMode="External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9;&#1087;&#1080;&#1088;&#1072;&#1083;&#1100;%20&#1083;&#1077;&#1087;&#1077;&#1089;&#1090;&#1082;&#1086;&#1074;%20&#1088;&#1086;&#1079;&#1099;&amp;fp=1&amp;img_url=http%3A%2F%2Fwww.podvorje.ru%2Fimg%2Fwork%2Fnomencl%2F22523.jpg&amp;pos=44&amp;uinfo=ww-1177-wh-579-fw-952-fh-448-pd-1&amp;rpt=simage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hyperlink" Target="http://images.yandex.ru/" TargetMode="External"/><Relationship Id="rId6" Type="http://schemas.openxmlformats.org/officeDocument/2006/relationships/hyperlink" Target="http://images.yandex.ru/" TargetMode="External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hyperlink" Target="http://images.yandex.ru/" TargetMode="External"/><Relationship Id="rId11" Type="http://schemas.openxmlformats.org/officeDocument/2006/relationships/hyperlink" Target="http://images.yandex.ru/" TargetMode="External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file://commons.wikimedia.org/wiki/File:Leonardo_self.jpg%3Fuselang=ru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851280" y="4869000"/>
            <a:ext cx="50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Большакова   Екатерина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Николаевна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04"/>
          <p:cNvSpPr txBox="1"/>
          <p:nvPr/>
        </p:nvSpPr>
        <p:spPr>
          <a:xfrm>
            <a:off x="2050920" y="3429000"/>
            <a:ext cx="576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грация наук</a:t>
            </a:r>
            <a:endParaRPr b="1" lang="en-US" sz="3200" spc="1" strike="noStrike">
              <a:ln w="19080">
                <a:solidFill>
                  <a:srgbClr val="008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406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БОУ СОШ № 489 Московского района г. Санкт-Петербург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07"/>
          <p:cNvSpPr txBox="1"/>
          <p:nvPr/>
        </p:nvSpPr>
        <p:spPr>
          <a:xfrm>
            <a:off x="971640" y="1989000"/>
            <a:ext cx="781200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ка и биология: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349360" y="462600"/>
            <a:ext cx="6829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егор Иоганн Менд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22 – 1884), австрийский биолог, был в числе немногих, кто в середине XIX в. применил алгебраиче-ские формулы для анализа гибридизации растений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енный учёт всех типов полученных гибридов, а также вариационно-статистический подход, характерный для всего склада мышления ученого, позволили ему впервые обосновать и сформулировать закономерности свободного расхождения и комбинирования наследственных факторов. Эти закономерности, получившие назван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конов Менд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легли в основу учения о наследственности и стали первым шагом на пути к современной генетике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50920" y="45136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421px-Gregor_Mendel"/>
          <p:cNvPicPr/>
          <p:nvPr/>
        </p:nvPicPr>
        <p:blipFill>
          <a:blip r:embed="rId4"/>
          <a:stretch/>
        </p:blipFill>
        <p:spPr>
          <a:xfrm>
            <a:off x="165240" y="374760"/>
            <a:ext cx="2016000" cy="2868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1383512_html_m477fecf3"/>
          <p:cNvPicPr/>
          <p:nvPr/>
        </p:nvPicPr>
        <p:blipFill>
          <a:blip r:embed="rId5"/>
          <a:stretch/>
        </p:blipFill>
        <p:spPr>
          <a:xfrm>
            <a:off x="71280" y="3789360"/>
            <a:ext cx="2293920" cy="2867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292480" y="262440"/>
            <a:ext cx="682920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ерман Гельмголь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21 – 1894), немецкий биофизик, впервые дал математическое обоснование закона сохранения энергии, показал всеобщность этого закона, его распространение на происходящие в живых организмах процессы. Он изучил процесс мышечного сокращения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наружил и измерил теплообразование  в мышце, скорость распространения возбуждения в нервах, определил скрытый период рефлексов. Гельмгольц исследовал некоторые уравнения математической физики в связи со своими фундаментальными работами по физиологии зрения и слуха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gelmgolc-german"/>
          <p:cNvPicPr/>
          <p:nvPr/>
        </p:nvPicPr>
        <p:blipFill>
          <a:blip r:embed="rId4"/>
          <a:stretch/>
        </p:blipFill>
        <p:spPr>
          <a:xfrm>
            <a:off x="150840" y="706320"/>
            <a:ext cx="2098800" cy="251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433600" y="381600"/>
            <a:ext cx="671040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аким образом, отдельные ученые исследовали биологические проблемы, представляющие интерес с математической точки зрения. В то же время биология посте-пенно превращалась из науки наблюдательной в науку экспериментальную.  До середины          XIX века ученый-естествоиспытатель своей основной задачей  считал наблюдение за живыми организмами, описание и систематизацию всего их многообра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3600" y="4096800"/>
            <a:ext cx="905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XX веке биолог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всё глубже и интенсивнее вторгались    в область эксперимента. В результате было накоплено большое количество фактов той степени точности и абстрактности, кото-рая допускает применение математического аппарата, и это нашло отражение в специальной литературе (Дж.Смит и др.).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ппппп"/>
          <p:cNvPicPr/>
          <p:nvPr/>
        </p:nvPicPr>
        <p:blipFill>
          <a:blip r:embed="rId4"/>
          <a:stretch/>
        </p:blipFill>
        <p:spPr>
          <a:xfrm>
            <a:off x="108000" y="636480"/>
            <a:ext cx="231624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50920" y="380160"/>
            <a:ext cx="720108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ого внимания заслуживают научные труд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рмана Бей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Статистические методы в биологи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Математика в биологии и медицине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публикованные в           1960 – 70-е годы XX века. В этих работах освещалась методология применения различ-ных разделов математики в экспериментальных исследованиях по биологии. В них также проводился математический анализ конкретных биологических и медицинских проблем, в частности медицинской диагностики, моделей генетического сцепления, распространения эпидемий и роста численности популяций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preview_3032728_150x0[1]"/>
          <p:cNvPicPr/>
          <p:nvPr/>
        </p:nvPicPr>
        <p:blipFill>
          <a:blip r:embed="rId4"/>
          <a:stretch/>
        </p:blipFill>
        <p:spPr>
          <a:xfrm>
            <a:off x="108000" y="3789360"/>
            <a:ext cx="1905120" cy="2705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1000740231"/>
          <p:cNvPicPr/>
          <p:nvPr/>
        </p:nvPicPr>
        <p:blipFill>
          <a:blip r:embed="rId5"/>
          <a:stretch/>
        </p:blipFill>
        <p:spPr>
          <a:xfrm>
            <a:off x="93600" y="466560"/>
            <a:ext cx="1905120" cy="2962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239920" y="858600"/>
            <a:ext cx="684072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7480">
              <a:lnSpc>
                <a:spcPct val="110000"/>
              </a:lnSpc>
              <a:tabLst>
                <a:tab algn="l" pos="0"/>
                <a:tab algn="l" pos="8748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Основные закономерности проникновения математики в биологию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10000"/>
              </a:lnSpc>
              <a:tabLst>
                <a:tab algn="l" pos="0"/>
                <a:tab algn="l" pos="8748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10000"/>
              </a:lnSpc>
              <a:buSzPct val="102884"/>
              <a:buBlip>
                <a:blip r:embed="rId4"/>
              </a:buBlip>
              <a:tabLst>
                <a:tab algn="l" pos="8748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теории вероятностей и методов математической статистики (для планирова-ния и обработки результатов экспериментов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10000"/>
              </a:lnSpc>
              <a:tabLst>
                <a:tab algn="l" pos="0"/>
                <a:tab algn="l" pos="8748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10000"/>
              </a:lnSpc>
              <a:buSzPct val="102884"/>
              <a:buBlip>
                <a:blip r:embed="rId5"/>
              </a:buBlip>
              <a:tabLst>
                <a:tab algn="l" pos="8748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математики как средства моделирования биологических систем (биологические системы часто описываются дифференциальными или интегральными уравнениями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----_1~1"/>
          <p:cNvPicPr/>
          <p:nvPr/>
        </p:nvPicPr>
        <p:blipFill>
          <a:blip r:embed="rId6"/>
          <a:stretch/>
        </p:blipFill>
        <p:spPr>
          <a:xfrm>
            <a:off x="128520" y="3600360"/>
            <a:ext cx="2043360" cy="2857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911428[1]"/>
          <p:cNvPicPr/>
          <p:nvPr/>
        </p:nvPicPr>
        <p:blipFill>
          <a:blip r:embed="rId7"/>
          <a:stretch/>
        </p:blipFill>
        <p:spPr>
          <a:xfrm>
            <a:off x="128520" y="431640"/>
            <a:ext cx="2051280" cy="29926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0">
            <a:hlinkClick r:id="rId8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22480" y="222480"/>
            <a:ext cx="720072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7480">
              <a:tabLst>
                <a:tab algn="l" pos="0"/>
                <a:tab algn="l" pos="87480"/>
                <a:tab algn="l" pos="26208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  <a:tab algn="l" pos="393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ктивное использование в биологии методов математической статистики привело к формиро-ванию целого научного направления (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Р. Фишер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1" i="1" lang="ru-RU" sz="2300" spc="-1" strike="noStrike">
                <a:solidFill>
                  <a:srgbClr val="006600"/>
                </a:solidFill>
                <a:latin typeface="Arial"/>
              </a:rPr>
              <a:t>биометри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 Данный раздел биологии изучает наследственность, изменчивость и ряд других биологических явлений, связанных с выражением жизненных процессов в количественном виде. Проникая своим методом «числа и меры» в самые разнообразные области биологических знаний, биометрия осуществляет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завет Галиле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измерять всё измеримое и делать измеримым то, что пока еще не поддается измерению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>
            <a:hlinkClick r:id="rId4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2" descr="%20%D0%BF%D0%BE%20%D0%B1%D0%B8%D0%BE%D0%BC%D0%B5%D1%82%D1%80%D0%B8%D0%B8"/>
          <p:cNvPicPr/>
          <p:nvPr/>
        </p:nvPicPr>
        <p:blipFill>
          <a:blip r:embed="rId5"/>
          <a:stretch/>
        </p:blipFill>
        <p:spPr>
          <a:xfrm>
            <a:off x="185760" y="550800"/>
            <a:ext cx="1898640" cy="27320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3" descr=""/>
          <p:cNvPicPr/>
          <p:nvPr/>
        </p:nvPicPr>
        <p:blipFill>
          <a:blip r:embed="rId6"/>
          <a:stretch/>
        </p:blipFill>
        <p:spPr>
          <a:xfrm>
            <a:off x="100080" y="4462560"/>
            <a:ext cx="2066760" cy="2038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6"/>
          <p:cNvSpPr/>
          <p:nvPr/>
        </p:nvSpPr>
        <p:spPr>
          <a:xfrm>
            <a:off x="2151000" y="4608360"/>
            <a:ext cx="709308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современном мире под биометрией понимается также совокупность автоматических методов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распознавания физиологических характеристик челове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 целью его идентификации (сканирова-ние сетчатки глаза, дактилоскопия, распознавание голоса, цифровая фотография и др.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036880" y="61200"/>
            <a:ext cx="720072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7480">
              <a:tabLst>
                <a:tab algn="l" pos="0"/>
                <a:tab algn="l" pos="87480"/>
                <a:tab algn="l" pos="262080"/>
                <a:tab algn="l" pos="6238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  <a:tab algn="l" pos="5238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300" spc="-1" strike="noStrike">
                <a:solidFill>
                  <a:srgbClr val="006600"/>
                </a:solidFill>
                <a:latin typeface="Arial"/>
              </a:rPr>
              <a:t>Генетика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– наука о законах наследственности и изменчивости организмов; наиболее математи-зированная из всех биологических дисциплин. Основы современной генетики были заложены еще Г. Менделем, а в ХХ веке решающее значе-ние для её развития имело открытие «вещества наследственности» – дезоксирибонуклеиновой кислоты (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ДНК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генетического код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>
            <a:hlinkClick r:id="rId4"/>
          </p:cNvPr>
          <p:cNvSpPr/>
          <p:nvPr/>
        </p:nvSpPr>
        <p:spPr>
          <a:xfrm>
            <a:off x="25092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%D0%A1%D1%82%D0%B2%D0%BE%D0%BB%D0%BE%D0%B2%D1%8B%D0%B5-%D0%BA%D0%BB%D0%B5%D1%82%D0%BA%D0%B8_1327861949"/>
          <p:cNvPicPr/>
          <p:nvPr/>
        </p:nvPicPr>
        <p:blipFill>
          <a:blip r:embed="rId5"/>
          <a:stretch/>
        </p:blipFill>
        <p:spPr>
          <a:xfrm>
            <a:off x="71280" y="334800"/>
            <a:ext cx="1947960" cy="2519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9"/>
          <p:cNvSpPr/>
          <p:nvPr/>
        </p:nvSpPr>
        <p:spPr>
          <a:xfrm>
            <a:off x="0" y="3227400"/>
            <a:ext cx="91440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7480">
              <a:tabLst>
                <a:tab algn="l" pos="0"/>
                <a:tab algn="l" pos="87480"/>
                <a:tab algn="l" pos="262080"/>
                <a:tab algn="l" pos="6238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  <a:tab algn="l" pos="523872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татистические (биометрические) методы играют важную роль в расшифровке генетического кода (определенных сочетаний нуклеотидов и последовательности их расположения в молекуле ДНК), а также в составлении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хромосомных карт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 Без этих математически точных методов невозможно достоверно установить характер передачи наследственной информации.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tabLst>
                <a:tab algn="l" pos="0"/>
                <a:tab algn="l" pos="87480"/>
                <a:tab algn="l" pos="262080"/>
                <a:tab algn="l" pos="6238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  <a:tab algn="l" pos="523872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енетика в настоящее время по праву считается одной из самых важных областей не только биологии, но и всей науки, определяющей развитие человечества.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943280" y="15480"/>
            <a:ext cx="7200720" cy="57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7480">
              <a:tabLst>
                <a:tab algn="l" pos="0"/>
                <a:tab algn="l" pos="87480"/>
                <a:tab algn="l" pos="536400"/>
                <a:tab algn="l" pos="62388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  <a:tab algn="l" pos="3933720"/>
                <a:tab algn="l" pos="4121280"/>
                <a:tab algn="l" pos="430848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ажную роль в математизации биологии сыграло обращение к принципам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кибернетик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идеям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теории регулировани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теории информаци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 Существенно изменился подход к пониманию регуляторных биологических систем, основ реализации обратных связей.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300" spc="-1" strike="noStrike">
                <a:solidFill>
                  <a:srgbClr val="006600"/>
                </a:solidFill>
                <a:latin typeface="Arial"/>
              </a:rPr>
              <a:t>Биологическая кибернетик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в цел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ется изучением общих вопросов передачи, переработки и хранения информации в живых системах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иокибернетический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 подход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оказался особенно плодотворным в исследовании процессов жизнедеятельности клеток, морфогенеза, работы мозга и органов чувств, генетической структуры популяций, коммуникации между животными, экологических проблем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>
            <a:hlinkClick r:id="rId4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i?id=68114430-41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4480" y="235080"/>
            <a:ext cx="1723680" cy="2154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anohin"/>
          <p:cNvPicPr/>
          <p:nvPr/>
        </p:nvPicPr>
        <p:blipFill>
          <a:blip r:embed="rId7"/>
          <a:stretch/>
        </p:blipFill>
        <p:spPr>
          <a:xfrm>
            <a:off x="128520" y="3328920"/>
            <a:ext cx="1709640" cy="26305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4"/>
          <p:cNvSpPr/>
          <p:nvPr/>
        </p:nvSpPr>
        <p:spPr>
          <a:xfrm>
            <a:off x="0" y="2365200"/>
            <a:ext cx="20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рберт Вин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сновоположник кибернети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-57240" y="5965920"/>
            <a:ext cx="49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охин П.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ыдающийся физиолог, создатель теории функциональных сист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943280" y="171000"/>
            <a:ext cx="7308720" cy="41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7480">
              <a:tabLst>
                <a:tab algn="l" pos="0"/>
                <a:tab algn="l" pos="87480"/>
                <a:tab algn="l" pos="262080"/>
                <a:tab algn="l" pos="6238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  <a:tab algn="l" pos="5238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Х веке на службу биологии были «приняты» и алгебра, и кибернетика, и теория вероятностей, и математическая статистика, и дифференциальное и интегральное исчисление, и топология, и теория конечных автоматов. Поэтому с полным основанием можно говорить          о возникновении особой научной отрасли, представляющей собой интеграцию теорети-ческой биолог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ладной математики,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тематической биолог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tabLst>
                <a:tab algn="l" pos="0"/>
                <a:tab algn="l" pos="87480"/>
                <a:tab algn="l" pos="262080"/>
                <a:tab algn="l" pos="6238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  <a:tab algn="l" pos="523872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50920" y="34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2" descr="1002517243"/>
          <p:cNvPicPr/>
          <p:nvPr/>
        </p:nvPicPr>
        <p:blipFill>
          <a:blip r:embed="rId4"/>
          <a:stretch/>
        </p:blipFill>
        <p:spPr>
          <a:xfrm>
            <a:off x="50760" y="609480"/>
            <a:ext cx="1905120" cy="2791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3"/>
          <p:cNvSpPr/>
          <p:nvPr/>
        </p:nvSpPr>
        <p:spPr>
          <a:xfrm>
            <a:off x="0" y="39610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7480">
              <a:tabLst>
                <a:tab algn="l" pos="0"/>
                <a:tab algn="l" pos="87480"/>
                <a:tab algn="l" pos="262080"/>
                <a:tab algn="l" pos="6238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  <a:tab algn="l" pos="523872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Математ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биолог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теория математических моделей биологических процессов и явлений, которая занимается проблемами роста организмов, развитием образцов, статистикой роста населения, распространением болезней. Критерием истины в ней является математическое доказательство, имеющее биологическую интерпретацию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>
            <a:off x="2771640" y="279360"/>
            <a:ext cx="648036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Значение математики сейчас непрерывно возрастает.                                  В математике рождаются новые идеи                  и методы. Всё это расширяет сферу             её приложения. Сейчас уже нельзя назвать такой области деятельности людей, где математика не играла бы существенной роли. Она стала незаменимым орудием во всех науках                  о природе, в технике, в обществоведении. Даже юристы и историки берут на своё вооружение математические методы».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Aleksandr Danilovich Aleksandrov 1952.jpg"/>
          <p:cNvPicPr/>
          <p:nvPr/>
        </p:nvPicPr>
        <p:blipFill>
          <a:blip r:embed="rId1"/>
          <a:stretch/>
        </p:blipFill>
        <p:spPr>
          <a:xfrm>
            <a:off x="150840" y="434880"/>
            <a:ext cx="2583000" cy="32403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136440" y="3821040"/>
            <a:ext cx="2881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 Д. Александр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912 – 1999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ающийся петербургский математик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адемик АН СССР, обладатель Золотой медали имени Эйлер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одержимое 2"/>
          <p:cNvSpPr/>
          <p:nvPr/>
        </p:nvSpPr>
        <p:spPr>
          <a:xfrm>
            <a:off x="1332000" y="274680"/>
            <a:ext cx="79200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14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Биология и матема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то может быть  общего у этих столь различных областей знания?  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question"/>
          <p:cNvPicPr/>
          <p:nvPr/>
        </p:nvPicPr>
        <p:blipFill>
          <a:blip r:embed="rId3"/>
          <a:stretch/>
        </p:blipFill>
        <p:spPr>
          <a:xfrm>
            <a:off x="114480" y="54936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49" name="Содержимое 2"/>
          <p:cNvSpPr/>
          <p:nvPr/>
        </p:nvSpPr>
        <p:spPr>
          <a:xfrm>
            <a:off x="811080" y="1557360"/>
            <a:ext cx="8533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5349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ая роль математики в таких точных науках,  как физика, общепризнана, однако ценность и целесообразность применения математических методов в менее «строгих» науках, например    биологии, нередко ставится под сомнение.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ольшинстве случаев биологический материал живой природы крайне изменчив и многообразен, подвержен влиянию многочисленных сложных факторов – поэтому точный математический анализ в этой области многие ученые считали невозможным.     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1332000" y="388080"/>
            <a:ext cx="781200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процесс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интеграции математики и биолог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ет длительную историю. Биология как источник новых моделей,            как наука, изучающая объекты, которые не имеют аналогов в физике и технике, и потому позволяющая ставить совершенно новые задачи, привлекает к себе внимание многих выдающихся математиков.            В свою очередь математика не только проникает в биологию и ранее чуждые для неё области, «завоё-вывает» их, но и сама при этом трансформируется, становится менее формальной, меняет свои методологические черты, приближаясь в какой-то степени к наукам гуманитарны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tips"/>
          <p:cNvPicPr/>
          <p:nvPr/>
        </p:nvPicPr>
        <p:blipFill>
          <a:blip r:embed="rId1"/>
          <a:stretch/>
        </p:blipFill>
        <p:spPr>
          <a:xfrm>
            <a:off x="42840" y="679320"/>
            <a:ext cx="1220760" cy="1630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8"/>
          <p:cNvSpPr txBox="1"/>
          <p:nvPr/>
        </p:nvSpPr>
        <p:spPr>
          <a:xfrm>
            <a:off x="1692360" y="1628640"/>
            <a:ext cx="6931080" cy="26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ю</a:t>
            </a:r>
            <a:endParaRPr b="1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внимание</a:t>
            </a:r>
            <a:endParaRPr b="1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одержимое 2"/>
          <p:cNvSpPr/>
          <p:nvPr/>
        </p:nvSpPr>
        <p:spPr>
          <a:xfrm>
            <a:off x="1692360" y="285840"/>
            <a:ext cx="7451640" cy="65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еще древние мыслители считали математику основополагающей дисциплиной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алилео Гали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казал: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тематика – это язык, на котором написана книга прир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Широко известен и афоризм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рла Гаус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тематика – царица нау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53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ка – это чрезвычайно мощный и гибкий инструмент изучения окружающего нас мира. В любой научной дисциплине существует своя методология, основанная на выполнении конкретных экспериментов. Эти сведения фиксируются и обрабатываются в виде чисел. Обработкой числовой информации занимается математика, что свидетельствует о её непосредственной связи с другими науками. 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>
            <a:hlinkClick r:id="rId4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41091921"/>
          <p:cNvPicPr/>
          <p:nvPr/>
        </p:nvPicPr>
        <p:blipFill>
          <a:blip r:embed="rId5"/>
          <a:stretch/>
        </p:blipFill>
        <p:spPr>
          <a:xfrm>
            <a:off x="136440" y="3654360"/>
            <a:ext cx="1758960" cy="2149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galileo"/>
          <p:cNvPicPr/>
          <p:nvPr/>
        </p:nvPicPr>
        <p:blipFill>
          <a:blip r:embed="rId6"/>
          <a:stretch/>
        </p:blipFill>
        <p:spPr>
          <a:xfrm>
            <a:off x="122400" y="438120"/>
            <a:ext cx="190476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Содержимое 2"/>
          <p:cNvSpPr/>
          <p:nvPr/>
        </p:nvSpPr>
        <p:spPr>
          <a:xfrm>
            <a:off x="1979640" y="285840"/>
            <a:ext cx="7200720" cy="65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5349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крупный математик средневе-ковой Европ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онардо Пизан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Фибонач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170 – 1250), прославился своей знаменитой задачей, сформулированной в биологической постановке. Это задача о популяции кроликов, которые начинают размножаться со второго месяца после своего рождения и каждый месяц дают потомство в виде новой пары кроликов.                     В итоге получается числовая последова-тельност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1, 2, 3, 5, 8, 13, 21, 34, 55, 89, 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 каждое следующее число является суммой двух предыдущих. Этот ряд                 получил названи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числа Фибоначч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 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>
            <a:hlinkClick r:id="rId4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fibonacci"/>
          <p:cNvPicPr/>
          <p:nvPr/>
        </p:nvPicPr>
        <p:blipFill>
          <a:blip r:embed="rId5"/>
          <a:stretch/>
        </p:blipFill>
        <p:spPr>
          <a:xfrm>
            <a:off x="179280" y="1380960"/>
            <a:ext cx="2119320" cy="2854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9" descr="i?id=399877961-7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92880" y="3618000"/>
            <a:ext cx="1800000" cy="1698480"/>
          </a:xfrm>
          <a:prstGeom prst="rect">
            <a:avLst/>
          </a:prstGeom>
          <a:ln w="0">
            <a:noFill/>
          </a:ln>
        </p:spPr>
      </p:pic>
      <p:sp>
        <p:nvSpPr>
          <p:cNvPr id="64" name="Содержимое 2"/>
          <p:cNvSpPr/>
          <p:nvPr/>
        </p:nvSpPr>
        <p:spPr>
          <a:xfrm>
            <a:off x="1968480" y="142920"/>
            <a:ext cx="728352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исловой ряд Фибонач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люстративно выражается в вид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пира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увеличение шага которой всегда равномерно. Спиральные формы широко встречаются в природе – в раковине моллюска, во многих цветах и растениях. Есть предположение, что ряд Фибоначчи – это попытка природы адаптиро-ваться к более фундаментальной и совершен-ной логарифмической последовательности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>
            <a:hlinkClick r:id="rId4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>
            <a:hlinkClick r:id="rId5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>
            <a:hlinkClick r:id="rId6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fibonacci%20curve"/>
          <p:cNvPicPr/>
          <p:nvPr/>
        </p:nvPicPr>
        <p:blipFill>
          <a:blip r:embed="rId7"/>
          <a:stretch/>
        </p:blipFill>
        <p:spPr>
          <a:xfrm>
            <a:off x="122400" y="260280"/>
            <a:ext cx="2160360" cy="2078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Раковина моллюска"/>
          <p:cNvPicPr/>
          <p:nvPr/>
        </p:nvPicPr>
        <p:blipFill>
          <a:blip r:embed="rId8"/>
          <a:stretch/>
        </p:blipFill>
        <p:spPr>
          <a:xfrm>
            <a:off x="114480" y="2463840"/>
            <a:ext cx="2259000" cy="1704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Подсолнечник"/>
          <p:cNvPicPr/>
          <p:nvPr/>
        </p:nvPicPr>
        <p:blipFill>
          <a:blip r:embed="rId9"/>
          <a:stretch/>
        </p:blipFill>
        <p:spPr>
          <a:xfrm>
            <a:off x="2182680" y="3672000"/>
            <a:ext cx="2259000" cy="16952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6">
            <a:hlinkClick r:id="rId10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>
            <a:hlinkClick r:id="rId11"/>
          </p:cNvPr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9" descr="2561778790105101600S600x600Q85"/>
          <p:cNvPicPr/>
          <p:nvPr/>
        </p:nvPicPr>
        <p:blipFill>
          <a:blip r:embed="rId12"/>
          <a:stretch/>
        </p:blipFill>
        <p:spPr>
          <a:xfrm>
            <a:off x="4000680" y="4983120"/>
            <a:ext cx="2160360" cy="162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3" descr="romanesque_240"/>
          <p:cNvPicPr/>
          <p:nvPr/>
        </p:nvPicPr>
        <p:blipFill>
          <a:blip r:embed="rId13"/>
          <a:stretch/>
        </p:blipFill>
        <p:spPr>
          <a:xfrm>
            <a:off x="142920" y="4537080"/>
            <a:ext cx="2160720" cy="206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5" descr="shishka"/>
          <p:cNvPicPr/>
          <p:nvPr/>
        </p:nvPicPr>
        <p:blipFill>
          <a:blip r:embed="rId14"/>
          <a:stretch/>
        </p:blipFill>
        <p:spPr>
          <a:xfrm>
            <a:off x="7093080" y="4869000"/>
            <a:ext cx="180000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Автопортрет Леонардо да Винчи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374760"/>
            <a:ext cx="1865520" cy="2925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2050920" y="361080"/>
            <a:ext cx="70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452 – 1519), итальянский художник, ученый и изобретатель,  обогатил мировоззрение эпохи Возрождения    идеей ценности математики:                           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икакое человеческое исследование не может быть названо истинной наукой,              если оно не прошло через математические доказатель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ая анатомию человеческого тела и функции органов, а также движение человека         и  животных, Леонардо рассматривал организм как образец «природной механики». В своих записях он подчеркивал необходимость знания геометрии, представления перспективы, метода расчета силы и крепости мышц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menurolog31"/>
          <p:cNvPicPr/>
          <p:nvPr/>
        </p:nvPicPr>
        <p:blipFill>
          <a:blip r:embed="rId6"/>
          <a:stretch/>
        </p:blipFill>
        <p:spPr>
          <a:xfrm>
            <a:off x="179280" y="3618000"/>
            <a:ext cx="1727280" cy="3008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232080" y="728280"/>
            <a:ext cx="60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рувианский человек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 Леонардо да Винчи, на котором изображена фигура обнаженного мужчины в двух наложенных одна на другую позициях, вписанных в круг и квадрат. Рисунок часто используется как неявный символ золотого сечения             и внутренней симметрии человеческого тел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Man-Leonardo-da-Vinci[1]"/>
          <p:cNvPicPr/>
          <p:nvPr/>
        </p:nvPicPr>
        <p:blipFill>
          <a:blip r:embed="rId4"/>
          <a:stretch/>
        </p:blipFill>
        <p:spPr>
          <a:xfrm>
            <a:off x="100080" y="907920"/>
            <a:ext cx="3132000" cy="31100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250920" y="45136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4400" y="41068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Золотое сечени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(золотая пропорция)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делени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личины (например, длины отрезка) на две части таким образом, что отно-шение большей части к меньшей равно отношению всей величины к её большей части, т.е.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В округленном процент-ном соотношении это 62% и 38%. Приблизительная величина золотого сечения равна 1,6180339887 («золотое число»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943360" y="173520"/>
            <a:ext cx="6343560" cy="61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онард Эйл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707 – 1783), выдающийся швейцарский и российский математик, начал революционные для своего времени исследования по математическому моделированию сердечно-сосудистой системы методами теории сплошных сред. Он изучал физические и физиологические принципы движения крови в сосудах, вызываемого периодическими сокращениями сердца. Эти исследования положили начало биоматематическому подходу к описанию кровообращения с использованием дифференциальных и интегро-дифференциальных уравнений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50920" y="45136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400658045"/>
          <p:cNvPicPr/>
          <p:nvPr/>
        </p:nvPicPr>
        <p:blipFill>
          <a:blip r:embed="rId4"/>
          <a:stretch/>
        </p:blipFill>
        <p:spPr>
          <a:xfrm>
            <a:off x="264960" y="365040"/>
            <a:ext cx="2295720" cy="286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79980_html_1d2d938f"/>
          <p:cNvPicPr/>
          <p:nvPr/>
        </p:nvPicPr>
        <p:blipFill>
          <a:blip r:embed="rId5"/>
          <a:stretch/>
        </p:blipFill>
        <p:spPr>
          <a:xfrm>
            <a:off x="36360" y="3386160"/>
            <a:ext cx="2921040" cy="3227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662200" y="-96120"/>
            <a:ext cx="64818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мас Мальту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766 – 1854), английский демограф и экономист,           создал теорию неконтролируемого роста человеческой популяции на Земле, согласно которой народонаселение растет в геометрической прогрессии, а средства существования – в арифметической.                  С современной точки зрения данная теория имеет целый ряд недостатков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50920" y="45136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wp_2012_08_malthus0815"/>
          <p:cNvPicPr/>
          <p:nvPr/>
        </p:nvPicPr>
        <p:blipFill>
          <a:blip r:embed="rId4"/>
          <a:stretch/>
        </p:blipFill>
        <p:spPr>
          <a:xfrm>
            <a:off x="150840" y="361800"/>
            <a:ext cx="2333520" cy="3181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news_text_971_2972_220140htmlm537f"/>
          <p:cNvPicPr/>
          <p:nvPr/>
        </p:nvPicPr>
        <p:blipFill>
          <a:blip r:embed="rId5"/>
          <a:stretch/>
        </p:blipFill>
        <p:spPr>
          <a:xfrm>
            <a:off x="108000" y="3908520"/>
            <a:ext cx="4321080" cy="2733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2"/>
          <p:cNvSpPr/>
          <p:nvPr/>
        </p:nvSpPr>
        <p:spPr>
          <a:xfrm>
            <a:off x="4572000" y="3744360"/>
            <a:ext cx="45720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и Мальтуса оказали мощное позитивное воздействие на развит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тематических моделей популяционной биолог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также этнологии и экологии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58:25Z</dcterms:created>
  <dc:creator>лапа</dc:creator>
  <dc:description/>
  <dc:language>en-US</dc:language>
  <cp:lastModifiedBy>Екатерина</cp:lastModifiedBy>
  <dcterms:modified xsi:type="dcterms:W3CDTF">2015-10-05T14:31:05Z</dcterms:modified>
  <cp:revision>139</cp:revision>
  <dc:subject/>
  <dc:title>Слайд 1</dc:title>
</cp:coreProperties>
</file>