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Img"/>
          </p:nvPr>
        </p:nvSpPr>
        <p:spPr>
          <a:xfrm>
            <a:off x="1142640" y="423360"/>
            <a:ext cx="454500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9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723B9-628E-4ACB-862C-83FB2A7F07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18078-2901-4081-92E8-B2A9B01C115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4DC02-2908-4ADF-AE73-1D31A8C78F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5072-04F2-4F95-A658-184FBC24A5A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1CC2D-33F1-4BD5-A8EF-BD6EB84FB16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22240" y="438120"/>
            <a:ext cx="5202360" cy="3902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18A4A-350F-4F38-8F9E-B1366F3B50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20800" y="43344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FE388-AC6B-455A-8E02-797FB4A0D9A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3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CFE19-0B51-47E8-8EBA-90290298F5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E37E-EF38-4752-AB9C-D055DFED5C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F9B1-CA20-4231-AFF0-73E8E3E7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2B53-54CE-4689-8BC3-5FACC01F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33ED-8BA0-4F4C-AC6C-1F70E0682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534B3-3BFB-4DBB-A7B4-4807938872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27576-F03B-4AC9-81F9-277C745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12EF-FFD2-48C7-9039-F18AA750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A228C-338D-4A05-AEEF-8087D7F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D2F95-60E5-485D-A56B-F605176A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E096C-CC4D-4C82-ABE6-1AA80C01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995E4-AA83-4176-8E2A-766EAC4C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24E5-A943-40F2-8D41-3C929F5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EF555-9789-45BA-B894-C7778E3D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FC4D1-C45C-43D3-8F26-7FA34D35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4B0FF-639F-4D58-8DA0-E9DB20F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93215-B34C-452C-BEEE-BDEC9F1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6E497-240E-4C05-B2B5-14F5E6A0A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50BC-A519-4E68-85E1-77C156170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AAA-E6AE-4020-93CA-94DEFE4A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75EC-6B0C-4F36-82DC-69C2F93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1404-63EB-4023-9BC3-B9AB3E5D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C857-3662-475D-A56F-CA2A9071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1C76-DCC1-4F2D-B23B-39696E5A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05C5-4F0B-4BBA-979D-CA0B4030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ED61-C931-4E6D-8704-949304D4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CEB9-A6BC-4221-9154-D5665A74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41FF-D6C6-4951-BE24-68928954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CA98-7CE8-45B7-9CD2-3977617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6FB4-A91B-4D43-8699-2E208D2F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D0F7-FC47-4F07-95E9-1CDCB0462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9CC58-67ED-4780-AD92-F51796117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5266B-6974-406B-B212-0400776B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A6D65-2C81-4008-B79F-37EC27B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DF8E-A4FC-4241-A1A0-12AFA7FF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DD1E7-CA39-484C-81B1-1944FC8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88137-9E02-4C46-8E49-C383721F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81A64-844D-4F25-9F00-1103D42B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59CF5-4C96-4D29-8BA8-D0C60416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B247F-FADE-477C-880C-387372C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78611-1DDD-4D2C-90AE-C81CE607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F139F-D2E7-43BD-99F0-DD5409B1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E9D4E-47CE-4F2D-8C97-9677D22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028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03720" y="19350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028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03720" y="4213800"/>
            <a:ext cx="264096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AE429-7CBC-43C4-8CD1-DE183D470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35A9-6795-4472-BF72-E75962A3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0260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005F-31FF-49A4-9321-AAF0954B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2716-6241-485F-9BA5-2DFE678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0200" y="42138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73CA-96D9-4106-A494-FECDE2F6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0200" y="1935000"/>
            <a:ext cx="400284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13800"/>
            <a:ext cx="8202600" cy="20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E613-27AA-4AFF-90FE-5A5C22A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351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A2A2-66F9-4F5B-8EF2-E56FFAF0AE7D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351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BE4E30A-1911-4FF8-BC5F-A254A6C1E8EA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351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C60E7A-9CF5-40A8-8C81-9FC5E2416E98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7976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026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02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06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5824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633D6D-4474-44D9-A734-EF7026198F1E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"/>
          <p:cNvGrpSpPr/>
          <p:nvPr/>
        </p:nvGrpSpPr>
        <p:grpSpPr>
          <a:xfrm>
            <a:off x="530280" y="1255680"/>
            <a:ext cx="7862760" cy="2009880"/>
            <a:chOff x="530280" y="1255680"/>
            <a:chExt cx="7862760" cy="2009880"/>
          </a:xfrm>
        </p:grpSpPr>
        <p:sp>
          <p:nvSpPr>
            <p:cNvPr id="220" name="Text Box 2"/>
            <p:cNvSpPr/>
            <p:nvPr/>
          </p:nvSpPr>
          <p:spPr>
            <a:xfrm>
              <a:off x="530280" y="1255680"/>
              <a:ext cx="7862760" cy="20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435880" cy="515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71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 теле һәм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дәбияты укытучыс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хмәтгалиева Эл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а 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tt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с кыз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Constantia"/>
                <a:ea typeface="MS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26560" y="549360"/>
            <a:ext cx="78613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1" i="1" lang="ru-RU" sz="50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Минем нәсел </a:t>
            </a:r>
            <a:r>
              <a:rPr b="1" i="1" lang="ru-RU" sz="5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шәҗәр</a:t>
            </a:r>
            <a:r>
              <a:rPr b="1" i="1" lang="tt-RU" sz="5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ә</a:t>
            </a:r>
            <a:r>
              <a:rPr b="1" i="1" lang="ru-RU" sz="5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м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3" name="Picture 6" descr="E:\Гаяз Исхакый (3)\9 рәс. Әхмәтгалиева Эльмира Алис кызы.jpg"/>
          <p:cNvPicPr/>
          <p:nvPr/>
        </p:nvPicPr>
        <p:blipFill>
          <a:blip r:embed="rId1"/>
          <a:stretch/>
        </p:blipFill>
        <p:spPr>
          <a:xfrm>
            <a:off x="520560" y="2262240"/>
            <a:ext cx="22320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914400" y="90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шнең төп сорав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Үткән буыннарда, нәселдә   нинди  шәхесләр бар?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шнең максатлар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57200" y="1800360"/>
            <a:ext cx="86868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1.Гаилә архивындагы кыйммәтл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окументларны, фотосүрәтләрне, хатларны, иске кулъязмаларны 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өйрәнү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2.Нәсел агачын – шәҗәрәмне  төзү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3.Нәселебезгә караган шәхесләр турында материал тупла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4.Барлык туганнарны әлеге изге эшкә тарт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5.Докла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ә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 әзерләү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5210280" y="4230720"/>
            <a:ext cx="36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Constantia"/>
              </a:rPr>
              <a:t>Шәҗәрә - нәсел агачы, бабаларыңның әллә ничә буынга кадәр исемнәрен, дөньядан үтү тәртипләрен белү дигән сүз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4" descr="E:\Гаяз Исхакый (3)\Минем шәҗәрәм\Scan_20140210_073506.jpg"/>
          <p:cNvPicPr/>
          <p:nvPr/>
        </p:nvPicPr>
        <p:blipFill>
          <a:blip r:embed="rId1"/>
          <a:stretch/>
        </p:blipFill>
        <p:spPr>
          <a:xfrm>
            <a:off x="344520" y="-1440"/>
            <a:ext cx="4886280" cy="67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91960"/>
            <a:ext cx="821376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Шәҗәрә төрләр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Күтәрелә баручы шәҗәрә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– бу шәҗәрәдә аерым бер кешедән башлыйлар, аннан соң буыннар буенча атасына, бабасына, бабасының атасына h.б., билгеледән билгесезлеккә барала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Төшә баручы шәҗәрә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-  бу шәҗәрәне иң ерак ата-бабадан башлыйлар hәм аннан соңгы яшерәк буыннарга күчәлә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Ирләр шәҗәрәсе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– анда ирләрдән килеп чыккан буыннарны гына күрсәтәләр, хатыннары янәшә язып куел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Катнаш шәҗәрә</a:t>
            </a:r>
            <a:r>
              <a:rPr b="0" i="1" lang="tt-RU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анда  ир-ат hәм хатын кыз рәте буенча барлык ата-бабаны күрсәтәлә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t-RU" sz="2400" spc="-1" strike="noStrike">
                <a:solidFill>
                  <a:srgbClr val="0000ff"/>
                </a:solidFill>
                <a:latin typeface="Times New Roman"/>
              </a:rPr>
              <a:t>Туганлык шәҗәрәсе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</a:rPr>
              <a:t> – булган якын туганнар языл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Эш буенча нәтиҗәлә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2160720"/>
            <a:ext cx="8218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1.Мин үземнең гаилә шәҗәрәсен төзегәндә шуны аңладым: әби-бабаларны өйрәнгәндә  кеше туган иленең, туган төбәгенең, туган йортының, үз халкының чыгышын белә, татар  милләте  тарихы белән якыннан таныш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2.Мин үземнең гаиләмнең шәҗәрәсен төзеде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95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0840"/>
                <a:tab algn="l" pos="9420120"/>
                <a:tab algn="l" pos="9869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3.Нәселебездә булган күренекле шәхесләр – туганнар турында тулырак мәгълүмәт алды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539640" y="2160720"/>
            <a:ext cx="82296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Игътибарыгыз өчен рәхмәт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5:28:09Z</dcterms:created>
  <dc:creator/>
  <dc:description/>
  <dc:language>en-US</dc:language>
  <cp:lastModifiedBy>Камалиева</cp:lastModifiedBy>
  <cp:lastPrinted>2011-11-10T17:13:46Z</cp:lastPrinted>
  <dcterms:modified xsi:type="dcterms:W3CDTF">2015-10-06T10:58:07Z</dcterms:modified>
  <cp:revision>17</cp:revision>
  <dc:subject/>
  <dc:title>Почему апельсин не тонет?</dc:title>
</cp:coreProperties>
</file>