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1142640" y="423360"/>
            <a:ext cx="454500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DEE51-F59F-4288-95CF-4E2067C560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FA648-0457-439D-A577-ECF0FA5B9D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CC76-3DC3-42DD-9D74-F683BDC544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3046D-8E4C-468F-9582-225B79BFDAC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DEF86-7595-44ED-9B0F-E5DA9615C0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22240" y="438120"/>
            <a:ext cx="5202360" cy="3902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51A6-D989-4290-A60D-E28E0042AF9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20800" y="43344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78DDC-DF1A-403A-BD8C-85A82D7A2A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E8255-F00C-4974-A0FF-75D4239690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C5BF-BF6B-4619-B4CF-E071481E2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D130-5D0C-4E39-ABD4-69BBDEE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944E-9A63-40E6-AD0C-13D0A70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BD14-8AC7-47D3-9999-6F83AC183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235F3-24A7-4B20-9DD3-AA90E76E94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CDD8F-D9F3-4485-B67A-D0CEB135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3ED9A-7CC8-441B-B782-08CD017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F882-30F8-486A-9DD3-F872F03C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B1D11-B972-43AB-A4D3-099F2446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3FE1-0B50-4E7B-96A3-A6568DD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4C0E-1D8D-4817-9C24-677FA3BB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A45C-6061-421D-86DD-18325B9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62E4F-4FAB-4580-A020-04171EF9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868A0-39A7-45B7-97FB-78611DF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08356-1710-412B-88B1-DCEAF7D7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88F45-3802-4C77-A3BF-A5D74E1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E273B-C86B-4EF1-B633-7A94214CF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A54E-472D-473B-AD8C-7EB3754EB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A23-0E69-4F0E-8A34-FC9C509C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0A0F-C91F-4036-B636-F21C79F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E51-B108-4268-A676-C2141C79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B228-1035-4992-B145-4455C120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1C3C-D49F-4056-8B7D-30BFCC6F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6585-6131-4773-93A7-2176B64C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06C-2B00-47EF-B6B3-74ECBBC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7EB-310D-4676-B007-86129CC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C96B-0C0C-4388-B542-8DA07B6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775-2391-4873-AA07-FD0CA64C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8FB-C7B7-4027-AC57-DAAC2B9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54B4-0A75-4E1C-A0AC-E128F4199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25754-120A-444F-9F6A-662B8D35D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FB6BA-3BB3-469B-A83F-3247EDB2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8DA3F-0809-425B-B71C-E6C4F48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A77C-0AA6-4BBC-94AF-8FE953E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E4513-8491-473F-BD05-EB6E0DD5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1CCE7-9B87-4C8A-875C-110BBA8B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03159-3F43-467B-909F-74B747EE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20917-F0EE-4901-AFB2-4CA0ADC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2E6BB-D9C8-4CE8-8C9D-78EE7D3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319FE-4984-417D-8260-1DFC37F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6A0F-4830-492E-B7E4-234665E6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4AE84-51EA-4E17-A412-4C4786B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1A9EB-C23C-4E48-97B9-778023060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A539-EB66-4A9C-BBDD-BE29C296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5231-C65F-4463-8EF2-BCE2C348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D5C1-4B72-4F24-86BB-E9F7115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22DB-5942-4705-AC66-45C06EE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5614-18B0-4DB6-8C8A-2421C9FF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21E0-95AB-48EA-BB72-307DDA051456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5725E3-B40E-479F-A4E8-D6109247E1C7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AEE2B0-4680-4884-A59D-028C592CB87A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7976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5824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FB153-1895-492B-AC18-C788ADC82B81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"/>
          <p:cNvGrpSpPr/>
          <p:nvPr/>
        </p:nvGrpSpPr>
        <p:grpSpPr>
          <a:xfrm>
            <a:off x="530280" y="1255680"/>
            <a:ext cx="7862760" cy="2009880"/>
            <a:chOff x="530280" y="1255680"/>
            <a:chExt cx="7862760" cy="2009880"/>
          </a:xfrm>
        </p:grpSpPr>
        <p:sp>
          <p:nvSpPr>
            <p:cNvPr id="220" name="Text Box 2"/>
            <p:cNvSpPr/>
            <p:nvPr/>
          </p:nvSpPr>
          <p:spPr>
            <a:xfrm>
              <a:off x="530280" y="1255680"/>
              <a:ext cx="7862760" cy="20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435880" cy="515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 теле һәм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дәбияты укытучыс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хмәтгалиева Эл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а 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с кыз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Constantia"/>
                <a:ea typeface="MS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26560" y="549360"/>
            <a:ext cx="78613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1" i="1" lang="ru-RU" sz="50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Минем нәсел </a:t>
            </a:r>
            <a:r>
              <a:rPr b="1" i="1" lang="ru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шәҗәр</a:t>
            </a:r>
            <a:r>
              <a:rPr b="1" i="1" lang="tt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ә</a:t>
            </a:r>
            <a:r>
              <a:rPr b="1" i="1" lang="ru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3" name="Picture 6" descr="E:\Гаяз Исхакый (3)\9 рәс. Әхмәтгалиева Эльмира Алис кызы.jpg"/>
          <p:cNvPicPr/>
          <p:nvPr/>
        </p:nvPicPr>
        <p:blipFill>
          <a:blip r:embed="rId1"/>
          <a:stretch/>
        </p:blipFill>
        <p:spPr>
          <a:xfrm>
            <a:off x="520560" y="2262240"/>
            <a:ext cx="22320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914400" y="90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шнең төп сорав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Үткән буыннарда, нәселдә   нинди  шәхесләр бар?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шнең максатлар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57200" y="1800360"/>
            <a:ext cx="86868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1.Гаилә архивындагы кыйммәтл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окументларны, фотосүрәтләрне, хатларны, иске кулъязмаларны 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өйрәнү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2.Нәсел агачын – шәҗәрәмне  төз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3.Нәселебезгә караган шәхесләр турында материал тупла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4.Барлык туганнарны әлеге изге эшкә тарт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5.Докла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ә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 әзерлә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10280" y="4230720"/>
            <a:ext cx="36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Constantia"/>
              </a:rPr>
              <a:t>Шәҗәрә - нәсел агачы, бабаларыңның әллә ничә буынга кадәр исемнәрен, дөньядан үтү тәртипләрен белү дигән сү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4" descr="E:\Гаяз Исхакый (3)\Минем шәҗәрәм\Scan_20140210_073506.jpg"/>
          <p:cNvPicPr/>
          <p:nvPr/>
        </p:nvPicPr>
        <p:blipFill>
          <a:blip r:embed="rId1"/>
          <a:stretch/>
        </p:blipFill>
        <p:spPr>
          <a:xfrm>
            <a:off x="344520" y="-1440"/>
            <a:ext cx="4886280" cy="67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91960"/>
            <a:ext cx="82137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Шәҗәрә төрләр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Күтәрелә баручы шәҗәрә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бу шәҗәрәдә аерым бер кешедән башлыйлар, аннан соң буыннар буенча атасына, бабасына, бабасының атасына h.б., билгеледән билгесезлеккә барала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Төшә баручы шәҗәрә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-  бу шәҗәрәне иң ерак ата-бабадан башлыйлар hәм аннан соңгы яшерәк буыннарга күчәлә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Ирләр шәҗәрәсе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анда ирләрдән килеп чыккан буыннарны гына күрсәтәләр, хатыннары янәшә язып куе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Катнаш шәҗәрә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анда  ир-ат hәм хатын кыз рәте буенча барлык ата-бабаны күрсәтәлә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Туганлык шәҗәрәсе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булган якын туганнар язы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Эш буенча нәтиҗәлә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2160720"/>
            <a:ext cx="8218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1.Мин үземнең гаилә шәҗәрәсен төзегәндә шуны аңладым: әби-бабаларны өйрәнгәндә  кеше туган иленең, туган төбәгенең, туган йортының, үз халкының чыгышын белә, татар  милләте  тарихы белән якыннан таныш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2.Мин үземнең гаиләмнең шәҗәрәсен төзеде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3.Нәселебездә булган күренекле шәхесләр – туганнар турында тулырак мәгълүмәт алды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539640" y="2160720"/>
            <a:ext cx="82296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Игътибарыгыз өчен рәхмәт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28:09Z</dcterms:created>
  <dc:creator/>
  <dc:description/>
  <dc:language>en-US</dc:language>
  <cp:lastModifiedBy>Камалиева</cp:lastModifiedBy>
  <cp:lastPrinted>2011-11-10T17:13:46Z</cp:lastPrinted>
  <dcterms:modified xsi:type="dcterms:W3CDTF">2015-10-06T10:58:07Z</dcterms:modified>
  <cp:revision>17</cp:revision>
  <dc:subject/>
  <dc:title>Почему апельсин не тонет?</dc:title>
</cp:coreProperties>
</file>