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notesMasterIdLst>
    <p:notesMasterId r:id="rId45"/>
  </p:notes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notesMaster" Target="notesMasters/notesMaster1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dt" idx="128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 type="ftr" idx="129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 type="sldNum" idx="130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BAF0-3052-4BEE-A471-D8EBC5B5AB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7C8D-EBFD-4882-A9E5-A015B576F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личностными качествами он обладает для успешного обучения? (в группах) (каких качеств ему не хватает для успешного обучения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главного качества не хватает? целеустрем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E714-2E86-4168-B3D0-38CE13324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8F4-66A3-469F-885E-B38EBE2A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BA9-67A3-4427-95A0-63F3A6D8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E1A6C3-EC94-46D6-958D-0354A0FB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2BBC62-7E03-4E0D-93A9-6910824F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06E7A-23C2-4CD3-BA54-E5600385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3F13AC-08CD-468A-9FD1-66DA097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FBB136-271E-4E4C-B106-5D54659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5F7DB-30A9-4C62-AB76-C29705D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1B91F-1811-4A83-BF55-06FAC62E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ADF6A-6A27-4199-BA77-F5314B95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DF30F-4D34-4678-AF3E-FE8D8E1E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06488-E4C3-4D52-B1E1-6D6E4491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F15-7E4E-4A7D-8980-F08415B6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31200F-8C36-40E6-B238-1C5E418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3D7778-CF27-4B24-AE4E-FDB16E8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4BB263-0150-4920-9EF1-B0121B66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778833-A9EB-48CF-A9FB-FB9BC68F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2CFFEE-25AE-4878-96FE-7A534BCF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F9AF4D-2399-43AD-9721-2290128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B7CFF8-D3CA-4787-B165-9B0A20B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842D5B-3D88-46A4-92DA-BCC1418F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D5A55E-70EF-4823-9F92-0BD6BD0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32E1F-5572-4BD2-92C8-07BD4117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3AC-5DCB-4E54-AF72-9C56DA97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1DB287-AA47-4DCB-A286-3E66582A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2C78BC-11CF-4EE1-B68F-FB2B91D7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AEE762-01FF-462A-AF26-B85CDAE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303A76-4698-4471-846F-D5844B81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5FDC21-0E68-4968-9640-F1971B5B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120E79-FCF9-4B06-B997-9EAE22DF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2547D1-93E7-4E07-AFF1-086F12E3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3A7958-BD3B-4064-B386-924B518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8C147D-F6A5-4EAC-9F27-A8D8DFC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BA53DF-5FAE-4252-B177-FD40F898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7C30-0AF7-402E-AAA0-A9E30008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0A4D09-ED32-4D03-8DBD-D5FB3C26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14D077-EDD2-4F48-B8BE-C1C0EB4F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D73465-F136-48F1-915F-083DAD62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699D22-18B6-4733-A393-739829B7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DCD6A0-F3B1-4A59-B21B-672B4BEF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A44F8C-A61D-47F3-8BD1-B066F1F1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F0A47F-847B-41C3-9915-C98E137F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A95010-9E0A-4AEE-BE60-6727D22C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C09A79-6A79-4B54-9E30-16B90FC3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0D5269-EB7F-4F95-8E0C-8DD91B2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4511-1772-4726-B5E3-C23EDF3A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817D10-DB92-44EB-BDEE-9B76C3D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3CE9BC-A992-45C3-9F73-33385DB3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C9A622-D580-4620-890D-C07F753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638349-371B-4C03-B1A4-A0231A37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AE1670-A561-41C6-B710-FD7B826F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9E9A00-4CAB-471C-949E-8A0B7169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350B07-70C7-4941-A9BB-3434267E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2C19C0-836E-46FC-8EB3-B6F274B1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B564E7-3284-42F4-9147-80EBCB95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5FE5B1-C733-4CC5-BA5F-84D3EE2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7032-88CA-4E07-9E56-E70D7087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725183-B619-401B-A0B6-D47CCD6D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F261D2-2E39-420A-B18F-69A91803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3BD929-B0CE-4975-AB6B-857EB8AE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AF387E-E7F8-4386-ABBE-69764E2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BB6E6D-A5E5-47AF-A1EF-A2D38BAE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8AC840-BBAC-4A4B-80EC-9B8C2FE6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0DC01A-5B74-46FD-9B6C-A3A83800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4AF459-7699-47D2-B622-498067EF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61B09F-8266-4243-AEB0-7F7C367E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F8BE16-6851-4481-8742-B45D81F5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8EAA-BDF5-444E-A4A3-DCAB6AB8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795527-792F-49A1-AE2D-65CC8DC9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3F23FE-67C7-423E-B0A3-674E6F56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258BF2-F11F-4DFB-8F0D-6CF815B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DD8FFB-E0D5-480F-B3F1-F30D8FF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0F8164-A8C8-4DBC-8C87-E9D5DDC9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21A5C7-CA39-4D6D-841A-19983B5E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2D384F-141A-49B6-AFDA-D8881D53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8D7420-B33D-489E-98E4-4BF4D0C7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BAA752-8DD7-483C-8E89-EE7531E7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33196A-BEF9-4B85-85E7-8982DB65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62D9-8579-4A67-BFF9-DE1FDD64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999D00-7C4B-44FF-9F65-6C8B29CF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822CA9-850B-485F-87C0-95178D57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AAF2E0-E8AA-4F2F-8B6D-B3067284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524C17-8EDA-4CFB-B353-F3D7509B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1D06F8-10B0-413F-9A9F-7AEA7B55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62DC29-4567-4A1C-9301-A737212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5CF0BE-53AB-4BE3-BD24-881370F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49072B-CE6D-471D-83E2-273253D8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FB3DB7-E5D6-462B-B457-C18191B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957FE8-C414-4B2E-9AB7-E87FA44C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CB5A-4C57-43CB-B02C-0695F4AE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C6EEA8-A366-4258-9B9C-FBABBB21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92B-39DD-4867-A7D6-7D65055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91E4BD-0303-4C45-898E-EC7FE054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E783DE-9F69-4891-9FE0-0B319EFA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5092E5-C974-4291-A153-5CB104BB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07B5B7-E941-4C54-B08D-4961F7E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804E92-1C86-4832-B9BD-C265039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C91B60C-C6B7-4E74-8652-D1D2B91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AA63A3-0901-4926-B9A7-4561967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45B-D6E4-427B-AD19-EB35DE7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F6F0-9A22-4F26-B1B2-1274AB2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2D286F3-CE20-4683-A847-B8456053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543089-8B15-4BBF-BFFA-16A70F6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361251-2CB7-4404-A209-D4115A29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441457-5FB0-4EB7-8A5B-8885832D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AB1939-2207-49E5-AF9F-72D3AA8F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1B93D1-3070-43CA-A976-A22196A4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AEEB6A-EB31-4DD9-AA85-7E7FA508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0962EF-1E47-4623-8091-7C4C496C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6BB47E-278D-4E5D-BE93-BA1B71F6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150146F-7EDC-4C80-BCE5-A86C33FB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6B5E-8192-40B4-BC4F-3CB3E34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3EFB47-D7F2-4A13-81C1-6E380E5F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0EB990-BD60-4A78-8BAE-B8AC5A66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334F0D-D11A-416D-8F96-87FF05A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7D1D0A-C674-4083-A769-D3E2D392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687B3D-0FDE-4880-85B0-D0F82F31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33A9E1-DD6D-4102-897E-6C6D95F4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266EB7-EE14-4E5C-88B7-AAA3C724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6F8CA96-9BE5-406F-8631-C6D30D1A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1CA30D-788E-48F5-B9FF-FEE89C2E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85A973-D31A-493C-91BE-CE341605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1C94-3A04-47EA-91C2-7A7D4B8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DEEBB8-6AE5-42AF-AFC3-F4F822A5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97AC6D-0F76-4EBE-9542-BA3F6C8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32CF9A-B70C-4CF3-A083-4B373681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C16171-5B32-4868-BDF4-E3EA52A8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C230941-ACD0-4C26-A28F-5F23864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B60BAB-F7EE-464F-B30C-7BC46152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987959-B20C-4B2E-B26B-112AFCF5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905F6E-6425-4329-8DC7-7D51557F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926AC9-EF7E-4BFA-8C42-138EA95E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6ECFEE-9561-40ED-8F8D-6D965839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CE98-1F1F-40E4-B45D-4C6BF9CF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EAC706-BE37-4809-9DCF-0EC29CDC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A1F298-C5CB-45EA-B061-B3A32937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E55363-E292-4D1D-B43F-E2769D4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5E97480-7E36-4592-9EEB-FC4FA52E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BBD2B6-0A37-45D3-900F-D928CE4D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9065E6-07D2-46E9-9E03-A4F505B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F8A416-A5D0-43DF-AA55-7BAF603A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F779B0-88D6-47C9-9660-917D2AE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740246-FB8B-4B18-ADA4-31F23866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05F46D-4C0A-4503-B640-124D7F22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8496-48B6-4D48-BC39-0BF7E440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57106C-4BE2-41A4-9C1C-23BFCDF2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7ADCB6-8324-4B88-ABF9-FE061B0E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C8CE11D-F2E3-4FBE-8389-217CE10F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37A056-12D8-448B-B236-C6B4F776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E2D6455-ED26-49B8-838C-838A64BA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40A1188-CB1F-4C7A-99C6-56261EF8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C49C62C-EC13-4A4D-8B80-E96DD51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4C8FB65-FE42-421B-8C50-D096056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F42A9E-77C5-44C2-8E95-F52710C2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EB16B5E-1CF1-46B6-A240-BEAA593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7BBF-0529-4DE9-9BF6-4C827860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52A9E5-C389-4474-8E71-9EA99E0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6E56DBF-6A51-4B3B-AE35-4002A20E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478973E-0373-4CBE-9EB4-8D21673D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E10D922-6109-4F7D-8D18-2BB87938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491D8C9-5226-4487-9286-2568FD6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B5B15BA-5729-484B-8F50-ECC2556E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C15AE64-189A-4DB2-8DBE-196CF06D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6F5314E-B827-4937-8949-FBAF988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E63265-8D3C-44EE-9CA0-3E367610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E4AA0D-81DE-4824-B8FE-61ED358E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56B0-F674-4314-B413-3BDE9408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A83634-9F8D-4657-A23A-5711191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5DC421-348A-4439-B0DB-23998E2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FDC5747-B2E6-4938-AA87-DACE830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E41EE04-ABBD-44C4-A5D2-4F2559E9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B3B1E89-6F9F-4AF9-9DC1-03030C63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1ADBAD-2B36-411C-AB79-7E5C922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B09FCF-F18A-461E-B22A-E0B9E5BF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E1D2BB-1BD3-471C-A98D-D86B4E2F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4E846-3ECE-4466-9C8A-58C69A19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CCA293-32B0-4960-9DE7-7B350477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B7D0-7645-48A9-817D-72F146AA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BA0E89-7DFA-463D-AD24-1CF3F66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3FF79C-A212-4926-A6B0-7282AA00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B9B692-3155-48DC-B6EC-EDDC3494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DF36E0-4F62-455D-8CBD-814130F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11C80-A9E2-46C1-BB0C-FFF6C072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732E1E-3B00-4C28-8A50-E5FD20D5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47B65D-73B9-49EB-BC4F-DD03C4A7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44C4B6-C244-4FF1-87BC-F21EB8B4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0711135-D8D6-4E29-8CED-AB183E4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CDE13F4-3D58-4392-B021-A03D289D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04E1-10C9-452B-8EC6-137CC338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5243C4-C2F1-4DA3-875F-F441B328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84CE9E-3578-4BCE-88CF-E79517C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CAB1C1-E0F2-4169-9AC7-28116317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596066-3BE9-451F-AA0C-B7A82390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6A0AFD4-F894-499B-8485-E2812AB9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1AA646-0743-4438-99FA-3A94E591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EC6A58A-B8F2-4310-AD00-4B8869F0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57612A-7475-44E4-A5D0-E6C0749B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355560-C736-46DC-97DB-CB1D285A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B1D5022-8FD4-47CE-9518-B8CD421D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F38F-AE5C-4F23-AE98-C3CBC962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8F58E40-91A1-4904-9D36-47288889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D52E4EC-FDBF-461A-AD25-E027CCA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4F4E279-42EA-4233-90B4-F59C2879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311263E-DB4E-478A-BF98-F30F0F25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BD3E2F8-9278-4472-BF57-99FE8018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BCA6DB4-529F-4F96-A941-79AD31F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373A781-23AE-45D5-871D-BA6EC9BE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56F3DC-8534-4A89-97B1-0F19DCE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A33D70E-D5C5-48E8-B2BE-E206B790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44C78F-2F45-493C-A4ED-D40DD33A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81C-8666-480C-BC09-1782F57A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CE4F-04F5-4B74-98B6-F7E32D3C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C6664E1-3A1A-417C-86D0-13E7E4DF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88FE9E2-CE73-43B1-BA97-DDA2CA73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6CD6258-C277-4098-9281-3DC0F10D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800AFB2-074A-40B8-A22A-C420CFE3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E97596-95E2-4A3D-ADD1-C01DC9A5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1ABD565-8FA0-47E8-92DC-EE88E069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B6B74EA-8E0A-4735-84DE-20D23D20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6073848-1326-4650-82B6-DB642B2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2447A94-B862-496D-A224-C36FC28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614C3F-2506-44C6-B538-DCF2B21C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A040-34D2-4BAA-AA4B-E666183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FFF645B-919D-4328-8407-4C6134B1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349F48F-728A-4BE5-9B5A-582E0B33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6127406-9097-4D3A-BBCF-D075F14F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FCC2FA-1D5B-4AFD-8149-F09E5015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171F17-3850-44FF-9FAC-486E020C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FE28AD-B949-458B-9967-C30E59C6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7C0605-D181-4EC1-B97F-0CB2597C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0C8231-1673-42D2-A29C-F6444089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47BC45-26F0-4842-97BB-D95E9B6E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8F47B4-CBE2-4D8D-A624-65E485A5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C90E-7938-42F7-866E-61CBA24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1D2E4E-C2D1-470D-8BB3-E0402E3C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3FB288-09B6-4139-9F4E-4A1EEE4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340219-3434-47B5-BEAB-46A8FA87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7AB229-FFA9-4304-9AEF-F2A86882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484705-85C6-41E2-B346-9ECA0994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4BEB955-77C2-46C1-8DFE-1C5F0BB4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1DF0F44-6746-4B38-A15F-13F8418B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86393D3-BA60-4B09-A287-CFB500D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84003C4-A008-4379-B17D-CC9DEE0D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57A5663-B1AB-40AE-9253-BF81DE3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F0D2-F166-4B2F-9476-BC29572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D0086F7-79C9-4C50-BF6A-4478D110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1BA3A40-D8C8-4F91-8794-17875F5F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62BE195-412E-4C5F-B49C-B0BD0B0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9D0AE1D-F2AD-4CB3-BF4E-B07C28C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CEE49F0-54F5-4A2C-8732-369ABAF1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867BB7D-E5DF-4921-AFDA-1740B5B5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E973211-C9FB-46D7-8DF5-51209112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B18123-EEA7-49D1-BAF5-D1855416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92AF34-A8CD-4730-A427-8ED9E7EB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F81084-1E4D-43AF-A619-CDDE9C53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7D41-9E6E-46FF-9E7A-C9975436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AF89A7-419F-44FA-969F-675248E5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FEDAAE-A59E-4C62-A9F4-68414831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CAAAC9-03D8-4AB7-AF26-6BFC144F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9AE1FD-5BB4-44D9-B59D-E861E382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954DCC-C712-4F33-90F7-A3BEE19A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8FBEED-3A83-4012-AD42-A7AE989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298BBF-FC62-4491-9AD4-579B2CCC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580CF4-94F1-42D5-814A-836CE3E5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DE0971-BBAA-49E8-89C8-E7CC92EF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8F19B2-E134-4A21-9507-8A8269E9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70822-37E5-4D4E-9640-9FB3120E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963B8B-8B36-465E-A2FC-3CBB1FD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124AD1-D1A2-46E5-89DE-03170F4A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9C88C4-6971-478C-972C-62818479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A715BC-6BDB-4CA3-9BD8-DC3A82B7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6E97C6-514E-4508-A8CE-D5B0A589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33A948-9258-4FE1-8783-5FB97F4D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DE5964-0570-4B60-B39D-4AC5C95C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ACD7A6-51FC-4020-8A2F-7FAD6A3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4279C9-EA09-4327-818E-E12BEE35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B05168-38E2-4DBD-9A0F-FE5A29B7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DE79-7A69-4F1A-A38A-B62613C2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932E99-7679-4310-973A-70CDB925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EE65549-D6E4-4FB6-869A-E21BFB10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1686B35-649C-45FF-A39C-AF0EB73E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B7DB6EE-CD96-4D70-9109-670FAEA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0D61DB-274E-42A0-A151-237E2AB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87E93BF-0F9B-4D95-8F69-B11321C5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C3D73DB-4D8C-4537-A86B-AAA9BDAE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558E1BE-F695-4BC0-A37E-BA3F3C4D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F8ED322-DF5F-4846-B4BC-475F367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4F0DD8F-2F27-4757-89E9-2B7F982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7A2DD-EDDB-4BDA-B2B4-699A4B36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8BD4E07-51FB-4F23-9493-C53700B7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4749BD9-D8FA-43BF-ABB3-D8BBF62C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4D4119A-29C2-45FB-B315-B5E844F9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C50CB71-041F-4BDA-99D7-D342101C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3988316-CDE9-4897-9207-97130BC5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EB0C7E8-D578-43DD-B4FF-494054CB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255CAAC-8A57-4DB1-A74F-28EBCC78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5D05A81-66E8-41F0-BE90-BF9241BB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FB254F7-8664-49B7-97F4-D3EA31AF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D3F020E-DBA0-43BB-A291-7C2461F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751A8-E179-4005-9B40-18203A58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BCEE756-CAD9-46F2-AC0D-8D981EE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04F1170-540C-4E50-BB13-8BF535B0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C8DF398-44F1-46D5-BCC2-9FEA20B8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DB410F4-F148-4658-97A5-0AFFC123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3E1834A-927F-4AB8-A749-29CB35E6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5DF5B2B-0EBE-46D4-8BF5-85067DCE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386C38F-DBBE-4428-8709-3EB51B39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2A81E0A-B862-4F84-9163-DC0163F1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B2CD83D-AC83-466C-A87A-F8D18710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E17327D-569C-4385-A340-CB200B10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B8E8-956E-46E3-AB4C-ECF1520D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7C84526-8883-4604-AAB6-E572709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B972F5C-8274-4766-9E43-C1A4EC0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0829CFE-4B67-4E4F-BFA1-077E647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4A459D7-B0CA-43B1-AE2A-B475F874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AD85298-3D6D-4DD3-8345-B0CA20DB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12805C7-D43C-4A02-8ECC-677D3CA9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6E9E4FC-9917-4C61-99FD-435C64A6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18BF1E3-BEE7-4B22-88DF-2E469E8D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A01AFA7-773F-449F-9813-86720A5F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52F4BD1-BDD2-49DB-83EA-701AADC9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53E-A3F0-4C23-AE06-F6FD9228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8062-EF53-4F40-9F27-C04CF70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F4A85D5-9773-4C69-BFFF-A6F0025E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647A31-0D34-48FA-BE5E-C7E7955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C97867F-0F21-4AE5-A42D-C7312DEC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873AAE3-2220-44E0-8895-CBDCFDF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7C76CD4-E394-458E-9382-5705CA1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D0A6708-F82C-460F-9E56-CFA2E96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1E30318-490A-44DA-88F9-59075A46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984567-8C55-47EB-AD19-DB7AF0A9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445E7F7-C4DF-4261-B5FD-A5F5C67B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DB2CECB-A067-4C30-80A8-C3F5447F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41AD-DA59-4263-8B3B-9CFC7503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9E3F801-FA9D-43FB-81FB-D3DF2803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8F98FF4-BFF1-44A7-BDC1-2CB512C8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53F719C-5833-496E-9C38-E95D8C3A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60F1F4F-5104-45EE-AE13-77ADDC6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B1AFB64-A696-481D-971C-78CCEC07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08606E8-7182-4B24-9FA1-454E68E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04F0CC3-DE0B-4289-87B9-E4B3E967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C079707-00F7-4C8F-80B3-3BEFC1F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9832DC9-601B-4C20-BF34-64C481B2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16422BC-0EA4-4850-9665-C4218264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8736-EDD9-4752-8525-DA06020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8D003E1-FE8E-4961-A59D-6D42904F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B9CB43E-FF8C-41F1-A6BB-4BBC0399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DA1B1D4-2772-45F1-A61F-8631A0F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C8B9515-ED35-4CB1-A38E-2DD6D066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CADE307-2E81-456E-94AF-C4EB49F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A3EE4F7-8855-40ED-BE7F-6061473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E65844B-4626-4206-A3E2-8B920959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8BF8B21-444B-4BF6-AEE6-E3D7FDAA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F4E74C4-B899-427D-BFCC-3C3DEA35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1650EF9-EC5C-498E-9356-5984106E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7545-E8A6-4834-8DA2-AFC4ED4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B2C37F0-543F-4511-BDC4-894E4149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AFBCA0B-E007-4677-8C22-84C99867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7A3D87B-5CD0-4FC5-9FE0-2F4C3421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225A3F1-6759-4FCF-AF50-C83EFBFE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CA57B54-8D52-4760-8589-65B1AABB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BDFF4BC-238A-42F3-8074-6C68EE6E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E611DDA-F4D6-49AC-B046-E9A2D8A2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CC3191D-B97A-4795-AF22-B1A43632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90EC241-34F9-468D-8DC7-BA009A3E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F02E1BF-06DA-49F6-AFF5-73BE56B2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E814-33BD-45A7-B4A2-C081F531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3B5C047-B05C-457D-9171-641DD50A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163F074-14C5-4EF6-B97E-27373B2C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2FEDA21-5006-4FBC-BB8A-8A0D84CF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2470ECC-E331-4531-91DF-036FD608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C43862F-C32D-4339-B5DC-1413B933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6504F4D-DDF6-44A6-B7D0-95FE889C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4741C99-7066-47A0-8EED-0E8055F0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8BFFD86-8E64-44B6-A65B-5C1DE0E7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BDAC8D6-4B6E-4A59-A287-9BF64260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B4580E3-C7DC-4541-AABA-DFE46897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9AE31-2944-46ED-B0E6-C1AC1D0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96B9E8A-236D-46DB-950B-3D5FD7A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4B6B03F-E2AA-448E-8821-B28E7AD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6D0EA69-9033-4522-8E14-D48F48C4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DE71C1B-28CE-4DC6-B5B5-39C57052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0798E1-4FA6-4BA6-9235-B8DBE1C9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891626-6316-44BC-A32E-0974CB59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535738B-8F40-4B4F-B0E9-C529F243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4273320-9429-430F-AA2E-4B44B5AB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973243D-7687-4FC6-8F10-843A649D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D44BEB5-EE9C-4DA0-A9FF-90D5BCD2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6729-02DF-4B89-83CB-AECD8FF2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26AEDC1-1B23-4E07-8EAB-14838BB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76542C1-11C3-4471-88E2-4B4EFB8F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221D680-57B8-4876-A9EA-AEFD753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717D46B-5D9D-4452-A8E9-AB1D684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3CC9972-3A32-4DA3-9B79-16AC849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8A80191-94B9-427E-8CF1-073CF7F1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F6155B3-102D-4C1D-9802-8476F5C0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EF295CF-F4EC-4BD5-9CBA-7E22CC37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959AC5C-8311-4EC1-9A6F-EEF6917D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6A62535-1B5B-43ED-9B26-69A9556E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BB2E-CF6C-4D17-AA61-3D2D41DE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1BE65E0-06C9-4067-92FB-0EBFBD86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EF1361D-D9B1-4031-B0AF-26DB91C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6C2A82E-8D75-4697-B65A-38A2B8CF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3C86FCB-D5D4-42FD-A9B0-650ABE28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68BAAEC-87CD-409D-BA3B-5AE819A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6C9CFC4-C2F9-4531-A124-750AA0E4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67717C9-5D84-4EA6-807F-E184B2F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2407602-A68C-4B36-A3C7-416A8F8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CB872FD-1DEE-44EB-BEAD-007DCAA7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592A97A-06DF-4769-981D-61259343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A7CC-6541-437E-BCC8-27AD4C0E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A62AC5D-646B-4866-9D7D-7F45753B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03A798A-36B9-4F8F-BD9A-8FE9BBEB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E5F88EB-3FDA-4FB1-8A56-D26B8B8F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F23C3F4-F06A-414E-9CC5-26DA0083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2BB0221-EB1C-4249-B9B2-FF8DE8AC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42AE9EE-6E6A-4627-B440-4D7EEE38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9381712-7EF0-40E9-9F2B-8586BB9C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85997D8-C3BE-469A-B94A-E5887327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D7E5E97-7140-4B03-9FA6-72A1E89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013EE3C-FA73-49BF-A94D-67A5A784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4D67E6F-8AD0-47C0-9AB6-3ADE5496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B0F7244-079C-46F5-B780-C8BD5F72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2B11B42-DD29-40F9-BF14-4ADD4215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6758DA3-9A95-416A-899C-B93BEDE2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49FC409-FB34-4ACF-BB66-0CA16F4C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36659BA-5A0F-432F-8315-54C08BDF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2CCB346-9C1E-4F46-9B25-54AB9EA9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E325FB4-DEB9-4B20-8548-E1B494E9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3C24A11-1EC0-4BD9-83F3-D37E5B71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98086A9-E6B2-4A4F-B839-1AF52AD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D23-FF7F-4277-9909-45103B27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4BBBC74-BFE3-4761-8A68-86F878B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4E2654B-2E2E-480C-B139-A2AD2BD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A195163-6ED9-4BB4-BCCC-DAC085DC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245F99A-B983-46E0-9C3B-A36A806C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2D9781C-DDF9-419F-8B07-E2F0790E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6D890CC-DE6F-4F29-8352-43BF7BA7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7A074EB-B270-45D0-8EA9-588BF42F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5E35CB2-8B4F-4386-90C4-2295CC4B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5661926-18BB-4647-85B1-BB526EAD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348651F-8896-4BA5-812E-86C6F1C4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A1AB7BF-514C-4C1C-8957-525A4532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B3F2387-B062-4C37-81E1-5DA9C69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E8505F5-CD9A-4ED6-8054-E756B89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C39D047-40C5-4CAC-A93D-40B1A31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464827A-A975-4ABD-A0E5-82F4B966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1E56EC1-ADC6-4797-AFAB-A27B7A64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26FFD2A-B43F-4334-BF7C-F47B2277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CF5-374F-4959-BBC9-746F201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53CC3-4E8F-4D4A-8872-86816628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7A888-7404-4B38-BF48-9A42B956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40A59-A40E-4BFD-9EE9-5AA75C8F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4DC7F-9DCB-4A0F-922A-90D9C25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59AAC-A307-411B-8E8D-5AF02A90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86850-ADFC-430C-B2B4-4E55CA4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2C307-2FAB-4AAB-B414-E573C38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5A68B-A91C-43DA-A886-11785A16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61CC3-19EF-46AA-9127-B973E322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79A-AC0A-4A54-B6D2-0AEB3A31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38A66-83F5-4CDE-85C6-327BF689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710E9-B848-4EDF-9C63-6CBB2494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8406C-A753-45A2-9C99-1DEDAEDA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D9869-C610-4A46-9282-07A729A2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875DA-8338-45BD-9ACF-01FB66B7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6202F-BA09-493A-B2E8-39A78785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A68C4-9762-472E-AE2E-70EA82B5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79BA2-621F-414B-89E0-4EB527B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2EFF3-37C8-4C2B-8CD4-AC1532A4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61E68-4910-43A6-A3D7-A6C3C2A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6E8-4760-43E8-AD75-DDE8BC7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A27A8-17AE-467A-8B3F-03EDBBD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0E641-FCDB-4271-BA3C-87A312EB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F3627-D30B-4B69-B30F-D4D9F224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CB496-815E-4C77-B566-1204F3A6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B88AC-3BCD-411A-8358-4CE22D81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300002-14CF-4560-A616-462117AA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261A2-99DD-4117-8BFC-BD50B8C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E82E84-DAE7-4CFE-8D59-D20D379C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59B37-2788-417C-94AC-4EA92DFF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72FFE-310D-47DD-B133-2145032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D42-357D-4703-9F19-B9A516FB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4C81B7-D0FF-4318-BDBB-EF11C15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7A6628-0755-4ED3-89CF-9B26EFE0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A28C1E-735E-4FE7-A643-EE2990D5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8D7FA8-7B5D-42FF-9BDB-17197E3B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81394-E49A-46B9-9250-E3612603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9A59B-11E5-482A-A72E-5891C3C6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2B8DB-75EE-4449-A2AE-D68F632E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7AF05-7A5F-496F-B34A-9E75EDF7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476C8F-68AE-43F2-95BE-3F331D27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40CD8-DC24-4A05-83CA-30241206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8DED-E1E6-447B-9621-6D98C00F44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D2E3-2B89-4089-B82A-22B3C957A0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2A85-BD4B-4E74-AE35-467DDF71A3B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448-E10F-4188-A92D-19984A80EB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2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9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9BC4-FEE4-4610-9646-8C9C7FD19D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7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7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8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4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4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73D5-C793-4EEA-8F34-FF6C4033CBC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2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3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66F6-9BC5-48B1-A2B5-3D6DE20DF8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dt" idx="45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46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dt" idx="47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48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6DE3-E5EE-43DA-9574-8A2B0182A1E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dt" idx="50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51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DB13-9665-4245-9597-B1845048974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9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4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D79-D3EA-4665-8A60-C81744CE95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06A9-C7ED-442A-9C21-B0146C6C60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3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3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4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4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4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5725-F3C1-49FD-A63C-EC6D1F892A9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9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9553-C0D9-4575-AEA0-4D71115152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62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63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64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2731-1A7F-45FA-8C13-5ECB9931812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sldNum" idx="6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8BEE-63CA-43BB-8E0D-8C3A3265E5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ftr" idx="6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6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6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C61D-2A9C-4A72-A6D8-B7D8454E6E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7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7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3CC5-9D4F-4D48-82AC-8E76D07AB7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BC7D-6358-492A-8142-B4ECC602E7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7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C9B2-7348-4C91-897C-0D395F7F30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ftr" idx="7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8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8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8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CA3-ABA5-4794-9A8E-E8582166FE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8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8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64DB-03EE-4656-AE6D-51B3D79C38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ftr" idx="8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2A64-49A7-495D-9661-774E8237788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dt" idx="8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sldNum" idx="8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797E-19F8-4FB9-9B89-8624571161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 type="ftr" idx="8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8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9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9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816F-23F8-4315-B0BF-BB0800E99F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9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9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9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A03D-D7DC-4327-8757-61CE4E2DE2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dt" idx="9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 type="ftr" idx="9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 type="sldNum" idx="9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9B58-2B1C-4815-AE88-858E3B064B8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 type="dt" idx="9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 type="ftr" idx="9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 type="sldNum" idx="10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C72C-59A2-4C75-B6F3-BE37B3F0861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0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0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0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8F4F-C4C6-4687-B450-C6FADFF43BD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dt" idx="10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ftr" idx="10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 type="sldNum" idx="10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CB69-FA9B-419A-AA39-562C804056F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dt" idx="10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 type="ftr" idx="10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 type="sldNum" idx="10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F14-8A81-48C4-9C47-F5B88B46DA0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7813-C527-4CFD-B523-557561444BB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dt" idx="1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ftr" idx="1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 type="sldNum" idx="1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6877-824D-461C-897C-A6CE199DAF5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23DF-85C7-4403-84E0-58737B0776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dt" idx="1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 type="ftr" idx="1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 type="sldNum" idx="1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2CA-6968-4DB5-A01D-83BEBB95E53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 type="dt" idx="1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 type="ftr" idx="1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 type="sldNum" idx="1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CB72-2893-4AD9-BCB8-07280445EBE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EB5-D798-4135-80A5-B33860AC56C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1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1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1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C206-7073-4E9D-8BB4-9D7A14ED358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dt" idx="13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14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7D52-A3DC-4DFB-9B43-452CFAC1A9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5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899C-9CA5-46D3-BF32-09274F91A4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0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0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0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C85-1D03-4CAF-BAA7-0A591C6A91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5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AE24-67EE-4A1D-98FD-BF42301999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2" name="Picture 6" descr="C:\Users\user\Desktop\МиД_презентации_2 класс\Шаги урока ОНЗ\Рамка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2013" name="Группа 15"/>
          <p:cNvGrpSpPr/>
          <p:nvPr/>
        </p:nvGrpSpPr>
        <p:grpSpPr>
          <a:xfrm>
            <a:off x="179280" y="1916280"/>
            <a:ext cx="8256600" cy="3684600"/>
            <a:chOff x="179280" y="1916280"/>
            <a:chExt cx="8256600" cy="3684600"/>
          </a:xfrm>
        </p:grpSpPr>
        <p:pic>
          <p:nvPicPr>
            <p:cNvPr id="2014" name="Picture 2" descr="Смайлик весёлый"/>
            <p:cNvPicPr/>
            <p:nvPr/>
          </p:nvPicPr>
          <p:blipFill>
            <a:blip r:embed="rId2"/>
            <a:stretch/>
          </p:blipFill>
          <p:spPr>
            <a:xfrm flipH="1">
              <a:off x="179280" y="3788640"/>
              <a:ext cx="187200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Text Box 4"/>
            <p:cNvSpPr/>
            <p:nvPr/>
          </p:nvSpPr>
          <p:spPr>
            <a:xfrm>
              <a:off x="1547640" y="1916280"/>
              <a:ext cx="688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c00000"/>
                  </a:solidFill>
                  <a:latin typeface="Arial"/>
                </a:rPr>
                <a:t>«Мир деятельности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Text Box 8"/>
            <p:cNvSpPr/>
            <p:nvPr/>
          </p:nvSpPr>
          <p:spPr>
            <a:xfrm>
              <a:off x="3708360" y="3429000"/>
              <a:ext cx="1619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7" name="Picture 12" descr="\\Server\новая папка\Шагов\1-МИР деятельности_2 класс\МИД_ТЗ для художника_УРОКИ 1-5\All_illustrations_MID_2klass\Logo_MirD.png"/>
          <p:cNvPicPr/>
          <p:nvPr/>
        </p:nvPicPr>
        <p:blipFill>
          <a:blip r:embed="rId3"/>
          <a:stretch/>
        </p:blipFill>
        <p:spPr>
          <a:xfrm>
            <a:off x="307800" y="6269040"/>
            <a:ext cx="1283040" cy="3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думаю, что личностные качества учени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Объект 3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ностные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Объект 3" descr=""/>
          <p:cNvPicPr/>
          <p:nvPr/>
        </p:nvPicPr>
        <p:blipFill>
          <a:blip r:embed="rId1"/>
          <a:stretch/>
        </p:blipFill>
        <p:spPr>
          <a:xfrm>
            <a:off x="2101680" y="2631960"/>
            <a:ext cx="4921560" cy="3560760"/>
          </a:xfrm>
          <a:prstGeom prst="rect">
            <a:avLst/>
          </a:prstGeom>
          <a:ln w="0">
            <a:noFill/>
          </a:ln>
        </p:spPr>
      </p:pic>
      <p:sp>
        <p:nvSpPr>
          <p:cNvPr id="2022" name="Стрелка вправо 4"/>
          <p:cNvSpPr/>
          <p:nvPr/>
        </p:nvSpPr>
        <p:spPr>
          <a:xfrm flipH="1" rot="19531200">
            <a:off x="5762160" y="1830240"/>
            <a:ext cx="2384640" cy="16621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Стрелка вправо 5"/>
          <p:cNvSpPr/>
          <p:nvPr/>
        </p:nvSpPr>
        <p:spPr>
          <a:xfrm rot="21429000">
            <a:off x="393840" y="2552400"/>
            <a:ext cx="2663640" cy="17953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Стрелка вправо 6"/>
          <p:cNvSpPr/>
          <p:nvPr/>
        </p:nvSpPr>
        <p:spPr>
          <a:xfrm rot="7383600">
            <a:off x="3822840" y="1068840"/>
            <a:ext cx="2352600" cy="16556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Стрелка вправо 7"/>
          <p:cNvSpPr/>
          <p:nvPr/>
        </p:nvSpPr>
        <p:spPr>
          <a:xfrm rot="13980000">
            <a:off x="5863320" y="4386960"/>
            <a:ext cx="2054160" cy="17730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Стрелка вправо 8"/>
          <p:cNvSpPr/>
          <p:nvPr/>
        </p:nvSpPr>
        <p:spPr>
          <a:xfrm rot="2458800">
            <a:off x="1220400" y="879480"/>
            <a:ext cx="2556000" cy="164448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Стрелка вправо 1"/>
          <p:cNvSpPr/>
          <p:nvPr/>
        </p:nvSpPr>
        <p:spPr>
          <a:xfrm rot="19901400">
            <a:off x="1230120" y="4543200"/>
            <a:ext cx="2452680" cy="17143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школы Майнкрафт составляли головоломку. Стив и Майкл подумали и решили, что это будет ребус. Они приступили к заданию. Стив попросил Майкла начать первым выполнять задание. А сам стал смотреть. Когда время подошло к концу, Стив захотел представить результат работы. Он показал ребус, а решить его не смог. Майкл вышел к доске и все р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из истории по вопрос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1" name=""/>
          <p:cNvGraphicFramePr/>
          <p:nvPr/>
        </p:nvGraphicFramePr>
        <p:xfrm>
          <a:off x="457200" y="1859040"/>
          <a:ext cx="8229600" cy="4008240"/>
        </p:xfrm>
        <a:graphic>
          <a:graphicData uri="http://schemas.openxmlformats.org/drawingml/2006/table">
            <a:tbl>
              <a:tblPr/>
              <a:tblGrid>
                <a:gridCol w="4103640"/>
                <a:gridCol w="2181240"/>
                <a:gridCol w="1944720"/>
              </a:tblGrid>
              <a:tr h="54612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в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кл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59400" rIns="594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сам поставил цель сделать ребус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59400" rIns="594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сам действовал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9400" rIns="594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сам получил результат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59400" rIns="594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ли ученик сам ответить за свой результат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3" name="Picture 6" descr="C:\Users\user\Desktop\МиД_презентации_2 класс\Шаги урока ОНЗ\Рамка.gif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034" name="Picture 12" descr="\\Server\новая папка\Шагов\1-МИР деятельности_2 класс\МИД_ТЗ для художника_УРОКИ 1-5\All_illustrations_MID_2klass\Logo_MirD.png"/>
          <p:cNvPicPr/>
          <p:nvPr/>
        </p:nvPicPr>
        <p:blipFill>
          <a:blip r:embed="rId2"/>
          <a:stretch/>
        </p:blipFill>
        <p:spPr>
          <a:xfrm>
            <a:off x="307800" y="6269040"/>
            <a:ext cx="1283040" cy="349200"/>
          </a:xfrm>
          <a:prstGeom prst="rect">
            <a:avLst/>
          </a:prstGeom>
          <a:ln w="0">
            <a:noFill/>
          </a:ln>
        </p:spPr>
      </p:pic>
      <p:pic>
        <p:nvPicPr>
          <p:cNvPr id="2035" name="Picture 6" descr=""/>
          <p:cNvPicPr/>
          <p:nvPr/>
        </p:nvPicPr>
        <p:blipFill>
          <a:blip r:embed="rId3"/>
          <a:stretch/>
        </p:blipFill>
        <p:spPr>
          <a:xfrm>
            <a:off x="514440" y="907920"/>
            <a:ext cx="8018280" cy="5214960"/>
          </a:xfrm>
          <a:prstGeom prst="rect">
            <a:avLst/>
          </a:prstGeom>
          <a:ln w="0">
            <a:noFill/>
          </a:ln>
        </p:spPr>
      </p:pic>
      <p:sp>
        <p:nvSpPr>
          <p:cNvPr id="2036" name="Скругленный прямоугольник 7"/>
          <p:cNvSpPr/>
          <p:nvPr/>
        </p:nvSpPr>
        <p:spPr>
          <a:xfrm>
            <a:off x="3564000" y="5013360"/>
            <a:ext cx="475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65b"/>
              </a:gs>
              <a:gs pos="50000">
                <a:srgbClr val="ffffff"/>
              </a:gs>
              <a:gs pos="100000">
                <a:srgbClr val="fbe65b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Прямоугольник 5"/>
          <p:cNvSpPr/>
          <p:nvPr/>
        </p:nvSpPr>
        <p:spPr>
          <a:xfrm>
            <a:off x="3564000" y="2131920"/>
            <a:ext cx="4897440" cy="37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8" name="Picture 6" descr="C:\Users\user\Desktop\МиД_презентации_2 класс\Шаги урока ОНЗ\Рамка.gif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039" name="Picture 12" descr="\\Server\новая папка\Шагов\1-МИР деятельности_2 класс\МИД_ТЗ для художника_УРОКИ 1-5\All_illustrations_MID_2klass\Logo_MirD.png"/>
          <p:cNvPicPr/>
          <p:nvPr/>
        </p:nvPicPr>
        <p:blipFill>
          <a:blip r:embed="rId2"/>
          <a:stretch/>
        </p:blipFill>
        <p:spPr>
          <a:xfrm>
            <a:off x="307800" y="6269040"/>
            <a:ext cx="1283040" cy="349200"/>
          </a:xfrm>
          <a:prstGeom prst="rect">
            <a:avLst/>
          </a:prstGeom>
          <a:ln w="0">
            <a:noFill/>
          </a:ln>
        </p:spPr>
      </p:pic>
      <p:pic>
        <p:nvPicPr>
          <p:cNvPr id="2040" name="Picture 6" descr=""/>
          <p:cNvPicPr/>
          <p:nvPr/>
        </p:nvPicPr>
        <p:blipFill>
          <a:blip r:embed="rId3"/>
          <a:stretch/>
        </p:blipFill>
        <p:spPr>
          <a:xfrm>
            <a:off x="563400" y="787320"/>
            <a:ext cx="8017200" cy="5214960"/>
          </a:xfrm>
          <a:prstGeom prst="rect">
            <a:avLst/>
          </a:prstGeom>
          <a:ln w="0">
            <a:noFill/>
          </a:ln>
        </p:spPr>
      </p:pic>
      <p:sp>
        <p:nvSpPr>
          <p:cNvPr id="2041" name="Скругленный прямоугольник 5"/>
          <p:cNvSpPr/>
          <p:nvPr/>
        </p:nvSpPr>
        <p:spPr>
          <a:xfrm>
            <a:off x="3645000" y="4896000"/>
            <a:ext cx="4681440" cy="84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65b"/>
              </a:gs>
              <a:gs pos="50000">
                <a:srgbClr val="ffffff"/>
              </a:gs>
              <a:gs pos="100000">
                <a:srgbClr val="fbe65b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2" name="Picture 6" descr="C:\Users\user\Desktop\МиД_презентации_2 класс\Шаги урока ОНЗ\Рамка.gif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12" descr="\\Server\новая папка\Шагов\1-МИР деятельности_2 класс\МИД_ТЗ для художника_УРОКИ 1-5\All_illustrations_MID_2klass\Logo_MirD.png"/>
          <p:cNvPicPr/>
          <p:nvPr/>
        </p:nvPicPr>
        <p:blipFill>
          <a:blip r:embed="rId2"/>
          <a:stretch/>
        </p:blipFill>
        <p:spPr>
          <a:xfrm>
            <a:off x="307800" y="6269040"/>
            <a:ext cx="1283040" cy="349200"/>
          </a:xfrm>
          <a:prstGeom prst="rect">
            <a:avLst/>
          </a:prstGeom>
          <a:ln w="0">
            <a:noFill/>
          </a:ln>
        </p:spPr>
      </p:pic>
      <p:pic>
        <p:nvPicPr>
          <p:cNvPr id="2044" name="Прямоугольник 26" descr=""/>
          <p:cNvPicPr/>
          <p:nvPr/>
        </p:nvPicPr>
        <p:blipFill>
          <a:blip r:embed="rId3"/>
          <a:stretch/>
        </p:blipFill>
        <p:spPr>
          <a:xfrm>
            <a:off x="225360" y="4998960"/>
            <a:ext cx="3737160" cy="1103400"/>
          </a:xfrm>
          <a:prstGeom prst="rect">
            <a:avLst/>
          </a:prstGeom>
          <a:ln w="0">
            <a:noFill/>
          </a:ln>
        </p:spPr>
      </p:pic>
      <p:pic>
        <p:nvPicPr>
          <p:cNvPr id="2045" name="Прямоугольник 27" descr=""/>
          <p:cNvPicPr/>
          <p:nvPr/>
        </p:nvPicPr>
        <p:blipFill>
          <a:blip r:embed="rId4"/>
          <a:stretch/>
        </p:blipFill>
        <p:spPr>
          <a:xfrm>
            <a:off x="298440" y="1932120"/>
            <a:ext cx="3664080" cy="609480"/>
          </a:xfrm>
          <a:prstGeom prst="rect">
            <a:avLst/>
          </a:prstGeom>
          <a:ln w="0">
            <a:noFill/>
          </a:ln>
        </p:spPr>
      </p:pic>
      <p:pic>
        <p:nvPicPr>
          <p:cNvPr id="2046" name="Прямоугольник 28" descr=""/>
          <p:cNvPicPr/>
          <p:nvPr/>
        </p:nvPicPr>
        <p:blipFill>
          <a:blip r:embed="rId5"/>
          <a:stretch/>
        </p:blipFill>
        <p:spPr>
          <a:xfrm>
            <a:off x="3041640" y="1725480"/>
            <a:ext cx="987480" cy="1182960"/>
          </a:xfrm>
          <a:prstGeom prst="rect">
            <a:avLst/>
          </a:prstGeom>
          <a:ln w="0">
            <a:noFill/>
          </a:ln>
        </p:spPr>
      </p:pic>
      <p:pic>
        <p:nvPicPr>
          <p:cNvPr id="2047" name="Прямоугольник 29" descr=""/>
          <p:cNvPicPr/>
          <p:nvPr/>
        </p:nvPicPr>
        <p:blipFill>
          <a:blip r:embed="rId6"/>
          <a:stretch/>
        </p:blipFill>
        <p:spPr>
          <a:xfrm>
            <a:off x="3041640" y="4883040"/>
            <a:ext cx="987480" cy="1176480"/>
          </a:xfrm>
          <a:prstGeom prst="rect">
            <a:avLst/>
          </a:prstGeom>
          <a:ln w="0">
            <a:noFill/>
          </a:ln>
        </p:spPr>
      </p:pic>
      <p:pic>
        <p:nvPicPr>
          <p:cNvPr id="2048" name="Прямоугольник 30" descr=""/>
          <p:cNvPicPr/>
          <p:nvPr/>
        </p:nvPicPr>
        <p:blipFill>
          <a:blip r:embed="rId7"/>
          <a:stretch/>
        </p:blipFill>
        <p:spPr>
          <a:xfrm>
            <a:off x="298440" y="2840040"/>
            <a:ext cx="3664080" cy="609480"/>
          </a:xfrm>
          <a:prstGeom prst="rect">
            <a:avLst/>
          </a:prstGeom>
          <a:ln w="0">
            <a:noFill/>
          </a:ln>
        </p:spPr>
      </p:pic>
      <p:pic>
        <p:nvPicPr>
          <p:cNvPr id="2049" name="Прямоугольник 31" descr=""/>
          <p:cNvPicPr/>
          <p:nvPr/>
        </p:nvPicPr>
        <p:blipFill>
          <a:blip r:embed="rId8"/>
          <a:stretch/>
        </p:blipFill>
        <p:spPr>
          <a:xfrm>
            <a:off x="225360" y="3906720"/>
            <a:ext cx="3737160" cy="609840"/>
          </a:xfrm>
          <a:prstGeom prst="rect">
            <a:avLst/>
          </a:prstGeom>
          <a:ln w="0">
            <a:noFill/>
          </a:ln>
        </p:spPr>
      </p:pic>
      <p:pic>
        <p:nvPicPr>
          <p:cNvPr id="2050" name="Прямоугольник 32" descr=""/>
          <p:cNvPicPr/>
          <p:nvPr/>
        </p:nvPicPr>
        <p:blipFill>
          <a:blip r:embed="rId9"/>
          <a:stretch/>
        </p:blipFill>
        <p:spPr>
          <a:xfrm>
            <a:off x="5919840" y="3906720"/>
            <a:ext cx="2827440" cy="609840"/>
          </a:xfrm>
          <a:prstGeom prst="rect">
            <a:avLst/>
          </a:prstGeom>
          <a:ln w="0">
            <a:noFill/>
          </a:ln>
        </p:spPr>
      </p:pic>
      <p:pic>
        <p:nvPicPr>
          <p:cNvPr id="2051" name="Прямоугольник 33" descr=""/>
          <p:cNvPicPr/>
          <p:nvPr/>
        </p:nvPicPr>
        <p:blipFill>
          <a:blip r:embed="rId10"/>
          <a:stretch/>
        </p:blipFill>
        <p:spPr>
          <a:xfrm>
            <a:off x="5894280" y="2816280"/>
            <a:ext cx="2853000" cy="609480"/>
          </a:xfrm>
          <a:prstGeom prst="rect">
            <a:avLst/>
          </a:prstGeom>
          <a:ln w="0">
            <a:noFill/>
          </a:ln>
        </p:spPr>
      </p:pic>
      <p:pic>
        <p:nvPicPr>
          <p:cNvPr id="2052" name="Прямоугольник 34" descr=""/>
          <p:cNvPicPr/>
          <p:nvPr/>
        </p:nvPicPr>
        <p:blipFill>
          <a:blip r:embed="rId11"/>
          <a:stretch/>
        </p:blipFill>
        <p:spPr>
          <a:xfrm>
            <a:off x="5883120" y="4998960"/>
            <a:ext cx="2864160" cy="609840"/>
          </a:xfrm>
          <a:prstGeom prst="rect">
            <a:avLst/>
          </a:prstGeom>
          <a:ln w="0">
            <a:noFill/>
          </a:ln>
        </p:spPr>
      </p:pic>
      <p:pic>
        <p:nvPicPr>
          <p:cNvPr id="2053" name="Прямоугольник 35" descr=""/>
          <p:cNvPicPr/>
          <p:nvPr/>
        </p:nvPicPr>
        <p:blipFill>
          <a:blip r:embed="rId12"/>
          <a:stretch/>
        </p:blipFill>
        <p:spPr>
          <a:xfrm>
            <a:off x="5883120" y="1938240"/>
            <a:ext cx="2864160" cy="609840"/>
          </a:xfrm>
          <a:prstGeom prst="rect">
            <a:avLst/>
          </a:prstGeom>
          <a:ln w="0">
            <a:noFill/>
          </a:ln>
        </p:spPr>
      </p:pic>
      <p:sp>
        <p:nvSpPr>
          <p:cNvPr id="2054" name="Прямоугольник 36"/>
          <p:cNvSpPr/>
          <p:nvPr/>
        </p:nvSpPr>
        <p:spPr>
          <a:xfrm>
            <a:off x="5842080" y="1876320"/>
            <a:ext cx="7142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Прямоугольник 37"/>
          <p:cNvSpPr/>
          <p:nvPr/>
        </p:nvSpPr>
        <p:spPr>
          <a:xfrm>
            <a:off x="6107040" y="2744640"/>
            <a:ext cx="184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Прямоугольник 38"/>
          <p:cNvSpPr/>
          <p:nvPr/>
        </p:nvSpPr>
        <p:spPr>
          <a:xfrm>
            <a:off x="6107040" y="3828960"/>
            <a:ext cx="184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Прямоугольник 39"/>
          <p:cNvSpPr/>
          <p:nvPr/>
        </p:nvSpPr>
        <p:spPr>
          <a:xfrm>
            <a:off x="6107040" y="4921200"/>
            <a:ext cx="184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8" name="Прямоугольник 40" descr=""/>
          <p:cNvPicPr/>
          <p:nvPr/>
        </p:nvPicPr>
        <p:blipFill>
          <a:blip r:embed="rId13"/>
          <a:stretch/>
        </p:blipFill>
        <p:spPr>
          <a:xfrm>
            <a:off x="3035160" y="3700440"/>
            <a:ext cx="987480" cy="1176480"/>
          </a:xfrm>
          <a:prstGeom prst="rect">
            <a:avLst/>
          </a:prstGeom>
          <a:ln w="0">
            <a:noFill/>
          </a:ln>
        </p:spPr>
      </p:pic>
      <p:pic>
        <p:nvPicPr>
          <p:cNvPr id="2059" name="Прямоугольник 41" descr=""/>
          <p:cNvPicPr/>
          <p:nvPr/>
        </p:nvPicPr>
        <p:blipFill>
          <a:blip r:embed="rId14"/>
          <a:stretch/>
        </p:blipFill>
        <p:spPr>
          <a:xfrm>
            <a:off x="3035160" y="2627280"/>
            <a:ext cx="987480" cy="1182600"/>
          </a:xfrm>
          <a:prstGeom prst="rect">
            <a:avLst/>
          </a:prstGeom>
          <a:ln w="0">
            <a:noFill/>
          </a:ln>
        </p:spPr>
      </p:pic>
      <p:pic>
        <p:nvPicPr>
          <p:cNvPr id="2060" name="Прямоугольник 42" descr=""/>
          <p:cNvPicPr/>
          <p:nvPr/>
        </p:nvPicPr>
        <p:blipFill>
          <a:blip r:embed="rId15"/>
          <a:stretch/>
        </p:blipFill>
        <p:spPr>
          <a:xfrm>
            <a:off x="285840" y="530280"/>
            <a:ext cx="85104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ончи предложени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быть самостоятельным, так как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5:46:09Z</dcterms:created>
  <dc:creator>Наталья В.Посполита</dc:creator>
  <dc:description/>
  <dc:language>en-US</dc:language>
  <cp:lastModifiedBy>Татьяна Л. Медведева</cp:lastModifiedBy>
  <cp:lastPrinted>2015-04-17T05:27:15Z</cp:lastPrinted>
  <dcterms:modified xsi:type="dcterms:W3CDTF">2015-04-17T05:29:34Z</dcterms:modified>
  <cp:revision>391</cp:revision>
  <dc:subject/>
  <dc:title>Слайд 1</dc:title>
</cp:coreProperties>
</file>