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32.xml" ContentType="application/vnd.openxmlformats-officedocument.theme+xml"/>
  <Override PartName="/ppt/theme/theme44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</p:sldMasterIdLst>
  <p:notesMasterIdLst>
    <p:notesMasterId r:id="rId45"/>
  </p:notesMasterIdLst>
  <p:sldIdLst>
    <p:sldId id="256" r:id="rId46"/>
    <p:sldId id="257" r:id="rId47"/>
    <p:sldId id="258" r:id="rId48"/>
    <p:sldId id="259" r:id="rId49"/>
    <p:sldId id="260" r:id="rId50"/>
    <p:sldId id="261" r:id="rId51"/>
    <p:sldId id="262" r:id="rId52"/>
    <p:sldId id="263" r:id="rId53"/>
    <p:sldId id="264" r:id="rId54"/>
    <p:sldId id="265" r:id="rId5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notesMaster" Target="notesMasters/notesMaster1.xml"/><Relationship Id="rId46" Type="http://schemas.openxmlformats.org/officeDocument/2006/relationships/slide" Target="slides/slide1.xml"/><Relationship Id="rId47" Type="http://schemas.openxmlformats.org/officeDocument/2006/relationships/slide" Target="slides/slide2.xml"/><Relationship Id="rId48" Type="http://schemas.openxmlformats.org/officeDocument/2006/relationships/slide" Target="slides/slide3.xml"/><Relationship Id="rId49" Type="http://schemas.openxmlformats.org/officeDocument/2006/relationships/slide" Target="slides/slide4.xml"/><Relationship Id="rId50" Type="http://schemas.openxmlformats.org/officeDocument/2006/relationships/slide" Target="slides/slide5.xml"/><Relationship Id="rId51" Type="http://schemas.openxmlformats.org/officeDocument/2006/relationships/slide" Target="slides/slide6.xml"/><Relationship Id="rId52" Type="http://schemas.openxmlformats.org/officeDocument/2006/relationships/slide" Target="slides/slide7.xml"/><Relationship Id="rId53" Type="http://schemas.openxmlformats.org/officeDocument/2006/relationships/slide" Target="slides/slide8.xml"/><Relationship Id="rId54" Type="http://schemas.openxmlformats.org/officeDocument/2006/relationships/slide" Target="slides/slide9.xml"/><Relationship Id="rId55" Type="http://schemas.openxmlformats.org/officeDocument/2006/relationships/slide" Target="slides/slide1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 type="dt" idx="128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 type="ftr" idx="129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6"/>
          <p:cNvSpPr>
            <a:spLocks noGrp="1"/>
          </p:cNvSpPr>
          <p:nvPr>
            <p:ph type="sldNum" idx="130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0C28-C8DD-4565-BD91-BA12B7BE55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065" name="PlaceHolder 2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2F1A-AF7D-4BCB-87C2-E820F6EEF1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068" name="PlaceHolder 2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личностными качествами он обладает для успешного обучения? (в группах) (каких качеств ему не хватает для успешного обучения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го главного качества не хватает? целеустрем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200B-55DA-45B7-836C-6F343A5BBC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C24A-E064-4E73-9842-2BECB8D2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616F-C948-41E6-AD54-5C6B3E95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D9AC2D-08F8-4FCF-ACD6-28CD81D9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5FC6A4-6EEE-4CA5-92F8-AF115902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2B798C-C193-41F5-992E-C8BC8FB1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C1347E-6B52-49EE-A987-63AA9F2A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9C746E-CB61-4DF0-A65A-7D83AAC2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8C7973-C40D-4D87-8469-CFCC6BE5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36B2A4-3B08-415C-AEF3-57FF89D8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0BAE4A-6FCB-4E78-B301-1FDDBA08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D51058-6A7A-4623-AAA9-591F1065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E86600-E664-4596-B1E9-4D75AD04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756F-94F1-4763-A059-7CC84E6D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468FAC-2D7F-4D7C-8229-88F81C46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5FF1C9-7B1E-423C-9972-868035D8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7C0386-1703-4491-B677-09E5A281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3471E6-8033-443E-BE91-360DC01C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7B96BF-491B-4D40-AA4B-2277C9F8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A644E2-9B12-4129-98B1-22B80508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D3127E-D07D-4866-9336-28545738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290F3C-4A94-4E40-A866-F96E6171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195226-CDDC-42F0-9BD6-323C2492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87078B-5307-4C18-9099-27894CE8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345F-79BF-4425-A3A7-95029644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F2FEF5-EE96-428E-94F9-54CC84C5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3BA489-404D-4E1A-BD73-92391DE3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5B581F-8BCA-4E70-A6C9-6009F194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DA63FF-B1CA-4A87-A569-E7D3F230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544A37-11B2-4F2A-804A-E9DE05F7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1EBE0B-FAAA-4E53-B923-746C3AB7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3790E2-569E-471C-A500-B0ED4126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537621-BD79-4815-949A-070609B7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A4407C-EC71-41FC-94B4-C93816C0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C23E41-4A41-49FB-A9F8-2F0670BB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EF97-B1BA-4B36-A067-C016DA3B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CE076D-DA74-48AE-B874-65F8A028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DD2E53-0506-4577-874C-B700CD67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6308A2-E667-4A00-B7A8-299BDBCD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4A9A51-B8DD-4783-8AAD-C0FE35FB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BF2A68-ED39-4887-A1DE-5BF871B3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C8CA1E-292D-40CF-AE24-7980E4DE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D5E2A3-B22A-42FB-98F0-1728F02A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79B0B8-BC5F-45CE-BE64-21785700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691F2B-ECC0-454E-9E93-70B6024F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D763B1-C0C5-4406-98E2-6CB7B0AF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0D2A-3FF8-4C24-BF6E-DC704B4B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415443-74A0-4080-91BA-58891EAE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D53A25-2C39-402A-84EF-2C94567D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207831-E010-41C1-9AC3-C7A8E2A3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B890DB-EF99-4A01-A1DF-6216332A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965FD3-B8A0-4044-918A-6FF49B54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2D6104-7978-4939-8BFB-6520457E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0D58CE-645C-4739-960D-73D10D01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1B2973-6039-4AB9-AF95-5CC243E6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1FB249-E34B-444A-96A3-2DC00EFF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6EC1D6-605E-4F08-A015-F6A8269A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B4DE-A456-4809-992F-BF6FA01B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B29A6C-7B36-40D4-BA5B-FA855924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758DC5-ABC1-4224-82ED-E3A8F126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85E1A9-6F7B-4AEC-8BAC-D7A16B4B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E0852D-6938-4E08-B15F-E4F6CF25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95260E-FCB0-4ADC-B745-B2CE2BF9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AEADF9-A431-42F3-9C7D-593C5486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B61E5C-7156-4EAA-A3BE-86A6E3E8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90DDBB-566D-4F90-BE51-19F68B95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F91A44-754D-4143-BA63-B9BF60EF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057E381-F950-4C1C-936A-F8BF8253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61BB-3CBA-4328-8FE8-125FD30C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6357EC-113E-489C-81B0-39D86FA6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6819134-4FEB-425D-B9AC-4035BB2E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630BBC-778A-4D70-AC54-4F83BB4A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B7F6FBF-4FF1-428B-9028-45657A04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A308B3-E5C4-4A7C-BC2D-C47A5E0F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C8A8134-D99F-443E-83D3-4D525687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C063CF-20A6-4535-A2E7-F9C390F5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CF41870-0E64-4116-8814-6134CFE9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D5B4463-552E-43E0-9B20-778437E1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821407-3537-46FE-91FD-4AF653E8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9F22-DD26-4E91-BB7F-F2881F31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3B4678D-AB54-4604-8E44-5A5CB02A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89BDD68-29D4-4221-8B3C-4F250AAD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EF16C38-CEF5-47E9-BBBC-65FB920C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A4A1755-888B-4A54-ADD4-E4FA00D8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E48C837-21D6-40A6-B121-8C02A767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F4A3C9-D954-477F-AD0D-9F387FA5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DDE5F42-1DE9-4DEF-AA80-8DE34C12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9E974C-5A98-408C-BDE8-C914CC7A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337630-1FEA-4266-81DD-E412B460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7FE3B8-3144-4BD0-AB0A-D69180A8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920C-A3F8-48EA-BD85-CFA4AFC9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4ACD13-B86F-4B8A-AA43-B4D5AA4E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D0EB-6777-42F0-AD26-741B388E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82D99A7-C603-42DF-99E0-9EDDC77A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691B3C8-7F30-4925-B5AD-7BA1B9EC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C2244F0-A335-4766-AEDA-C1AEF30F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D3607AA-7570-4858-A54D-809D55FE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8060C78-0064-4C86-805D-81E41BD2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45F7A19-66B8-4DCF-927B-1E6474A8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3A64D47-8657-4664-A889-F9406823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C255-8FE5-4E25-8845-19627E63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A232-8468-4741-AAB7-9276866C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EE4F8F2-C4E2-4F62-B882-2C495313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2D1E448-8949-4C66-BEA2-80CA4722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D5D5CD7-B3A9-4020-82E0-1A69A0E3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3A0D586-8EDB-41AA-B281-70B1E126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63D175F-971C-4766-8E97-428A7A86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57777AF-F71A-47CE-9CCC-FB718BF6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4FDBDFA-124B-420A-8772-67C113BB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E26CC26-5752-4146-B808-045CD6E5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1C11CA2-7F1B-42FF-83ED-D2898E71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B16FF97-942D-45A4-9190-BE2BAE61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7C69-21DC-4BF5-950C-C25D04E1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5FE267F-6B9B-43D7-83C9-55D89456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D63F234-C501-43F3-A97F-26BFDCDF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5222806-9022-4244-884B-10A53BB8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C24E1A3-8085-4446-A3C3-E5C3F731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4D05542-59CC-4FE5-A043-9E982323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0351BBF-5E2C-4785-A9D5-189CC327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A854DF6-B419-44F5-AFE2-5827E663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A515860-F731-4FDB-8461-C68D5BA8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D65036D-40FA-4185-923B-A17566F1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D3D7B2F-C49D-4ADD-A54A-3AFB1069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5E12-1CAE-413C-86A9-8BEF0A2F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575DA18-FCAB-4291-B60E-13D0A88B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4A11CE6-8D91-4601-806C-A5F2F4D7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C57E3D7-3F5A-408C-BE33-ED752F01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BCFE284-6B21-4B72-8C9C-7955C6D7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C1965B7-B392-4D40-8A05-8995B3BD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9E7ECD0-754D-446C-BEEA-E687D1D4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0E189E7-90BC-42B2-AA84-197C2FAC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D2A8E62-0C1C-4336-B3D6-5B2CC911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41C7702-538C-44EE-801E-669E314E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376A59A-D4C6-443C-9C86-390F4EFE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6106-4FAA-4082-9DA6-8AC7DCE4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2CF6822-79A5-408B-9593-98A1829C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F7DAAAA-18F1-4370-B6B0-58D75D06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1EB3605-B12F-4C37-A7EB-0DA5845E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BF283E3-51FF-4A68-AA0B-2AAE43FF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2267A8C-0D81-46C2-A100-AA157AD1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5E7AD85-2C2E-4298-99C4-4E5068D3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B3864E9-3E03-4445-A301-C81D8A81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3A05DD9-A091-4996-AE93-AAFFE71D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5BFB039-A4C7-4B3A-BC07-1B8A9366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A9DF695-E47B-407B-AC93-44378FF2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F57A-2C16-4DE6-B63C-819B455B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40EE117-4FA8-4051-B3C0-57936CA7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EA884B7-EE30-4E97-BC1D-E61F2F90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0CED303-19EE-4045-9561-B8C7767E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946AEB1-F661-415B-90CC-E3C60F56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40E8A55-3C1E-41E4-97B9-A4523872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22E2F06-D045-44C8-A3B2-C2A825B8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90A98F2-B9C3-4EB2-B32E-03378050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7D180E2-2014-4056-B6AF-60F6992E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A3A5DE6-E5F7-4569-81C6-DFD0664C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3E44318-DFE9-4427-8748-8CAC9212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335A4-C6CF-485C-8D52-170393B8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5BCD288-24AF-4C02-820E-5133C2BB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CCFA633-DA53-4BF7-BFF4-4FF44ECF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E358EB7-593E-40D1-9EB2-04D47E80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AE7B7EE-70F7-46B4-AB8E-49A76F07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621176C-47DB-45AA-BE2B-2BE92C68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13C25EA-63DF-46B6-8039-77A1A654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1C98F73-27E8-4AFC-ADE9-2636FEDD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576A997-0E22-4F13-A49D-54F7F425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97D71A6-ECFF-4C4E-A08C-D4408244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FEF3685-3D8A-44A1-B6F7-68CFD61D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1B111-BE77-4660-AB7D-768A9296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CD92D05-1D0C-48A9-A010-943DA455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CB9AD65-6D26-4AD7-BE31-9C03B7A5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4B5D1CD-481C-4250-A435-425862E1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4E4B667-8E28-4212-B0D0-D367F9CF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89B5BAB-1D89-4A35-8409-4AB9D0AB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662321-122F-4B14-A0CA-49514A46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5A1899-EAD3-41E6-B8D2-1A8CD88F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F226AA-6AD5-45AC-8C28-938C0E41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ED936B-F478-480C-BD93-4A9E1AE6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356E71-4983-468A-A683-30F1C9B8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F8AEC-2D11-425A-B7E9-0B46CA0D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1DFCBC-5543-43EE-8665-A4E4D5AB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A6A1C4-2462-49FA-8B12-BD955CC0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F33CC5-F6D7-484D-97A9-280E8D53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ED9F43-5921-4178-B095-D88F62B6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AED878-7A82-47C6-BC1A-BD586365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0C89C5-55E0-4780-AE91-820C9F6E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8E065B-40D5-498F-BCE0-FA2755C4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0580690-D66B-45A5-B324-B9508581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0D14526-5D0D-4FEF-8146-F8AD961A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F46D160-5C29-43A4-AA79-98AE7202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9D2C8-7E35-4491-A1DC-79DA7954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928704A-4365-4896-B3F6-2E140306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FE5FA9F-8F86-4A80-9E16-600D2A2A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9F0213E-E209-4C13-BB3C-8D6A0610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E7B50DB-ABD6-43C8-AF46-093A3B64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9A63610-AE8D-4B82-AE7F-9C701155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E943527-9AB4-4482-AD62-E5C36244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B6B0678-4D22-4D16-AA2F-724A9588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BAB89D6-B3FA-493A-993C-AB6D9148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D4FFACB-C456-4FA3-8743-AC2EA473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BC4B94E-9894-471C-83A5-87B6752B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32558-290D-4826-9884-7194CD2B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78D0BC9-2D33-4C80-A7AD-C4EA541F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2DC0DA1-DFAD-409D-8366-F6C3BBCF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5E22C97-85B6-4768-B0C9-46173123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8CB5F1C-243F-49AC-9DCF-BDBF28E5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325658E-20D9-450B-B5BF-A12AE5D2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0D7EC32-4354-4C7E-85A8-61CA6082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D03DEAA-84A0-496F-A745-1F146A15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49C232E-330B-4747-A39B-599798AC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98F0CF1-C3FD-45FF-9142-EDE6FE25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895BEFD-C089-4224-8828-47F597BC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B8E2-3866-44C3-B5E7-8C9FF2B8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EBE4F-FD3D-4D5D-BD96-AE06A563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CC96670-0034-44BA-87F0-12133C45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C96B799-7035-4B7B-9159-DBA2475F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4C7174D-59E9-4689-B5DE-1D986E24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E412C33-EA2A-4902-A21A-A38FD142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277EA8D-1539-4806-BE8A-DDB693F4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B755D4D-001A-4ED5-BF7F-1F3055C5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8ED8333-2DD2-4E3E-9C84-A391A865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D275FE0-4EBE-4FD8-8E57-F1409C7F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75BDA20-E467-4658-9FE5-FD33AC96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05E17CE-EFCE-4B10-9F52-8067890C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27211-18F3-4CE0-9282-A398F03F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FC1B41E-776F-4F41-BD42-72D3A37A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6972F78-B913-44F2-BE91-361AF9BC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DF683B2-C588-4152-9DCB-1B480920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F8AF22-B60C-4B3A-8A44-60CAB266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1B07DE-8340-471E-8537-00C3141E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0E6F57-13ED-4B87-A6F6-6C589664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B25486-9735-41F0-876B-BE50013C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6F41AD-F01E-4E44-9E9E-CBFD774B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5D007A-C42B-4902-9F86-5B747409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B94DAB-E304-46DF-92F6-EACEDD2B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0BBA9-2BAA-48DE-B925-00E28544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C995E6-14EA-4382-883E-50BDBE3F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D6E6D0-2131-489B-9016-4F0E4516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DA1D50-F4EF-45EA-92EB-BED18623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47784C-FB06-40AC-AF88-8B7D44D8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8AA406-9287-4024-AF01-3E0E8036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AAA18EB-2FE8-494E-A197-0A649A21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387DEC8-7902-42B9-AB99-2703890F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9E0C0D3-9B0D-45BD-944E-00F446B2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FCB6B43-CAF1-49D3-8080-013C2D21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7529EFA-AE44-4E81-BD7B-55647FAE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905E6-5CBE-45F7-8994-6CE70568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A0CE2B9-04B8-4BD5-92E1-CC8F549F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C927C24-9735-4D0A-937E-0EEB8634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4D36E0A-85F1-4F6A-811E-D8C23F2B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A9AE2B4-E2AC-45FD-B62B-EE749451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60061EF-13FA-4E70-8FF7-83345BEF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D07D2C0-DCEF-4C0F-8F7D-601A0175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DE847DD-1B48-4AE0-806B-0C8ADA38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655F14-E151-4DF4-825A-7BDA1D2F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A622F9-6F6A-4670-8676-B3BC65E7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799B74-4B11-4DFE-BB6E-C5450BFB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4CB4A-30C0-4540-BD2B-AF7DC253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B354FA-1BAF-4B9D-A466-033AC2E5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2C43F4-CE1F-4E36-87C0-5BE38795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A699C8-422B-4D57-9552-F422A397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6850FF-D44A-41CB-8474-3346C750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DA7D41-FDB2-4216-87A1-74A37F6A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FD4E0B-1B19-465B-867C-4D35A513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3F33FE-7E9F-47C0-82BA-D7FE888A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D32307-DAF0-4D95-A446-45BD0CBA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E679BD-3629-4136-AA66-221E94D7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A6A894-F38B-4C46-8B78-8CFE0261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5E656-01F9-4491-9FA8-63804F6C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F511B5-D8F4-41B1-AA4A-1A49425D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AA1BF1-335A-4743-9AA9-9EB0D397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E31CAB-9328-4360-861E-829C6FF7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667E20-55B5-4370-B9D6-A3387684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F0ABA8-1444-4FC9-8113-9833D246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695518-710D-48A8-BE2E-92A3BB7D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E214E06-F37E-460B-B230-BC07C3C6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077069-6C17-4F61-BCB9-4ADCBD70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1DFFCB-5962-4AAD-87E0-372253D6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AD50F2-A143-4CB5-BDA9-BBB28E6A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E1D11-DA9B-47DE-BF5A-57C6A23B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B81990-1BEB-4958-BE47-F5AAD9CE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AA72EB1-9E89-4AAA-B776-77750BB4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EA81C35-310F-4736-BBFB-36E43A92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C9F0F9D-1DB7-4630-88DA-53E04216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1572E96-5A35-41AF-8793-9A3679CC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DF7EC27-9070-4EB7-9858-6658C649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CAA47B2-6688-430B-BAD0-9A8064B7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17D2C5A-32F0-433F-8CAF-904206BD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A922C37-94D2-404D-9E96-11A4854D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DD00C44-2ED3-4266-985F-7517E1DF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0AD8E-41CA-475F-B145-7F4B7CAF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BEF1CAC-7875-4427-BBDB-F536DE4E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1A7497F-5E76-494F-9E52-63454F8C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8A55B5D-EC3D-47A1-A52F-0B873FA8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7B46DCC-859D-4E4A-AB40-82C21E6B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539D1D6-929F-4DBF-A91C-AF29FA06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3BC7681-892B-490C-A60E-7C5E5AF6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D7B4045-19C5-449C-A99E-62D2FD1E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1A5E24B-9751-4CCF-9E6A-479A5074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8021C5A-36DD-4CF8-9E60-A60DB0AD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F99AD96-B802-4D3F-8B45-75559F9C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F5B27-A7C3-416A-B189-849C8F53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6167DF3-CF10-4AB7-B755-F00F8C21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8A00A9E-C1E4-44E7-957A-246062F6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EF1DB7D-73E2-4911-B44E-C95946E4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A6E042F-9E41-4A05-993B-1D4FD20E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838EABB-EC4B-4D9C-9039-CB55FF8E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4E6461E-1C0B-44B0-AACC-4F695FC6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F8BE31B-42F2-4D63-9802-CF6C58B0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8036CA4-DEFD-4D5E-819B-8D705DE4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E774E91-C52C-411F-A06A-E61F001F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EA03383-F8A4-4EB3-879F-5EDFDEE6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1F6CE-0F17-470F-BB1B-24A512CF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23CD68B-3C69-4349-BA7B-968321C5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F77DDCD-4664-4ED0-8726-C94685CE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C4E65F4-4AB1-49E5-8BBE-00167801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2761AF4-0FD3-47FB-9C3D-0D6C3EE1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554EE0D-3DF3-4851-AD7E-1FCED31F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956EE39-5009-4E0E-B858-8A5B97C3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310039C-46B2-4FB2-A608-5C96F760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39AAEE3-4418-4DBA-A456-B17337C5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B0FC589-C73F-42D3-B811-D6558604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3EA47A4-CAD7-4F1C-91A5-C89DD356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F1ED-F2C8-453E-AD5F-BF9FF85D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09871-16C6-45F4-BD0A-31000F06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53D2C59-3B67-4826-A971-32DA08D4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8FC7796-7678-4E63-A4BC-E3FBCADE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9BE686A-B0F5-4308-BE28-38E99572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FDC5248-A3FD-4620-8C9F-316C0636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8C9A667-7465-4614-BA0B-36C81C96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EC4697B-2CEA-4FE1-B867-D4121AAF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A1851CE-3E46-4995-AD84-D74632A1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4BAD79D-3E52-4D00-B06C-930DACCE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1E016F8-73A0-419A-8A62-10E1AB47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E71F5D0-AA74-490F-966E-EBEFC4AF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A30B8-1153-4E25-900A-58D0E244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347DB45-78EE-419F-9929-12E7DE91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437740A-C769-4D06-BCFE-0A0AF00D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A114609-E485-4C11-8743-F6B7CFFA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0C42278-CCC9-42F9-86E1-7B942335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116AD96-4E44-447C-9429-98B5F9D4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B2114DC-79D9-4D7D-B9DD-120ED56E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80F9CE7-0816-4989-806C-B02AC2E1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9C080A3-975F-4723-A1E1-9478F4CC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E1D5942-12AF-4EE4-A42B-92EDD3D0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DAAA8A3-5B5A-4643-8861-A3100924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1BAF8-B980-4170-806C-812276BB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67767C5-26D0-44B8-A6E3-A7626C86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84376AB-7588-4DCD-846D-A5CF9CF2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FF5AE15-5201-4CB0-BF3A-35873195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CD54607-D65E-493D-987E-4203CCB8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6FA4010-62D4-452F-A14A-B727F31A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61D3FD8-9D92-47F1-9015-159CCBDA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2D15E08-4C44-4D0B-965E-4114AC1F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65B3B79-80E2-4FC7-97EA-E5F45B5C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9B7165B-E537-4E0A-8CA4-13F3397D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67F242A-2BBD-4D91-AADA-41864C27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5A769-569D-4CC7-A653-190FD1BC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8B4BCDE-82F4-4D25-A58E-0E6DC047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24973EA-3E31-41E5-89FC-13B9A3AA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4E9D720-0EE1-4142-B67A-01456C99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A48E079-E861-4C55-B9BD-492243F4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55FDCB4-BD6A-4F33-964E-76AD516F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8C325AC-6B40-44C3-A489-1EBC68F5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468CF75-9A9A-4B7C-9203-84998744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A8FB8EE-DD7C-4BFA-83B5-DC08A9A8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DC1F62A-C57A-4A6C-A7A8-09B6412B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3FB672A-2AD7-4F6F-B354-A52EAA10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13404-34B0-4B91-8442-2CFAF09F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43A2A84-CACC-4824-9DAA-00A2F1FC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58101A2-26B7-4B4A-8065-082A8626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658577C-E815-4FAC-8E05-A7353C91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39ACB17-FD43-44B5-8BB6-45A90397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1E386CD-9878-4502-932E-591BF8BF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3A6EFFC-22E6-4795-B47F-5F946F41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09A76EC-1828-499C-AF80-0F213B29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E80CA8F-3B0F-4CC5-BF67-F419077B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6100C28-BA30-4B9C-A25B-F7C1DD46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72AD07D-9E01-4A55-B2C2-2262AE45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AFE76-722C-4E0A-95D0-DAD0F462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54F1D4A-4EAA-497C-A3D7-92112240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A0E7559-D13D-4EC6-99F8-B0331C31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6F86326-C60B-4FD3-AFB2-263C2B45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2F3A3CE-C7E4-43B2-9E71-A6A4B244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A3FB014-9FC3-4303-A261-9EB4F683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3446AE8-3ABD-45D8-A4FB-E3348CCA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38F0C26-EE57-42E9-B751-5F49137E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A932B72E-39BD-4D76-B5FF-497576A8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ABB8356-E826-4407-80D2-ACA151CE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428B49EE-0AD7-4FFA-BCD7-4CD76B30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EA510-84C7-42D5-AF85-89953E3C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1554243F-5A47-4E81-9EB7-67EC5B4E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AE64797-353B-49F2-9090-D87BDB22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85507B6D-0396-438E-81DD-74FF2048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506448AB-81C8-4C85-ABBF-5F3CED5A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9522FE4D-7BC4-4C3C-B49F-931A2BE1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8CE20954-B6AC-4B67-AD24-96BD6A96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A5DCC8F8-F6B9-4AAE-9FB7-33A99778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F49CBFE1-1A78-4F8D-80C8-1BB0D4BA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445A206D-DED4-4A64-A0C2-A5388641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2F5CDBD0-E0CD-4501-8AFB-E8078E27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0BB76-3BCA-4CE8-AC46-2D407B08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4226858-5B0E-4D9F-B585-CFF75682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312FE35D-5E74-4815-B9A9-FA51A5E7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C9569AF2-4FEE-4E83-8F4F-97816AD9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3FDECA06-48B4-4A31-A484-BB63EB20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2A1B721-1F41-4F5D-8315-EF169602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E8295E93-8592-4D92-8722-93D999B9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5D24B196-A3E1-453A-8391-FF68B408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6DAFDE5C-4E84-4694-9897-6F37128B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7E45591E-973E-4CA0-BF1D-C0A92E74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789F051-9C2A-4990-9B4D-CD03D8BE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00C51-7F22-4422-89CE-EFA8D153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228416C6-AF74-40A1-85A6-C421A27A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230F2B9-8504-4AD1-B9E5-147019C0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6F4AF10-AC16-4DAB-AFD9-A22AD6AA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3F8D9009-31DA-4ACA-AB09-F61D448D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47F531D6-0FBB-465E-B938-E0728E6F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4B49D1F6-471D-4F1B-9318-A4CBB2BE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03E9D20-9E6A-4203-8DAC-F6265101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85791DEA-928D-4FB4-A35D-C5A0AA1F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3A664188-3ED4-4AC6-B16D-F5906638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3026268D-089E-45DA-8300-824D13D7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5CDB200-2BED-492B-BDB3-4126267A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80586ECA-3D5F-45FE-BA79-6E90CACC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81F2213C-34FF-4825-B96C-A2675263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D9112EC-36D6-43FE-95F7-41C97B82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1BB71EF-808B-419A-A482-953FE375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EF1552A-93DE-450E-B14E-17E459AE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13ADBA5F-93CF-49A3-8399-4A9D79BE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B46F9825-FBC4-4922-BD24-A24904A1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0F9AD6C-FEE8-42A4-A06E-115556E2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7B820A4-862F-45C7-8D92-EA5021F9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C385-E317-4404-94A4-DB382057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D6B100F-4493-4BB7-9940-DBD377AC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1399313-3949-4A20-AD98-E95ACA35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D88C5EA-B273-4FE8-A86F-54D87B5B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B8D8259-9C88-42A0-AA06-33B63646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7E79383-B7BA-41AF-9FD6-85A34805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912FF6C9-3976-4FA6-8B2A-B74FB109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CF7923E-2BD4-4493-9C77-275EB585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5AFDAD3-8DA2-4C9A-A729-43A7359B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13AA974-B9F8-419C-BD10-EE5EDC12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57A9D7A-165D-49A0-96A4-DC61D84A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E0B8030-3B37-4AA9-AFB6-B7B08E97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9F10776-8C3A-471C-9B33-D651C361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93729FB6-9B64-4756-8EB9-B63E81AB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1554143-BC8B-4C6A-8E3B-668038CD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3B27B2C-F318-4692-9E0A-5B5CB71E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12346EE-9FD5-4CFC-B5C0-6C1C1220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B223944-B4AA-42E1-BB87-A06A5F5F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E26D-6F9A-477A-B6DF-2BB06312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805733-845E-4E43-B165-168BEB67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4CBD87-1ECD-4B9B-97A4-AAC9790D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C72512-21BB-4905-9E91-6D19CA01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8D5D98-6613-40C2-BA51-AAF128C0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C5FA68-D6DD-4919-AA8C-CC006007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655491-9A55-485F-A916-0679C5C6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47316E-2479-4EB5-9214-7FCDDA6F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3B548E-1565-4AA0-ACFC-EB1640BD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C46DB8-7009-4174-BB55-9850584B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79AC-E371-43B0-BE17-5DB500D5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816929-C2C8-4FAE-87DD-722113EA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85F619-DDF6-441F-91ED-9D0D5E4D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57EFA0-2677-40C0-93C1-C20E09EE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3D87DC-91C8-4E5C-9983-72CC2405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F11A98-7E97-467D-AF89-80602267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BC2A80-A233-4DBD-A6D6-8E9270ED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9EEB38-5715-46DA-8C7B-A31D4811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978013-E181-435A-A991-BC013FD9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0F91BC-4B9F-4828-B877-DA18D840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33F1F7-BC03-476B-B96F-E6DAA8B4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7F79-32F6-41FC-8E8A-B4172604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7ED1C9-BE08-46FB-958C-BE3F4990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844790-1C35-44A6-9117-665CA861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760152-C744-4837-9ECA-2040064A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207288-EB63-403B-A29A-321F86CC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9EB830-97E5-4C09-9E26-0F58D935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C31A13-342C-4D5F-B7A9-6869EA75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0D5D8A-0ED4-4214-B3FB-34D28775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063E61-6217-4F3D-AF6D-1AE140D1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0C2FC3-BAEA-457F-BAA7-C1647320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A210D4-E05B-4710-B6BF-8A8F2C1F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1E5F-C3BF-40E6-A762-F3D8B834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C8DC7A-BC24-4383-A2E7-87E7B3E7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2D8601-652A-4C5E-98C0-25D531DB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945EEA-618C-4795-A32C-565F3C49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443980-58E0-4CAC-B253-7B21F6AE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7F33F0-F2D7-4E99-B3C0-C77FECE5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4BE166-0FB4-40E1-8A5E-EDD739AA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9D9250-4420-426E-ADDA-853BD8AA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1F1CFB-EC26-44C2-970C-0220C523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0BC715-3C61-4530-9115-C743A4FE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61A789-1CDF-4979-BBB2-6AFEA17A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DD49-A868-45C7-B438-6CED491579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4430-0065-408A-A36F-EFA77122B7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5D02-9102-4095-B541-BAAB09E4BC4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4214-CFC5-457A-9895-6C7D2B38C17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527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8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9" name="Picture 2" descr="titlemaster_med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FDB0-5BEC-4AC1-8115-56673C22AA1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7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7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7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7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8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3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4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4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6B7D-E98B-4978-955C-604FADFB6A2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62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63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007C-E0ED-4574-839A-F63CC28159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dt" idx="45"/>
          </p:nvPr>
        </p:nvSpPr>
        <p:spPr>
          <a:xfrm>
            <a:off x="57146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ftr" idx="46"/>
          </p:nvPr>
        </p:nvSpPr>
        <p:spPr>
          <a:xfrm>
            <a:off x="1295280" y="5029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dt" idx="47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ftr" idx="48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sldNum" idx="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BE86-8949-4C82-9553-341E1E17397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dt" idx="50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ftr" idx="51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sldNum" idx="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677A-1391-4BF8-BBBE-036EC20F1BC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79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4" name="Picture 2" descr="titlemaster_med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5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5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5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843B-EBA6-4A5A-917B-060177F3200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71CB-7094-42A2-A1AE-EAF18FD6E3C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83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3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84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44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847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5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5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5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F8D4-C7FB-41FA-9BF1-B1F21D98EDC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9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95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59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60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61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B5A5-F049-4009-AFA6-216A2C513B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dt" idx="62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ftr" idx="63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sldNum" idx="64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05BD-0793-4A2B-82A4-9095113B04A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dt" idx="6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sldNum" idx="6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3C1C-DE08-493B-865A-74669B32FEF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ftr" idx="6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68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69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70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0210-63E4-4604-9201-171F56E35DF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7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7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7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FD49-4814-4BF3-A093-110BEA6A15D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 type="dt" idx="7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 type="ftr" idx="7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 type="sldNum" idx="7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7A58-AA5C-4A07-AE95-11191A1838C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dt" idx="7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sldNum" idx="7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E19B-5B83-48C7-BE08-4A4F83FCF0D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 type="ftr" idx="7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 type="dt" idx="8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 type="ftr" idx="8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 type="sldNum" idx="8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5F92-E369-498A-A292-142864D5F4A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8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sldNum" idx="8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2218-1140-4078-8C26-760C568BA8F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ftr" idx="8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8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9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89DC-7D83-43CC-87E9-941DA6CAC59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 type="dt" idx="8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 type="sldNum" idx="8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6D32-AF1D-4AD1-A1BA-2D4D618B1E3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 type="ftr" idx="8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dt" idx="8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 type="ftr" idx="9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 type="sldNum" idx="9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488A-17A1-4BE0-A88D-6146B8D27E5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 type="dt" idx="9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 type="ftr" idx="9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 type="sldNum" idx="9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A967-7AE2-4F57-9F7A-6F54AA899B3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 type="dt" idx="9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 type="ftr" idx="9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 type="sldNum" idx="97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18DA-6769-4854-90A0-811AC1CC7D60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 type="dt" idx="9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 type="ftr" idx="9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 type="sldNum" idx="10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CE95-78F4-476E-AC3B-F78BD815C375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dt" idx="101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 type="ftr" idx="102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 type="sldNum" idx="103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1C8D-8396-4F76-BF92-9FC29D33CB6B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 type="dt" idx="10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 type="ftr" idx="10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 type="sldNum" idx="10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5A5C-B8B0-4BAF-8E04-4C4C571BA1A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 type="dt" idx="10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 type="ftr" idx="10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5"/>
          <p:cNvSpPr>
            <a:spLocks noGrp="1"/>
          </p:cNvSpPr>
          <p:nvPr>
            <p:ph type="sldNum" idx="10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1A44-BD6C-4984-BFE8-818E1C69FCE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 type="dt" idx="1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 type="ftr" idx="1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5"/>
          <p:cNvSpPr>
            <a:spLocks noGrp="1"/>
          </p:cNvSpPr>
          <p:nvPr>
            <p:ph type="sldNum" idx="1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3A2B-D464-440F-9CE4-E0563AA8929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 type="dt" idx="1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 type="ftr" idx="1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 type="sldNum" idx="1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BB2F-9941-4F31-AA41-46C039C70A2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4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0C6A-8B51-461F-BB48-F7FD3E1CEA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 type="dt" idx="1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 type="ftr" idx="1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 type="sldNum" idx="1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7B33-40C5-4F41-A39F-FA8D1A84586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 type="dt" idx="1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 type="ftr" idx="1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 type="sldNum" idx="1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4682-C94C-4D1E-B158-D2BE30AE5499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 type="dt" idx="1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 type="ftr" idx="1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5"/>
          <p:cNvSpPr>
            <a:spLocks noGrp="1"/>
          </p:cNvSpPr>
          <p:nvPr>
            <p:ph type="sldNum" idx="1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D8AD-28D0-4318-916F-25B74216EE3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dt" idx="1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 type="ftr" idx="1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 type="sldNum" idx="1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438F-8AEC-44E1-ADAF-4585BE2EDAA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dt" idx="13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ftr" idx="14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1CB0-91FE-4FEC-89ED-9AF4746001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58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8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0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33E7-9CC0-4EB3-BDA8-5CD69742D60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0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0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0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9AF6-0887-49A8-A58E-49DF6F6DE12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5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C39A-C842-42DA-9B11-96081EAC591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2" name="Picture 6" descr="C:\Users\user\Desktop\МиД_презентации_2 класс\Шаги урока ОНЗ\Рамка.gif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3600"/>
          </a:xfrm>
          <a:prstGeom prst="rect">
            <a:avLst/>
          </a:prstGeom>
          <a:ln w="0">
            <a:noFill/>
          </a:ln>
        </p:spPr>
      </p:pic>
      <p:grpSp>
        <p:nvGrpSpPr>
          <p:cNvPr id="2013" name="Группа 15"/>
          <p:cNvGrpSpPr/>
          <p:nvPr/>
        </p:nvGrpSpPr>
        <p:grpSpPr>
          <a:xfrm>
            <a:off x="179280" y="1916280"/>
            <a:ext cx="8256600" cy="3684600"/>
            <a:chOff x="179280" y="1916280"/>
            <a:chExt cx="8256600" cy="3684600"/>
          </a:xfrm>
        </p:grpSpPr>
        <p:pic>
          <p:nvPicPr>
            <p:cNvPr id="2014" name="Picture 2" descr="Смайлик весёлый"/>
            <p:cNvPicPr/>
            <p:nvPr/>
          </p:nvPicPr>
          <p:blipFill>
            <a:blip r:embed="rId2"/>
            <a:stretch/>
          </p:blipFill>
          <p:spPr>
            <a:xfrm flipH="1">
              <a:off x="179280" y="3788640"/>
              <a:ext cx="1872000" cy="181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5" name="Text Box 4"/>
            <p:cNvSpPr/>
            <p:nvPr/>
          </p:nvSpPr>
          <p:spPr>
            <a:xfrm>
              <a:off x="1547640" y="1916280"/>
              <a:ext cx="6888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c00000"/>
                  </a:solidFill>
                  <a:latin typeface="Arial"/>
                </a:rPr>
                <a:t>«Мир деятельности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Text Box 8"/>
            <p:cNvSpPr/>
            <p:nvPr/>
          </p:nvSpPr>
          <p:spPr>
            <a:xfrm>
              <a:off x="3708360" y="3429000"/>
              <a:ext cx="161928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7" name="Picture 12" descr="\\Server\новая папка\Шагов\1-МИР деятельности_2 класс\МИД_ТЗ для художника_УРОКИ 1-5\All_illustrations_MID_2klass\Logo_MirD.png"/>
          <p:cNvPicPr/>
          <p:nvPr/>
        </p:nvPicPr>
        <p:blipFill>
          <a:blip r:embed="rId3"/>
          <a:stretch/>
        </p:blipFill>
        <p:spPr>
          <a:xfrm>
            <a:off x="307800" y="6269040"/>
            <a:ext cx="1283040" cy="3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думаю, что личностные качества ученик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ро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9" name="Объект 3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680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чностные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1" name="Объект 3" descr=""/>
          <p:cNvPicPr/>
          <p:nvPr/>
        </p:nvPicPr>
        <p:blipFill>
          <a:blip r:embed="rId1"/>
          <a:stretch/>
        </p:blipFill>
        <p:spPr>
          <a:xfrm>
            <a:off x="2101680" y="2631960"/>
            <a:ext cx="4921560" cy="3560760"/>
          </a:xfrm>
          <a:prstGeom prst="rect">
            <a:avLst/>
          </a:prstGeom>
          <a:ln w="0">
            <a:noFill/>
          </a:ln>
        </p:spPr>
      </p:pic>
      <p:sp>
        <p:nvSpPr>
          <p:cNvPr id="2022" name="Стрелка вправо 4"/>
          <p:cNvSpPr/>
          <p:nvPr/>
        </p:nvSpPr>
        <p:spPr>
          <a:xfrm flipH="1" rot="19531200">
            <a:off x="5762160" y="1830240"/>
            <a:ext cx="2384640" cy="166212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cc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Стрелка вправо 5"/>
          <p:cNvSpPr/>
          <p:nvPr/>
        </p:nvSpPr>
        <p:spPr>
          <a:xfrm rot="21429000">
            <a:off x="393840" y="2552400"/>
            <a:ext cx="2663640" cy="17953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Стрелка вправо 6"/>
          <p:cNvSpPr/>
          <p:nvPr/>
        </p:nvSpPr>
        <p:spPr>
          <a:xfrm rot="7383600">
            <a:off x="3822840" y="1068840"/>
            <a:ext cx="2352600" cy="165564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Стрелка вправо 7"/>
          <p:cNvSpPr/>
          <p:nvPr/>
        </p:nvSpPr>
        <p:spPr>
          <a:xfrm rot="13980000">
            <a:off x="5863320" y="4386960"/>
            <a:ext cx="2054160" cy="17730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Стрелка вправо 8"/>
          <p:cNvSpPr/>
          <p:nvPr/>
        </p:nvSpPr>
        <p:spPr>
          <a:xfrm rot="2458800">
            <a:off x="1220400" y="879480"/>
            <a:ext cx="2556000" cy="164448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Стрелка вправо 1"/>
          <p:cNvSpPr/>
          <p:nvPr/>
        </p:nvSpPr>
        <p:spPr>
          <a:xfrm rot="19901400">
            <a:off x="1230120" y="4543200"/>
            <a:ext cx="2452680" cy="171432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и школы Майнкрафт составляли головоломку. Стив и Майкл подумали и решили, что это будет ребус. Они приступили к заданию. Стив попросил Майкла начать первым выполнять задание. А сам стал смотреть. Когда время подошло к концу, Стив захотел представить результат работы. Он показал ребус, а решить его не смог. Майкл вышел к доске и все ре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ализ истории по вопрос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1" name=""/>
          <p:cNvGraphicFramePr/>
          <p:nvPr/>
        </p:nvGraphicFramePr>
        <p:xfrm>
          <a:off x="457200" y="1859040"/>
          <a:ext cx="8229600" cy="4008240"/>
        </p:xfrm>
        <a:graphic>
          <a:graphicData uri="http://schemas.openxmlformats.org/drawingml/2006/table">
            <a:tbl>
              <a:tblPr/>
              <a:tblGrid>
                <a:gridCol w="4103640"/>
                <a:gridCol w="2181240"/>
                <a:gridCol w="1944720"/>
              </a:tblGrid>
              <a:tr h="546120"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в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кл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59400" rIns="5940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 сам поставил цель сделать ребус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59400" rIns="5940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 сам действовал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59400" rIns="5940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 сам получил результат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59400" rIns="5940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ли ученик сам ответить за свой результат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3" name="Picture 6" descr="C:\Users\user\Desktop\МиД_презентации_2 класс\Шаги урока ОНЗ\Рамка.gif"/>
          <p:cNvPicPr/>
          <p:nvPr/>
        </p:nvPicPr>
        <p:blipFill>
          <a:blip r:embed="rId1"/>
          <a:stretch/>
        </p:blipFill>
        <p:spPr>
          <a:xfrm>
            <a:off x="468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034" name="Picture 12" descr="\\Server\новая папка\Шагов\1-МИР деятельности_2 класс\МИД_ТЗ для художника_УРОКИ 1-5\All_illustrations_MID_2klass\Logo_MirD.png"/>
          <p:cNvPicPr/>
          <p:nvPr/>
        </p:nvPicPr>
        <p:blipFill>
          <a:blip r:embed="rId2"/>
          <a:stretch/>
        </p:blipFill>
        <p:spPr>
          <a:xfrm>
            <a:off x="307800" y="6269040"/>
            <a:ext cx="1283040" cy="349200"/>
          </a:xfrm>
          <a:prstGeom prst="rect">
            <a:avLst/>
          </a:prstGeom>
          <a:ln w="0">
            <a:noFill/>
          </a:ln>
        </p:spPr>
      </p:pic>
      <p:pic>
        <p:nvPicPr>
          <p:cNvPr id="2035" name="Picture 6" descr=""/>
          <p:cNvPicPr/>
          <p:nvPr/>
        </p:nvPicPr>
        <p:blipFill>
          <a:blip r:embed="rId3"/>
          <a:stretch/>
        </p:blipFill>
        <p:spPr>
          <a:xfrm>
            <a:off x="514440" y="907920"/>
            <a:ext cx="8018280" cy="5214960"/>
          </a:xfrm>
          <a:prstGeom prst="rect">
            <a:avLst/>
          </a:prstGeom>
          <a:ln w="0">
            <a:noFill/>
          </a:ln>
        </p:spPr>
      </p:pic>
      <p:sp>
        <p:nvSpPr>
          <p:cNvPr id="2036" name="Скругленный прямоугольник 7"/>
          <p:cNvSpPr/>
          <p:nvPr/>
        </p:nvSpPr>
        <p:spPr>
          <a:xfrm>
            <a:off x="3564000" y="5013360"/>
            <a:ext cx="475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65b"/>
              </a:gs>
              <a:gs pos="50000">
                <a:srgbClr val="ffffff"/>
              </a:gs>
              <a:gs pos="100000">
                <a:srgbClr val="fbe65b"/>
              </a:gs>
            </a:gsLst>
            <a:lin ang="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Прямоугольник 5"/>
          <p:cNvSpPr/>
          <p:nvPr/>
        </p:nvSpPr>
        <p:spPr>
          <a:xfrm>
            <a:off x="3564000" y="2131920"/>
            <a:ext cx="4897440" cy="374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8" name="Picture 6" descr="C:\Users\user\Desktop\МиД_презентации_2 класс\Шаги урока ОНЗ\Рамка.gif"/>
          <p:cNvPicPr/>
          <p:nvPr/>
        </p:nvPicPr>
        <p:blipFill>
          <a:blip r:embed="rId1"/>
          <a:stretch/>
        </p:blipFill>
        <p:spPr>
          <a:xfrm>
            <a:off x="468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039" name="Picture 12" descr="\\Server\новая папка\Шагов\1-МИР деятельности_2 класс\МИД_ТЗ для художника_УРОКИ 1-5\All_illustrations_MID_2klass\Logo_MirD.png"/>
          <p:cNvPicPr/>
          <p:nvPr/>
        </p:nvPicPr>
        <p:blipFill>
          <a:blip r:embed="rId2"/>
          <a:stretch/>
        </p:blipFill>
        <p:spPr>
          <a:xfrm>
            <a:off x="307800" y="6269040"/>
            <a:ext cx="1283040" cy="349200"/>
          </a:xfrm>
          <a:prstGeom prst="rect">
            <a:avLst/>
          </a:prstGeom>
          <a:ln w="0">
            <a:noFill/>
          </a:ln>
        </p:spPr>
      </p:pic>
      <p:pic>
        <p:nvPicPr>
          <p:cNvPr id="2040" name="Picture 6" descr=""/>
          <p:cNvPicPr/>
          <p:nvPr/>
        </p:nvPicPr>
        <p:blipFill>
          <a:blip r:embed="rId3"/>
          <a:stretch/>
        </p:blipFill>
        <p:spPr>
          <a:xfrm>
            <a:off x="563400" y="787320"/>
            <a:ext cx="8017200" cy="5214960"/>
          </a:xfrm>
          <a:prstGeom prst="rect">
            <a:avLst/>
          </a:prstGeom>
          <a:ln w="0">
            <a:noFill/>
          </a:ln>
        </p:spPr>
      </p:pic>
      <p:sp>
        <p:nvSpPr>
          <p:cNvPr id="2041" name="Скругленный прямоугольник 5"/>
          <p:cNvSpPr/>
          <p:nvPr/>
        </p:nvSpPr>
        <p:spPr>
          <a:xfrm>
            <a:off x="3645000" y="4896000"/>
            <a:ext cx="4681440" cy="84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65b"/>
              </a:gs>
              <a:gs pos="50000">
                <a:srgbClr val="ffffff"/>
              </a:gs>
              <a:gs pos="100000">
                <a:srgbClr val="fbe65b"/>
              </a:gs>
            </a:gsLst>
            <a:lin ang="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2" name="Picture 6" descr="C:\Users\user\Desktop\МиД_презентации_2 класс\Шаги урока ОНЗ\Рамка.gif"/>
          <p:cNvPicPr/>
          <p:nvPr/>
        </p:nvPicPr>
        <p:blipFill>
          <a:blip r:embed="rId1"/>
          <a:stretch/>
        </p:blipFill>
        <p:spPr>
          <a:xfrm>
            <a:off x="468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043" name="Picture 12" descr="\\Server\новая папка\Шагов\1-МИР деятельности_2 класс\МИД_ТЗ для художника_УРОКИ 1-5\All_illustrations_MID_2klass\Logo_MirD.png"/>
          <p:cNvPicPr/>
          <p:nvPr/>
        </p:nvPicPr>
        <p:blipFill>
          <a:blip r:embed="rId2"/>
          <a:stretch/>
        </p:blipFill>
        <p:spPr>
          <a:xfrm>
            <a:off x="307800" y="6269040"/>
            <a:ext cx="1283040" cy="349200"/>
          </a:xfrm>
          <a:prstGeom prst="rect">
            <a:avLst/>
          </a:prstGeom>
          <a:ln w="0">
            <a:noFill/>
          </a:ln>
        </p:spPr>
      </p:pic>
      <p:pic>
        <p:nvPicPr>
          <p:cNvPr id="2044" name="Прямоугольник 26" descr=""/>
          <p:cNvPicPr/>
          <p:nvPr/>
        </p:nvPicPr>
        <p:blipFill>
          <a:blip r:embed="rId3"/>
          <a:stretch/>
        </p:blipFill>
        <p:spPr>
          <a:xfrm>
            <a:off x="225360" y="4998960"/>
            <a:ext cx="3737160" cy="1103400"/>
          </a:xfrm>
          <a:prstGeom prst="rect">
            <a:avLst/>
          </a:prstGeom>
          <a:ln w="0">
            <a:noFill/>
          </a:ln>
        </p:spPr>
      </p:pic>
      <p:pic>
        <p:nvPicPr>
          <p:cNvPr id="2045" name="Прямоугольник 27" descr=""/>
          <p:cNvPicPr/>
          <p:nvPr/>
        </p:nvPicPr>
        <p:blipFill>
          <a:blip r:embed="rId4"/>
          <a:stretch/>
        </p:blipFill>
        <p:spPr>
          <a:xfrm>
            <a:off x="298440" y="1932120"/>
            <a:ext cx="3664080" cy="609480"/>
          </a:xfrm>
          <a:prstGeom prst="rect">
            <a:avLst/>
          </a:prstGeom>
          <a:ln w="0">
            <a:noFill/>
          </a:ln>
        </p:spPr>
      </p:pic>
      <p:pic>
        <p:nvPicPr>
          <p:cNvPr id="2046" name="Прямоугольник 28" descr=""/>
          <p:cNvPicPr/>
          <p:nvPr/>
        </p:nvPicPr>
        <p:blipFill>
          <a:blip r:embed="rId5"/>
          <a:stretch/>
        </p:blipFill>
        <p:spPr>
          <a:xfrm>
            <a:off x="3041640" y="1725480"/>
            <a:ext cx="987480" cy="1182960"/>
          </a:xfrm>
          <a:prstGeom prst="rect">
            <a:avLst/>
          </a:prstGeom>
          <a:ln w="0">
            <a:noFill/>
          </a:ln>
        </p:spPr>
      </p:pic>
      <p:pic>
        <p:nvPicPr>
          <p:cNvPr id="2047" name="Прямоугольник 29" descr=""/>
          <p:cNvPicPr/>
          <p:nvPr/>
        </p:nvPicPr>
        <p:blipFill>
          <a:blip r:embed="rId6"/>
          <a:stretch/>
        </p:blipFill>
        <p:spPr>
          <a:xfrm>
            <a:off x="3041640" y="4883040"/>
            <a:ext cx="987480" cy="1176480"/>
          </a:xfrm>
          <a:prstGeom prst="rect">
            <a:avLst/>
          </a:prstGeom>
          <a:ln w="0">
            <a:noFill/>
          </a:ln>
        </p:spPr>
      </p:pic>
      <p:pic>
        <p:nvPicPr>
          <p:cNvPr id="2048" name="Прямоугольник 30" descr=""/>
          <p:cNvPicPr/>
          <p:nvPr/>
        </p:nvPicPr>
        <p:blipFill>
          <a:blip r:embed="rId7"/>
          <a:stretch/>
        </p:blipFill>
        <p:spPr>
          <a:xfrm>
            <a:off x="298440" y="2840040"/>
            <a:ext cx="3664080" cy="609480"/>
          </a:xfrm>
          <a:prstGeom prst="rect">
            <a:avLst/>
          </a:prstGeom>
          <a:ln w="0">
            <a:noFill/>
          </a:ln>
        </p:spPr>
      </p:pic>
      <p:pic>
        <p:nvPicPr>
          <p:cNvPr id="2049" name="Прямоугольник 31" descr=""/>
          <p:cNvPicPr/>
          <p:nvPr/>
        </p:nvPicPr>
        <p:blipFill>
          <a:blip r:embed="rId8"/>
          <a:stretch/>
        </p:blipFill>
        <p:spPr>
          <a:xfrm>
            <a:off x="225360" y="3906720"/>
            <a:ext cx="3737160" cy="609840"/>
          </a:xfrm>
          <a:prstGeom prst="rect">
            <a:avLst/>
          </a:prstGeom>
          <a:ln w="0">
            <a:noFill/>
          </a:ln>
        </p:spPr>
      </p:pic>
      <p:pic>
        <p:nvPicPr>
          <p:cNvPr id="2050" name="Прямоугольник 32" descr=""/>
          <p:cNvPicPr/>
          <p:nvPr/>
        </p:nvPicPr>
        <p:blipFill>
          <a:blip r:embed="rId9"/>
          <a:stretch/>
        </p:blipFill>
        <p:spPr>
          <a:xfrm>
            <a:off x="5919840" y="3906720"/>
            <a:ext cx="2827440" cy="609840"/>
          </a:xfrm>
          <a:prstGeom prst="rect">
            <a:avLst/>
          </a:prstGeom>
          <a:ln w="0">
            <a:noFill/>
          </a:ln>
        </p:spPr>
      </p:pic>
      <p:pic>
        <p:nvPicPr>
          <p:cNvPr id="2051" name="Прямоугольник 33" descr=""/>
          <p:cNvPicPr/>
          <p:nvPr/>
        </p:nvPicPr>
        <p:blipFill>
          <a:blip r:embed="rId10"/>
          <a:stretch/>
        </p:blipFill>
        <p:spPr>
          <a:xfrm>
            <a:off x="5894280" y="2816280"/>
            <a:ext cx="2853000" cy="609480"/>
          </a:xfrm>
          <a:prstGeom prst="rect">
            <a:avLst/>
          </a:prstGeom>
          <a:ln w="0">
            <a:noFill/>
          </a:ln>
        </p:spPr>
      </p:pic>
      <p:pic>
        <p:nvPicPr>
          <p:cNvPr id="2052" name="Прямоугольник 34" descr=""/>
          <p:cNvPicPr/>
          <p:nvPr/>
        </p:nvPicPr>
        <p:blipFill>
          <a:blip r:embed="rId11"/>
          <a:stretch/>
        </p:blipFill>
        <p:spPr>
          <a:xfrm>
            <a:off x="5883120" y="4998960"/>
            <a:ext cx="2864160" cy="609840"/>
          </a:xfrm>
          <a:prstGeom prst="rect">
            <a:avLst/>
          </a:prstGeom>
          <a:ln w="0">
            <a:noFill/>
          </a:ln>
        </p:spPr>
      </p:pic>
      <p:pic>
        <p:nvPicPr>
          <p:cNvPr id="2053" name="Прямоугольник 35" descr=""/>
          <p:cNvPicPr/>
          <p:nvPr/>
        </p:nvPicPr>
        <p:blipFill>
          <a:blip r:embed="rId12"/>
          <a:stretch/>
        </p:blipFill>
        <p:spPr>
          <a:xfrm>
            <a:off x="5883120" y="1938240"/>
            <a:ext cx="2864160" cy="609840"/>
          </a:xfrm>
          <a:prstGeom prst="rect">
            <a:avLst/>
          </a:prstGeom>
          <a:ln w="0">
            <a:noFill/>
          </a:ln>
        </p:spPr>
      </p:pic>
      <p:sp>
        <p:nvSpPr>
          <p:cNvPr id="2054" name="Прямоугольник 36"/>
          <p:cNvSpPr/>
          <p:nvPr/>
        </p:nvSpPr>
        <p:spPr>
          <a:xfrm>
            <a:off x="5842080" y="1876320"/>
            <a:ext cx="7142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Прямоугольник 37"/>
          <p:cNvSpPr/>
          <p:nvPr/>
        </p:nvSpPr>
        <p:spPr>
          <a:xfrm>
            <a:off x="6107040" y="2744640"/>
            <a:ext cx="1843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Прямоугольник 38"/>
          <p:cNvSpPr/>
          <p:nvPr/>
        </p:nvSpPr>
        <p:spPr>
          <a:xfrm>
            <a:off x="6107040" y="3828960"/>
            <a:ext cx="1843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Прямоугольник 39"/>
          <p:cNvSpPr/>
          <p:nvPr/>
        </p:nvSpPr>
        <p:spPr>
          <a:xfrm>
            <a:off x="6107040" y="4921200"/>
            <a:ext cx="1843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8" name="Прямоугольник 40" descr=""/>
          <p:cNvPicPr/>
          <p:nvPr/>
        </p:nvPicPr>
        <p:blipFill>
          <a:blip r:embed="rId13"/>
          <a:stretch/>
        </p:blipFill>
        <p:spPr>
          <a:xfrm>
            <a:off x="3035160" y="3700440"/>
            <a:ext cx="987480" cy="1176480"/>
          </a:xfrm>
          <a:prstGeom prst="rect">
            <a:avLst/>
          </a:prstGeom>
          <a:ln w="0">
            <a:noFill/>
          </a:ln>
        </p:spPr>
      </p:pic>
      <p:pic>
        <p:nvPicPr>
          <p:cNvPr id="2059" name="Прямоугольник 41" descr=""/>
          <p:cNvPicPr/>
          <p:nvPr/>
        </p:nvPicPr>
        <p:blipFill>
          <a:blip r:embed="rId14"/>
          <a:stretch/>
        </p:blipFill>
        <p:spPr>
          <a:xfrm>
            <a:off x="3035160" y="2627280"/>
            <a:ext cx="987480" cy="1182600"/>
          </a:xfrm>
          <a:prstGeom prst="rect">
            <a:avLst/>
          </a:prstGeom>
          <a:ln w="0">
            <a:noFill/>
          </a:ln>
        </p:spPr>
      </p:pic>
      <p:pic>
        <p:nvPicPr>
          <p:cNvPr id="2060" name="Прямоугольник 42" descr=""/>
          <p:cNvPicPr/>
          <p:nvPr/>
        </p:nvPicPr>
        <p:blipFill>
          <a:blip r:embed="rId15"/>
          <a:stretch/>
        </p:blipFill>
        <p:spPr>
          <a:xfrm>
            <a:off x="285840" y="530280"/>
            <a:ext cx="8510400" cy="9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ончи предложени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хочу быть самостоятельным, так как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5:46:09Z</dcterms:created>
  <dc:creator>Наталья В.Посполита</dc:creator>
  <dc:description/>
  <dc:language>en-US</dc:language>
  <cp:lastModifiedBy>Татьяна Л. Медведева</cp:lastModifiedBy>
  <cp:lastPrinted>2015-04-17T05:27:15Z</cp:lastPrinted>
  <dcterms:modified xsi:type="dcterms:W3CDTF">2015-04-17T05:29:34Z</dcterms:modified>
  <cp:revision>391</cp:revision>
  <dc:subject/>
  <dc:title>Слайд 1</dc:title>
</cp:coreProperties>
</file>