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AD3-67F3-4CED-9A31-73869C88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767-3907-4788-867B-AF7300A0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E16-285D-4ADD-9AC6-7408BA64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C30-7661-4732-91D6-067A12B1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591-41F8-4A18-AE89-2E6D66C3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7B2-BFC4-4458-98B0-CB912A4B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86C-0B87-4960-A637-A48EBD79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F8A-4DA6-4A9D-A133-20B7EFC8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C51-A3C3-4B79-A698-674A0C31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406-56B3-4E81-AA57-8EADDEC7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7D0-5930-4B92-BBBE-F7E78BB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6E1-5F38-4211-AD12-21474AC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E337-1815-4D8D-9C67-E99C18B362A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Мастер – класс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о тем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1430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Bookman Old Style"/>
              </a:rPr>
              <a:t>«Подготовка к сжатому изложению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КОУ СОШ № 24 р.п.Юрт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сакова Наталья Николаев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D:\Анимации\Предметы\1b6.gif"/>
          <p:cNvPicPr/>
          <p:nvPr/>
        </p:nvPicPr>
        <p:blipFill>
          <a:blip r:embed="rId1"/>
          <a:stretch/>
        </p:blipFill>
        <p:spPr>
          <a:xfrm>
            <a:off x="5929200" y="4214880"/>
            <a:ext cx="31528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Calibri"/>
              </a:rPr>
              <a:t>Чистый воздух нужен не только людям, он необходим в точном производстве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Упражнение 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Перед вами первые два абзаца текста. Какая информация вам кажется факультативной? Какие предложения, перестроив, можно соединить? Используя различные приемы сжатия текста, передайте основную информацию, заключенную в двух абзацах, так, чтобы объем вашего высказывания не превышал 35 сл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1. Может показаться парадоксальным, но людям нужны не только рациональные цели, но и совсем не рациональные мечты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2. Цель всегда конкретна, измеряема, достижима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3. Например, целью может быть поступление в вуз или покупка мотоцикла. 4. В любом случае можно заранее продумать и просчитать, что нужно сделать, чтобы этого достичь. </a:t>
            </a:r>
            <a:r>
              <a:rPr b="0" i="1" lang="ru-RU" sz="2700" spc="-1" strike="noStrike">
                <a:solidFill>
                  <a:srgbClr val="ffffff"/>
                </a:solidFill>
                <a:latin typeface="Calibri"/>
              </a:rPr>
              <a:t>(45 слов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ожет показаться парадоксальным, но людям нужны не только рациональные цели, но и нерациональные мечты. 2. Цель конкретна, точна, достижима. 3. Можно заранее просчитать, что нужно сделать для ее достижения. </a:t>
            </a: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(28 слов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Используется прием исключения факультативной информации (3-е предложение, второстепенные члены в 4-м предложении исходного текста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Языковая компрессия текст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пражнение 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а) Трансформация словосочетан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Выберите из синонимичных языковых средств наиболее краткие и емкие, «экономичные»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ать подтверждение - подтвердить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вести доказательство - доказать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водить исследование - ...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ершать вращение - ...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являть интерес - ...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ыдвинуть предположения - .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цесс реакции - реакция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войство упругости — ...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есяц март — .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Упражнение 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071720"/>
            <a:ext cx="8472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б) Трансформация предлож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Замените придаточное предложение предложно-падежной конструкцией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того чтобы осуществить - для осуществления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того чтобы получить - …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того чтобы изменить - ...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того чтобы соединить - ...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того чтобы распределить - ...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того чтобы рассмотреть - ..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любом случае можно заранее продумать и просчитать, что нужно сделать, </a:t>
            </a: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чтобы достичь цели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 любом случае можно заранее продумать и просчитать, что нужно сделать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для достижения цел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Упражнение 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Замените придаточное условия предложно-падежной конструкцией или деепричастным оборотом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Если принимать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итамины не менее 4 месяцев в году, можно восполнить дефицит важнейших элементов и усилить защитные свойства организма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Принимая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витамины не менее 4 месяцев в году, можно восполнить дефицит важнейших элементов и усилить защитные свойства организм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alibri"/>
              </a:rPr>
              <a:t>ПРИМЕР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Подчеркните только то, без чего нельзя понять смысл рассказ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ила девочка Женя. Однажды послала ее мама в магазин за баранками. Купила Женя семь баранок: две баранки с тмином для папы, две баранки с маком для мамы, две баранки с сахаром для себя и одну маленькую розовую баранку для братика Павлика. Взяла Женя связку баранок и отправилась домой. Идет, по сторонам зевает, вывески читает, ворон считает. А тем временем сзади пристала незнакомая собака да все баранки одну за другой и съела: съела папины с тмином, потом мамины с маком, потом Женины с сахаром. Почувствовала Женя, что баранки стали что-то чересчур легкие. Обернулась, да уж поздно. Мочалка болтается пустая, а собака последнюю, розовую  Павликову  бараночку  доедает, облизываетс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—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х, вредная собака! — закричала Женя и бросилась ее догоня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жала, бежала, собаку не догнала, только сама заблудилас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идит - место совсем незнакомое, больших домов нет, а стоя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ленькие домики. Испугалась Женя и заплакала. Вдруг откуда ни возьмись - старушк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Девочка, девочка, почему ты плачешь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еня старушке все и рассказала. Пожалела старушка Женю, привела ее в свой садик..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(В.Катаев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500040" y="42876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ила девочка Женя. Однажды послала ее мама в магазин за баранками. Купила Женя семь баранок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: две баранки с тмином для папы, две баранки с маком для мамы, две баранки с сахаром для себя и одну маленькую розовую баранку для братика Павлика. Взяла Женя связку баранок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 отправилась домой. Идет, по сторонам зевает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вывески читает, ворон считает. А тем временем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зади приста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незнаком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бака да все баранки 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одну за другой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ъела: 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съела папины с тмином, потом мамины с маком, потом Женины с сахаром. Почувствовал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еня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, что баранки стали что-то чересчур легкие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ернулась, да уж поздно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. Мочалка болтается пустая, а собака последнюю, розовую  Павликову  бараночку  доедает, облизыва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—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Ах, вредная собака! — закричал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е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росилась ее догоня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ежала</a:t>
            </a: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, бежала, собаку не догнала, только сам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блудилас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Видит - место совсем незнакомое, больших домов нет, а сто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маленькие домики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спугалась Женя и заплакала. Вдруг откуда ни возьмись - старуш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Arial"/>
              </a:rPr>
              <a:t>-Девочка, девочка, почему ты плачеш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еня старушке все и рассказала. Пожалела старушка Женю, привела ее в свой садик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Как научиться писать сжатое изложение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Какие приемы можно использовать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На каком материале это лучше всего делать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Жила девочка Женя. Однажды послала ее мама в магазин за баранками. Купила Женя баранки и отправилась домой. Идет, по сто­ронам зевает. А сзади пристала собака да все баранки и съела. Женя обернулась, да уж поздно. Бросилась Женя собаку догонять, да только сама заблудилас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Испугалась Женя и заплакала. Вдруг откуда ни возьмись -старушк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Женя ей все и рассказала. Пожалела старушка Женю, привела ее в свой садик.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072428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72428"/>
                </a:solidFill>
                <a:latin typeface="Calibri"/>
              </a:rPr>
              <a:t>Оцените, правильно ли ученик выполнил предыдущее задани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Однажды послала мама Женю в магазин за баранками. Купила Женя баранки и отправилась домой. Идет, по сторонам зевает. А сзади пристала собака да все баранки и съела. Женя обернулась, да уж поздно. Мочалка болтается пустая, а собака последнюю, розовую Павликову бараночку доедает, облизываетс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Бросилась Женя собаку догонять, да только сама заблудилас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2303e"/>
                </a:solidFill>
                <a:latin typeface="Calibri"/>
              </a:rPr>
              <a:t>Испугалась Женя и заплакала. Пожалела старушка Женю, привела ее в свой садик.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000"/>
                </a:solidFill>
                <a:latin typeface="Monotype Corsiva"/>
              </a:rPr>
              <a:t>Спасибо за работу!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Monotype Corsiva"/>
              </a:rPr>
              <a:t>Удачи на экзаменах!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D:\Анимации\Предметы\1bм1.gif"/>
          <p:cNvPicPr/>
          <p:nvPr/>
        </p:nvPicPr>
        <p:blipFill>
          <a:blip r:embed="rId1"/>
          <a:stretch/>
        </p:blipFill>
        <p:spPr>
          <a:xfrm>
            <a:off x="2143080" y="3357720"/>
            <a:ext cx="36432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Содержательные приемы компрессии текста</a:t>
            </a: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 разделение информации на главную и второстепенную,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сключение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существенной и второстепенной информации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 свертывание исходной информации за счет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бобщения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перевода частного в общее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Основные </a:t>
            </a: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языковые приемы компрессии исходного текста: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0" lang="ru-RU" sz="3300" spc="-1" strike="noStrike">
                <a:solidFill>
                  <a:srgbClr val="ffc000"/>
                </a:solidFill>
                <a:latin typeface="Calibri"/>
              </a:rPr>
              <a:t>Замены: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замена однородных членов обобщающим наименованием; 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замена фрагмента предложения синонимичным выражением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замена предложения или его части указательным местоимением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замена предложения или его части определительным или отрицательным местоимением с обобщающим значением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замена сложноподчиненного предложения простым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Исключения: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ключение повторов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ключение фрагмента предложения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ключение одного или нескольких синоним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Слияния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лияние нескольких предложений в одно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Упражнение 1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Прочитайте предложение и подчеркните в нем главную информацию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ногие вещества биологического происхождения, основой которых является вода, имеют жидкокристаллическую структур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6003000" y="5929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Многие вещества биологического происхождения,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основой которых является вода, 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имеют жидкокристаллическую структур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Б)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нято считать, что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истый воздух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ужен только людям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подтверждением тому является устойчивый оборот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как без воздуха,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о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истый воздух необходим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в особо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очном производств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так как из-за пыли машины преждевременно изнашиваю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12:29Z</dcterms:created>
  <dc:creator>Сергей</dc:creator>
  <dc:description/>
  <dc:language>en-US</dc:language>
  <cp:lastModifiedBy>Исакова</cp:lastModifiedBy>
  <dcterms:modified xsi:type="dcterms:W3CDTF">2014-11-30T12:48:07Z</dcterms:modified>
  <cp:revision>31</cp:revision>
  <dc:subject/>
  <dc:title>Итоговая аттестация в 9 классе в новой форме</dc:title>
</cp:coreProperties>
</file>