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5827-8A29-4C6F-BFC5-260F4D89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3D4F-CB9E-41DE-9D56-DDD0A08E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10C4-67B8-4384-9497-D5E1CADE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F425-E967-4437-B798-40219716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AC6F-9CEA-457D-8653-629E81B7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5B8-D40A-493E-A216-3E68D7B6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CE64-B5C2-4D11-8FF8-9D783777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F0AB-5104-4B61-B0B5-B7037B9B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8649-B6CB-408F-848F-38F7EE63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8AFB-70B9-4670-91A1-5A30B6D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358-6188-44CA-A3CC-48BB06B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0A32-279E-41CE-895E-9BB455E2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E9F-E931-4228-A693-5A18C89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0E03-CEBB-44F2-B4F3-08D0EAD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292A-8824-45A8-AC98-BF84CF23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536C-42F0-4897-8ADA-D6120C60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3230-BA03-409A-8A39-31891C92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9A6D-530E-4D36-B74F-C90413D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B57C-C324-4537-A285-157F49A6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C6E5-22E3-4693-91EF-0428C58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F5DA-9E9D-4B6F-AB5B-9837A09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382F-D269-469A-909E-740762A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62DD-7197-4D24-980E-BDE9518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22F6-6BEA-47AA-8B26-6169922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DC5C-75F7-4158-B9A2-82F351E953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5BD-587A-4C93-9F50-FD733C5F28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082960"/>
            <a:ext cx="823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ru-RU" sz="4600" spc="-1" strike="noStrike" u="sng">
                <a:solidFill>
                  <a:srgbClr val="ffffff"/>
                </a:solidFill>
                <a:uFillTx/>
                <a:latin typeface="Arial"/>
              </a:rPr>
              <a:t>Закаливание организм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001160" y="6821640"/>
            <a:ext cx="121464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0560" y="22978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ttp://www.todaysseniorsnetwork.com/MCj01368910000%5B1%5D.gif"/>
          <p:cNvPicPr/>
          <p:nvPr/>
        </p:nvPicPr>
        <p:blipFill>
          <a:blip r:embed="rId1"/>
          <a:stretch/>
        </p:blipFill>
        <p:spPr>
          <a:xfrm>
            <a:off x="7596360" y="4292640"/>
            <a:ext cx="1380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оздействия природных факто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средствами закаливания являются воздух, вода, солнечные лучи; сочетание с физическими упражнениями повышает эффективность закаливающих процедур.                                                                                                       Эффективность действия закаливающих процедур значительно повышается, если их сочетать с выполнением спортивных упражнений. При этом важно добиваться, чтобы величина нагрузок на организм была также различ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3526846-web"/>
          <p:cNvPicPr/>
          <p:nvPr/>
        </p:nvPicPr>
        <p:blipFill>
          <a:blip r:embed="rId1"/>
          <a:stretch/>
        </p:blipFill>
        <p:spPr>
          <a:xfrm>
            <a:off x="3708360" y="3716280"/>
            <a:ext cx="2174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тоды закали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воздух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аспространенная и доступная форма закаливания - использование свежего воздуха. Большое значение для  укрепления здоровья имеют прогулк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ливающее действие воздуха на организм способствует повышению тонуса нервной и эндокринной систем, улучшаются процессы пищеварения, совершенствуется деятельность сердечно -сосудистой и дыхательной систем.                                                               Пребывание на свежем воздухе улучшает общее самочувствие организма, оказывая влияние на эмоциональное состояние, вызывает чувство бодрости, свеже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258713430_00-37"/>
          <p:cNvPicPr/>
          <p:nvPr/>
        </p:nvPicPr>
        <p:blipFill>
          <a:blip r:embed="rId1"/>
          <a:stretch/>
        </p:blipFill>
        <p:spPr>
          <a:xfrm>
            <a:off x="3429000" y="4572000"/>
            <a:ext cx="2592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86960" y="-4936680"/>
            <a:ext cx="3571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выраженное действие оказыв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хлад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умерен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олод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шные ванны. Принимая с целью закаливания все более прохлад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шные ванны, мы тем самым тренируем организм к низким температурам обеспечивающих терморегуляторные проце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пл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ны, не обеспечивая закаливания, тем не менее тоже оказывают положительное влияние на организм.                                                                   Человек легче переносит высокую температуру при сухом воздухе, чем при влажном. Сухость воздуха способствует потере организмом вла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644040" y="-2255400"/>
            <a:ext cx="714240" cy="67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здушные процед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целью закаливания могут применяться одетым человеком на открытом воздухе (прогулки, спортивные занятия), или обнаженным человеком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5400_100799234_small"/>
          <p:cNvPicPr/>
          <p:nvPr/>
        </p:nvPicPr>
        <p:blipFill>
          <a:blip r:embed="rId1"/>
          <a:stretch/>
        </p:blipFill>
        <p:spPr>
          <a:xfrm>
            <a:off x="3276720" y="3000240"/>
            <a:ext cx="2447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72800" y="-49366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улки на воздухе проводятся в любое время года независимо от погоды. Длительность прогулок устанавливается индивидуально для каждого человека в зависимости от состояния его здоровья и возраста.                                                    Пребывание на воздухе целесообразно сочетать с активными движениями: зимой – катанием на коньках, лыжах, а летом – игрой в мяч и другими подвижными иг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?q=aHR0cDovL3d3dy4xMDAxdHVyLnJ1L2ltZy90b3VyX25vdy84MTMxMC5qcGc%3D"/>
          <p:cNvPicPr/>
          <p:nvPr/>
        </p:nvPicPr>
        <p:blipFill>
          <a:blip r:embed="rId1"/>
          <a:stretch/>
        </p:blipFill>
        <p:spPr>
          <a:xfrm>
            <a:off x="2843280" y="3429000"/>
            <a:ext cx="3871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оздушные ванн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каливание воздухом подготавливает организм к последующим закаливающим процедурам, например к закаливанию в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зировка воздушных ванн осуществляется двумя путями: постепенным снижением температуры воздуха и увеличением продолжительности процедуры при той же темпера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ть прием воздушных ванн надо в комнате независимо от времени года при температуре не ниже 15-16° С, и только спустя некоторое время можно переходить на открытый воздух. Их принимают в хорошо проветренном помещении. Обнажив тело, следует оставаться в таком состоянии в начале курса закаливания не более 3-5 минут (в дальнейшем увеличивая время). При приеме прохладных и особенно холодных ванн рекомендуется совершать активные движения: гимнастические упражнения, ходьбу, бег на мест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оответствующей предварительной подготовки можно перейти к прием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душных ван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ткрытом воздухе. Их нужно принимать в местах, защищенных от прямых солнечных лучей и сильного ветра. Начинать прием воздушных ванн на открытом воздухе надо с температурой воздуха 20-22° С. Первая воздушная ванна должна длиться не более 15 минут, каждая последующая должна быть продолжительнее на 10-15 мину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 условием эффективности закаливания на открытом воздухе является ношение одежды, соответствующей погодным условиям. Одежда должна допускать свободную циркуляцию воздух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0883"/>
          <p:cNvPicPr/>
          <p:nvPr/>
        </p:nvPicPr>
        <p:blipFill>
          <a:blip r:embed="rId1"/>
          <a:stretch/>
        </p:blipFill>
        <p:spPr>
          <a:xfrm>
            <a:off x="3203640" y="4365720"/>
            <a:ext cx="2950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ем влияния водных закаливающих процедур служит реакция кожи.                                                                                                                               - Если в начале процедуры она на короткое время бледнеет, а затем краснеет, то это говорит о положительном воздействии, следовательно, физиологические механизмы терморегуляции справляются с охлаждением.                                                                                              - Если же реакция кожи выражена слабо, побледнение и покраснение ее отсутствует – это означает недостаточность воздействия. Надо несколько понизить температуру воды или увеличить длительность процедуры. Резкое побледнение кожи, чувство сильного холода, озноб и дрожь свидетельствуют о переохлаждении. В этом случае надо уменьшить холодовую нагрузку, повысить температуру воды или сократить время процед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-main-pic" descr="Картинка 5 из 49897"/>
          <p:cNvPicPr/>
          <p:nvPr/>
        </p:nvPicPr>
        <p:blipFill>
          <a:blip r:embed="rId1"/>
          <a:stretch/>
        </p:blipFill>
        <p:spPr>
          <a:xfrm>
            <a:off x="5580000" y="4437000"/>
            <a:ext cx="2952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0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тир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ьный этап закаливания водой. Его проводят полотенцем, губкой или просто рукой, смоченной водой. Обтирание производят последовательно: шея, грудь, спина, затем вытирают их насухо и растирают полотенцем до красноты. После этого обтирают ноги и также растирают их. Вся процедура осуществляется в пределах пяти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и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ледующий этап закаливания. Для первых обливаний целесообразно применять воду с температурой около + 30° С, в дальнейшем снижая ее до + 15° С и ниже. После обливания проводится энергичное растирание тела полотенц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еще более эффективная водная процедура. В начале закаливания температура воды должна быть около +30-32° С и продолжительность не более минуты. В дальнейшем можно постепенно снижать температуру и увеличивать продолжительность до 2 мин., включая растирание тела. При хорошей степени закаленности можно принимать контрастный душ, чередуя 2-3 раза воду 35-40° С с водой 13-20° С на протяжении 3 мин. Регулярный прием указанных водных процедур вызывает чувство свежести, бодрости, повышенной работо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упании осуществляется комплексное влияние на организм воздуха, воды и солнечных лучей.                                                                    Начинать купания можно при температуре воды 18-20° С и 14-15 ° С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4a64cb0045b4"/>
          <p:cNvPicPr/>
          <p:nvPr/>
        </p:nvPicPr>
        <p:blipFill>
          <a:blip r:embed="rId1"/>
          <a:stretch/>
        </p:blipFill>
        <p:spPr>
          <a:xfrm>
            <a:off x="3276720" y="3068640"/>
            <a:ext cx="338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ы закал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методы закал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аливание зе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скание гор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одится каждый день утром и вечером. Вначале используется вода с температурой 23-25° С, постепенно каждую неделю она снижается на 1-2С и доводится до 5-10°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каливания рекомендуется наряду с общими применять и местные водные процедуры. Наиболее распространенные из них – полоскание горла холодной водой, так как при этом закаливаются наиболее уязвимые для охлаждения части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rostuda-138"/>
          <p:cNvPicPr/>
          <p:nvPr/>
        </p:nvPicPr>
        <p:blipFill>
          <a:blip r:embed="rId1"/>
          <a:stretch/>
        </p:blipFill>
        <p:spPr>
          <a:xfrm>
            <a:off x="3851280" y="4292640"/>
            <a:ext cx="19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ие годы все большее и большее внимание привлек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имнее куп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имнее купание и плавание оказывают влияние практически на все функции организма. У “моржей” заметно улучшается работа легких, сердца, возрастает газообмен, совершенствует система терморегуляции.                                                                                   Занятия зимним плаванием надо начинать только после предварительной тренировки закаливания. Купание в проруби начинают, как правило, с небольшой разминки, в которую включают гимнастические упражнения и легкий бег. Пребывание в воде длится не более 30-40 сек. (для длительно занимающихся – 90 сек.). Плавают обязательно в шапочке. После выхода из воды проделывают энергичные движения, тело вытирают полотенцем насухо и проводят самомассаж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zacal4_"/>
          <p:cNvPicPr/>
          <p:nvPr/>
        </p:nvPicPr>
        <p:blipFill>
          <a:blip r:embed="rId1"/>
          <a:stretch/>
        </p:blipFill>
        <p:spPr>
          <a:xfrm>
            <a:off x="6588000" y="4724280"/>
            <a:ext cx="1573200" cy="184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http://www.liveufa.ru/uploads/images/1/a/f/9/1150/bdeb13315a.jpg"/>
          <p:cNvPicPr/>
          <p:nvPr/>
        </p:nvPicPr>
        <p:blipFill>
          <a:blip r:embed="rId2"/>
          <a:stretch/>
        </p:blipFill>
        <p:spPr>
          <a:xfrm>
            <a:off x="826920" y="4724280"/>
            <a:ext cx="23050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в пар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85716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прекрасным гигиеническим, лечебным и закаливающим средством.                                                                                                                              Под влиянием банной процедуры повышается работоспособность организма и его эмоциональный тонус, ускоряются восстановительные процессы после напряженной и длительной физической работы.                      В результате регулярного посещения бани возрастает сопротивляемость организма к простудным и инфекционным заболеваниям.                                                                                                Пребывание в парном отделении бани вызывает расширение кровеносных сосудов, усиливает кровообращение во всех тканях организма. Под влиянием высокой температуры интенсивно выделяется пот, что способствует выведению из организма вредных продуктов обмена веществ.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нные процедуры не рекомендуется применять людям, страдающим сердечно-сосудистыми заболеваниями, гипертон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1323"/>
          <p:cNvPicPr/>
          <p:nvPr/>
        </p:nvPicPr>
        <p:blipFill>
          <a:blip r:embed="rId1"/>
          <a:stretch/>
        </p:blipFill>
        <p:spPr>
          <a:xfrm>
            <a:off x="3429000" y="4214880"/>
            <a:ext cx="2232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каливание солн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71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нечные инфракрасные лучи обладают ярко выраженным тепловым действием на организм. Они способствуют образованию дополнительного тепла в организме. В результате этого усиливается деятельность потовых желез и увеличивается испарение влаги с поверхности кожи: происходит расширение подкожных сосудов и возникает гиперемия кожи, усиливается кровоток, а это улучшает кровообращение всех тканях организма. УФ облучение обладает большим биологическим эффектом: оно способствует образованию в организме витамина D, который оказывает выраженное антирахитическое действие; ускоряет обменные процессы. УФ лучи способствуют улучшению состава крови, обладают бактерицидным действием, повышая тем самым сопротивляемость организма по отношению к простудным и инфекционным заболеваниям; они оказывают тонизирующее действие практически на все функции организ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а разных людей обладает разной степенью чувствительности к солнечному облучению. Это связано с толщиной рогового слоя, степенью кровоснабжения кожи и способностью её к пигм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a756c3ab26be"/>
          <p:cNvPicPr/>
          <p:nvPr/>
        </p:nvPicPr>
        <p:blipFill>
          <a:blip r:embed="rId1"/>
          <a:stretch/>
        </p:blipFill>
        <p:spPr>
          <a:xfrm>
            <a:off x="3643200" y="4357800"/>
            <a:ext cx="1785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ван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целью закаливания следует принимать очень осторожно, иначе вместо пользы они принесут вред (ожоги, тепловой и солнечный удары). Принимать солнечные ванны лучше всего утром, когда воздух особенно чист и ещё не слишком жарко, а также ближе к вечеру, когда солнце клонится к закату. Продолжительность их не должна превышать 5 минут (далее прибавлять по 3-5 минут, постепенно доводя до часа). Вовремя приема солнечных ванн нельзя спать! Голова должна быть прикрыта панамой, а глаза темными оч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ключении отмечу, что закаливание – важное средство профилактики неблагоприятного воздействия погодно-климатических условий на организм. Систематическое применение закаливающих процедур повышает общий уровень здоровь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лнечные ван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u_g_44"/>
          <p:cNvPicPr/>
          <p:nvPr/>
        </p:nvPicPr>
        <p:blipFill>
          <a:blip r:embed="rId1"/>
          <a:stretch/>
        </p:blipFill>
        <p:spPr>
          <a:xfrm>
            <a:off x="3348000" y="4365720"/>
            <a:ext cx="3168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каляйтесь на здоровь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то такое закаливание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комплекс мероприятий по повышению устойчивости организма к воздействию неблагоприятных погодно-климатических условий.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своеобразная тренировка защитных сил организма. Закаливающие процедуры нормализуют состояние эмоциональной сферы, делают человека более сдержанным, уравновешенным, они придают бодрость, улучшают настроение. Закаливание повышает работоспособность и выносливость организма. Закаленный человек легко переносит не только жару и холод, но и резкие перемены внешней температуры, которые способны ослабить защитные силы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ейшая профилактическая роль закаливания состоит в том, что закаливание не лечит, а предупреждает болезнь. Закаливание может применять любой человек независимо от степени физическ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з истории закали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редство повышения защитных сил организма закаливание возникло в глубокой древности. Славянские народы Древней Руси использовали для укрепления здоровья баню с последующим растиранием снегом или купанием в реке или озере в любое время года. Баня выполняла лечебную и оздоровительную функции. Особое внимание закаливанию уделялось в русской армии, где для “крепости и здравия тела” также широко использовалась русская ба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232707082_izobrazhenie-074-szhato"/>
          <p:cNvPicPr/>
          <p:nvPr/>
        </p:nvPicPr>
        <p:blipFill>
          <a:blip r:embed="rId1"/>
          <a:stretch/>
        </p:blipFill>
        <p:spPr>
          <a:xfrm>
            <a:off x="3132000" y="4149720"/>
            <a:ext cx="324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закали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али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мелое использование механизмов защиты и адаптации организма. Оно позволяет использовать скрытые возможности организма, мобилизовать в нужный момент защитные силы и тем самым устранить опасное влияние на него неблагоприятных факторов внешн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оведении закаливания лучше всего придерживаться известного медицинского правила: слабые раздражители способствуют лучшему отправлению функций, сильные мешают ему, чрезмерные – губитель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ивание необходимо осуществлять по следующим механизма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истематичность использования закаливающих процед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ивание организма должно проводиться систематически, изо дня в день в течение всего года независимо от погодных условий и без длительных перерывов. Тогда у организма вырабатывается определенная стереотипная реакция на применяемый раздражитель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ения реакции орган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воздействие холода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вающие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повторного охлаждения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репля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храняю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ь пр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огом режиме повторения охлаж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- Перерывы в закаливании снижают приобретенную организмом устойчивость к температурным воздействиям. Так, проведение закаливающих процедур в течение 2-3 месяцев, а затем их прекращение приводит к тому, что закаленность организма исчезает через месяц, а у детей через неделю.                                                                      - В случае появления признаков заболевания закаливание временно прекращают, после выздоровления следует возобновить его с начального пери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степенность увеличения силы раздражающего воздейст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ливание даст положительный результат, если сила и длительность действия закаливающих процедур будут наращиваться постепенно. Не следует начинать закаливание сразу же с обтирания снегом или купания в проруби. Такое  закаливание может принести вред здоровь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 от менее сильных воздействий к более сильным должен осуществляться постепенно, с учетом состояния организма и характера его ответных реакций на применяемое воз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применения закаливающих процедур у организма возникает определенная ответная реакция со стороны дыхательной, сердечно-сосудистой и центральной нервной систем. По мере неоднократного повторения этой процедуры реакция на нее организма постепенно ослабевает, а дальнейшее ее использование уже не оказывает закаливающего эффекта. Тогда надо изменить силу и длительность воздействия закаливающих процедур на орган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в проведении закаливающих процед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а предварительная тренировка организма более щадящими процедурами.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ть можно с обтирания, ножных ванн, и уж затем приступить к обливаниям, соблюдая при этом принцип постепенности снижения температу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4"/>
          <p:cNvPicPr/>
          <p:nvPr/>
        </p:nvPicPr>
        <p:blipFill>
          <a:blip r:embed="rId1"/>
          <a:stretch/>
        </p:blipFill>
        <p:spPr>
          <a:xfrm>
            <a:off x="5003640" y="3645000"/>
            <a:ext cx="2880000" cy="229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781361"/>
          <p:cNvPicPr/>
          <p:nvPr/>
        </p:nvPicPr>
        <p:blipFill>
          <a:blip r:embed="rId2"/>
          <a:stretch/>
        </p:blipFill>
        <p:spPr>
          <a:xfrm>
            <a:off x="684360" y="3429000"/>
            <a:ext cx="29527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чет индивидуальных особенностей человека и состояния его здор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жде чем приступать к приему закаливающих процедур, следует обратиться к врачу, так как закаливание оказывает весьма сильное воздействие на организм, особенно на людей, впервые приступающих к нему.  Учитывая возраст и состояние организма, врач поможет правильно подобрать закаливающее средство и посоветует, как его применять, чтобы предупредить нежелательные послед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врача при закаливании позволит определи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ливающих процедур, обнаружить нежелатель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доровье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ан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ьнейшее закаливание.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ценкой эффективности закали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самоконтроль за своим самочувствием и на основании этого можно изменять дозировку закаливающих процедур. Самоконтроль проводится с учетом следующих показателей: общее самочувствие, масса тела, пульс, аппетит, с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1:16:38Z</dcterms:created>
  <dc:creator>Оксана</dc:creator>
  <dc:description/>
  <dc:language>en-US</dc:language>
  <cp:lastModifiedBy>Пользователь Windows</cp:lastModifiedBy>
  <dcterms:modified xsi:type="dcterms:W3CDTF">2015-10-07T08:36:13Z</dcterms:modified>
  <cp:revision>9</cp:revision>
  <dc:subject/>
  <dc:title> «Закаливание организма».</dc:title>
</cp:coreProperties>
</file>