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DF4-41E3-4DF8-938B-4194E959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C8F-1EFF-4213-985B-CBC65795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529-B9FA-40A4-8C0D-58B5865F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7F9-819F-41A7-AF33-BFED187F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15E-E314-4173-BA9B-23022FC4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29B-F85B-44B5-A596-C81E62E9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F5B-B496-4652-A658-E2A79535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04B-029C-450D-8F99-05670CB3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749-1FC1-4E73-94C9-654E953D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F69-7BDC-4EB2-91CE-BDE0E47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034-0928-4735-8151-20D3D219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5B6-A185-4CBC-BBFA-325E026B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F1E0-3BD9-47C2-93FD-EBB15CB6D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0_28b9d_169d0181_XL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208764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П И Ф А Г О Р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И   ЕГО   УЧЕНИЕ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050920" y="4287960"/>
            <a:ext cx="5042160" cy="25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олнил: ученик 9-б класса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таев В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итель Большакова Екатерина 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иколаевна ГБОУ 489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08545a612745"/>
          <p:cNvPicPr/>
          <p:nvPr/>
        </p:nvPicPr>
        <p:blipFill>
          <a:blip r:embed="rId3"/>
          <a:stretch/>
        </p:blipFill>
        <p:spPr>
          <a:xfrm>
            <a:off x="539640" y="1440000"/>
            <a:ext cx="3961080" cy="2974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971640" y="353880"/>
            <a:ext cx="75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ве составляющие части философского учения Пифагора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572000" y="1230480"/>
            <a:ext cx="4321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ый подход                            к познанию мира                         (идея 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личественной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очисленной осно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го существующего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85880" y="4497120"/>
            <a:ext cx="612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игиозно-мистическое учение                 (идея 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инкарн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бессмертии человека и переселении душ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790560" y="576000"/>
            <a:ext cx="756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следователи Пифагора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Euclide"/>
          <p:cNvPicPr/>
          <p:nvPr/>
        </p:nvPicPr>
        <p:blipFill>
          <a:blip r:embed="rId3"/>
          <a:stretch/>
        </p:blipFill>
        <p:spPr>
          <a:xfrm>
            <a:off x="536400" y="1353960"/>
            <a:ext cx="3457800" cy="3600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4211640" y="1222560"/>
            <a:ext cx="468144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акусматик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«слушатели») – сторонники религиозно-ритуальной стороны у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атематик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«ученики») – исследователи четырёх пифагорейских «матем»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473720" y="4090320"/>
            <a:ext cx="324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арифметик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геометри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гармоник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ферик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68360" y="298440"/>
            <a:ext cx="8281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99"/>
                </a:solidFill>
                <a:latin typeface="Arial"/>
              </a:rPr>
              <a:t>Акусматы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– изречения Пифагора, содержащие постулаты общечеловеческой морали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50920" y="1407240"/>
            <a:ext cx="864216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е отечество там, где есть благие нравы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ле жизни, подобно сеятелю, ходи ровным и постоянным шаг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итай священными числа, вес и меру, как чад изящного равенст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елай никогда того, чего ты не знаешь, но научись всему, что следует знать, и тогда ты будешь вести спокойную жизн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яй свои желания, взвешивай свои мысли, исчисляй свои сло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и кротко жребий, каков он есть,                                         и не ропщи на нег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50920" y="268200"/>
            <a:ext cx="8642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III в. до н. э. появилась компиляция высказываний Пифагора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вященное слов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которой позднее возникли так называем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Золотые стихи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ительный отрыво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96920" y="1833120"/>
            <a:ext cx="8893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жественный род присутствует в смертных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, возвещая, священная всё открывает природ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не чуждо это тебе, ты наказы исполниш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ушу свою исцелишь и от множества бедствий избавиш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руководствуйся подлинным знанием – лучшим возничи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ты, тело покинув, в свободный эфир вознесёшьс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нешь нетленным, и вечным, и смерти                                             не знающим бог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692360" y="434880"/>
            <a:ext cx="720072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Основа философского учения пифагорейцев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– категориальные пары противоположностей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tips"/>
          <p:cNvPicPr/>
          <p:nvPr/>
        </p:nvPicPr>
        <p:blipFill>
          <a:blip r:embed="rId3"/>
          <a:stretch/>
        </p:blipFill>
        <p:spPr>
          <a:xfrm>
            <a:off x="611280" y="549360"/>
            <a:ext cx="807840" cy="1079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11280" y="1857600"/>
            <a:ext cx="684036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 – беспредельно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четное – четно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– мног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е – лев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жское – женск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ой – дви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е – крив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 – тьм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 – зл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 – вытянутый прямоугольн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0a174b035cb38f3d7de66c4b51701e69"/>
          <p:cNvPicPr/>
          <p:nvPr/>
        </p:nvPicPr>
        <p:blipFill>
          <a:blip r:embed="rId4"/>
          <a:stretch/>
        </p:blipFill>
        <p:spPr>
          <a:xfrm>
            <a:off x="4832280" y="2146320"/>
            <a:ext cx="372600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582560" y="549360"/>
            <a:ext cx="6950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«ВСЁ ЕСТЬ ЧИСЛО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–  философское кредо Пифагора. А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математик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новится орудием познания мира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ips"/>
          <p:cNvPicPr/>
          <p:nvPr/>
        </p:nvPicPr>
        <p:blipFill>
          <a:blip r:embed="rId3"/>
          <a:stretch/>
        </p:blipFill>
        <p:spPr>
          <a:xfrm>
            <a:off x="611280" y="549360"/>
            <a:ext cx="807840" cy="107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Планета"/>
          <p:cNvPicPr/>
          <p:nvPr/>
        </p:nvPicPr>
        <p:blipFill>
          <a:blip r:embed="rId4"/>
          <a:stretch/>
        </p:blipFill>
        <p:spPr>
          <a:xfrm>
            <a:off x="409680" y="2349360"/>
            <a:ext cx="3801960" cy="3043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"/>
          <p:cNvSpPr/>
          <p:nvPr/>
        </p:nvSpPr>
        <p:spPr>
          <a:xfrm>
            <a:off x="4329000" y="2246040"/>
            <a:ext cx="456408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– это стройное целое, подчиненное законам гармонии и числ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ть мир – значит познать управляющие                   им числ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Цифры"/>
          <p:cNvPicPr/>
          <p:nvPr/>
        </p:nvPicPr>
        <p:blipFill>
          <a:blip r:embed="rId3"/>
          <a:stretch/>
        </p:blipFill>
        <p:spPr>
          <a:xfrm>
            <a:off x="482760" y="907920"/>
            <a:ext cx="3651120" cy="2740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"/>
          <p:cNvSpPr/>
          <p:nvPr/>
        </p:nvSpPr>
        <p:spPr>
          <a:xfrm>
            <a:off x="4440240" y="686880"/>
            <a:ext cx="4321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фагорейски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ют не просто количественное значение: это не сумма единиц, а та сила, которая суммирует данные единицы в одно целое и сообщает ему определенные свойст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611280" y="4149720"/>
            <a:ext cx="6338880" cy="14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чина ед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чина раздво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рень и источник всего чи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250920" y="42048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аучные достижения Пифагора и пифагорейцев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9440" y="1039680"/>
            <a:ext cx="851364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ал геометрии характер науки, ввел доказательство в геометрию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л теорему, которая носит сейчас его имя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л задачу о делении плоскости на правильные многоугольники и др.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овал теорию пропорций (арифметических, геометрических и гармонических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редством чисел и пропорций пытался осмыслить общечеловеческие ценност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л теорию музыкальной гармонии и акустик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ал догадку о шарообразности Земл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ожил основы гелиоцентрического уч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tips"/>
          <p:cNvPicPr/>
          <p:nvPr/>
        </p:nvPicPr>
        <p:blipFill>
          <a:blip r:embed="rId3"/>
          <a:stretch/>
        </p:blipFill>
        <p:spPr>
          <a:xfrm>
            <a:off x="696960" y="378000"/>
            <a:ext cx="807840" cy="1079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1692360" y="320760"/>
            <a:ext cx="6950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ная особенность метода Пифагора –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 объединение геометрии с арифметикой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. Именно пифагорейская система знаний называется по-гречески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«математикой»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Пифагор с многогранниками"/>
          <p:cNvPicPr/>
          <p:nvPr/>
        </p:nvPicPr>
        <p:blipFill>
          <a:blip r:embed="rId4"/>
          <a:stretch/>
        </p:blipFill>
        <p:spPr>
          <a:xfrm>
            <a:off x="525600" y="2492280"/>
            <a:ext cx="2514600" cy="39164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3332160" y="2414880"/>
            <a:ext cx="4680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я из учения о числе пифагорейцы дали перву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матическую трактовку симмет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едметом их занятий было построе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ьных многогранн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бственные исследования пифагорейцев добавили к ни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603440" y="4365720"/>
            <a:ext cx="5400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будет вечной истина, как скор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познает слабый человек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ыне теорема Пифаго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а, как и в его далёкий ве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0920" y="22212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Теорема  Пифагора – одна из главных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теорем геометрии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Теорема"/>
          <p:cNvPicPr/>
          <p:nvPr/>
        </p:nvPicPr>
        <p:blipFill>
          <a:blip r:embed="rId3"/>
          <a:stretch/>
        </p:blipFill>
        <p:spPr>
          <a:xfrm>
            <a:off x="482760" y="1260360"/>
            <a:ext cx="3960720" cy="2959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4572000" y="1730520"/>
            <a:ext cx="4321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прямоугольном треугольнике квадрат гипотенузы равен сумме квадратов катетов».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  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pythagoras[1]"/>
          <p:cNvPicPr/>
          <p:nvPr/>
        </p:nvPicPr>
        <p:blipFill>
          <a:blip r:embed="rId3"/>
          <a:stretch/>
        </p:blipFill>
        <p:spPr>
          <a:xfrm>
            <a:off x="611280" y="1989000"/>
            <a:ext cx="2782800" cy="396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5"/>
          <p:cNvSpPr/>
          <p:nvPr/>
        </p:nvSpPr>
        <p:spPr>
          <a:xfrm>
            <a:off x="3851280" y="1868040"/>
            <a:ext cx="468144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одился на острове Самос. Историю жизни Пифагора трудно отделить от легенд, представляющих его в качестве совершенного мудреца и великого посвящённого во все таинства греков и варваров.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969840" y="258840"/>
            <a:ext cx="79232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99"/>
                </a:solidFill>
                <a:latin typeface="Arial"/>
              </a:rPr>
              <a:t>Пифагор Самос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ок. 580 – 500 гг. до н. э.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егреческий философ и математик, создатель религиозно-философс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колы пифагорейц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3960" y="249120"/>
            <a:ext cx="82821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времена Пифагора теорема звучала та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Площадь квадрата, построенного на гипотенузе прямоугольного треугольника, равна сумме площадей квадратов, построенных на его катетах».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pythagoras20diagram2[1]"/>
          <p:cNvPicPr/>
          <p:nvPr/>
        </p:nvPicPr>
        <p:blipFill>
          <a:blip r:embed="rId3"/>
          <a:stretch/>
        </p:blipFill>
        <p:spPr>
          <a:xfrm>
            <a:off x="368280" y="2349360"/>
            <a:ext cx="2616120" cy="3600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3132000" y="2444760"/>
            <a:ext cx="540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ое утверждение было открыто задолго до него, но в современной истории науки считается, что Пифагор дал ему перво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гически стройное доказ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9440" y="291960"/>
            <a:ext cx="86421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еорема Пифагора заслужила место в «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Книге рекордов Гиннесс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» как получившая </a:t>
            </a:r>
            <a:r>
              <a:rPr b="1" i="1" lang="ru-RU" sz="2300" spc="-1" strike="noStrike">
                <a:solidFill>
                  <a:srgbClr val="000099"/>
                </a:solidFill>
                <a:latin typeface="Arial"/>
              </a:rPr>
              <a:t>наибольшее число доказательст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– алгебраических, геометрических, аксиоматических и др. (от 370 до 500 разных доказательств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img10"/>
          <p:cNvPicPr/>
          <p:nvPr/>
        </p:nvPicPr>
        <p:blipFill>
          <a:blip r:embed="rId3"/>
          <a:stretch/>
        </p:blipFill>
        <p:spPr>
          <a:xfrm>
            <a:off x="250920" y="2125800"/>
            <a:ext cx="3240000" cy="2606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3678120" y="1992240"/>
            <a:ext cx="504036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стейшее доказательство теоремы получается в случае равнобедренного прямоугольного треугольника. Достаточно посмотреть на мозаику таких треугольников, чтобы убедиться в справедливости теоремы (для треугольника АВС квадрат, построенный на гипотенузе АС, содержит 4 исходных                  треугольника, а квадраты, построенные на катетах, –                          по 2 треугольника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492360" y="549360"/>
            <a:ext cx="5400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Если дан нам треугольник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 притом с прямым углом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о квадрат гипотенуз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Мы всегда легко найдём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Катеты в квадрат возводим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умму степеней находим 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 таким простым путё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К результату мы придё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.т.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453960" y="1268280"/>
          <a:ext cx="3960720" cy="315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960" y="1268280"/>
                    <a:ext cx="396072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res984426C9-A100-43B0-808A-A3FE8B46DBF2"/>
          <p:cNvPicPr/>
          <p:nvPr/>
        </p:nvPicPr>
        <p:blipFill>
          <a:blip r:embed="rId3"/>
          <a:stretch/>
        </p:blipFill>
        <p:spPr>
          <a:xfrm>
            <a:off x="611280" y="1268280"/>
            <a:ext cx="2965320" cy="28051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250920" y="32040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ратная теорем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51280" y="907920"/>
            <a:ext cx="50418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еорема, обратная к теореме Пифагора, позволяет проверить, является ли тот или иной треугольник прямоугольным.              Этим пользовались землемеры и строители Древнего Египта: они размечали прямые углы с помощью веревки, разделенной узлами на 12 равных кусков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50920" y="4122720"/>
            <a:ext cx="7561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ямоугольный треугольник со сторонами 3, 4, 5 называется «египетским», а тройки (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 натуральных чисел, удовлетворяющие уравнению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+ 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т.е. служащие длинами сторон прямоугольных треугольников, –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ифагоровым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50920" y="3228840"/>
            <a:ext cx="8642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бъемного трехмерного мира существует 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теорема Пифагора – Фе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Сумма объемов кубов, построенных на гранях параллелепипеда, равна объему куба, построенного на его диагонали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057320" y="392040"/>
            <a:ext cx="80056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орема  Пифагора отражает закономерности природы, в которой мы живе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Пифагору, теорема о прямоугольном треугольнике – это ключ ко всем зашифрованным явлениям нашей жизни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ё в природе разделено на три части. Узрите треугольник – и задача будет реш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tips"/>
          <p:cNvPicPr/>
          <p:nvPr/>
        </p:nvPicPr>
        <p:blipFill>
          <a:blip r:embed="rId3"/>
          <a:stretch/>
        </p:blipFill>
        <p:spPr>
          <a:xfrm>
            <a:off x="264960" y="766800"/>
            <a:ext cx="80820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250920" y="779400"/>
            <a:ext cx="864216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узнали много интересного о жизни Пифагора – жизни замечательной и трагической. И чем дальше время уносит от нас Пифагора, тем острее видится прозорливость мудреца, объявившего, что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ВСЕ ЕСТЬ ЧИСЛ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временное звучание данного тезиса: 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«МАТЕМАТИКА  ЕСТЬ КЛЮЧ К ПОЗНАНИЮ ВСЕХ ТАЙН ПРИРОДЫ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50920" y="20448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золотые стихи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050920" y="3457440"/>
            <a:ext cx="4680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Пифагор на фреске Рафаэля (1509 г"/>
          <p:cNvPicPr/>
          <p:nvPr/>
        </p:nvPicPr>
        <p:blipFill>
          <a:blip r:embed="rId3"/>
          <a:stretch/>
        </p:blipFill>
        <p:spPr>
          <a:xfrm>
            <a:off x="611280" y="1268280"/>
            <a:ext cx="3070080" cy="3600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851280" y="972720"/>
            <a:ext cx="46814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д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л Пифагора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личайшим эллинским мудрец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дре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«человек, который знает». Сам Пифагор был первым, кто назвал себ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илософ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ем, кто «пытается найти, выяснить»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060720" y="545400"/>
            <a:ext cx="54007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ранние источники об учении Пифагора появились лишь 200 лет спустя после его смерти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мвлих, Порфирий, Диоген Лаэртский, Аристо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Сам Пифагор не оставил сочинений. Ему приписы-вают труды «О воспитании»,                  «О государстве» и «О природе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й литературе можно найти интересную информацию               о Пифагоре и его знаменитой теорем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Книга"/>
          <p:cNvPicPr/>
          <p:nvPr/>
        </p:nvPicPr>
        <p:blipFill>
          <a:blip r:embed="rId3"/>
          <a:stretch/>
        </p:blipFill>
        <p:spPr>
          <a:xfrm>
            <a:off x="536400" y="655560"/>
            <a:ext cx="1843200" cy="277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нига 2"/>
          <p:cNvPicPr/>
          <p:nvPr/>
        </p:nvPicPr>
        <p:blipFill>
          <a:blip r:embed="rId4"/>
          <a:stretch/>
        </p:blipFill>
        <p:spPr>
          <a:xfrm>
            <a:off x="971640" y="2951280"/>
            <a:ext cx="1865160" cy="28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250920" y="358920"/>
            <a:ext cx="86421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ловам античных авторов, Пифагор встретился чуть ли не со всеми известными мудрецами той эпохи, впитал в себя всё накопленное человечеством знан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review"/>
          <p:cNvPicPr/>
          <p:nvPr/>
        </p:nvPicPr>
        <p:blipFill>
          <a:blip r:embed="rId3"/>
          <a:stretch/>
        </p:blipFill>
        <p:spPr>
          <a:xfrm>
            <a:off x="450720" y="1814400"/>
            <a:ext cx="2225880" cy="3781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2771640" y="1624680"/>
            <a:ext cx="612144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юном возрасте Пифагор отправился             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гип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бы набраться мудрости и тайных знаний у египетских жрецов. Там он прожил 22 года. Еще 12 лет он пробыл 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вило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щаясь с магами, пока наконец не смог вернуться на Самос в 56-летнем возрасте,                                где соотечественники признали                        его мудрым человек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501480" y="286920"/>
            <a:ext cx="86425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40-летнем возраст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фагор покинул Самос из-за несогласия с тиранической властью Поликрата и поселился в греческой коло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ото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Южной Италии, где нашёл много последователей. Пифагор организовал свою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кол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действовала почти тридцать ле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832280" y="2449080"/>
            <a:ext cx="3960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276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ифагорейский союз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2761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ая школа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2761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ая партия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2761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игиозное братство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B2"/>
          <p:cNvPicPr/>
          <p:nvPr/>
        </p:nvPicPr>
        <p:blipFill>
          <a:blip r:embed="rId3"/>
          <a:stretch/>
        </p:blipFill>
        <p:spPr>
          <a:xfrm>
            <a:off x="457200" y="2708280"/>
            <a:ext cx="428616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971640" y="431280"/>
            <a:ext cx="756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уровые правила пифагорейского союза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8360" y="3898440"/>
            <a:ext cx="820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сть преподавать за плат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личной собственности в пользу сою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рабовладельческой  аристократ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т на мясную пищу, бобы и др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0_1a3e8_8e77406f_XL"/>
          <p:cNvPicPr/>
          <p:nvPr/>
        </p:nvPicPr>
        <p:blipFill>
          <a:blip r:embed="rId3"/>
          <a:stretch/>
        </p:blipFill>
        <p:spPr>
          <a:xfrm>
            <a:off x="428760" y="1268280"/>
            <a:ext cx="4143240" cy="2638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1"/>
          <p:cNvSpPr/>
          <p:nvPr/>
        </p:nvSpPr>
        <p:spPr>
          <a:xfrm>
            <a:off x="4572000" y="1125360"/>
            <a:ext cx="457200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кетический образ жизн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инение нравственному авторитет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послушание, почитание старши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тайны у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994200" y="520560"/>
            <a:ext cx="4860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Пифагора на людей было очень велико, и его «братство посвященных» фактически пришло к власти                  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ото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о из-за победы демократии Пифагору и его ученикам пришлось удалиться  в другую греческую колони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апо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он и умер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music[1]"/>
          <p:cNvPicPr/>
          <p:nvPr/>
        </p:nvPicPr>
        <p:blipFill>
          <a:blip r:embed="rId3"/>
          <a:stretch/>
        </p:blipFill>
        <p:spPr>
          <a:xfrm>
            <a:off x="568440" y="793800"/>
            <a:ext cx="3240000" cy="2649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216000" y="3600360"/>
            <a:ext cx="8281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источниках излаг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ные версии его смер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и авторы утверждают, что Пифагор погиб в результате антипифагорейского мятежа, другие пишут, что удрученный философ уморил себя голодом, оставшись в уединении в священном храме,                             или умер там от разрыва сердца, скорбя о тщет-             ности своих усилий по просвещению народ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Кратер Пифагора"/>
          <p:cNvPicPr/>
          <p:nvPr/>
        </p:nvPicPr>
        <p:blipFill>
          <a:blip r:embed="rId3"/>
          <a:stretch/>
        </p:blipFill>
        <p:spPr>
          <a:xfrm>
            <a:off x="222120" y="2793960"/>
            <a:ext cx="2935440" cy="3600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611280" y="154800"/>
            <a:ext cx="6121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гура Пифагора была окруже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ножеством леген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и его жизни,    и спустя столетия после его смерти. Рассказывали, что он мог разговаривать с животными, знал свойства лекарствен-ных растений, исцелял людей чтени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Бюст"/>
          <p:cNvPicPr/>
          <p:nvPr/>
        </p:nvPicPr>
        <p:blipFill>
          <a:blip r:embed="rId4"/>
          <a:stretch/>
        </p:blipFill>
        <p:spPr>
          <a:xfrm>
            <a:off x="6615000" y="506520"/>
            <a:ext cx="2027520" cy="2879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2411280" y="2608200"/>
            <a:ext cx="64818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меровских стихов,                               повелевал духами, делал                       предсказания, был способен раздваиваться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еподавать одновременно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ных места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403440" y="491508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честь Пифагора назва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тер на Лун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58:25Z</dcterms:created>
  <dc:creator>лапа</dc:creator>
  <dc:description/>
  <dc:language>en-US</dc:language>
  <cp:lastModifiedBy>Екатерина</cp:lastModifiedBy>
  <dcterms:modified xsi:type="dcterms:W3CDTF">2015-10-05T14:26:37Z</dcterms:modified>
  <cp:revision>89</cp:revision>
  <dc:subject/>
  <dc:title>Слайд 1</dc:title>
</cp:coreProperties>
</file>