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3.png" ContentType="image/png"/>
  <Override PartName="/ppt/media/image2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C8EA-56CA-41AF-928C-DB4D67E5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DFAE-1AC7-4F4F-8D10-D8DA3352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620-D5C9-438E-BE53-5DD163C8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6243-C790-420E-9F92-FBEDB7A6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8FEE-5A02-4A71-8523-8D05BB28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A290-5CBE-4519-93A7-211DA7CA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170D-735C-4A23-8A41-FE191499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58E0-044A-4C25-A941-80C7695D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DA68-4A69-47CA-939E-3EDEC965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46CE-C99D-4039-ACAA-42788359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6AC5-B0DF-4A7F-AA55-858BBC53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25D1-359A-4611-8C22-4A87D9FE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F35F-983B-48BF-889E-980935F3A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0" b="78472"/>
          <a:stretch/>
        </p:blipFill>
        <p:spPr>
          <a:xfrm>
            <a:off x="179280" y="2276640"/>
            <a:ext cx="4753080" cy="504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925200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179280" y="2924280"/>
            <a:ext cx="4753080" cy="19317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158760"/>
            <a:ext cx="4788000" cy="1028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6040" y="333360"/>
            <a:ext cx="38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Monotype Corsiva"/>
              </a:rPr>
              <a:t>II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этап: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Осно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1557360"/>
            <a:ext cx="446400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cc3300"/>
                </a:solidFill>
                <a:uFillTx/>
                <a:latin typeface="Courier New"/>
              </a:rPr>
              <a:t>Работа с детьми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Знакомство дете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с органами реч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Тренировка и поста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новка звуков английс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кого язы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Постановка произноше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ния (фонетическая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«Сказка о язычке»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Слушание с целью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определения ошибок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003640" y="3789360"/>
            <a:ext cx="4140360" cy="3068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5508720" y="4005360"/>
            <a:ext cx="3238560" cy="2695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5796000" y="4005360"/>
            <a:ext cx="2663640" cy="2663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5219640" y="4006800"/>
            <a:ext cx="374508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6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600"/>
                            </p:stCondLst>
                            <p:childTnLst>
                              <p:par>
                                <p:cTn id="20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6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3600"/>
                            </p:stCondLst>
                            <p:childTnLst>
                              <p:par>
                                <p:cTn id="20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76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158760"/>
            <a:ext cx="4788000" cy="1028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6040" y="333360"/>
            <a:ext cx="38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Monotype Corsiva"/>
              </a:rPr>
              <a:t>II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этап: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Осно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1557360"/>
            <a:ext cx="4464000" cy="44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cc3300"/>
                </a:solidFill>
                <a:uFillTx/>
                <a:latin typeface="Courier New"/>
              </a:rPr>
              <a:t>Работа с детьми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Играем в фонетические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игры «Слышу–не слышу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«Широкие и узкие глас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ные», «Кто быстрее?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«Эхо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Повторение синхрон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за диктором/учителем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товарище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Учим стихи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скороговор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075360" y="2717640"/>
            <a:ext cx="3068640" cy="4140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300720" y="3500280"/>
            <a:ext cx="2592360" cy="2592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6443640" y="2924280"/>
            <a:ext cx="2376360" cy="3673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6300720" y="3139920"/>
            <a:ext cx="2597040" cy="3313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6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600"/>
                            </p:stCondLst>
                            <p:childTnLst>
                              <p:par>
                                <p:cTn id="23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16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3600"/>
                            </p:stCondLst>
                            <p:childTnLst>
                              <p:par>
                                <p:cTn id="24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6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9280" y="2889360"/>
            <a:ext cx="446400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Courier New"/>
              </a:rPr>
              <a:t>регулярное проведение фонетических зарядок улучшает артикуляционные навыки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Courier New"/>
              </a:rPr>
              <a:t>Ученики могут на слух различать долгие и краткие английские звук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1628640"/>
            <a:ext cx="44640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cc3300"/>
                </a:solidFill>
                <a:uFillTx/>
                <a:latin typeface="Courier New"/>
              </a:rPr>
              <a:t>Использование фонетических зарядок имеет ряд преимуществ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1628640"/>
            <a:ext cx="446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Учащиеся знакомятся с разными моделями интона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ции, видами ударения и с английским ритмо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Фонетические зарядки способствуют не только развитию слухо-произноси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тельных навыков, но и за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поминанию и тренировке лексических единиц, а так же развитию грамотной устной реч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3816360" cy="14986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4608360" cy="126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9280" y="3933720"/>
            <a:ext cx="4753080" cy="514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158760"/>
            <a:ext cx="4788000" cy="1028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51680" y="333360"/>
            <a:ext cx="32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Monotype Corsiva"/>
              </a:rPr>
              <a:t>Актуаль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1700280"/>
            <a:ext cx="42498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Первое знакомство с языком происходит на звуковом, фонетическом уровне, поэтому формирование произносительных навыков на начальном этапе обучения является одной из основных задач. Произношение – это своего рода «визитная карточка» говорящего, так как первое, на что мы обращаем внимание при общении с человеком – это чистота и правильность его реч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844640"/>
            <a:ext cx="424980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Основной целью данного проекта  является приобретение  детьми умения правильно произносить английские слова и предложения, а также развитие способностей слышать и понимать речь носителей языка. Без фонетических упражнений, игр, без отработки звучания каждого звука невозможно овладеть грамотной устной речью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588000" y="5445000"/>
            <a:ext cx="223200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158760"/>
            <a:ext cx="4788000" cy="1028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434960" y="333360"/>
            <a:ext cx="18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700280"/>
            <a:ext cx="424980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cc3300"/>
                </a:solidFill>
                <a:uFillTx/>
                <a:latin typeface="Courier New"/>
              </a:rPr>
              <a:t>Образовательна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выработать у детей навыки правильного произношения английских зву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cc3300"/>
                </a:solidFill>
                <a:uFillTx/>
                <a:latin typeface="Courier New"/>
              </a:rPr>
              <a:t>Развивающие:</a:t>
            </a:r>
            <a:r>
              <a:rPr b="1" lang="ru-RU" sz="2200" spc="-1" strike="noStrike">
                <a:solidFill>
                  <a:srgbClr val="cc33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развивать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фонематический слух;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развитие речевого аппара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cc3300"/>
                </a:solidFill>
                <a:uFillTx/>
                <a:latin typeface="Courier New"/>
              </a:rPr>
              <a:t>Предвосхищение и снятие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появления возможных фонетических сложностей любого порядка — слуховых, произносительных, ритмико-интонацион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1700280"/>
            <a:ext cx="4321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Поставленные цели и задачи 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Courier New"/>
              </a:rPr>
              <a:t>реализуются при создании необходимых услов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наличие кабинета и его оснащенности методической литературой, аудиокассета-ми, магнитофоном, нагляд-ными пособиями, игрушками, раздаточными материалами; видеоуроками и компьюте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учёте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психофизиологичес-ких особенностей  ребенка дошкольного возраста, его возможностей.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0" t="6469" r="0" b="14944"/>
          <a:stretch/>
        </p:blipFill>
        <p:spPr>
          <a:xfrm>
            <a:off x="6588000" y="4869000"/>
            <a:ext cx="2232000" cy="1753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58760"/>
            <a:ext cx="4788000" cy="1028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253080" y="333360"/>
            <a:ext cx="52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Monotype Corsiva"/>
              </a:rPr>
              <a:t>Ожидаемый результ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1700280"/>
            <a:ext cx="424980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urier New"/>
              </a:rPr>
              <a:t>Дети должны знать и практически владеть адекватным произноше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ru-RU" sz="2500" spc="-1" strike="noStrike">
                <a:solidFill>
                  <a:srgbClr val="000000"/>
                </a:solidFill>
                <a:latin typeface="Courier New"/>
              </a:rPr>
              <a:t>нием и различать на слух все звуки анг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ru-RU" sz="2500" spc="-1" strike="noStrike">
                <a:solidFill>
                  <a:srgbClr val="000000"/>
                </a:solidFill>
                <a:latin typeface="Courier New"/>
              </a:rPr>
              <a:t>лийского язык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50920" y="3860640"/>
            <a:ext cx="4249800" cy="2016000"/>
            <a:chOff x="250920" y="3860640"/>
            <a:chExt cx="4249800" cy="201600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250920" y="3860640"/>
              <a:ext cx="424980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468360" y="4005000"/>
              <a:ext cx="3887640" cy="172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58760"/>
            <a:ext cx="4788000" cy="1028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-500400" y="333360"/>
            <a:ext cx="579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Monotype Corsiva"/>
              </a:rPr>
              <a:t>I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этап: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Подготов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700280"/>
            <a:ext cx="446400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urier New"/>
              </a:rPr>
              <a:t>Подбор упражнений на артикуляторную гимнастику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urier New"/>
              </a:rPr>
              <a:t>Упражнений на развитие речевого (фонематичес-кого и интонационного) слух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urier New"/>
              </a:rPr>
              <a:t>Подбор скороговорок и рифмово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urier New"/>
              </a:rPr>
              <a:t>Музыки и песе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urier New"/>
              </a:rPr>
              <a:t>Видеоуроков, видеокур-сов и аудиозаписе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894200" y="4292640"/>
            <a:ext cx="4249800" cy="2565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33745" r="0" b="0"/>
          <a:stretch/>
        </p:blipFill>
        <p:spPr>
          <a:xfrm>
            <a:off x="5148360" y="4508640"/>
            <a:ext cx="3744720" cy="2174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940360" y="4508640"/>
            <a:ext cx="2160720" cy="2149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5651640" y="4508640"/>
            <a:ext cx="287964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16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160"/>
                            </p:stCondLst>
                            <p:childTnLst>
                              <p:par>
                                <p:cTn id="133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16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2160"/>
                            </p:stCondLst>
                            <p:childTnLst>
                              <p:par>
                                <p:cTn id="14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16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158760"/>
            <a:ext cx="4788000" cy="1028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-500400" y="333360"/>
            <a:ext cx="579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Monotype Corsiva"/>
              </a:rPr>
              <a:t>I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этап: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Подготов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700280"/>
            <a:ext cx="44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Подбор фонетических игр-упражн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Приобрет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компьютерных игр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говорящей 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зву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003640" y="3789360"/>
            <a:ext cx="4140360" cy="3068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219640" y="4005360"/>
            <a:ext cx="3708360" cy="2674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6056280" y="4005360"/>
            <a:ext cx="204480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56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560"/>
                            </p:stCondLst>
                            <p:childTnLst>
                              <p:par>
                                <p:cTn id="17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56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7:54:24Z</dcterms:created>
  <dc:creator>Vertige</dc:creator>
  <dc:description/>
  <dc:language>en-US</dc:language>
  <cp:lastModifiedBy>Анна</cp:lastModifiedBy>
  <dcterms:modified xsi:type="dcterms:W3CDTF">2013-01-21T18:46:22Z</dcterms:modified>
  <cp:revision>17</cp:revision>
  <dc:subject/>
  <dc:title>Слайд 1</dc:title>
</cp:coreProperties>
</file>