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896-4C31-4764-ADCD-8001C6B4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E89-37E5-4618-A03B-5D0B53D8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2F8-1ED5-4947-9CF6-5F0439F3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439-1AA6-41CC-9DB0-1B0619AE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869-72F1-44B8-9BFF-143FF23F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FA5-E76D-4F55-9719-B5E7A5E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067-403B-49DA-911C-578CC75C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B0A-4E07-4D23-B8DA-84DE9DC2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666-0BA7-45EB-BA31-1364D682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25C-9FAB-494B-AFCB-8FB043D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800-D865-4554-95EF-4570B9D7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D8D-955B-4B57-9429-763DCE5E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1915-5E91-4039-B9C3-A990874E8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78472"/>
          <a:stretch/>
        </p:blipFill>
        <p:spPr>
          <a:xfrm>
            <a:off x="179280" y="2276640"/>
            <a:ext cx="4753080" cy="504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925200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79280" y="2924280"/>
            <a:ext cx="4753080" cy="1931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6040" y="333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Осн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557360"/>
            <a:ext cx="44640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c3300"/>
                </a:solidFill>
                <a:uFillTx/>
                <a:latin typeface="Courier New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Знакомство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 органами ре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ренировка и поста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овка звуков английс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кого язы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становка произноше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ия (фонетическ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Сказка о язычке»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лушание с целью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определения ошибок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3238560" cy="269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219640" y="4006800"/>
            <a:ext cx="374508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6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6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6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6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76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6040" y="333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Осн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557360"/>
            <a:ext cx="44640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c3300"/>
                </a:solidFill>
                <a:uFillTx/>
                <a:latin typeface="Courier New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Играем в фонетические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игры «Слышу–не слыш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Широкие и узкие глас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ные», «Кто быстрее?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«Эхо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вторение синхрон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за диктором/учителем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оварищ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им стихи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скорогов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75360" y="2717640"/>
            <a:ext cx="3068640" cy="414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443640" y="2924280"/>
            <a:ext cx="2376360" cy="36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00720" y="3139920"/>
            <a:ext cx="2597040" cy="3313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6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6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6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889360"/>
            <a:ext cx="4464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регулярное проведение фонетических зарядок улучшает артикуляционные навык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Ученики могут на слух различать долгие и краткие английские зву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628640"/>
            <a:ext cx="446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cc3300"/>
                </a:solidFill>
                <a:uFillTx/>
                <a:latin typeface="Courier New"/>
              </a:rPr>
              <a:t>Использование фонетических зарядок имеет ряд преимуществ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628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Учащиеся знакомятся с разными моделями интон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ции, видами ударения и с английским ритм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Фонетические зарядки способствуют не только развитию слухо-произноси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тельных навыков, но и з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поминанию и тренировке лексических единиц, а так же развитию грамотной устной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81636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4608360" cy="126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4753080" cy="51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1680" y="333360"/>
            <a:ext cx="32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700280"/>
            <a:ext cx="42498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Первое знакомство с языком происходит на звуковом, фонетическом уровне, поэтому формирование произносительных навыков на начальном этапе обучения является одной из основных задач. Произношение – это своего рода «визитная карточка» говорящего, так как первое, на что мы обращаем внимание при общении с человеком – это чистота и правильность его ре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844640"/>
            <a:ext cx="42498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Основной целью данного проекта  является приобретение  детьми умения правильно произносить английские слова и предложения, а также развитие способностей слышать и понимать речь носителей языка. Без фонетических упражнений, игр, без отработки звучания каждого звука невозможно овладеть грамотной устной речь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88000" y="5445000"/>
            <a:ext cx="2232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34960" y="333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700280"/>
            <a:ext cx="4249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Образовательна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выработать у детей навыки правильного произношения английских зву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Развивающие:</a:t>
            </a:r>
            <a:r>
              <a:rPr b="1" lang="ru-RU" sz="2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развивать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фонематический слух;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развитие речевого аппара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Courier New"/>
              </a:rPr>
              <a:t>Предвосхищение и снятие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появления возможных фонетических сложностей любого порядка — слуховых, произносительных, ритмико-интонацио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700280"/>
            <a:ext cx="432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оставленные цели и задачи 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Courier New"/>
              </a:rPr>
              <a:t>реализуются при создании необходимых услов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аличие кабинета и его оснащенности методической литературой, аудиокассета-ми, магнитофоном, нагляд-ными пособиями, игрушками, раздаточными материалами; видеоуроками и компью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учёт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сихофизиологичес-ких особенностей  ребенка дошкольного возраста, его возможностей.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6469" r="0" b="14944"/>
          <a:stretch/>
        </p:blipFill>
        <p:spPr>
          <a:xfrm>
            <a:off x="6588000" y="4869000"/>
            <a:ext cx="2232000" cy="1753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253080" y="33336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700280"/>
            <a:ext cx="42498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Дети должны знать и практически владеть адекватным произноше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нием и различать на слух все звуки анг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ru-RU" sz="2500" spc="-1" strike="noStrike">
                <a:solidFill>
                  <a:srgbClr val="000000"/>
                </a:solidFill>
                <a:latin typeface="Courier New"/>
              </a:rPr>
              <a:t>лийского язык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0920" y="3860640"/>
            <a:ext cx="4249800" cy="2016000"/>
            <a:chOff x="250920" y="3860640"/>
            <a:chExt cx="4249800" cy="20160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250920" y="3860640"/>
              <a:ext cx="42498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68360" y="4005000"/>
              <a:ext cx="3887640" cy="172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500400" y="333360"/>
            <a:ext cx="57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00280"/>
            <a:ext cx="44640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Подбор упражнений на артикуляторную гимнастику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Упражнений на развитие речевого (фонематичес-кого и интонационного) слух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Подбор скороговорок и рифмов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Музыки и песе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urier New"/>
              </a:rPr>
              <a:t>Видеоуроков, видеокур-сов и аудиозапис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94200" y="4292640"/>
            <a:ext cx="42498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33745" r="0" b="0"/>
          <a:stretch/>
        </p:blipFill>
        <p:spPr>
          <a:xfrm>
            <a:off x="5148360" y="4508640"/>
            <a:ext cx="374472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40360" y="4508640"/>
            <a:ext cx="2160720" cy="214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651640" y="4508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16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16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16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16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16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4788000" cy="102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500400" y="333360"/>
            <a:ext cx="57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onotype Corsiva"/>
              </a:rPr>
              <a:t>I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этап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70028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дбор фонетических игр-упраж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риобрет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компьютерных иг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говорящей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3708360" cy="2674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056280" y="4005360"/>
            <a:ext cx="204480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6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6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56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7:54:24Z</dcterms:created>
  <dc:creator>Vertige</dc:creator>
  <dc:description/>
  <dc:language>en-US</dc:language>
  <cp:lastModifiedBy>Анна</cp:lastModifiedBy>
  <dcterms:modified xsi:type="dcterms:W3CDTF">2013-01-21T18:46:22Z</dcterms:modified>
  <cp:revision>17</cp:revision>
  <dc:subject/>
  <dc:title>Слайд 1</dc:title>
</cp:coreProperties>
</file>