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3C9-6512-445B-ABCD-D6D0B3AA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2CD-12F4-46ED-8334-E69CC666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36C-0AAA-429A-9D97-2C3D9532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BF9-2B3B-40E2-9675-19E5E8BF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DB2-5EA7-4132-A111-6113A1E3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11D-BC57-4179-9A5A-FD88E048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608-7C4F-49B9-B774-CC8E5F24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97F-857A-4F60-A4AB-1E2F9CCF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5B4-3880-4A3C-9128-4495389C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4B7-CAD0-4720-943E-AF00216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753-1D5E-46E9-AB8A-68C0DE09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CF3-F306-4537-8BE7-73063712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ED3A-71C1-476C-BA04-69B719C85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78472"/>
          <a:stretch/>
        </p:blipFill>
        <p:spPr>
          <a:xfrm>
            <a:off x="179280" y="2276640"/>
            <a:ext cx="4753080" cy="504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925200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79280" y="2924280"/>
            <a:ext cx="4753080" cy="1931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6040" y="333360"/>
            <a:ext cx="38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Осн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557360"/>
            <a:ext cx="44640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c3300"/>
                </a:solidFill>
                <a:uFillTx/>
                <a:latin typeface="Courier New"/>
              </a:rPr>
              <a:t>Работа с детьм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Знакомство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с органами ре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Тренировка и поста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новка звуков английс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кого язы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Постановка произноше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ния (фонетическа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«Сказка о язычке»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Слушание с целью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определения ошибок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4140360" cy="3068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3238560" cy="2695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796000" y="400536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5219640" y="4006800"/>
            <a:ext cx="374508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6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6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6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6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76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6040" y="333360"/>
            <a:ext cx="38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Осн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557360"/>
            <a:ext cx="446400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c3300"/>
                </a:solidFill>
                <a:uFillTx/>
                <a:latin typeface="Courier New"/>
              </a:rPr>
              <a:t>Работа с детьм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Играем в фонетические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игры «Слышу–не слышу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«Широкие и узкие глас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ные», «Кто быстрее?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«Эхо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Повторение синхрон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за диктором/учителем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товарищ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им стихи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скорогов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75360" y="2717640"/>
            <a:ext cx="3068640" cy="414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00720" y="350028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443640" y="2924280"/>
            <a:ext cx="2376360" cy="367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300720" y="3139920"/>
            <a:ext cx="2597040" cy="3313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6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6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6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6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2889360"/>
            <a:ext cx="4464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регулярное проведение фонетических зарядок улучшает артикуляционные навык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Ученики могут на слух различать долгие и краткие английские зву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628640"/>
            <a:ext cx="446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cc3300"/>
                </a:solidFill>
                <a:uFillTx/>
                <a:latin typeface="Courier New"/>
              </a:rPr>
              <a:t>Использование фонетических зарядок имеет ряд преимуществ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628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ащиеся знакомятся с разными моделями интона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ции, видами ударения и с английским ритм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Фонетические зарядки способствуют не только развитию слухо-произноси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тельных навыков, но и за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поминанию и тренировке лексических единиц, а так же развитию грамотной устной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816360" cy="1498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4608360" cy="126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4753080" cy="51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1680" y="333360"/>
            <a:ext cx="32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onotype Corsiva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700280"/>
            <a:ext cx="42498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Первое знакомство с языком происходит на звуковом, фонетическом уровне, поэтому формирование произносительных навыков на начальном этапе обучения является одной из основных задач. Произношение – это своего рода «визитная карточка» говорящего, так как первое, на что мы обращаем внимание при общении с человеком – это чистота и правильность его ре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844640"/>
            <a:ext cx="42498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Основной целью данного проекта  является приобретение  детьми умения правильно произносить английские слова и предложения, а также развитие способностей слышать и понимать речь носителей языка. Без фонетических упражнений, игр, без отработки звучания каждого звука невозможно овладеть грамотной устной речью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88000" y="5445000"/>
            <a:ext cx="22320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34960" y="33336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700280"/>
            <a:ext cx="42498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Courier New"/>
              </a:rPr>
              <a:t>Образовательна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выработать у детей навыки правильного произношения английских зву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Courier New"/>
              </a:rPr>
              <a:t>Развивающие:</a:t>
            </a:r>
            <a:r>
              <a:rPr b="1" lang="ru-RU" sz="22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развивать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фонематический слух;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развитие речевого аппара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Courier New"/>
              </a:rPr>
              <a:t>Предвосхищение и снятие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появления возможных фонетических сложностей любого порядка — слуховых, произносительных, ритмико-интонацио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700280"/>
            <a:ext cx="432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оставленные цели и задачи 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Courier New"/>
              </a:rPr>
              <a:t>реализуются при создании необходимых услов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наличие кабинета и его оснащенности методической литературой, аудиокассета-ми, магнитофоном, нагляд-ными пособиями, игрушками, раздаточными материалами; видеоуроками и компью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учёте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сихофизиологичес-ких особенностей  ребенка дошкольного возраста, его возможностей.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6469" r="0" b="14944"/>
          <a:stretch/>
        </p:blipFill>
        <p:spPr>
          <a:xfrm>
            <a:off x="6588000" y="4869000"/>
            <a:ext cx="2232000" cy="1753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253080" y="333360"/>
            <a:ext cx="52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onotype Corsiva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700280"/>
            <a:ext cx="42498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urier New"/>
              </a:rPr>
              <a:t>Дети должны знать и практически владеть адекватным произноше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500" spc="-1" strike="noStrike">
                <a:solidFill>
                  <a:srgbClr val="000000"/>
                </a:solidFill>
                <a:latin typeface="Courier New"/>
              </a:rPr>
              <a:t>нием и различать на слух все звуки анг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500" spc="-1" strike="noStrike">
                <a:solidFill>
                  <a:srgbClr val="000000"/>
                </a:solidFill>
                <a:latin typeface="Courier New"/>
              </a:rPr>
              <a:t>лийского язык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50920" y="3860640"/>
            <a:ext cx="4249800" cy="2016000"/>
            <a:chOff x="250920" y="3860640"/>
            <a:chExt cx="4249800" cy="20160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250920" y="3860640"/>
              <a:ext cx="42498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68360" y="4005000"/>
              <a:ext cx="3887640" cy="172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500400" y="333360"/>
            <a:ext cx="57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Подготов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700280"/>
            <a:ext cx="44640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Подбор упражнений на артикуляторную гимнастику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Упражнений на развитие речевого (фонематичес-кого и интонационного) слух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Подбор скороговорок и рифмово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Музыки и песе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Видеоуроков, видеокур-сов и аудиозапис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894200" y="4292640"/>
            <a:ext cx="42498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33745" r="0" b="0"/>
          <a:stretch/>
        </p:blipFill>
        <p:spPr>
          <a:xfrm>
            <a:off x="5148360" y="4508640"/>
            <a:ext cx="3744720" cy="2174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40360" y="4508640"/>
            <a:ext cx="2160720" cy="2149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651640" y="450864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16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16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16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16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16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500400" y="333360"/>
            <a:ext cx="57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Подготов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70028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одбор фонетических игр-упраж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риобрет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компьютерных игр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говорящей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4140360" cy="306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3708360" cy="2674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056280" y="4005360"/>
            <a:ext cx="204480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6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56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56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7:54:24Z</dcterms:created>
  <dc:creator>Vertige</dc:creator>
  <dc:description/>
  <dc:language>en-US</dc:language>
  <cp:lastModifiedBy>Анна</cp:lastModifiedBy>
  <dcterms:modified xsi:type="dcterms:W3CDTF">2013-01-21T18:46:22Z</dcterms:modified>
  <cp:revision>17</cp:revision>
  <dc:subject/>
  <dc:title>Слайд 1</dc:title>
</cp:coreProperties>
</file>