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3D5-33DE-4113-B90E-361EF53B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499-05DA-469B-BA12-B6B06F6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215-1C1B-48E1-A26A-22A03FD9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9B9-6887-4303-AB62-CC1388A3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955C-1DA5-44F0-9BD3-4218A543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98F2-6FF1-48DA-A982-923D17F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3356-6173-4902-B0A3-C74152D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6A66-129A-469C-AC51-9A236216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4014-D738-4BB4-BE5E-3CC1F4A7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A640-3740-4EDD-9869-ABF9D44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497A-DA18-4F68-B68D-6E4EAF9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7DD-F4E7-4F17-BBCB-40D5ADE2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5C13-801D-49AE-8D15-13506FCD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5893-0C9F-4C4C-975A-9CDBA75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AC04-C045-4FD5-A454-87CC1232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78B7-D9E3-4EF1-B2DD-6FFA4725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930-9F16-45F3-A055-02053C5F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B880-C545-4B65-9F28-0E658CB2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7FCD-D3CB-475F-927F-4EE64F5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D2CD-2622-4DFF-A23D-DB224E2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E0F3-1008-4236-B609-8E87E10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1411-B1CE-4CF7-9CA1-AAA9996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58B-BC22-41C2-B783-0F7C58F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BC57-42DD-4455-9153-FE18A99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0343-5A72-409B-8173-CCE28B0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4150-1438-4A64-A058-FBD32FD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54CE-45E9-4F20-AC14-642CDD52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290A-0BF9-47B4-BC89-4A262375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1386-59AD-4428-BFD7-05F2A490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792E-DB98-4D20-AE9D-D52479CF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5A9A-2630-41CD-A95E-60F27710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D821-1322-41B7-A3B2-736649E1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3715-1E4C-4A12-9629-749B4E77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57-91F3-4B60-9CE3-0960FFB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E420-7300-4430-8ABE-1697D46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4E9D-57FC-48BC-BF5B-8626BC5D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AD9C-3E31-4188-A467-B93308B5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0EEE-3947-4B93-863A-2D55967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3A0C-D903-4D22-BAB3-0A2DD2E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2A2E-6D45-4C4F-9C63-9294DF1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31B1-2A58-424B-904A-CC7802A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9C14-3EA8-47BE-A7B4-9C91D5A5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BB9C-7C7F-43B1-BD9D-F257047D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9C08-003E-493F-B1CE-DF230BEB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2A8-667F-4A18-8F6B-30FAA0B4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AFEF-986A-4A07-9244-C666C9D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3F1F-CD4A-4486-9918-FCAF216C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3760-8056-4BC3-A988-3C656FF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379B-F8C1-41A2-9C4C-D7466AFF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2A45-E972-4AEB-AC1B-3C75CC2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0F6D-9E7D-4F49-A017-A7D2C63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6FFB-220E-436A-A442-9B7DC762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66E6-0837-43CF-9F36-8D762B6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6FEC-FF28-4788-80AB-B82F026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61E9-B9CF-4800-830A-4D550BF3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571-0C7B-4B52-ADC1-AE2DDC13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FA06-95C4-4CF2-BEDB-127EED95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3169-C9CA-4CDE-9A2A-A7354F5C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9A893-5FFA-4792-A2A7-9E57D21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98B8-3004-4560-A24D-26AEB2E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40B2-671F-4FA5-9CB9-154D7AC6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C352-7144-4333-A39B-09CC22D6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A0A8-B7C8-470D-993E-7265AC6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A558-1C0A-40D6-8A12-5D01267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660E-AF47-4A81-AF2E-6B618D18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0129-8073-4835-A977-C34D0CC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828-1A9E-4E2B-AC9A-525C44A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63A2-DB81-429B-923C-65BF483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955E-FB65-4B08-8949-F48200C6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C005-AD27-4F51-9091-B955CB94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EB51-5D91-4179-A7A1-75DD75EB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E8D3-3FA0-4524-B7A8-63CC3F5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56B31-5D58-4AD6-9824-F43F2A67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76280-40C2-4B40-A32C-F80B2B02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86BE-6D7F-42A1-BAC2-8992AE07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826B2-808D-4A15-9C48-AA2C884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9C39-4A88-4E4B-9962-CBF11DA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E25-B4CD-4317-BCDF-5A49D0A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61289-C0D7-4838-91A3-03E2357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71AA-30A1-4926-82DE-84ED66F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0449B-4236-496D-8D23-106A6EEC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53222-01F9-4A3C-B0AA-290A4A5C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A8B0B-207F-483F-B6A0-B3229F81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98E-9829-44CE-BE49-92A8C10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2A0-5398-4576-93CB-C528B8F713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A7C3-916D-432F-A9A9-6A8DCD4C5E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6C5A-D775-40D1-A6C0-F68EB94D4A0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3B68-6395-451A-8FC4-707A9119AD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C079-808B-418D-B784-73782B7958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B57-C560-4109-A483-2323B7CDCCD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5B0B-46BE-4837-89B9-96261A801E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Выступление на педагогическом совете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Червяковой Юлии Николаевн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на тему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«Использование технологий критического мышления на уроках окружающего мира»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Содержимое 3"/>
          <p:cNvGraphicFramePr/>
          <p:nvPr/>
        </p:nvGraphicFramePr>
        <p:xfrm>
          <a:off x="366840" y="1000080"/>
          <a:ext cx="3951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000080"/>
                    <a:ext cx="395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928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Рис.4.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 Результаты выявления уровня сложности выполнения заданий [сост. автором]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5" name="Диаграмма 4"/>
          <p:cNvGraphicFramePr/>
          <p:nvPr/>
        </p:nvGraphicFramePr>
        <p:xfrm>
          <a:off x="4429080" y="1000080"/>
          <a:ext cx="4071960" cy="385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6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000080"/>
                    <a:ext cx="40719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Содержимое 3"/>
          <p:cNvGraphicFramePr/>
          <p:nvPr/>
        </p:nvGraphicFramePr>
        <p:xfrm>
          <a:off x="291960" y="714240"/>
          <a:ext cx="405792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14240"/>
                    <a:ext cx="405792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857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Рис.5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. Результаты выявления уровня интереса обучающихся при работе в приеме «Инсерт», технологии критического мышления.[сост.автором]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0" name="Диаграмма 4"/>
          <p:cNvGraphicFramePr/>
          <p:nvPr/>
        </p:nvGraphicFramePr>
        <p:xfrm>
          <a:off x="4714920" y="857160"/>
          <a:ext cx="4000320" cy="378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1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57160"/>
                    <a:ext cx="40003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Содержимое 3"/>
          <p:cNvGraphicFramePr/>
          <p:nvPr/>
        </p:nvGraphicFramePr>
        <p:xfrm>
          <a:off x="482760" y="743040"/>
          <a:ext cx="4241520" cy="42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743040"/>
                    <a:ext cx="424152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Рис.7.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 Результаты выявления уровня интереса обучающихся при работе в технологии критического мышления.[сост.автором]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5" name="Диаграмма 4"/>
          <p:cNvGraphicFramePr/>
          <p:nvPr/>
        </p:nvGraphicFramePr>
        <p:xfrm>
          <a:off x="4643280" y="642960"/>
          <a:ext cx="42148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6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642960"/>
                    <a:ext cx="42148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00040" y="1642680"/>
            <a:ext cx="8215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Необходимо развивать у обучающихся способность  к самостоятельному поиску и исследовани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Обучающиеся должны уметь находить и анализировать различные варианты осуществления учебной деятельности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.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Результатом успешного обучения с применением технологии критического мышления должны являться следующие компетенции обучающегос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умение самостоятельно формулировать новые вопросы и проблемы;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способность осуществлять сбор необходимой для решения учебной задачи информации, используя абстрактные идеи, умение эффективно их интерпретировать;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умение приходить к обоснованным заключениям и решениям, проверяя их по критериям; рассуждать непредубежденно в пределах альтернативных систем мышления; эффективно включаться в коллективную работу при выработке реш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56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13840" y="571320"/>
            <a:ext cx="8572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Технология критического мышления должна ориентироваться  не только на сотрудничество учителя и обучающихся, но и  на создание психологического комфорта на занятиях. Обучающийся должен иметь возможность реализовать свои возможности, в том числе и творческие, а также научиться объективно оценивать результаты своей учебной деятель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Мыслительно-деятельный подход обязательно должен быть включен в комплексную развивающую технологии критического мышления, обеспечивающую реализацию воспитывающих и обучающих целе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9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84d3"/>
                </a:solidFill>
                <a:latin typeface="Candar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13840" y="1214280"/>
            <a:ext cx="8472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Характерной чертой современного этапа развития общества является  увеличивающееся информационное пространство. Скрытые информационные атаки оказывают негативное влияние на жизнь людей в целом.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этих условиях необходимо выработать особый способ отношения к существующей действительности. В связи с этим изучение критического мышления и выявление факторов, способствующих его развитию, приобретает в настоящее время особую актуа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Актуальность исследо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6426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лава 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I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Теоретические основы развития критического мышления обучающих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1. Критическое мышление как направление педагогической деятель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2. Структура критического мышл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3. Методология развития критического мышления в педагоги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лава 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II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 Реализация технологий критического мышления в процессе обучения окружающему мир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1. Ведущие аспекты преподавания окружающего мир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2. Основные дидактические принципы в методике обучения окружающему мир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3. Особенности использования технологии критического мышления на уроках  окружающего мир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лава 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III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 Методика применения технологий критического мышления на уроках окружающего мир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1. Анализ опыта работы учителей начальной школы по применению технологий критического мышл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2. Внедрение материалов исследования в практику преподавания окружающего мира в начальной общеобразовательной школ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труктура исследо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3300" spc="-1" strike="noStrike">
                <a:solidFill>
                  <a:srgbClr val="073e87"/>
                </a:solidFill>
                <a:latin typeface="Candara"/>
              </a:rPr>
              <a:t>Изучить пути и методы применения технологии критического мышления на уроках окружающего мира и на основе анализа существующего опыта учителей начальной школы обосновать необходимость ее использования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Цель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Выявить современное состояние изучения проблемы развития критического мышления обучающихся в процессе обучения окружающему мир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скрыть сущность, содержание, структуру критического мышления обучающихс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роанализировать и обобщить опыт учителей начальной школы по применению критического мышл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Обобщить опыт работы учителей начальной школы по использованию критического мышления и разработать методику развития критического мышления школьников в процессе обуч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дачи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13880" y="1285560"/>
            <a:ext cx="7643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бъект исследования: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технологии критического мышления в процессе обучения 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Предмет исследования: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содержание, формы, методы, приемы и средства технологий критического мышления обучающихся в процессе обуч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42960" y="207180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) будут учтены индивидуальные особенности личности каждого обучающегос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) будут использованы различные методические приемы развития критического мышления на уроках и практических работах 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) развитие критического мышления школьников будет осуществляться целенаправлен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Гипотеза исследования: </a:t>
            </a: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азвитие критического мышления школьников в процессе обучения будет протекать наиболее эффективно, если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-360" y="114264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ключает в себя теоретическое осмысление психолого-педагогических исследований по проблеме критического мышления, теоретико-прикладное моделирование программы изучения критического мышления школьников, проведение индивидуального констатирующего эксперимента, направленного на выявление особенностей критического мышления испытуемых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ервый этап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держит исследование влияния структурных компонентов; педагогических технологий на развитие критического мышл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одель изучения критического мышления представлена различными методами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беседа, ориентированная на выявление представлений о критическом мышлени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наблюдение за взаимоотношениями обучающихся средних классов и учителей в ходе учебно-воспитательного процесса, обучающихся по различным технологиям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эксперимент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методы математической статистик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торой этап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 Червяков</cp:lastModifiedBy>
  <dcterms:modified xsi:type="dcterms:W3CDTF">2015-10-07T14:35:22Z</dcterms:modified>
  <cp:revision>21</cp:revision>
  <dc:subject/>
  <dc:title>Выпускная квалификационная работа  Студента 6 курса заочной формы обучения факультета экологии и естественных наук специальность 050102 «Биология»  Червякова Михаила Владиславовича на тему: </dc:title>
</cp:coreProperties>
</file>