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112-A234-4C6E-A673-8B017A6B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A95-94BD-4924-8C6E-28EB1122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4A3-13BA-48D9-9A36-619DDF8A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E3A-EF7A-45EE-97EC-0719D455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DF83-39CF-4ACC-BCA3-A614CC72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317C-2E64-4C2C-B430-04C8AF6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DE85-368E-4C2E-8356-274B294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FFC-64D5-449E-B9F9-D2538082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3F7-C485-4992-8E82-F2C5A349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B7ED-E7A1-40D3-8A79-E46FF5C2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92F-BE77-47B3-9952-7AEF7070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C75-FCF6-42C9-9B7D-86920281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93AB-F0BC-4850-BCF3-4B523234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127C-A30C-473E-9150-8CDE92F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F5EF-33D9-4A8F-AC1E-4FBEDAB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B31F-9334-4E96-B3BE-B3209B1E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A0F4-26C7-498D-8725-08826263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FB91-6018-49BC-96FC-AFC33F41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13FD-7C92-4C5F-B2BA-ACCBD9B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A763-44DB-4254-A1CC-DA33C95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CC7F-879D-4721-90C2-5069465A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6338-2E70-49E4-A6B0-B265ED2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270-E8B6-4615-A32C-64FDF713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ECD5-E227-424F-93D5-51FC5741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DBDE-86D0-49F6-B7C4-6A52542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EC4D-6B68-4ED3-99A6-ABC16720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19D5-E496-4352-AAD3-EFC4DA2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D8D1-1E6E-4D25-BE06-7476FD95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34111-84AC-43E7-9D25-02FD9CB8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1A73-E2FC-4520-96F1-75F80A97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6220-9F8E-4DD1-90BD-9117E19D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DEFB-7410-496C-A04E-B12A553F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7C9A-8B29-422A-82F3-052B027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4C0-A050-4BDA-9A34-00390EFB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5E24-111B-4825-933C-F9494B2F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03D86-59A6-401C-9436-32F8FB55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9C05-64D2-43E2-A976-F869913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2C821-F47A-419B-93DB-B5A62E2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79694-8F28-450F-B4D8-3A52158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5BAE-AE08-423B-AE31-F91CAFB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EE82-E483-4A40-A319-8BB5C3E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4112-70A9-4B93-A6B7-62170014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B60E-841F-407E-953B-10ECFDCD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B343-2D7B-447E-9CBD-B1750095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CB2-CDD1-4C60-BA5B-5BD8CC2F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26FD-763F-4B9A-8E84-7564A132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DE73-BA8F-4B91-B341-0EF1A37D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434C-8D77-4A10-ABE6-0CF1AC45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DF377-5D4B-45DB-86E4-923CFA06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281F-294B-4429-8091-72EA9BF8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6259-2FD5-4E12-9172-60FD5223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D84D-0DD3-45FD-ABCA-9F5CD4F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EA9D-6362-45E8-A6E2-E07D75F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A71A5-84D1-4916-B8F3-E17C731D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8AD6-60B1-47C7-BA50-8422DB71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237-6BFD-439C-B2BD-367FC1A3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8AE1-DB4C-419D-B0AE-0EB13D2A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F162-E3EA-4E88-BC25-9E41B3D4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56EB-BD18-4642-9197-32C6ED30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B23C-263E-4007-A620-CABD2369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4F25-58F1-4026-88F1-B9AE6CBB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2EB5-633E-4306-A0A2-47BF74F8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E53C-6825-443C-9793-39F7D6FB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5F2FB-941B-4F39-AFBD-D2E2EAD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54771-E315-4D7D-B479-8BEB1F5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1203B-1CDC-4F1D-B33C-24B01BC7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DC0-5277-42E4-A563-0AC7D38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D8400-25CB-4B1C-AEB3-61F8DC3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ED67-7AB6-40C7-88B2-34D58BA8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3095-D208-4CB5-85C0-7A0B5948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062E1-D75D-48BD-804C-043531AE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CED5B-CAEC-48AF-8953-9BA69535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37E5-A91B-4531-B428-0A3838ED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C31A5-BE53-4F35-B2DE-F7A888F5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4BAC4-4871-4E03-9FC4-DC3E85BD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E2F5A-C0A5-4FD6-BEFD-71B319D0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3C09C-AAA3-4F63-863D-28A1674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455-9F22-458A-88E7-175D101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48452-D527-4D3B-89E8-AA601A5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EC7A6-FF68-409C-86FF-973FE380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BF25-03AC-4CD6-A895-D654C76A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D8E6-C3F0-43F6-B652-36D99322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DD343-CDE7-4C8F-8E84-9A9812D0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27E-AA94-4796-937D-2469A65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76E8-01A7-46D1-9FE6-945B0C6ACBB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5180-BDE7-46CB-B464-66D39C06A90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5DF3-BB74-4278-A7DA-E7D84A02A7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D68-F41D-4990-9B78-C59C4D0A3BE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E223-2ACE-4C80-893F-E060A9661C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54AE-9CA1-45E6-8F42-99607C75C2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DCDB-CA7C-4606-A9D7-FB1092C99A6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Выступление на педагогическом совете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Червяковой Юлии Николаевн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на тему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«Использование технологий критического мышления на уроках окружающего мира»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Содержимое 3"/>
          <p:cNvGraphicFramePr/>
          <p:nvPr/>
        </p:nvGraphicFramePr>
        <p:xfrm>
          <a:off x="366840" y="1000080"/>
          <a:ext cx="3951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000080"/>
                    <a:ext cx="395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928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Рис.4.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 Результаты выявления уровня сложности выполнения заданий [сост. автором]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5" name="Диаграмма 4"/>
          <p:cNvGraphicFramePr/>
          <p:nvPr/>
        </p:nvGraphicFramePr>
        <p:xfrm>
          <a:off x="4429080" y="1000080"/>
          <a:ext cx="4071960" cy="385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6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000080"/>
                    <a:ext cx="40719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Содержимое 3"/>
          <p:cNvGraphicFramePr/>
          <p:nvPr/>
        </p:nvGraphicFramePr>
        <p:xfrm>
          <a:off x="291960" y="714240"/>
          <a:ext cx="405792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714240"/>
                    <a:ext cx="405792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857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Рис.5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. Результаты выявления уровня интереса обучающихся при работе в приеме «Инсерт», технологии критического мышления.[сост.автором]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0" name="Диаграмма 4"/>
          <p:cNvGraphicFramePr/>
          <p:nvPr/>
        </p:nvGraphicFramePr>
        <p:xfrm>
          <a:off x="4714920" y="857160"/>
          <a:ext cx="4000320" cy="378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1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57160"/>
                    <a:ext cx="40003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Содержимое 3"/>
          <p:cNvGraphicFramePr/>
          <p:nvPr/>
        </p:nvGraphicFramePr>
        <p:xfrm>
          <a:off x="482760" y="743040"/>
          <a:ext cx="4241520" cy="42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743040"/>
                    <a:ext cx="424152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Рис.7.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 Результаты выявления уровня интереса обучающихся при работе в технологии критического мышления.[сост.автором]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5" name="Диаграмма 4"/>
          <p:cNvGraphicFramePr/>
          <p:nvPr/>
        </p:nvGraphicFramePr>
        <p:xfrm>
          <a:off x="4643280" y="642960"/>
          <a:ext cx="42148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6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642960"/>
                    <a:ext cx="42148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00040" y="1642680"/>
            <a:ext cx="8215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Необходимо развивать у обучающихся способность  к самостоятельному поиску и исследовани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Обучающиеся должны уметь находить и анализировать различные варианты осуществления учебной деятельности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.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Результатом успешного обучения с применением технологии критического мышления должны являться следующие компетенции обучающегос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умение самостоятельно формулировать новые вопросы и проблемы;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способность осуществлять сбор необходимой для решения учебной задачи информации, используя абстрактные идеи, умение эффективно их интерпретировать;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умение приходить к обоснованным заключениям и решениям, проверяя их по критериям; рассуждать непредубежденно в пределах альтернативных систем мышления; эффективно включаться в коллективную работу при выработке реш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56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13840" y="571320"/>
            <a:ext cx="8572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Технология критического мышления должна ориентироваться  не только на сотрудничество учителя и обучающихся, но и  на создание психологического комфорта на занятиях. Обучающийся должен иметь возможность реализовать свои возможности, в том числе и творческие, а также научиться объективно оценивать результаты своей учебной деятельн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Мыслительно-деятельный подход обязательно должен быть включен в комплексную развивающую технологии критического мышления, обеспечивающую реализацию воспитывающих и обучающих целе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4200" y="9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84d3"/>
                </a:solidFill>
                <a:latin typeface="Candar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13840" y="1214280"/>
            <a:ext cx="8472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Характерной чертой современного этапа развития общества является  увеличивающееся информационное пространство. Скрытые информационные атаки оказывают негативное влияние на жизнь людей в целом.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этих условиях необходимо выработать особый способ отношения к существующей действительности. В связи с этим изучение критического мышления и выявление факторов, способствующих его развитию, приобретает в настоящее время особую актуа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Актуальность исследо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6426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лава 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I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.Теоретические основы развития критического мышления обучающихс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1. Критическое мышление как направление педагогической деятель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2. Структура критического мышл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3. Методология развития критического мышления в педагоги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лава 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II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. Реализация технологий критического мышления в процессе обучения окружающему миру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1. Ведущие аспекты преподавания окружающего мир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2. Основные дидактические принципы в методике обучения окружающему миру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3. Особенности использования технологии критического мышления на уроках  окружающего мир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лава 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III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. Методика применения технологий критического мышления на уроках окружающего мир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1. Анализ опыта работы учителей начальной школы по применению технологий критического мышл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2. Внедрение материалов исследования в практику преподавания окружающего мира в начальной общеобразовательной школ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труктура исследо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3300" spc="-1" strike="noStrike">
                <a:solidFill>
                  <a:srgbClr val="073e87"/>
                </a:solidFill>
                <a:latin typeface="Candara"/>
              </a:rPr>
              <a:t>Изучить пути и методы применения технологии критического мышления на уроках окружающего мира и на основе анализа существующего опыта учителей начальной школы обосновать необходимость ее использования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Цель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Выявить современное состояние изучения проблемы развития критического мышления обучающихся в процессе обучения окружающему мир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скрыть сущность, содержание, структуру критического мышления обучающихс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роанализировать и обобщить опыт учителей начальной школы по применению критического мышл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Обобщить опыт работы учителей начальной школы по использованию критического мышления и разработать методику развития критического мышления школьников в процессе обуч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дачи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13880" y="1285560"/>
            <a:ext cx="7643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бъект исследования: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технологии критического мышления в процессе обучения 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Предмет исследования: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содержание, формы, методы, приемы и средства технологий критического мышления обучающихся в процессе обуч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42960" y="207180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) будут учтены индивидуальные особенности личности каждого обучающегос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) будут использованы различные методические приемы развития критического мышления на уроках и практических работах 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) развитие критического мышления школьников будет осуществляться целенаправлен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Гипотеза исследования: </a:t>
            </a: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развитие критического мышления школьников в процессе обучения будет протекать наиболее эффективно, если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-360" y="114264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ключает в себя теоретическое осмысление психолого-педагогических исследований по проблеме критического мышления, теоретико-прикладное моделирование программы изучения критического мышления школьников, проведение индивидуального констатирующего эксперимента, направленного на выявление особенностей критического мышления испытуемых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ервый этап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держит исследование влияния структурных компонентов; педагогических технологий на развитие критического мышл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одель изучения критического мышления представлена различными методами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беседа, ориентированная на выявление представлений о критическом мышлени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наблюдение за взаимоотношениями обучающихся средних классов и учителей в ходе учебно-воспитательного процесса, обучающихся по различным технологиям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эксперимент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методы математической статистик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торой этап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 Червяков</cp:lastModifiedBy>
  <dcterms:modified xsi:type="dcterms:W3CDTF">2015-10-07T14:35:22Z</dcterms:modified>
  <cp:revision>21</cp:revision>
  <dc:subject/>
  <dc:title>Выпускная квалификационная работа  Студента 6 курса заочной формы обучения факультета экологии и естественных наук специальность 050102 «Биология»  Червякова Михаила Владиславовича на тему: </dc:title>
</cp:coreProperties>
</file>