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BF3-C0D9-495B-9C86-831FEAEBA6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917-7EF9-4C7D-8F30-4014CF6BC86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9AD-3FD0-49F1-97D9-0E11F5AC75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E57-08BB-494B-A824-A1474E61E5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B8E6-392F-491F-990D-D33395C70E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F26-3741-4B7C-B2B7-3D4AC7129F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A06D-1BE1-4764-85D4-1C2D3F1FF89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может быть критическим тогда, когда носит индивидуальный характер. Можно выработать свою точку зрения, а можно согласиться с чуж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но думать с пустой голово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вопрос по поводу ситуации или явления, есть вопрос о том, какого рода проблемы это явление порождает. «Жить – значит иметь проблемы, а решать их – значит расти интеллектуаль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доказать, что выбранное решение логичнее и рациональнее проч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ая мысль проверяется и оттачивается, когда ею делятся с друг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9FB-8FEF-402D-8DC3-E1BB8CD89AB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то соотносится с андрагоги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C5FE-8EE0-4072-9E1E-09660C382ED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061-C7ED-4175-8E84-A98A465BF8F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8B6-11F2-4A8B-8D5C-2AD4C6D8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2FF-7D65-4B2E-ADE5-5FA2DAF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A96-2923-478B-B34C-15EA3A84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C11-9EBE-42CD-B28E-F47F417E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F79-A002-4FEF-BE55-09D7465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CA2-0C3F-438C-8109-5C5F2B7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8EE-A73B-4858-91C7-02FB755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731-68DF-4D9A-A8E8-7E53F25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1584-FDCD-4572-9D2B-A79F4A7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E27C-F554-4BA1-917E-EA14DFC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83AF-6D3C-44EE-BA63-65E645A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5F1-4CB6-4838-B6AA-108D8F4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750-024D-4AEE-8A3A-7374854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0EB3-F372-488C-9EE6-F0D711D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481-D862-4DDB-AA24-972BD97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42B4-0C30-441A-A816-B451D5B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49AC-697C-4183-9556-CCF323E5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88DA-47FC-44FC-AE84-A7657025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D90B-6049-4BB6-ABAC-1C1EB25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15A2-E848-45B5-AF61-46AD1CF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A9E6-6914-4531-B78E-554E6F3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86CD-56A6-4DAC-8D68-1EE050E2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05C-BFDD-4517-B08B-121F2EF3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F27F-83AC-4B94-B920-926DFC6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C260-E27D-4DA6-8E1A-35ED0DD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62A8-7FE8-4B31-A053-85FD837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7B38-D7E6-4A30-8975-C29FC160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8DE1-5047-4A63-AE19-60D0D7E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7E53-FFD2-4B35-8B19-9CCBA20B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3443-5D4E-4F2D-B7A2-531E74A0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AFA6-F970-4FDE-BBAD-79534C9F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7E8D-BC76-4B36-9011-A8D66B8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590A-A895-4FCB-B58A-9A4930B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33B-259E-4CE1-9A7E-0A5A4FB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173D-8EE4-4563-BB51-3AEF302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0306-009B-4CF1-8609-ED1EBB25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07ED-8824-478E-8294-36ED8908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0666-4009-4FC1-90FE-4E3C12B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E159-BB81-4320-BDE8-67865DF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1545-2781-4EC9-BDA7-DCD54F16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AE31-E4BB-4214-A3A0-45F3CD21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6E306-3FB1-4882-8B32-8A43945A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DF88-1E45-4C0D-86F4-D7639CE4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FB16-A20F-448C-B087-82E66600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D34-5CC3-4D69-9488-605CEF1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78BDF-B8A3-4B85-AAB3-F06C739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9F02-58D0-41C2-A5D1-088A315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3112-BE2B-4059-BA8A-1A26726A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7274-3DBA-4347-9736-E59DD46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5134-4997-45AE-9B3A-CCC3855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B0C6-64E7-44F4-B317-EF6F33D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37D1-D01F-43B6-8E72-8AB5D87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9583-2439-44FB-8D13-264867D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3A12-16D4-487E-8C6E-85D08AEA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D716-F0C1-4380-8889-E32053E4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92C-1C01-4B1D-A23C-2440C45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D44A-9DFD-4DFA-A36A-4815118E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4E921-E661-4216-B53D-CBDE5958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0BCF4-8377-49DC-A6E8-3C5FF454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6A353-9988-4430-841B-8E12FFC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3D750-6FEA-4ECE-9B6D-F3A9BD8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527E7-AE12-4EEC-99F6-7C77BC3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0A004-D94E-4D13-8996-0A9288C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2F615-F40E-4ADF-A7EE-4950341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E2870-0385-4AB7-8B4F-8EB02D9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24A77-6DE4-4402-A0F7-F6234B93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CB3-D3C1-464B-8E26-6DF642B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BE5A8-3E19-45FD-8BAB-D4FC074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D0D4A-2286-4F31-BC81-195F2273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B8E3A-F45B-420A-AE55-6AE25E95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2BAA5-36CC-4127-8C0C-402177D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682AC-AC8F-41F3-A82B-498BE1AA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426F-1811-44B3-9FB5-D9BF2BFA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CFD8-4ED0-4D5F-890C-DAF35F5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CE5D-D21C-48A2-AED9-0917105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A84F-6D2E-429B-B1F3-537597E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B779-7185-4E3D-B856-6EAF6DE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92D-E320-4C16-B34D-586C22A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FAF9-44CC-4CE1-B3E3-685F514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12F8-D105-4008-AD46-0B45557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76CE-AC06-4FAA-B134-DDBA7227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8E4B-F84D-4ED7-A875-439433F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9027-B789-4F9D-8C47-3134C83B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041-5A68-4292-B5CD-8A1D6D6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0AA-3998-47E1-A5FF-A5EB17695223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F17-8F29-4788-8862-0FA8826B16E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9E4-8E5A-459E-9755-C07D132B378A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F263-3CEA-4386-8BF7-C6BB6D51C0C4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F69-99BB-4613-BD0F-E1E165DAD968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37D7-B299-480F-896D-8908EB05FEA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6C9-67DA-493E-8AD7-613A49948C14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C595-ECD7-4160-83DE-CB3582C38D8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2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3A5-2098-4D72-9391-1DEEC932A132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43F-A7E5-45B2-8F89-41CFF2B3006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2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4C9-5676-486F-AD4B-11DA8F29272D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F1A-B4A0-4087-944A-AC05AC43C53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790-EA51-468D-ADBA-A7E0D08BAA98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13A-9DEE-4DC1-994D-B905EECA521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93640" y="151920"/>
            <a:ext cx="8261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ОЗДАНИЕ УСЛОВИЙ ДЛЯ РАЗВИТИЯ КРИТИЧЕСКОГО МЫШЛЕН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ТЕХНИКИ ТРКМ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МЫ НЕ МОЖЕМ РЕШИТЬ НАШИ ПРОБЛЕМЫ ТЕМ ЖЕ МЫШЛЕНИЕМ, КОТОРЫМ ИХ СОЗДАЛИ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А. ЭЙНШТЕЙН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A1C-7E17-4941-9FBF-B4EC09D4B8F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4724280" y="50292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Калашник Н.Н., учитель английского языка, Милык И.Н., учитель начальных классов, Меркова В.В.,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МБОУ «СОШ №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Book Antiqua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Book Antiqua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55760" y="2057400"/>
            <a:ext cx="8226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Arial"/>
              </a:rPr>
              <a:t>III </a:t>
            </a:r>
            <a:r>
              <a:rPr b="0" lang="ru-RU" sz="3600" spc="-1" strike="noStrike">
                <a:solidFill>
                  <a:srgbClr val="6b7d72"/>
                </a:solidFill>
                <a:latin typeface="Arial"/>
              </a:rPr>
              <a:t>ФАЗА – 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азмышление, рождение нов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остановка новых целей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80880" y="2438280"/>
          <a:ext cx="8305920" cy="3856320"/>
        </p:xfrm>
        <a:graphic>
          <a:graphicData uri="http://schemas.openxmlformats.org/drawingml/2006/table">
            <a:tbl>
              <a:tblPr/>
              <a:tblGrid>
                <a:gridCol w="3048120"/>
                <a:gridCol w="5257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нал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оним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запоми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80880" y="533520"/>
          <a:ext cx="8305920" cy="127944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2133720"/>
                <a:gridCol w="228600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наз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завер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оц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отест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едста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ереве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делай дизай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делай вы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оиллюстр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классифиц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едска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оотне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52280" y="228600"/>
          <a:ext cx="8763120" cy="5867280"/>
        </p:xfrm>
        <a:graphic>
          <a:graphicData uri="http://schemas.openxmlformats.org/drawingml/2006/table">
            <a:tbl>
              <a:tblPr/>
              <a:tblGrid>
                <a:gridCol w="3216240"/>
                <a:gridCol w="554688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зможный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едставь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делай дизай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оцен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делай выб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нал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отестируй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классифициру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заверш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оиллюстриру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оним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еревед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едска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запоми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назов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оотне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E11-7325-4FF5-ACB7-61805B0D2DE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Users\Nelli\Downloads\Можете ли вы(1).jpg"/>
          <p:cNvPicPr/>
          <p:nvPr/>
        </p:nvPicPr>
        <p:blipFill>
          <a:blip r:embed="rId1"/>
          <a:stretch/>
        </p:blipFill>
        <p:spPr>
          <a:xfrm>
            <a:off x="-177840" y="38160"/>
            <a:ext cx="932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"/>
          <p:cNvGrpSpPr/>
          <p:nvPr/>
        </p:nvGrpSpPr>
        <p:grpSpPr>
          <a:xfrm>
            <a:off x="4495680" y="2666880"/>
            <a:ext cx="3687840" cy="3121200"/>
            <a:chOff x="4495680" y="2666880"/>
            <a:chExt cx="3687840" cy="3121200"/>
          </a:xfrm>
        </p:grpSpPr>
        <p:sp>
          <p:nvSpPr>
            <p:cNvPr id="375" name="AutoShape 7"/>
            <p:cNvSpPr/>
            <p:nvPr/>
          </p:nvSpPr>
          <p:spPr>
            <a:xfrm>
              <a:off x="4495680" y="2666880"/>
              <a:ext cx="3687840" cy="31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6097320" y="310392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7289280" y="310392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4906440" y="310392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7289280" y="39988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4906440" y="489348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6097320" y="39988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4906440" y="399888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6097320" y="48934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7289280" y="48934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9" descr="https://encrypted-tbn2.gstatic.com/images?q=tbn:ANd9GcSX7eDRk68XVBB0FFlUUB63NrGHtPtzro3NtUduc7IPwy2KCdvn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20"/>
          <p:cNvSpPr/>
          <p:nvPr/>
        </p:nvSpPr>
        <p:spPr>
          <a:xfrm>
            <a:off x="533520" y="228600"/>
            <a:ext cx="7848360" cy="18288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Не отрывая карандаша от бумаги,</a:t>
            </a:r>
            <a:br>
              <a:rPr sz="3600"/>
            </a:b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соедините четырьмя прямыми </a:t>
            </a:r>
            <a:br>
              <a:rPr sz="3600"/>
            </a:b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линиями все девять точ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56F-371A-4E71-A13B-6039A576BA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7"/>
          <p:cNvGrpSpPr/>
          <p:nvPr/>
        </p:nvGrpSpPr>
        <p:grpSpPr>
          <a:xfrm>
            <a:off x="4648320" y="3124080"/>
            <a:ext cx="3611520" cy="3056040"/>
            <a:chOff x="4648320" y="3124080"/>
            <a:chExt cx="3611520" cy="3056040"/>
          </a:xfrm>
        </p:grpSpPr>
        <p:sp>
          <p:nvSpPr>
            <p:cNvPr id="391" name="AutoShape 28"/>
            <p:cNvSpPr/>
            <p:nvPr/>
          </p:nvSpPr>
          <p:spPr>
            <a:xfrm>
              <a:off x="4648320" y="3124080"/>
              <a:ext cx="3611520" cy="30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6216840" y="355212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7384320" y="355212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5050800" y="355212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7384320" y="442800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5050800" y="530424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6216840" y="442800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5050800" y="442800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6216840" y="530424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7384320" y="530424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38"/>
          <p:cNvSpPr/>
          <p:nvPr/>
        </p:nvSpPr>
        <p:spPr>
          <a:xfrm flipH="1">
            <a:off x="5257800" y="3733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5257800" y="5486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 flipH="1" flipV="1">
            <a:off x="5181120" y="3047760"/>
            <a:ext cx="358164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5181480" y="3048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4"/>
          <p:cNvSpPr/>
          <p:nvPr/>
        </p:nvSpPr>
        <p:spPr>
          <a:xfrm>
            <a:off x="380880" y="274320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669960" y="316080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457200" y="380880"/>
            <a:ext cx="8001000" cy="19051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 могли предположить, что при  решени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ужно оставаться в рамках задан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 заключается в том, чтобы выйти за 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елы и сломать грани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9" name="Picture 57" descr="ANd9GcSchDfRKm23O5bmNs_d0HLny1HEpKNu_rFbiIaMtiHWzSapk_xyHQ"/>
          <p:cNvPicPr/>
          <p:nvPr/>
        </p:nvPicPr>
        <p:blipFill>
          <a:blip r:embed="rId1"/>
          <a:stretch/>
        </p:blipFill>
        <p:spPr>
          <a:xfrm>
            <a:off x="0" y="2743200"/>
            <a:ext cx="44956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21A-1A78-4649-A183-4E465D325D0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Book Antiqua"/>
              </a:rPr>
              <a:t>ЛИТЕРАТУР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www.italldepends.wikispaces.c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http://www.youtube.com/watch?v=L-Lhq0TKi0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3. Blooming Orange: Bloom's Taxonomy Helpful Verbs Poster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4. Questions and Activities Aligned with Bloom's Taxonom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5. Презентация: «Развитие критического мышления, как образовательная технология в работе методиста». Еговкина Н.В. ИМО Сарапульского район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6. Презентация «Воздушные шары от модераторов»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www.moi-universitet.ru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E45-8B80-4018-A086-1062E6A8536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788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АЛГОРИТМ МАСТЕРСКОЙ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499760"/>
            <a:ext cx="8534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</a:t>
            </a:r>
            <a:r>
              <a:rPr b="1" lang="ru-RU" sz="2000" spc="-1" strike="noStrike">
                <a:solidFill>
                  <a:srgbClr val="36130e"/>
                </a:solidFill>
                <a:latin typeface="Century Gothic"/>
              </a:rPr>
              <a:t>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4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Общая рефлексия и     выход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                                        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на новую систему проблем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3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циализац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2.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Корректировка продукта ил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                          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здание новог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1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Обращение к новой информаци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II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этап- Формирование новых знаний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5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Промежуточная рефлекс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4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циализац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3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здание творческого продукта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2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Индуктор</a:t>
            </a:r>
            <a:r>
              <a:rPr b="1" i="1" lang="ru-RU" sz="2000" spc="-1" strike="noStrike">
                <a:solidFill>
                  <a:srgbClr val="2b261e"/>
                </a:solidFill>
                <a:latin typeface="Century Gothic"/>
              </a:rPr>
              <a:t>-</a:t>
            </a:r>
            <a:r>
              <a:rPr b="1" i="1" lang="ru-RU" sz="1400" spc="-1" strike="noStrike">
                <a:solidFill>
                  <a:srgbClr val="ff0000"/>
                </a:solidFill>
                <a:latin typeface="Century Gothic"/>
              </a:rPr>
              <a:t>рассуждение от частных фактов к общим выводам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1. </a:t>
            </a: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C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лово мастера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I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этап-Формирование информационного «голода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 Unicode"/>
              </a:rPr>
              <a:t>АМО «ФМС»</a:t>
            </a:r>
            <a:endParaRPr b="0" lang="en-US" sz="4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CFB-273C-4BB7-AACE-A345DB15658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82296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301680" y="179280"/>
          <a:ext cx="8691480" cy="6442200"/>
        </p:xfrm>
        <a:graphic>
          <a:graphicData uri="http://schemas.openxmlformats.org/drawingml/2006/table">
            <a:tbl>
              <a:tblPr/>
              <a:tblGrid>
                <a:gridCol w="1506600"/>
                <a:gridCol w="1752480"/>
                <a:gridCol w="1319040"/>
                <a:gridCol w="93960"/>
                <a:gridCol w="1257120"/>
                <a:gridCol w="1284480"/>
                <a:gridCol w="1477800"/>
              </a:tblGrid>
              <a:tr h="474480">
                <a:tc grid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c0c0c0"/>
                      </a:solidFill>
                    </a:lnL>
                    <a:lnR w="1872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оц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высоки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utura Md BT"/>
                          <a:ea typeface="PMingLiU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</a:tr>
              <a:tr h="64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анали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6462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847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знание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запоми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когнитивная</a:t>
                      </a:r>
                      <a:r>
                        <a:rPr b="1" lang="en-US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деятель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ни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 w="1872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47" name="Line 1"/>
          <p:cNvSpPr/>
          <p:nvPr/>
        </p:nvSpPr>
        <p:spPr>
          <a:xfrm flipV="1">
            <a:off x="4038480" y="3352680"/>
            <a:ext cx="342900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304920" y="9144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Уро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погруженности мы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при формулировании вопроса по таксономии Бл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900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6"/>
          <p:cNvSpPr/>
          <p:nvPr/>
        </p:nvSpPr>
        <p:spPr>
          <a:xfrm>
            <a:off x="250920" y="404640"/>
            <a:ext cx="8642160" cy="5861160"/>
          </a:xfrm>
          <a:prstGeom prst="pentagon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64b3c"/>
                </a:solidFill>
                <a:latin typeface="Arial Narrow"/>
              </a:rPr>
              <a:t>Составляющие </a:t>
            </a:r>
            <a:br>
              <a:rPr sz="6000"/>
            </a:br>
            <a:r>
              <a:rPr b="0" lang="ru-RU" sz="6000" spc="-1" strike="noStrike">
                <a:solidFill>
                  <a:srgbClr val="564b3c"/>
                </a:solidFill>
                <a:latin typeface="Arial Narrow"/>
              </a:rPr>
              <a:t>критического мышл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2344680" y="210960"/>
            <a:ext cx="4402080" cy="1522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ышление самостоя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6211800" y="1895400"/>
            <a:ext cx="284184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является отправным пунктом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5996160" y="463068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начинается с уяснени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379440" y="470376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ся к убедительной аргум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162000" y="196704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ышление соци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b7d72"/>
                </a:solidFill>
                <a:latin typeface="Century Gothic"/>
              </a:rPr>
              <a:t>ЦЕЛЬ ТЕХНОЛОГИИ:</a:t>
            </a:r>
            <a:r>
              <a:rPr b="0" lang="ru-RU" sz="4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Gothic"/>
              </a:rPr>
              <a:t>обеспечить развитие критического мышления посредством интерактивного включения обучающихся в образовательный процесс</a:t>
            </a: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5760" y="1905120"/>
            <a:ext cx="8226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entury Gothic"/>
              </a:rPr>
              <a:t>I </a:t>
            </a:r>
            <a:r>
              <a:rPr b="0" lang="ru-RU" sz="4800" spc="-1" strike="noStrike">
                <a:solidFill>
                  <a:srgbClr val="002060"/>
                </a:solidFill>
                <a:latin typeface="Century Gothic"/>
              </a:rPr>
              <a:t>ФАЗА - ВЫ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актуализация имеющихс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робуждение интереса к получению н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остановка собственных целей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2860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b7d72"/>
                </a:solidFill>
                <a:latin typeface="Century Gothic"/>
              </a:rPr>
              <a:t>II фаза - Осмысление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Получение нов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корректировка поставленных целей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04:59Z</dcterms:created>
  <dc:creator>Toni</dc:creator>
  <dc:description/>
  <dc:language>en-US</dc:language>
  <cp:lastModifiedBy>Uer</cp:lastModifiedBy>
  <dcterms:modified xsi:type="dcterms:W3CDTF">2015-10-07T03:20:55Z</dcterms:modified>
  <cp:revision>148</cp:revision>
  <dc:subject/>
  <dc:title>Critical and Creative Thinking in the English Classroom</dc:title>
</cp:coreProperties>
</file>