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0BF0-DB43-4DFD-BF05-A5C96D21FD1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F0FF-0919-4EF2-A3E8-BEB3787D66C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188B-DF70-412C-AD84-929F703B2D8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F1EC-97A4-48BA-B959-FE732E89CCA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86CE-1E4A-492C-90FC-D20BC6138E6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071D-3FF6-48E5-833A-6B2EB8006C9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6765-20BE-447C-886D-49D09E20B7B2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ление может быть критическим тогда, когда носит индивидуальный характер. Можно выработать свою точку зрения, а можно согласиться с чуж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удно думать с пустой голово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вопрос по поводу ситуации или явления, есть вопрос о том, какого рода проблемы это явление порождает. «Жить – значит иметь проблемы, а решать их – значит расти интеллектуаль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доказать, что выбранное решение логичнее и рациональнее проч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кая мысль проверяется и оттачивается, когда ею делятся с друг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90AD-B873-4497-A972-D7305C0739C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то соотносится с андрагогик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BC59-8093-4464-8321-35F651FBE13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A417-54E4-496E-B2BE-285E7FDA487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C66-77C0-4E2D-A250-ABA4F912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797-A48B-45A0-8B37-8AC59551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996-09A4-4EE6-B907-E4604745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1AD-3273-4949-B871-A728F9F8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2C39-2992-4A67-A622-E5938544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76BE-C78B-45CD-9006-CF90EFA3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CD27-DB86-428D-BC43-E5274F7E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9830-861A-45FA-A87D-7A3BF4A4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B39E-A14D-4670-BBF5-80178462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91D0-560C-4738-9E0F-DD59CAF2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F639-9F75-4619-A49C-0CC1D25C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DD2-38B1-4BE2-A5E8-A84D708E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4666-8759-41C7-8128-78159EA5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5518-F092-4EA8-8920-A63A5D23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945C-D9D7-4CA3-B6CE-87AF9B45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24A6-8489-4FF3-968F-2D65B185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711A-434F-46ED-9547-4B055C65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DAA6F-1A7D-40E0-BA71-D93E1713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650CB-018F-4C89-A886-E375324E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646BB-BF2C-4162-9D12-0BD0699B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87B9-955B-41D2-9CD4-48F7C4DA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5A4F8-520C-4072-8DE1-3317E66C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5BC-4370-4288-AFAF-DD8DA863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8252D-6B4B-49B5-A3F0-A2A64049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3F4D-48FF-4329-BC3A-D0301CBB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DEB94-654F-453B-94FD-85C99C81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8AFFA-CD85-419E-B8C7-8FE61FAA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60105-64BB-4FB3-8DE0-DFAAA4B4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096C8-93A5-4DF5-946A-D5CAA569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4B69-7BCB-4EC2-9322-18C8EF20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91F2F-6577-432C-BC6F-0156F168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DF739-8E1E-46A4-9B4A-768988A8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9611D-3434-468E-AFF7-1DB50981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CB1-20F4-47CB-9A8A-D30CE90B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8B39A-0391-471E-ABF8-47A052A8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2E64B-F9B6-411F-A427-51ADE9DA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F577B-6E4D-491F-80DE-2E91D632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91D1-53E9-4FE4-95FB-B8FFEDF0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1B1F3-C931-4E08-880C-A516EA3E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2C9E9-8C07-4D20-9E5C-A3E1B5D6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B7992-2F63-43F5-893B-9EF3210C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35E19-0D1F-4E68-B803-61A50500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81F4E-291A-47B0-B105-75806290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557D2-26F2-4432-A79E-FE43308A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A02-F59E-4D6B-AC2B-2709BC5D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EF67B-F988-4A21-8495-484B13BE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2EBD3-51A8-4988-B41E-E4BA8F62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8A357-CDE2-45C8-B386-0EFEB5C9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4FAD0-02C7-4081-90CB-77170ED1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619E4-9B28-43C2-8209-96964EFF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E793E-ED2F-4804-8199-6A0F3ECF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0A22B-020F-4AF6-9D8C-333C8A86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B4ACF-4F6D-4F02-85CE-58ED8237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70476-C411-43F0-92B6-FD1B6AE1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2DDE9-39E8-4928-809B-FF2C501A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1D71-8F4D-4FA9-AB0B-6B3FEC9C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F65BA-BA42-4C8A-B742-A3EB9E93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4A666-58CF-404E-91E9-A67B58BB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66694-367E-4299-BAA6-A62A07F0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8919B-6087-4DBF-B7D1-43B38E84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849742-04A0-48AD-AB0A-D8C22A9D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1E9BA-3CA9-495E-BB33-99241537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D90237-81D2-473A-A02B-5072E441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27851-EDA7-43EA-A462-4F1155D1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486D6-1FAF-41DA-9FED-F3E95FCB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F4ECF6-C694-4321-B5EA-CA9F20F0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2F8-4A23-43B2-BDA6-9F11B35E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FED97B-79E6-496B-B694-45E183AA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0F512-7AFB-48A6-876E-F0A2D353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9FC3B-7076-4936-B747-31EEE8E8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6DD7D-6571-4656-BFD9-D7694739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9CBAA-1553-45DF-AC7C-517D22DB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9A876-35E7-4E76-998F-5D3BFCB1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2B6A0-7E4B-439E-B911-EC511829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993AC-84CD-4A23-B25A-9A117319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BEC91-92A6-47EB-A68D-206122D7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5E4AF-DE61-4B23-B5D8-A7585725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559-591E-4E82-8D8C-2B429EAD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C3531-D473-4361-AB46-B32FD9EA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75547-61D7-4F5E-8386-63BE48A3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63DE1-9913-4963-9E2D-DDCAD9A0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9E916-FAF0-4465-A93E-0F23531E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A7AF5-E71D-48C9-8B38-38A66FA4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C84-DF73-4D84-9B83-FB38D010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d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A855-4704-4732-9D3C-670A9E755CF6}" type="datetime">
              <a:rPr b="0" lang="en-US" sz="1200" spc="-1" strike="noStrike">
                <a:solidFill>
                  <a:srgbClr val="564b3c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3843-A975-4A6B-BD92-ED43770B498F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2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d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2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3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FBB5-FF05-408A-A2F6-B04F5E368470}" type="datetime">
              <a:rPr b="0" lang="en-US" sz="1200" spc="-1" strike="noStrike">
                <a:solidFill>
                  <a:srgbClr val="564b3c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96E4-9A21-4E9B-86CB-F4393F021E0D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d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2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A926-AD04-44EB-A769-A30A5DB5AF41}" type="datetime">
              <a:rPr b="0" lang="en-US" sz="1200" spc="-1" strike="noStrike">
                <a:solidFill>
                  <a:srgbClr val="564b3c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520F-F158-4078-954D-594F647C14C8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d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ABFC-5F43-4716-BBE7-8B08C4FBACE1}" type="datetime">
              <a:rPr b="0" lang="en-US" sz="1200" spc="-1" strike="noStrike">
                <a:solidFill>
                  <a:srgbClr val="564b3c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A0EA-FF0C-4443-B781-C75C0A13006D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d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2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3E11-2CA5-4186-AFC7-BA36D16DBAB8}" type="datetime">
              <a:rPr b="0" lang="en-US" sz="1200" spc="-1" strike="noStrike">
                <a:solidFill>
                  <a:srgbClr val="564b3c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6D91-6CAB-4D16-8C65-4D833FD502CC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d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2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2EB6-1697-43A7-A9ED-A05F1E0739B8}" type="datetime">
              <a:rPr b="0" lang="en-US" sz="1200" spc="-1" strike="noStrike">
                <a:solidFill>
                  <a:srgbClr val="564b3c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241A-416D-473A-B7FB-5B238739296C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d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3DE7-462A-4DDD-95B1-FA2B3F606455}" type="datetime">
              <a:rPr b="0" lang="en-US" sz="1200" spc="-1" strike="noStrike">
                <a:solidFill>
                  <a:srgbClr val="564b3c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6AC6-FCCA-4CE4-9621-660A4AAAB0FD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93640" y="151920"/>
            <a:ext cx="8261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СОЗДАНИЕ УСЛОВИЙ ДЛЯ РАЗВИТИЯ КРИТИЧЕСКОГО МЫШЛЕНИ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ТЕХНИКИ ТРКМ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Book Antiqua"/>
              </a:rPr>
              <a:t>МЫ НЕ МОЖЕМ РЕШИТЬ НАШИ ПРОБЛЕМЫ ТЕМ ЖЕ МЫШЛЕНИЕМ, КОТОРЫМ ИХ СОЗДАЛИ.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Book Antiqua"/>
              </a:rPr>
              <a:t>А. ЭЙНШТЕЙН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21FA-DE6E-4073-9041-8C10E54DD438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3"/>
          <p:cNvSpPr/>
          <p:nvPr/>
        </p:nvSpPr>
        <p:spPr>
          <a:xfrm>
            <a:off x="4724280" y="50292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Калашник Н.Н., учитель английского языка, Милык И.Н., учитель начальных классов, Меркова В.В., учитель начальных клас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МБОУ «СОШ №4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9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6b7d72"/>
                </a:solidFill>
                <a:latin typeface="Book Antiqua"/>
              </a:rPr>
              <a:t>ФАЗЫ </a:t>
            </a:r>
            <a:br>
              <a:rPr sz="3500"/>
            </a:br>
            <a:r>
              <a:rPr b="1" i="1" lang="ru-RU" sz="3500" spc="-1" strike="noStrike">
                <a:solidFill>
                  <a:srgbClr val="6b7d72"/>
                </a:solidFill>
                <a:latin typeface="Book Antiqua"/>
              </a:rPr>
              <a:t>ОБРАЗОВАТЕЛЬНОЙ ТЕХНОЛОГИ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455760" y="2057400"/>
            <a:ext cx="8226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7d72"/>
                </a:solidFill>
                <a:latin typeface="Arial"/>
              </a:rPr>
              <a:t>III </a:t>
            </a:r>
            <a:r>
              <a:rPr b="0" lang="ru-RU" sz="3600" spc="-1" strike="noStrike">
                <a:solidFill>
                  <a:srgbClr val="6b7d72"/>
                </a:solidFill>
                <a:latin typeface="Arial"/>
              </a:rPr>
              <a:t>ФАЗА – 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564b3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размышление, рождение нового 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564b3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остановка новых целей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564b3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380880" y="2438280"/>
          <a:ext cx="8305920" cy="3856320"/>
        </p:xfrm>
        <a:graphic>
          <a:graphicData uri="http://schemas.openxmlformats.org/drawingml/2006/table">
            <a:tbl>
              <a:tblPr/>
              <a:tblGrid>
                <a:gridCol w="3048120"/>
                <a:gridCol w="5257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творче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анал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приме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поним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запомин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80880" y="533520"/>
          <a:ext cx="8305920" cy="1279440"/>
        </p:xfrm>
        <a:graphic>
          <a:graphicData uri="http://schemas.openxmlformats.org/drawingml/2006/table">
            <a:tbl>
              <a:tblPr/>
              <a:tblGrid>
                <a:gridCol w="1881360"/>
                <a:gridCol w="2004840"/>
                <a:gridCol w="2133720"/>
                <a:gridCol w="2286000"/>
              </a:tblGrid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назо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заверш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оц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протестиру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представ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переве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сделай дизай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сделай выб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проиллюстриру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классифициру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предска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a5155"/>
                          </a:solidFill>
                          <a:latin typeface="Times New Roman"/>
                          <a:ea typeface="Calibri"/>
                        </a:rPr>
                        <a:t>соотне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52280" y="228600"/>
          <a:ext cx="8763120" cy="5867280"/>
        </p:xfrm>
        <a:graphic>
          <a:graphicData uri="http://schemas.openxmlformats.org/drawingml/2006/table">
            <a:tbl>
              <a:tblPr/>
              <a:tblGrid>
                <a:gridCol w="3216240"/>
                <a:gridCol w="554688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озможный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творче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представь</a:t>
                      </a:r>
                      <a:r>
                        <a:rPr b="1" lang="en-US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сделай дизай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оцени</a:t>
                      </a:r>
                      <a:r>
                        <a:rPr b="1" lang="en-US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сделай выб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11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анал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протестируй</a:t>
                      </a:r>
                      <a:r>
                        <a:rPr b="1" lang="en-US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классифициру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приме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заверши</a:t>
                      </a:r>
                      <a:r>
                        <a:rPr b="1" lang="en-US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проиллюстриру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поним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переведи</a:t>
                      </a:r>
                      <a:r>
                        <a:rPr b="1" lang="en-US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предска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запомин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назови</a:t>
                      </a:r>
                      <a:r>
                        <a:rPr b="1" lang="en-US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5a5155"/>
                          </a:solidFill>
                          <a:latin typeface="Century Gothic"/>
                        </a:rPr>
                        <a:t>соотнес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E7D6-693E-402E-8C1A-E112E8E3A5B3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C:\Users\Nelli\Downloads\Можете ли вы(1).jpg"/>
          <p:cNvPicPr/>
          <p:nvPr/>
        </p:nvPicPr>
        <p:blipFill>
          <a:blip r:embed="rId1"/>
          <a:stretch/>
        </p:blipFill>
        <p:spPr>
          <a:xfrm>
            <a:off x="-177840" y="38160"/>
            <a:ext cx="93218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6"/>
          <p:cNvGrpSpPr/>
          <p:nvPr/>
        </p:nvGrpSpPr>
        <p:grpSpPr>
          <a:xfrm>
            <a:off x="4495680" y="2666880"/>
            <a:ext cx="3687840" cy="3121200"/>
            <a:chOff x="4495680" y="2666880"/>
            <a:chExt cx="3687840" cy="3121200"/>
          </a:xfrm>
        </p:grpSpPr>
        <p:sp>
          <p:nvSpPr>
            <p:cNvPr id="375" name="AutoShape 7"/>
            <p:cNvSpPr/>
            <p:nvPr/>
          </p:nvSpPr>
          <p:spPr>
            <a:xfrm>
              <a:off x="4495680" y="2666880"/>
              <a:ext cx="3687840" cy="31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8"/>
            <p:cNvSpPr/>
            <p:nvPr/>
          </p:nvSpPr>
          <p:spPr>
            <a:xfrm>
              <a:off x="6097320" y="3103920"/>
              <a:ext cx="41076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7289280" y="3103920"/>
              <a:ext cx="41076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4906440" y="3103920"/>
              <a:ext cx="40968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1"/>
            <p:cNvSpPr/>
            <p:nvPr/>
          </p:nvSpPr>
          <p:spPr>
            <a:xfrm>
              <a:off x="7289280" y="3998880"/>
              <a:ext cx="41076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"/>
            <p:cNvSpPr/>
            <p:nvPr/>
          </p:nvSpPr>
          <p:spPr>
            <a:xfrm>
              <a:off x="4906440" y="4893480"/>
              <a:ext cx="40968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3"/>
            <p:cNvSpPr/>
            <p:nvPr/>
          </p:nvSpPr>
          <p:spPr>
            <a:xfrm>
              <a:off x="6097320" y="3998880"/>
              <a:ext cx="41076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4"/>
            <p:cNvSpPr/>
            <p:nvPr/>
          </p:nvSpPr>
          <p:spPr>
            <a:xfrm>
              <a:off x="4906440" y="3998880"/>
              <a:ext cx="40968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5"/>
            <p:cNvSpPr/>
            <p:nvPr/>
          </p:nvSpPr>
          <p:spPr>
            <a:xfrm>
              <a:off x="6097320" y="4893480"/>
              <a:ext cx="41076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6"/>
            <p:cNvSpPr/>
            <p:nvPr/>
          </p:nvSpPr>
          <p:spPr>
            <a:xfrm>
              <a:off x="7289280" y="4893480"/>
              <a:ext cx="410760" cy="42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19" descr="https://encrypted-tbn2.gstatic.com/images?q=tbn:ANd9GcSX7eDRk68XVBB0FFlUUB63NrGHtPtzro3NtUduc7IPwy2KCdvn"/>
          <p:cNvPicPr/>
          <p:nvPr/>
        </p:nvPicPr>
        <p:blipFill>
          <a:blip r:embed="rId1"/>
          <a:stretch/>
        </p:blipFill>
        <p:spPr>
          <a:xfrm>
            <a:off x="609480" y="23623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20"/>
          <p:cNvSpPr/>
          <p:nvPr/>
        </p:nvSpPr>
        <p:spPr>
          <a:xfrm>
            <a:off x="533520" y="228600"/>
            <a:ext cx="7848360" cy="182880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64b3c"/>
                </a:solidFill>
                <a:latin typeface="Arial"/>
              </a:rPr>
              <a:t>Не отрывая карандаша от бумаги,</a:t>
            </a:r>
            <a:br>
              <a:rPr sz="3600"/>
            </a:br>
            <a:r>
              <a:rPr b="0" i="1" lang="ru-RU" sz="3600" spc="-1" strike="noStrike">
                <a:solidFill>
                  <a:srgbClr val="564b3c"/>
                </a:solidFill>
                <a:latin typeface="Arial"/>
              </a:rPr>
              <a:t>соедините четырьмя прямыми </a:t>
            </a:r>
            <a:br>
              <a:rPr sz="3600"/>
            </a:br>
            <a:r>
              <a:rPr b="0" i="1" lang="ru-RU" sz="3600" spc="-1" strike="noStrike">
                <a:solidFill>
                  <a:srgbClr val="564b3c"/>
                </a:solidFill>
                <a:latin typeface="Arial"/>
              </a:rPr>
              <a:t>линиями все девять точ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F5B8-BB54-4D20-AF13-00F10DCCB5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27"/>
          <p:cNvGrpSpPr/>
          <p:nvPr/>
        </p:nvGrpSpPr>
        <p:grpSpPr>
          <a:xfrm>
            <a:off x="4648320" y="3124080"/>
            <a:ext cx="3611520" cy="3056040"/>
            <a:chOff x="4648320" y="3124080"/>
            <a:chExt cx="3611520" cy="3056040"/>
          </a:xfrm>
        </p:grpSpPr>
        <p:sp>
          <p:nvSpPr>
            <p:cNvPr id="391" name="AutoShape 28"/>
            <p:cNvSpPr/>
            <p:nvPr/>
          </p:nvSpPr>
          <p:spPr>
            <a:xfrm>
              <a:off x="4648320" y="3124080"/>
              <a:ext cx="3611520" cy="30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9"/>
            <p:cNvSpPr/>
            <p:nvPr/>
          </p:nvSpPr>
          <p:spPr>
            <a:xfrm>
              <a:off x="6216840" y="3552120"/>
              <a:ext cx="40248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0"/>
            <p:cNvSpPr/>
            <p:nvPr/>
          </p:nvSpPr>
          <p:spPr>
            <a:xfrm>
              <a:off x="7384320" y="3552120"/>
              <a:ext cx="40248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1"/>
            <p:cNvSpPr/>
            <p:nvPr/>
          </p:nvSpPr>
          <p:spPr>
            <a:xfrm>
              <a:off x="5050800" y="3552120"/>
              <a:ext cx="40104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2"/>
            <p:cNvSpPr/>
            <p:nvPr/>
          </p:nvSpPr>
          <p:spPr>
            <a:xfrm>
              <a:off x="7384320" y="4428000"/>
              <a:ext cx="40248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3"/>
            <p:cNvSpPr/>
            <p:nvPr/>
          </p:nvSpPr>
          <p:spPr>
            <a:xfrm>
              <a:off x="5050800" y="5304240"/>
              <a:ext cx="40104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4"/>
            <p:cNvSpPr/>
            <p:nvPr/>
          </p:nvSpPr>
          <p:spPr>
            <a:xfrm>
              <a:off x="6216840" y="4428000"/>
              <a:ext cx="40248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5"/>
            <p:cNvSpPr/>
            <p:nvPr/>
          </p:nvSpPr>
          <p:spPr>
            <a:xfrm>
              <a:off x="5050800" y="4428000"/>
              <a:ext cx="40104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6"/>
            <p:cNvSpPr/>
            <p:nvPr/>
          </p:nvSpPr>
          <p:spPr>
            <a:xfrm>
              <a:off x="6216840" y="5304240"/>
              <a:ext cx="40248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7"/>
            <p:cNvSpPr/>
            <p:nvPr/>
          </p:nvSpPr>
          <p:spPr>
            <a:xfrm>
              <a:off x="7384320" y="5304240"/>
              <a:ext cx="402480" cy="41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Line 38"/>
          <p:cNvSpPr/>
          <p:nvPr/>
        </p:nvSpPr>
        <p:spPr>
          <a:xfrm flipH="1">
            <a:off x="5257800" y="37339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9"/>
          <p:cNvSpPr/>
          <p:nvPr/>
        </p:nvSpPr>
        <p:spPr>
          <a:xfrm>
            <a:off x="5257800" y="54864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0"/>
          <p:cNvSpPr/>
          <p:nvPr/>
        </p:nvSpPr>
        <p:spPr>
          <a:xfrm flipH="1" flipV="1">
            <a:off x="5181120" y="3047760"/>
            <a:ext cx="358164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1"/>
          <p:cNvSpPr/>
          <p:nvPr/>
        </p:nvSpPr>
        <p:spPr>
          <a:xfrm>
            <a:off x="5181480" y="30481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4"/>
          <p:cNvSpPr/>
          <p:nvPr/>
        </p:nvSpPr>
        <p:spPr>
          <a:xfrm>
            <a:off x="380880" y="2743200"/>
            <a:ext cx="216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6"/>
          <p:cNvSpPr/>
          <p:nvPr/>
        </p:nvSpPr>
        <p:spPr>
          <a:xfrm>
            <a:off x="669960" y="3160800"/>
            <a:ext cx="29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7"/>
          <p:cNvSpPr/>
          <p:nvPr/>
        </p:nvSpPr>
        <p:spPr>
          <a:xfrm>
            <a:off x="457200" y="380880"/>
            <a:ext cx="8001000" cy="190512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ы могли предположить, что при  решении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ужно оставаться в рамках заданн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шение заключается в том, чтобы выйти за 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еделы и сломать границ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55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9" name="Picture 57" descr="ANd9GcSchDfRKm23O5bmNs_d0HLny1HEpKNu_rFbiIaMtiHWzSapk_xyHQ"/>
          <p:cNvPicPr/>
          <p:nvPr/>
        </p:nvPicPr>
        <p:blipFill>
          <a:blip r:embed="rId1"/>
          <a:stretch/>
        </p:blipFill>
        <p:spPr>
          <a:xfrm>
            <a:off x="0" y="2743200"/>
            <a:ext cx="44956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2172-D216-4E81-A9FA-17D5D3965191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2060"/>
                </a:solidFill>
                <a:latin typeface="Book Antiqua"/>
              </a:rPr>
              <a:t>ЛИТЕРАТУР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1.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www.italldepends.wikispaces.com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2.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http://www.youtube.com/watch?v=L-Lhq0TKi0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3. Blooming Orange: Bloom's Taxonomy Helpful Verbs Poster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4. Questions and Activities Aligned with Bloom's Taxonom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5. Презентация: «Развитие критического мышления, как образовательная технология в работе методиста». Еговкина Н.В. ИМО Сарапульского район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6. Презентация «Воздушные шары от модераторов»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www.moi-universitet.ru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A5C9-DD3F-49FA-AA4B-BD5B3C4CFCF3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67888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АЛГОРИТМ МАСТЕРСКОЙ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499760"/>
            <a:ext cx="8534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                                    </a:t>
            </a:r>
            <a:r>
              <a:rPr b="1" lang="ru-RU" sz="2000" spc="-1" strike="noStrike">
                <a:solidFill>
                  <a:srgbClr val="36130e"/>
                </a:solidFill>
                <a:latin typeface="Century Gothic"/>
              </a:rPr>
              <a:t>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4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.   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Общая рефлексия и     выход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                                                        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на новую систему проблем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	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  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3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.  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Социализация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2.  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Корректировка продукта ил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                                          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создание нового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1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.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Обращение к новой информаци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                            </a:t>
            </a:r>
            <a:r>
              <a:rPr b="1" i="1" lang="en-US" sz="2000" spc="-1" strike="noStrike">
                <a:solidFill>
                  <a:srgbClr val="c00000"/>
                </a:solidFill>
                <a:latin typeface="Century Gothic"/>
              </a:rPr>
              <a:t>II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 этап- Формирование новых знаний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	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	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        </a:t>
            </a:r>
            <a:r>
              <a:rPr b="1" i="1" lang="en-US" sz="2000" spc="-1" strike="noStrike">
                <a:solidFill>
                  <a:srgbClr val="36130e"/>
                </a:solidFill>
                <a:latin typeface="Century Gothic"/>
              </a:rPr>
              <a:t> 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5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.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Промежуточная рефлексия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	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      </a:t>
            </a:r>
            <a:r>
              <a:rPr b="1" i="1" lang="en-US" sz="2000" spc="-1" strike="noStrike">
                <a:solidFill>
                  <a:srgbClr val="36130e"/>
                </a:solidFill>
                <a:latin typeface="Century Gothic"/>
              </a:rPr>
              <a:t>     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4</a:t>
            </a: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.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Социализация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         </a:t>
            </a:r>
            <a:r>
              <a:rPr b="1" i="1" lang="en-US" sz="2000" spc="-1" strike="noStrike">
                <a:solidFill>
                  <a:srgbClr val="36130e"/>
                </a:solidFill>
                <a:latin typeface="Century Gothic"/>
              </a:rPr>
              <a:t>     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3.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Создание творческого продукта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      </a:t>
            </a:r>
            <a:r>
              <a:rPr b="1" i="1" lang="en-US" sz="2000" spc="-1" strike="noStrike">
                <a:solidFill>
                  <a:srgbClr val="36130e"/>
                </a:solidFill>
                <a:latin typeface="Century Gothic"/>
              </a:rPr>
              <a:t>    </a:t>
            </a:r>
            <a:r>
              <a:rPr b="1" i="1" lang="en-US" sz="20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2.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Индуктор</a:t>
            </a:r>
            <a:r>
              <a:rPr b="1" i="1" lang="ru-RU" sz="2000" spc="-1" strike="noStrike">
                <a:solidFill>
                  <a:srgbClr val="2b261e"/>
                </a:solidFill>
                <a:latin typeface="Century Gothic"/>
              </a:rPr>
              <a:t>-</a:t>
            </a:r>
            <a:r>
              <a:rPr b="1" i="1" lang="ru-RU" sz="1400" spc="-1" strike="noStrike">
                <a:solidFill>
                  <a:srgbClr val="ff0000"/>
                </a:solidFill>
                <a:latin typeface="Century Gothic"/>
              </a:rPr>
              <a:t>рассуждение от частных фактов к общим выводам</a:t>
            </a: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130e"/>
                </a:solidFill>
                <a:latin typeface="Century Gothic"/>
              </a:rPr>
              <a:t>   </a:t>
            </a:r>
            <a:r>
              <a:rPr b="1" i="1" lang="en-US" sz="2000" spc="-1" strike="noStrike">
                <a:solidFill>
                  <a:srgbClr val="36130e"/>
                </a:solidFill>
                <a:latin typeface="Century Gothic"/>
              </a:rPr>
              <a:t>   </a:t>
            </a:r>
            <a:r>
              <a:rPr b="1" i="1" lang="en-US" sz="20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1. </a:t>
            </a:r>
            <a:r>
              <a:rPr b="1" i="1" lang="en-US" sz="2000" spc="-1" strike="noStrike">
                <a:solidFill>
                  <a:srgbClr val="002060"/>
                </a:solidFill>
                <a:latin typeface="Century Gothic"/>
              </a:rPr>
              <a:t>C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лово мастера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Century Gothic"/>
              </a:rPr>
              <a:t>   </a:t>
            </a:r>
            <a:r>
              <a:rPr b="1" i="1" lang="en-US" sz="2000" spc="-1" strike="noStrike">
                <a:solidFill>
                  <a:srgbClr val="c00000"/>
                </a:solidFill>
                <a:latin typeface="Century Gothic"/>
              </a:rPr>
              <a:t>I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 этап-Формирование информационного «голода»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 Unicode"/>
              </a:rPr>
              <a:t>АМО «ФМС»</a:t>
            </a:r>
            <a:endParaRPr b="0" lang="en-US" sz="41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D8DF-2F77-43B0-9ECE-8F9BD41755AA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457200" y="1768320"/>
            <a:ext cx="82296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301680" y="179280"/>
          <a:ext cx="8691480" cy="6442200"/>
        </p:xfrm>
        <a:graphic>
          <a:graphicData uri="http://schemas.openxmlformats.org/drawingml/2006/table">
            <a:tbl>
              <a:tblPr/>
              <a:tblGrid>
                <a:gridCol w="1506600"/>
                <a:gridCol w="1752480"/>
                <a:gridCol w="1319040"/>
                <a:gridCol w="93960"/>
                <a:gridCol w="1257120"/>
                <a:gridCol w="1284480"/>
                <a:gridCol w="1477800"/>
              </a:tblGrid>
              <a:tr h="474480">
                <a:tc grid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c0c0c0"/>
                      </a:solidFill>
                    </a:lnL>
                    <a:lnR w="18720">
                      <a:solidFill>
                        <a:srgbClr val="c0c0c0"/>
                      </a:solidFill>
                    </a:lnR>
                    <a:lnT w="18720">
                      <a:solidFill>
                        <a:srgbClr val="c0c0c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9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8720">
                      <a:solidFill>
                        <a:srgbClr val="c0c0c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23a28"/>
                          </a:solidFill>
                          <a:latin typeface="Futura Md BT"/>
                          <a:ea typeface="PMingLiU"/>
                        </a:rPr>
                        <a:t>твор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1872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7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8720">
                      <a:solidFill>
                        <a:srgbClr val="c0c0c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a23a28"/>
                          </a:solidFill>
                          <a:latin typeface="Futura Md BT"/>
                          <a:ea typeface="PMingLiU"/>
                        </a:rPr>
                        <a:t>оцен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Futura Md BT"/>
                          <a:ea typeface="PMingLiU"/>
                        </a:rPr>
                        <a:t>высоки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utura Md BT"/>
                          <a:ea typeface="PMingLiU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1872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</a:tr>
              <a:tr h="64656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8720">
                      <a:solidFill>
                        <a:srgbClr val="c0c0c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a23a28"/>
                          </a:solidFill>
                          <a:latin typeface="Futura Md BT"/>
                          <a:ea typeface="PMingLiU"/>
                        </a:rPr>
                        <a:t>анали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1872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6462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8720">
                      <a:solidFill>
                        <a:srgbClr val="c0c0c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Futura Md BT"/>
                          <a:ea typeface="PMingLiU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1872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76212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8720">
                      <a:solidFill>
                        <a:srgbClr val="c0c0c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Futura Md BT"/>
                          <a:ea typeface="PMingLiU"/>
                        </a:rPr>
                        <a:t>по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1872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58472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Futura Md BT"/>
                          <a:ea typeface="PMingLiU"/>
                        </a:rPr>
                        <a:t>знание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Futura Md BT"/>
                          <a:ea typeface="PMingLiU"/>
                        </a:rPr>
                        <a:t>запомин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8720">
                      <a:solidFill>
                        <a:srgbClr val="c0c0c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             </a:t>
                      </a:r>
                      <a:r>
                        <a:rPr b="1" lang="ru-RU" sz="3200" spc="-1" strike="noStrike">
                          <a:solidFill>
                            <a:srgbClr val="a23a28"/>
                          </a:solidFill>
                          <a:latin typeface="Century Gothic"/>
                          <a:ea typeface="PMingLiU"/>
                        </a:rPr>
                        <a:t>когнитивная</a:t>
                      </a:r>
                      <a:r>
                        <a:rPr b="1" lang="en-US" sz="3200" spc="-1" strike="noStrike">
                          <a:solidFill>
                            <a:srgbClr val="a23a28"/>
                          </a:solidFill>
                          <a:latin typeface="Century Gothic"/>
                          <a:ea typeface="PMingLiU"/>
                        </a:rPr>
                        <a:t>        </a:t>
                      </a:r>
                      <a:r>
                        <a:rPr b="1" lang="ru-RU" sz="3200" spc="-1" strike="noStrike">
                          <a:solidFill>
                            <a:srgbClr val="a23a28"/>
                          </a:solidFill>
                          <a:latin typeface="Century Gothic"/>
                          <a:ea typeface="PMingLiU"/>
                        </a:rPr>
                        <a:t>деятельн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1872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85356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Futura Md BT"/>
                          <a:ea typeface="PMingLiU"/>
                        </a:rPr>
                        <a:t>низ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8720">
                      <a:solidFill>
                        <a:srgbClr val="c0c0c0"/>
                      </a:solidFill>
                    </a:lnL>
                    <a:lnR w="18720">
                      <a:solidFill>
                        <a:srgbClr val="c0c0c0"/>
                      </a:solidFill>
                    </a:lnR>
                    <a:lnT w="18720">
                      <a:solidFill>
                        <a:srgbClr val="c0c0c0"/>
                      </a:solidFill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8720">
                      <a:solidFill>
                        <a:srgbClr val="c0c0c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18720">
                      <a:solidFill>
                        <a:srgbClr val="c0c0c0"/>
                      </a:solidFill>
                    </a:lnR>
                    <a:lnT>
                      <a:noFill/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47" name="Line 1"/>
          <p:cNvSpPr/>
          <p:nvPr/>
        </p:nvSpPr>
        <p:spPr>
          <a:xfrm flipV="1">
            <a:off x="4038480" y="3352680"/>
            <a:ext cx="342900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304920" y="9144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Уро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погруженности мы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при формулировании вопроса по таксономии Бл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152280" y="0"/>
            <a:ext cx="900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6"/>
          <p:cNvSpPr/>
          <p:nvPr/>
        </p:nvSpPr>
        <p:spPr>
          <a:xfrm>
            <a:off x="250920" y="404640"/>
            <a:ext cx="8642160" cy="5861160"/>
          </a:xfrm>
          <a:prstGeom prst="pentagon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64b3c"/>
                </a:solidFill>
                <a:latin typeface="Arial Narrow"/>
              </a:rPr>
              <a:t>Составляющие </a:t>
            </a:r>
            <a:br>
              <a:rPr sz="6000"/>
            </a:br>
            <a:r>
              <a:rPr b="0" lang="ru-RU" sz="6000" spc="-1" strike="noStrike">
                <a:solidFill>
                  <a:srgbClr val="564b3c"/>
                </a:solidFill>
                <a:latin typeface="Arial Narrow"/>
              </a:rPr>
              <a:t>критического мышл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2344680" y="210960"/>
            <a:ext cx="4402080" cy="1522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мышление самостоя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8"/>
          <p:cNvSpPr/>
          <p:nvPr/>
        </p:nvSpPr>
        <p:spPr>
          <a:xfrm>
            <a:off x="6211800" y="1895400"/>
            <a:ext cx="2841840" cy="19947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я является отправным пунктом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9"/>
          <p:cNvSpPr/>
          <p:nvPr/>
        </p:nvSpPr>
        <p:spPr>
          <a:xfrm>
            <a:off x="5996160" y="4630680"/>
            <a:ext cx="2841480" cy="19947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М начинается с уяснения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0"/>
          <p:cNvSpPr/>
          <p:nvPr/>
        </p:nvSpPr>
        <p:spPr>
          <a:xfrm>
            <a:off x="379440" y="4703760"/>
            <a:ext cx="2841480" cy="19947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ится к убедительной аргум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1"/>
          <p:cNvSpPr/>
          <p:nvPr/>
        </p:nvSpPr>
        <p:spPr>
          <a:xfrm>
            <a:off x="162000" y="1967040"/>
            <a:ext cx="2841480" cy="19947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мышление соци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b7d72"/>
                </a:solidFill>
                <a:latin typeface="Century Gothic"/>
              </a:rPr>
              <a:t>ЦЕЛЬ ТЕХНОЛОГИИ:</a:t>
            </a:r>
            <a:r>
              <a:rPr b="0" lang="ru-RU" sz="4800" spc="-1" strike="noStrike">
                <a:solidFill>
                  <a:srgbClr val="6b7d72"/>
                </a:solidFill>
                <a:latin typeface="Century Gothic"/>
              </a:rPr>
              <a:t> </a:t>
            </a:r>
            <a:endParaRPr b="0" lang="en-US" sz="4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entury Gothic"/>
              </a:rPr>
              <a:t>обеспечить развитие критического мышления посредством интерактивного включения обучающихся в образовательный процесс</a:t>
            </a:r>
            <a:r>
              <a:rPr b="0" lang="ru-RU" sz="40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9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6b7d72"/>
                </a:solidFill>
                <a:latin typeface="Century Gothic"/>
              </a:rPr>
              <a:t>ФАЗЫ </a:t>
            </a:r>
            <a:br>
              <a:rPr sz="3500"/>
            </a:br>
            <a:r>
              <a:rPr b="1" i="1" lang="ru-RU" sz="3500" spc="-1" strike="noStrike">
                <a:solidFill>
                  <a:srgbClr val="6b7d72"/>
                </a:solidFill>
                <a:latin typeface="Century Gothic"/>
              </a:rPr>
              <a:t>ОБРАЗОВАТЕЛЬНОЙ ТЕХНОЛОГИ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455760" y="1905120"/>
            <a:ext cx="8226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entury Gothic"/>
              </a:rPr>
              <a:t>I </a:t>
            </a:r>
            <a:r>
              <a:rPr b="0" lang="ru-RU" sz="4800" spc="-1" strike="noStrike">
                <a:solidFill>
                  <a:srgbClr val="002060"/>
                </a:solidFill>
                <a:latin typeface="Century Gothic"/>
              </a:rPr>
              <a:t>ФАЗА - ВЫЗ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64b3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актуализация имеющихся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64b3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пробуждение интереса к получению нов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64b3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постановка собственных целей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9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6b7d72"/>
                </a:solidFill>
                <a:latin typeface="Century Gothic"/>
              </a:rPr>
              <a:t>ФАЗЫ </a:t>
            </a:r>
            <a:br>
              <a:rPr sz="3500"/>
            </a:br>
            <a:r>
              <a:rPr b="1" i="1" lang="ru-RU" sz="3500" spc="-1" strike="noStrike">
                <a:solidFill>
                  <a:srgbClr val="6b7d72"/>
                </a:solidFill>
                <a:latin typeface="Century Gothic"/>
              </a:rPr>
              <a:t>ОБРАЗОВАТЕЛЬНОЙ ТЕХНОЛОГИ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28600" y="205740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b7d72"/>
                </a:solidFill>
                <a:latin typeface="Century Gothic"/>
              </a:rPr>
              <a:t>II фаза - Осмысление содерж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564b3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Получение новой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564b3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корректировка поставленных целей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564b3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9:04:59Z</dcterms:created>
  <dc:creator>Toni</dc:creator>
  <dc:description/>
  <dc:language>en-US</dc:language>
  <cp:lastModifiedBy>Uer</cp:lastModifiedBy>
  <dcterms:modified xsi:type="dcterms:W3CDTF">2015-10-07T03:20:55Z</dcterms:modified>
  <cp:revision>148</cp:revision>
  <dc:subject/>
  <dc:title>Critical and Creative Thinking in the English Classroom</dc:title>
</cp:coreProperties>
</file>