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5.jpeg" ContentType="image/jpeg"/>
  <Override PartName="/ppt/media/image2.png" ContentType="image/png"/>
  <Override PartName="/ppt/media/image19.jpeg" ContentType="image/jpeg"/>
  <Override PartName="/ppt/media/image6.png" ContentType="image/png"/>
  <Override PartName="/ppt/media/image26.jpeg" ContentType="image/jpeg"/>
  <Override PartName="/ppt/media/image5.jpeg" ContentType="image/jpeg"/>
  <Override PartName="/ppt/media/image7.gif" ContentType="image/gif"/>
  <Override PartName="/ppt/media/image4.jpeg" ContentType="image/jpeg"/>
  <Override PartName="/ppt/media/image8.wmf" ContentType="image/x-wmf"/>
  <Override PartName="/ppt/media/image10.gif" ContentType="image/gif"/>
  <Override PartName="/ppt/media/image13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7.jpeg" ContentType="image/jpeg"/>
  <Override PartName="/ppt/media/image28.wmf" ContentType="image/x-wmf"/>
  <Override PartName="/ppt/media/image3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DE4F-8A67-41AC-AF28-EB744831FA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EAA7-F1F6-4C3B-9CB5-88625788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8A27-B2C9-41FA-8C69-ADFAFAC3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5C51-F9D9-44E3-96D8-85B988F060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51E-A218-4801-9DA9-67A4617882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47F-0E6B-4371-8FE6-F9D01CB730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2B7-DC28-42BE-84E8-9474B2AAF2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E2E-4837-4FB1-84C3-FF4980A104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947-BD2E-489B-9483-162C20FB76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AB1-E483-4F69-825B-905F72CA98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301-99B5-41F0-AEE1-4278BA486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5560-C215-41E8-B9F4-EDD3519C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2FD-3DC8-4C32-99A2-BFF18B7F97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205-C412-40DE-8E09-8CE24F22BD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324-6809-45EB-B786-71AF0E0C5F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BD5-640C-4A09-BDEB-22370821BA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80B-B263-46F4-9BE5-222AA5EFAE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AC76F-83B6-477F-91D2-9069883A0E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8BFB0-6454-44BC-A81A-4F6F0182E9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E7A00-CF01-42E9-820F-7545856F36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42BB1-C38E-4A04-8CC4-5D25EFEB36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A1C49-8828-49FA-AA85-7B06A7A1EA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3180-7E31-4B04-9AB4-F269E1F1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44243-2946-4AE4-89AD-3885444153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0B535-B894-4E2F-88D7-0621841571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E8DC5-73A8-4192-915B-0EC2500D24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7310A-9FC5-4C70-AC92-C9460EDE99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8D133-595A-41BE-B682-B96A718BE9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A151A-2C3C-4B06-BE5D-2A667E7767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54F4B-E39E-407D-8038-9D7BFB9F1E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2D18D-8FC2-4653-94C4-F0594F4F50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B1995-CFEC-4844-8471-D1B8F7CAF5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5C5FB-D779-4801-8CF7-E44CA2D9D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1F5F-1637-4D6D-BF41-A6F4A427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1C1C2-93AE-4937-9C29-4EF7705A64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B5194-367E-4CC8-93CD-CBBA408D71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A5E94-9F32-4BC8-B0DE-FB8CA462AB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6F555-CD84-4907-AAB2-CB34EEEB6E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0E085-0534-4C59-AC0B-47F1686C78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4182D-DBCD-434C-B0E3-C322386B9D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2B87E-512A-40B6-BC15-6634BF8C1C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75EC3-CBFE-49C8-A36C-C9B98663A9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A28CF-5445-46E1-9A10-2652008D5F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F973-6EE7-40D7-86C1-77814E454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89E7-F2D3-4387-86DA-8656E5CD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57D0-F8FE-4218-9C86-B4A335BCE27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77D3-FF59-4898-B692-044FC83D36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A5E4-08BA-44AD-979C-1A4F8D95EC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F8B9-68F7-480D-A5E6-81F8400338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DDBF-21A5-4922-93D8-8977FE7675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A6E7-C560-49AF-8B13-6238391EFB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6CA5-A9F6-44EF-960A-40E7F30582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954C-8730-44D9-BFA8-077FA883EDE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49F8-AD95-4042-90FC-1C6B6AAE06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38BD-615C-4F60-AB1C-72F6A0311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1A30-CAFB-4810-B5AB-06E6431A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222F-50EE-4736-AEC0-BC23E30A67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01A8-C019-48E7-9231-2C669A72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0791-FBC5-423A-8100-D1974C64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EC2D-2499-48BA-A3D0-8BE703C4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9BA149-BCF5-450A-BCC9-E405BA83F8D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4B9B27-7418-47BC-A1B1-D5166D828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6781680" y="632448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346089-C64B-47E6-A311-EAB426AE3E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6781680" y="632448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B10ED7-471F-45F4-AC3D-8764A0E3CB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90E230-1308-41A8-AA40-C2DC3C0A1B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" Target="slide4.xml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69880" y="831600"/>
            <a:ext cx="822960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62080" y="1231560"/>
            <a:ext cx="855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490680" y="816120"/>
            <a:ext cx="8164440" cy="587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24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5000b"/>
                </a:solidFill>
                <a:latin typeface="Times New Roman"/>
              </a:rPr>
              <a:t>Эта многоликая парабо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5000b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611280" y="177840"/>
            <a:ext cx="833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араболы»—аппараты с параболической формой крыл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план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478800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И. Черановский предложил проект самолета типа летающего крыла с удлинением, очерченного по парабол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3809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болоид вращ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ь, получаемая при вращении параболы вокруг ее о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изготовления зеркал, собирающих солнечные лучи в одной точ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826920" y="2421000"/>
            <a:ext cx="3854520" cy="3368520"/>
            <a:chOff x="826920" y="2421000"/>
            <a:chExt cx="3854520" cy="3368520"/>
          </a:xfrm>
        </p:grpSpPr>
        <p:pic>
          <p:nvPicPr>
            <p:cNvPr id="363" name="Picture 4" descr=""/>
            <p:cNvPicPr/>
            <p:nvPr/>
          </p:nvPicPr>
          <p:blipFill>
            <a:blip r:embed="rId1"/>
            <a:stretch/>
          </p:blipFill>
          <p:spPr>
            <a:xfrm>
              <a:off x="826920" y="2421000"/>
              <a:ext cx="3854520" cy="33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 Box 5"/>
            <p:cNvSpPr/>
            <p:nvPr/>
          </p:nvSpPr>
          <p:spPr>
            <a:xfrm>
              <a:off x="826920" y="2421000"/>
              <a:ext cx="385452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болическая антен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увидеть около любого аэродро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того, чтобы собрать в одну точку сигналы радиолокатора, отраженные от самол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444680" y="2170080"/>
            <a:ext cx="3278160" cy="3801960"/>
            <a:chOff x="1444680" y="2170080"/>
            <a:chExt cx="3278160" cy="3801960"/>
          </a:xfrm>
        </p:grpSpPr>
        <p:graphicFrame>
          <p:nvGraphicFramePr>
            <p:cNvPr id="368" name="Object 4"/>
            <p:cNvGraphicFramePr/>
            <p:nvPr/>
          </p:nvGraphicFramePr>
          <p:xfrm>
            <a:off x="1444680" y="2170080"/>
            <a:ext cx="3278160" cy="380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4680" y="2170080"/>
                      <a:ext cx="3278160" cy="38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Text Box 5"/>
            <p:cNvSpPr/>
            <p:nvPr/>
          </p:nvSpPr>
          <p:spPr>
            <a:xfrm>
              <a:off x="1444680" y="2170080"/>
              <a:ext cx="327816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прожектор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, исходящий из фокуса параболического зеркала, после отражения образует параллельный пучок и не рассеивается. Поэтому автомобильные фары имеют форму параболои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5145120" y="2354400"/>
            <a:ext cx="3801960" cy="1298520"/>
            <a:chOff x="5145120" y="2354400"/>
            <a:chExt cx="3801960" cy="1298520"/>
          </a:xfrm>
        </p:grpSpPr>
        <p:pic>
          <p:nvPicPr>
            <p:cNvPr id="374" name="Picture 4" descr=""/>
            <p:cNvPicPr/>
            <p:nvPr/>
          </p:nvPicPr>
          <p:blipFill>
            <a:blip r:embed="rId1"/>
            <a:stretch/>
          </p:blipFill>
          <p:spPr>
            <a:xfrm>
              <a:off x="5145120" y="2354400"/>
              <a:ext cx="38019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5"/>
            <p:cNvSpPr/>
            <p:nvPr/>
          </p:nvSpPr>
          <p:spPr>
            <a:xfrm>
              <a:off x="5145120" y="2354400"/>
              <a:ext cx="380196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6"/>
          <p:cNvGrpSpPr/>
          <p:nvPr/>
        </p:nvGrpSpPr>
        <p:grpSpPr>
          <a:xfrm>
            <a:off x="6305400" y="4151160"/>
            <a:ext cx="1481400" cy="1973520"/>
            <a:chOff x="6305400" y="4151160"/>
            <a:chExt cx="1481400" cy="1973520"/>
          </a:xfrm>
        </p:grpSpPr>
        <p:pic>
          <p:nvPicPr>
            <p:cNvPr id="377" name="Picture 7" descr=""/>
            <p:cNvPicPr/>
            <p:nvPr/>
          </p:nvPicPr>
          <p:blipFill>
            <a:blip r:embed="rId2"/>
            <a:stretch/>
          </p:blipFill>
          <p:spPr>
            <a:xfrm>
              <a:off x="6305400" y="4151160"/>
              <a:ext cx="1481400" cy="19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8"/>
            <p:cNvSpPr/>
            <p:nvPr/>
          </p:nvSpPr>
          <p:spPr>
            <a:xfrm>
              <a:off x="6305400" y="4151160"/>
              <a:ext cx="1481400" cy="19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"/>
          <p:cNvGrpSpPr/>
          <p:nvPr/>
        </p:nvGrpSpPr>
        <p:grpSpPr>
          <a:xfrm>
            <a:off x="1042920" y="907920"/>
            <a:ext cx="7336080" cy="1936800"/>
            <a:chOff x="1042920" y="907920"/>
            <a:chExt cx="7336080" cy="1936800"/>
          </a:xfrm>
        </p:grpSpPr>
        <p:pic>
          <p:nvPicPr>
            <p:cNvPr id="380" name="Picture 2" descr=""/>
            <p:cNvPicPr/>
            <p:nvPr/>
          </p:nvPicPr>
          <p:blipFill>
            <a:blip r:embed="rId1">
              <a:lum contrast="18000"/>
            </a:blip>
            <a:srcRect l="0" t="53472" r="0" b="30710"/>
            <a:stretch/>
          </p:blipFill>
          <p:spPr>
            <a:xfrm>
              <a:off x="1042920" y="907920"/>
              <a:ext cx="733608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3"/>
            <p:cNvSpPr/>
            <p:nvPr/>
          </p:nvSpPr>
          <p:spPr>
            <a:xfrm>
              <a:off x="1042920" y="907920"/>
              <a:ext cx="7336080" cy="19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Text Box 4"/>
          <p:cNvSpPr/>
          <p:nvPr/>
        </p:nvSpPr>
        <p:spPr>
          <a:xfrm>
            <a:off x="395280" y="333360"/>
            <a:ext cx="83883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  <a:ea typeface="Arial"/>
              </a:rPr>
              <a:t>Есть парабола и в телескоп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826920" y="314172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  <a:ea typeface="MS Gothic"/>
              </a:rPr>
              <a:t>Телескоп Ньютона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MS Gothic"/>
              </a:rPr>
              <a:t>.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  <a:ea typeface="MS Gothic"/>
              </a:rPr>
              <a:t> Этот инструмент самый популярный у любителей вследствие легкости его изготовления (небольшой цены) и возможности применения, как для визуальных, так и для фотографических наблюдений. Главное зеркало обычно имеет форму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  <a:ea typeface="MS Gothic"/>
              </a:rPr>
              <a:t>парабо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2050920" y="2852640"/>
            <a:ext cx="194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раболическое зерка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"/>
          <p:cNvSpPr/>
          <p:nvPr/>
        </p:nvSpPr>
        <p:spPr>
          <a:xfrm>
            <a:off x="0" y="313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S Gothic"/>
              </a:rPr>
              <a:t>«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MS Gothic"/>
              </a:rPr>
              <a:t>Нет ни одной области математики, как бы она абстрактна не была, которая когда-нибудь не окажется применимой к явлениям действительного мира».  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  <a:ea typeface="MS Gothic"/>
              </a:rPr>
              <a:t>Н.И. Лобачевск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Users\наталья\Desktop\урок\image001_57.jpg"/>
          <p:cNvPicPr/>
          <p:nvPr/>
        </p:nvPicPr>
        <p:blipFill>
          <a:blip r:embed="rId1"/>
          <a:stretch/>
        </p:blipFill>
        <p:spPr>
          <a:xfrm>
            <a:off x="1116000" y="692280"/>
            <a:ext cx="7848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Users\наталья\Desktop\урок\image002_21.jpg"/>
          <p:cNvPicPr/>
          <p:nvPr/>
        </p:nvPicPr>
        <p:blipFill>
          <a:blip r:embed="rId1"/>
          <a:stretch/>
        </p:blipFill>
        <p:spPr>
          <a:xfrm>
            <a:off x="1258920" y="620640"/>
            <a:ext cx="7345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наталья\Desktop\урок\image003_8.jpg"/>
          <p:cNvPicPr/>
          <p:nvPr/>
        </p:nvPicPr>
        <p:blipFill>
          <a:blip r:embed="rId1"/>
          <a:stretch/>
        </p:blipFill>
        <p:spPr>
          <a:xfrm>
            <a:off x="1042920" y="765000"/>
            <a:ext cx="74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:\Users\наталья\Desktop\урок\image004_5.jpg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чем мы учили э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араболой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зывается график функции у=х², точка О(0;0) – вершина параболы, ось О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ось параболы, равенство у=х² – уравнение параб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4"/>
          <p:cNvSpPr/>
          <p:nvPr/>
        </p:nvSpPr>
        <p:spPr>
          <a:xfrm flipH="1" flipV="1">
            <a:off x="7002360" y="2354400"/>
            <a:ext cx="92160" cy="35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5"/>
          <p:cNvSpPr/>
          <p:nvPr/>
        </p:nvSpPr>
        <p:spPr>
          <a:xfrm>
            <a:off x="5638680" y="5486400"/>
            <a:ext cx="320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6360000">
            <a:off x="5200200" y="2798640"/>
            <a:ext cx="3301920" cy="1955880"/>
          </a:xfrm>
          <a:prstGeom prst="pie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8534520" y="5410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861048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8541720" y="548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767640" y="5416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наталья\Desktop\урок\image005_4.jpg"/>
          <p:cNvPicPr/>
          <p:nvPr/>
        </p:nvPicPr>
        <p:blipFill>
          <a:blip r:embed="rId1"/>
          <a:stretch/>
        </p:blipFill>
        <p:spPr>
          <a:xfrm>
            <a:off x="1042920" y="765000"/>
            <a:ext cx="7345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C:\Users\наталья\Desktop\урок\image006_4.jpg"/>
          <p:cNvPicPr/>
          <p:nvPr/>
        </p:nvPicPr>
        <p:blipFill>
          <a:blip r:embed="rId1"/>
          <a:stretch/>
        </p:blipFill>
        <p:spPr>
          <a:xfrm>
            <a:off x="826920" y="549360"/>
            <a:ext cx="79218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Users\наталья\Desktop\урок\image007_6.jpg"/>
          <p:cNvPicPr/>
          <p:nvPr/>
        </p:nvPicPr>
        <p:blipFill>
          <a:blip r:embed="rId1"/>
          <a:stretch/>
        </p:blipFill>
        <p:spPr>
          <a:xfrm>
            <a:off x="1042920" y="549360"/>
            <a:ext cx="7416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1"/>
          <p:cNvGrpSpPr/>
          <p:nvPr/>
        </p:nvGrpSpPr>
        <p:grpSpPr>
          <a:xfrm>
            <a:off x="4716360" y="0"/>
            <a:ext cx="4419720" cy="6850080"/>
            <a:chOff x="4716360" y="0"/>
            <a:chExt cx="4419720" cy="6850080"/>
          </a:xfrm>
        </p:grpSpPr>
        <p:graphicFrame>
          <p:nvGraphicFramePr>
            <p:cNvPr id="394" name="Object 2"/>
            <p:cNvGraphicFramePr/>
            <p:nvPr/>
          </p:nvGraphicFramePr>
          <p:xfrm>
            <a:off x="4716360" y="0"/>
            <a:ext cx="4419720" cy="6850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9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16360" y="0"/>
                      <a:ext cx="4419720" cy="685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Text Box 3"/>
            <p:cNvSpPr/>
            <p:nvPr/>
          </p:nvSpPr>
          <p:spPr>
            <a:xfrm>
              <a:off x="4716360" y="0"/>
              <a:ext cx="44197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Text Box 4"/>
          <p:cNvSpPr/>
          <p:nvPr/>
        </p:nvSpPr>
        <p:spPr>
          <a:xfrm>
            <a:off x="900000" y="270828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324000" y="189000"/>
            <a:ext cx="3527280" cy="69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Координаты вершины параб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Уравнение оси симметрии параб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Нули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Промежутки возрастания, убывания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&gt;0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y&lt;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Чему равен коэффициен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Как зависит положение ветвей параболы от коэффициен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Какое наибольшее значение функции существует и чему оно равн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Область значений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5857920"/>
            <a:ext cx="10717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1285920" y="3244680"/>
            <a:ext cx="7051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Object 2"/>
          <p:cNvGraphicFramePr/>
          <p:nvPr/>
        </p:nvGraphicFramePr>
        <p:xfrm>
          <a:off x="4716360" y="0"/>
          <a:ext cx="4419720" cy="68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441972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Прямая соединительная линия 4"/>
          <p:cNvSpPr/>
          <p:nvPr/>
        </p:nvSpPr>
        <p:spPr>
          <a:xfrm>
            <a:off x="6948360" y="333360"/>
            <a:ext cx="0" cy="575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Овал 8"/>
          <p:cNvSpPr/>
          <p:nvPr/>
        </p:nvSpPr>
        <p:spPr>
          <a:xfrm>
            <a:off x="6804000" y="549360"/>
            <a:ext cx="216000" cy="215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Овал 9"/>
          <p:cNvSpPr/>
          <p:nvPr/>
        </p:nvSpPr>
        <p:spPr>
          <a:xfrm>
            <a:off x="5651640" y="3645000"/>
            <a:ext cx="215640" cy="215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Овал 10"/>
          <p:cNvSpPr/>
          <p:nvPr/>
        </p:nvSpPr>
        <p:spPr>
          <a:xfrm>
            <a:off x="6372360" y="907920"/>
            <a:ext cx="215640" cy="217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Овал 11"/>
          <p:cNvSpPr/>
          <p:nvPr/>
        </p:nvSpPr>
        <p:spPr>
          <a:xfrm>
            <a:off x="8028000" y="3645000"/>
            <a:ext cx="216000" cy="215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12"/>
          <p:cNvSpPr/>
          <p:nvPr/>
        </p:nvSpPr>
        <p:spPr>
          <a:xfrm>
            <a:off x="971640" y="836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=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13"/>
          <p:cNvSpPr/>
          <p:nvPr/>
        </p:nvSpPr>
        <p:spPr>
          <a:xfrm>
            <a:off x="684360" y="2708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=-х</a:t>
            </a:r>
            <a:r>
              <a:rPr b="0" lang="ru-RU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+2х+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98440" y="444600"/>
            <a:ext cx="8699400" cy="1152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324000" y="191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бери смайлик соответствующий твоему настрое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Group 85"/>
          <p:cNvGrpSpPr/>
          <p:nvPr/>
        </p:nvGrpSpPr>
        <p:grpSpPr>
          <a:xfrm>
            <a:off x="6084720" y="4473720"/>
            <a:ext cx="1150920" cy="1191240"/>
            <a:chOff x="6084720" y="4473720"/>
            <a:chExt cx="1150920" cy="1191240"/>
          </a:xfrm>
        </p:grpSpPr>
        <p:sp>
          <p:nvSpPr>
            <p:cNvPr id="413" name="Oval 57"/>
            <p:cNvSpPr/>
            <p:nvPr/>
          </p:nvSpPr>
          <p:spPr>
            <a:xfrm>
              <a:off x="6084720" y="4473720"/>
              <a:ext cx="1150920" cy="1186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58"/>
            <p:cNvSpPr/>
            <p:nvPr/>
          </p:nvSpPr>
          <p:spPr>
            <a:xfrm>
              <a:off x="6371280" y="4769280"/>
              <a:ext cx="191160" cy="196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59"/>
            <p:cNvSpPr/>
            <p:nvPr/>
          </p:nvSpPr>
          <p:spPr>
            <a:xfrm>
              <a:off x="6757200" y="4769280"/>
              <a:ext cx="191160" cy="196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>
              <a:off x="6658200" y="4988160"/>
              <a:ext cx="3240" cy="24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rc 61"/>
            <p:cNvSpPr/>
            <p:nvPr/>
          </p:nvSpPr>
          <p:spPr>
            <a:xfrm flipH="1" rot="13635000">
              <a:off x="6468840" y="5166720"/>
              <a:ext cx="412920" cy="41256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rc 62"/>
            <p:cNvSpPr/>
            <p:nvPr/>
          </p:nvSpPr>
          <p:spPr>
            <a:xfrm flipH="1" rot="13816800">
              <a:off x="6377760" y="5101560"/>
              <a:ext cx="505080" cy="39528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84"/>
          <p:cNvGrpSpPr/>
          <p:nvPr/>
        </p:nvGrpSpPr>
        <p:grpSpPr>
          <a:xfrm>
            <a:off x="3995640" y="4508640"/>
            <a:ext cx="1223280" cy="1404000"/>
            <a:chOff x="3995640" y="4508640"/>
            <a:chExt cx="1223280" cy="1404000"/>
          </a:xfrm>
        </p:grpSpPr>
        <p:sp>
          <p:nvSpPr>
            <p:cNvPr id="420" name="Oval 65"/>
            <p:cNvSpPr/>
            <p:nvPr/>
          </p:nvSpPr>
          <p:spPr>
            <a:xfrm>
              <a:off x="3995640" y="4508640"/>
              <a:ext cx="1223280" cy="1404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66"/>
            <p:cNvSpPr/>
            <p:nvPr/>
          </p:nvSpPr>
          <p:spPr>
            <a:xfrm>
              <a:off x="4300200" y="4858200"/>
              <a:ext cx="203760" cy="23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67"/>
            <p:cNvSpPr/>
            <p:nvPr/>
          </p:nvSpPr>
          <p:spPr>
            <a:xfrm>
              <a:off x="4710240" y="4858200"/>
              <a:ext cx="203040" cy="23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68"/>
            <p:cNvSpPr/>
            <p:nvPr/>
          </p:nvSpPr>
          <p:spPr>
            <a:xfrm>
              <a:off x="4605840" y="5117040"/>
              <a:ext cx="2880" cy="288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69"/>
            <p:cNvSpPr/>
            <p:nvPr/>
          </p:nvSpPr>
          <p:spPr>
            <a:xfrm>
              <a:off x="4405680" y="5678640"/>
              <a:ext cx="40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1547640" y="4473720"/>
            <a:ext cx="1222200" cy="1475640"/>
            <a:chOff x="1547640" y="4473720"/>
            <a:chExt cx="1222200" cy="1475640"/>
          </a:xfrm>
        </p:grpSpPr>
        <p:sp>
          <p:nvSpPr>
            <p:cNvPr id="426" name="Oval 72"/>
            <p:cNvSpPr/>
            <p:nvPr/>
          </p:nvSpPr>
          <p:spPr>
            <a:xfrm>
              <a:off x="1547640" y="4473720"/>
              <a:ext cx="1222200" cy="147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73"/>
            <p:cNvSpPr/>
            <p:nvPr/>
          </p:nvSpPr>
          <p:spPr>
            <a:xfrm>
              <a:off x="1851840" y="4841280"/>
              <a:ext cx="202680" cy="24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74"/>
            <p:cNvSpPr/>
            <p:nvPr/>
          </p:nvSpPr>
          <p:spPr>
            <a:xfrm>
              <a:off x="2261520" y="4841280"/>
              <a:ext cx="202680" cy="24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75"/>
            <p:cNvSpPr/>
            <p:nvPr/>
          </p:nvSpPr>
          <p:spPr>
            <a:xfrm>
              <a:off x="2156400" y="5086440"/>
              <a:ext cx="3240" cy="303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76"/>
            <p:cNvSpPr/>
            <p:nvPr/>
          </p:nvSpPr>
          <p:spPr>
            <a:xfrm flipH="1" flipV="1">
              <a:off x="1956240" y="5580720"/>
              <a:ext cx="405720" cy="13464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Arc 77"/>
            <p:cNvSpPr/>
            <p:nvPr/>
          </p:nvSpPr>
          <p:spPr>
            <a:xfrm flipH="1" flipV="1" rot="7965000">
              <a:off x="1978560" y="4561920"/>
              <a:ext cx="367560" cy="30456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Arc 78"/>
            <p:cNvSpPr/>
            <p:nvPr/>
          </p:nvSpPr>
          <p:spPr>
            <a:xfrm flipH="1" flipV="1" rot="7965000">
              <a:off x="2037960" y="4699080"/>
              <a:ext cx="241560" cy="20268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Line 40"/>
          <p:cNvSpPr/>
          <p:nvPr/>
        </p:nvSpPr>
        <p:spPr>
          <a:xfrm>
            <a:off x="1690560" y="3922560"/>
            <a:ext cx="1152720" cy="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>
            <a:off x="2841480" y="3922560"/>
            <a:ext cx="1152720" cy="0"/>
          </a:xfrm>
          <a:prstGeom prst="line">
            <a:avLst/>
          </a:prstGeom>
          <a:ln w="442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42"/>
          <p:cNvSpPr/>
          <p:nvPr/>
        </p:nvSpPr>
        <p:spPr>
          <a:xfrm>
            <a:off x="3994200" y="3922560"/>
            <a:ext cx="1152360" cy="0"/>
          </a:xfrm>
          <a:prstGeom prst="line">
            <a:avLst/>
          </a:prstGeom>
          <a:ln w="4428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43"/>
          <p:cNvSpPr/>
          <p:nvPr/>
        </p:nvSpPr>
        <p:spPr>
          <a:xfrm>
            <a:off x="5146560" y="3922560"/>
            <a:ext cx="1152720" cy="0"/>
          </a:xfrm>
          <a:prstGeom prst="line">
            <a:avLst/>
          </a:prstGeom>
          <a:ln w="442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44"/>
          <p:cNvSpPr/>
          <p:nvPr/>
        </p:nvSpPr>
        <p:spPr>
          <a:xfrm>
            <a:off x="6299280" y="3922560"/>
            <a:ext cx="115236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4570560" y="3851280"/>
            <a:ext cx="0" cy="144360"/>
          </a:xfrm>
          <a:prstGeom prst="line">
            <a:avLst/>
          </a:prstGeom>
          <a:ln w="442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46"/>
          <p:cNvSpPr/>
          <p:nvPr/>
        </p:nvSpPr>
        <p:spPr>
          <a:xfrm>
            <a:off x="2266920" y="3851280"/>
            <a:ext cx="0" cy="14436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47"/>
          <p:cNvSpPr/>
          <p:nvPr/>
        </p:nvSpPr>
        <p:spPr>
          <a:xfrm>
            <a:off x="3419640" y="3851280"/>
            <a:ext cx="0" cy="144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48"/>
          <p:cNvSpPr/>
          <p:nvPr/>
        </p:nvSpPr>
        <p:spPr>
          <a:xfrm>
            <a:off x="5722920" y="3851280"/>
            <a:ext cx="0" cy="14436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49"/>
          <p:cNvSpPr/>
          <p:nvPr/>
        </p:nvSpPr>
        <p:spPr>
          <a:xfrm>
            <a:off x="6875640" y="3851280"/>
            <a:ext cx="0" cy="144360"/>
          </a:xfrm>
          <a:prstGeom prst="line">
            <a:avLst/>
          </a:prstGeom>
          <a:ln w="4428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50"/>
          <p:cNvSpPr/>
          <p:nvPr/>
        </p:nvSpPr>
        <p:spPr>
          <a:xfrm>
            <a:off x="4259160" y="3994200"/>
            <a:ext cx="61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0</a:t>
            </a:r>
            <a:r>
              <a:rPr b="1" lang="ru-RU" sz="1600" spc="-1" strike="noStrike">
                <a:solidFill>
                  <a:srgbClr val="00cc99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1"/>
          <p:cNvSpPr/>
          <p:nvPr/>
        </p:nvSpPr>
        <p:spPr>
          <a:xfrm>
            <a:off x="2986200" y="3994200"/>
            <a:ext cx="90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50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52"/>
          <p:cNvSpPr/>
          <p:nvPr/>
        </p:nvSpPr>
        <p:spPr>
          <a:xfrm>
            <a:off x="1706400" y="3994200"/>
            <a:ext cx="1103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-100 </a:t>
            </a:r>
            <a:r>
              <a:rPr b="1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53"/>
          <p:cNvSpPr/>
          <p:nvPr/>
        </p:nvSpPr>
        <p:spPr>
          <a:xfrm>
            <a:off x="5146560" y="3994200"/>
            <a:ext cx="1163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+50 </a:t>
            </a:r>
            <a:r>
              <a:rPr b="1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54"/>
          <p:cNvSpPr/>
          <p:nvPr/>
        </p:nvSpPr>
        <p:spPr>
          <a:xfrm>
            <a:off x="6321600" y="3994200"/>
            <a:ext cx="1091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+100 </a:t>
            </a: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86"/>
          <p:cNvSpPr/>
          <p:nvPr/>
        </p:nvSpPr>
        <p:spPr>
          <a:xfrm>
            <a:off x="5872320" y="31780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закип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7"/>
          <p:cNvSpPr/>
          <p:nvPr/>
        </p:nvSpPr>
        <p:spPr>
          <a:xfrm>
            <a:off x="3784680" y="31780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Arial"/>
              </a:rPr>
              <a:t>«равнодушен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88"/>
          <p:cNvSpPr/>
          <p:nvPr/>
        </p:nvSpPr>
        <p:spPr>
          <a:xfrm>
            <a:off x="2050920" y="3178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«примерз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21"/>
                            </p:stCondLst>
                            <p:childTnLst>
                              <p:par>
                                <p:cTn id="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21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21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42960" y="357120"/>
            <a:ext cx="814392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371600" y="5214960"/>
            <a:ext cx="640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428760" y="500040"/>
            <a:ext cx="7921440" cy="5635800"/>
            <a:chOff x="428760" y="500040"/>
            <a:chExt cx="7921440" cy="5635800"/>
          </a:xfrm>
        </p:grpSpPr>
        <p:pic>
          <p:nvPicPr>
            <p:cNvPr id="336" name="Picture 4" descr=""/>
            <p:cNvPicPr/>
            <p:nvPr/>
          </p:nvPicPr>
          <p:blipFill>
            <a:blip r:embed="rId1"/>
            <a:stretch/>
          </p:blipFill>
          <p:spPr>
            <a:xfrm>
              <a:off x="428760" y="500040"/>
              <a:ext cx="7921440" cy="563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Group 5"/>
            <p:cNvGrpSpPr/>
            <p:nvPr/>
          </p:nvGrpSpPr>
          <p:grpSpPr>
            <a:xfrm>
              <a:off x="1378080" y="1278000"/>
              <a:ext cx="5997600" cy="2327040"/>
              <a:chOff x="1378080" y="1278000"/>
              <a:chExt cx="5997600" cy="2327040"/>
            </a:xfrm>
          </p:grpSpPr>
          <p:sp>
            <p:nvSpPr>
              <p:cNvPr id="338" name="AutoShape 6"/>
              <p:cNvSpPr/>
              <p:nvPr/>
            </p:nvSpPr>
            <p:spPr>
              <a:xfrm flipH="1">
                <a:off x="1525680" y="1278000"/>
                <a:ext cx="5850000" cy="2327040"/>
              </a:xfrm>
              <a:prstGeom prst="pie">
                <a:avLst/>
              </a:pr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7"/>
              <p:cNvSpPr/>
              <p:nvPr/>
            </p:nvSpPr>
            <p:spPr>
              <a:xfrm>
                <a:off x="1378080" y="2444760"/>
                <a:ext cx="290520" cy="771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684360" y="404640"/>
            <a:ext cx="77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MS Gothic"/>
              </a:rPr>
              <a:t>Баллистическая траектория снаряда в отсутствии сопротивления воздуха при стрельбе под разным углом к горизон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бола и Косм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716360" y="2060640"/>
            <a:ext cx="421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49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телу придать начальную скорость в пределах от 7,9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 до11,2 км в с, то оно на Землю не упадет, а превратится в ее спутник, движущийся по эллипсу.При скорости же 11,2 км в с тело вновь начнет двигаться по параболе и уйдет от Земли навсегда. Итак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смические корабли  выходят на орбиту по парабол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250920" y="2349360"/>
            <a:ext cx="2396880" cy="3160800"/>
            <a:chOff x="250920" y="2349360"/>
            <a:chExt cx="2396880" cy="3160800"/>
          </a:xfrm>
        </p:grpSpPr>
        <p:pic>
          <p:nvPicPr>
            <p:cNvPr id="347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2349360"/>
              <a:ext cx="2396880" cy="31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5"/>
            <p:cNvSpPr/>
            <p:nvPr/>
          </p:nvSpPr>
          <p:spPr>
            <a:xfrm>
              <a:off x="250920" y="2349360"/>
              <a:ext cx="2396880" cy="31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9" name="Picture 6" descr=""/>
          <p:cNvPicPr/>
          <p:nvPr/>
        </p:nvPicPr>
        <p:blipFill>
          <a:blip r:embed="rId2"/>
          <a:srcRect l="5528" t="53043" r="7529" b="4634"/>
          <a:stretch/>
        </p:blipFill>
        <p:spPr>
          <a:xfrm>
            <a:off x="2700360" y="5157720"/>
            <a:ext cx="2198520" cy="143208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7"/>
          <p:cNvGrpSpPr/>
          <p:nvPr/>
        </p:nvGrpSpPr>
        <p:grpSpPr>
          <a:xfrm>
            <a:off x="3132000" y="2421000"/>
            <a:ext cx="1505160" cy="1212840"/>
            <a:chOff x="3132000" y="2421000"/>
            <a:chExt cx="1505160" cy="1212840"/>
          </a:xfrm>
        </p:grpSpPr>
        <p:pic>
          <p:nvPicPr>
            <p:cNvPr id="351" name="Picture 8" descr=""/>
            <p:cNvPicPr/>
            <p:nvPr/>
          </p:nvPicPr>
          <p:blipFill>
            <a:blip r:embed="rId3"/>
            <a:stretch/>
          </p:blipFill>
          <p:spPr>
            <a:xfrm>
              <a:off x="3132000" y="2421000"/>
              <a:ext cx="15051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9"/>
            <p:cNvSpPr/>
            <p:nvPr/>
          </p:nvSpPr>
          <p:spPr>
            <a:xfrm>
              <a:off x="3132000" y="2421000"/>
              <a:ext cx="150516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3" name="Picture 10" descr=""/>
          <p:cNvPicPr/>
          <p:nvPr/>
        </p:nvPicPr>
        <p:blipFill>
          <a:blip r:embed="rId4"/>
          <a:stretch/>
        </p:blipFill>
        <p:spPr>
          <a:xfrm>
            <a:off x="3995640" y="5227560"/>
            <a:ext cx="628920" cy="390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1" descr=""/>
          <p:cNvPicPr/>
          <p:nvPr/>
        </p:nvPicPr>
        <p:blipFill>
          <a:blip r:embed="rId5"/>
          <a:stretch/>
        </p:blipFill>
        <p:spPr>
          <a:xfrm>
            <a:off x="4427640" y="4653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05989 L -0.12482 -0.02081 C -0.15781 -0.01272 -0.17604 -0.000229999999999999 -0.17604 0.01248 C -0.17604 0.02728 -0.15781 0.03907 -0.12482 0.04717 L 0.02084 0.08693 E">
                                      <p:cBhvr>
                                        <p:cTn id="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5:50:09Z</dcterms:created>
  <dc:creator>Ирина</dc:creator>
  <dc:description/>
  <dc:language>en-US</dc:language>
  <cp:lastModifiedBy>Admin</cp:lastModifiedBy>
  <dcterms:modified xsi:type="dcterms:W3CDTF">2015-10-07T18:23:24Z</dcterms:modified>
  <cp:revision>123</cp:revision>
  <dc:subject/>
  <dc:title>Слайд 1</dc:title>
</cp:coreProperties>
</file>