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5.jpeg" ContentType="image/jpeg"/>
  <Override PartName="/ppt/media/image2.png" ContentType="image/png"/>
  <Override PartName="/ppt/media/image19.jpeg" ContentType="image/jpeg"/>
  <Override PartName="/ppt/media/image6.png" ContentType="image/png"/>
  <Override PartName="/ppt/media/image26.jpeg" ContentType="image/jpeg"/>
  <Override PartName="/ppt/media/image5.jpeg" ContentType="image/jpeg"/>
  <Override PartName="/ppt/media/image7.gif" ContentType="image/gif"/>
  <Override PartName="/ppt/media/image4.jpeg" ContentType="image/jpeg"/>
  <Override PartName="/ppt/media/image8.wmf" ContentType="image/x-wmf"/>
  <Override PartName="/ppt/media/image10.gif" ContentType="image/gif"/>
  <Override PartName="/ppt/media/image13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media/image24.jpeg" ContentType="image/jpeg"/>
  <Override PartName="/ppt/media/image27.jpeg" ContentType="image/jpeg"/>
  <Override PartName="/ppt/media/image28.wmf" ContentType="image/x-wmf"/>
  <Override PartName="/ppt/media/image3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06921-8E96-4D72-A6CB-7392274E12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868EB-07A4-4103-B618-A71E8D06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A926-4900-415B-9DC8-68D55747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2104-A713-463B-8EA9-76527CE79A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B8F-BCB2-4128-A309-11568E9BD3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FB2-62E0-4D3F-A4B0-B746A3924E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392-A87D-4F47-A37C-F50ADA05CA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041-FE0B-4B09-9E83-7C6BE23141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64F-BF20-427C-B09A-0781D6B8CD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4FF-F995-4411-AE6A-E7F2FE6A76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715-E914-418E-949D-4E03E2F0E0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5F935-794F-4EBF-A708-85C1E1CD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3E30-1969-4E3C-B343-5086D8643E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1C4-DDF5-4077-B4B1-E951A173B0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1EA-2BC0-4D5A-AFBA-7799B0CCE3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EF7-FDF1-4214-9F11-AB7749DC9C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596-C3A0-4EDC-A0B3-282D650741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5255F-E83F-40A0-A2B9-EE531A7A1E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FAE42-19F8-4CA8-A0EF-208254FC2B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2DEAA-6B30-4AD2-AB27-82AF0A0476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426A2-66FA-4145-BE4C-E69D8C03AD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1D243-1483-4168-BB08-587C2C4136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E82E-821C-4260-8713-ECFA1E20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DDC74-5979-4DF3-B484-78FA2C20C3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3F823-E23B-4E58-A177-B0FC6CB49D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07765-3E5A-4C12-8143-6AC2D90B4D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64957-8ED6-4F34-B7EC-75975197AA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D1D68-EAC4-4B07-B20F-AB05F59CE3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1BF3D-7DEE-4B81-BCB4-05D3262591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1012B-1131-4486-9BC8-221DB1F4CF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1B41D-B1A6-444A-959C-010E098070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D23B5-2D48-4970-A670-4F02DAE635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8484E-4D41-4C0C-868E-1831FC29A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72F6-72CC-474E-AB8E-760100B0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905B9-2ACD-41FA-B356-49756E86E9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56E7B-EA38-42CC-8BB7-98628E2D07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A3274-8FAE-4E2B-B7DB-19C55F0AB5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491D2-5C59-4D19-86F1-6795FA8488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43CFA-AFC3-458F-B792-B9ED014771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89532-2A4D-43E3-BEE6-29F4B58228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5F103-83E3-4C62-AC65-A4E473E93B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1B0FC-EDAE-423F-9501-575BAF2255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D4CED-F048-4D65-8CE0-F8BEB5D556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109C-BC97-4142-8716-227919B1E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DB4F-4E9D-442C-984E-D048AB98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4F75-E2FA-48B3-A418-D867A060958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A2EC-30A4-41EA-B063-3EB8EC8523B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2903-7307-42FE-8F87-3AA5F55C68F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CF7F-1ABC-46E6-AEC1-B752A027BD5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DE2D-180E-4DF8-B8E1-3DF20A2317C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17A2-F579-426D-9D3E-C19CAD25D11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B131-FFF7-47AC-9FCD-1C27A1DF0D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C59E-7E08-46BE-9AA5-B7A724639FC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95E1-4459-4231-969D-87A8AA18910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74B2-A9DB-4BF7-843C-CDE4C182E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2CE3-E183-4D43-9F37-D3C79D36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9126-BB29-4789-81FA-18824D10319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25CA-6FB5-4210-A529-AEBE8D32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899E-0BE0-483A-8758-C66301FA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1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FF272-3919-4A72-AD56-5AA91DBF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spcAft>
                <a:spcPts val="116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371F0D-5EDF-4A3D-BB00-5E5A181B43C0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E894FA-3EBF-481E-AE65-6F154E406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6781680" y="632448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88B69D-D685-4937-BB2A-A629F2BBC3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6781680" y="632448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FBD756-1A92-46E5-B279-920BAB3AB1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C8FE92-CB26-409A-85F3-1E1AAF3E27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" Target="slide4.xml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69880" y="831600"/>
            <a:ext cx="822960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62080" y="1231560"/>
            <a:ext cx="8555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WordArt 3"/>
          <p:cNvSpPr txBox="1"/>
          <p:nvPr/>
        </p:nvSpPr>
        <p:spPr>
          <a:xfrm>
            <a:off x="490680" y="816120"/>
            <a:ext cx="8164440" cy="587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124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5000b"/>
                </a:solidFill>
                <a:latin typeface="Times New Roman"/>
              </a:rPr>
              <a:t>Эта многоликая парабо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5000b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611280" y="177840"/>
            <a:ext cx="833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араболы»—аппараты с параболической формой крыл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план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4788000" y="2017800"/>
            <a:ext cx="4167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И. Черановский предложил проект самолета типа летающего крыла с удлинением, очерченного по парабол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2819520" cy="1600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2"/>
          <a:stretch/>
        </p:blipFill>
        <p:spPr>
          <a:xfrm>
            <a:off x="250920" y="4508640"/>
            <a:ext cx="3809880" cy="12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аболоид вращ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514512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ь, получаемая при вращении параболы вокруг ее о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для изготовления зеркал, собирающих солнечные лучи в одной точ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826920" y="2421000"/>
            <a:ext cx="3854520" cy="3368520"/>
            <a:chOff x="826920" y="2421000"/>
            <a:chExt cx="3854520" cy="3368520"/>
          </a:xfrm>
        </p:grpSpPr>
        <p:pic>
          <p:nvPicPr>
            <p:cNvPr id="363" name="Picture 4" descr=""/>
            <p:cNvPicPr/>
            <p:nvPr/>
          </p:nvPicPr>
          <p:blipFill>
            <a:blip r:embed="rId1"/>
            <a:stretch/>
          </p:blipFill>
          <p:spPr>
            <a:xfrm>
              <a:off x="826920" y="2421000"/>
              <a:ext cx="3854520" cy="33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 Box 5"/>
            <p:cNvSpPr/>
            <p:nvPr/>
          </p:nvSpPr>
          <p:spPr>
            <a:xfrm>
              <a:off x="826920" y="2421000"/>
              <a:ext cx="385452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аболическая антен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514512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увидеть около любого аэродро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ля того, чтобы собрать в одну точку сигналы радиолокатора, отраженные от самол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444680" y="2170080"/>
            <a:ext cx="3278160" cy="3801960"/>
            <a:chOff x="1444680" y="2170080"/>
            <a:chExt cx="3278160" cy="3801960"/>
          </a:xfrm>
        </p:grpSpPr>
        <p:graphicFrame>
          <p:nvGraphicFramePr>
            <p:cNvPr id="368" name="Object 4"/>
            <p:cNvGraphicFramePr/>
            <p:nvPr/>
          </p:nvGraphicFramePr>
          <p:xfrm>
            <a:off x="1444680" y="2170080"/>
            <a:ext cx="3278160" cy="380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4680" y="2170080"/>
                      <a:ext cx="3278160" cy="380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Text Box 5"/>
            <p:cNvSpPr/>
            <p:nvPr/>
          </p:nvSpPr>
          <p:spPr>
            <a:xfrm>
              <a:off x="1444680" y="2170080"/>
              <a:ext cx="327816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прожектор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, исходящий из фокуса параболического зеркала, после отражения образует параллельный пучок и не рассеивается. Поэтому автомобильные фары имеют форму параболои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Group 3"/>
          <p:cNvGrpSpPr/>
          <p:nvPr/>
        </p:nvGrpSpPr>
        <p:grpSpPr>
          <a:xfrm>
            <a:off x="5145120" y="2354400"/>
            <a:ext cx="3801960" cy="1298520"/>
            <a:chOff x="5145120" y="2354400"/>
            <a:chExt cx="3801960" cy="1298520"/>
          </a:xfrm>
        </p:grpSpPr>
        <p:pic>
          <p:nvPicPr>
            <p:cNvPr id="374" name="Picture 4" descr=""/>
            <p:cNvPicPr/>
            <p:nvPr/>
          </p:nvPicPr>
          <p:blipFill>
            <a:blip r:embed="rId1"/>
            <a:stretch/>
          </p:blipFill>
          <p:spPr>
            <a:xfrm>
              <a:off x="5145120" y="2354400"/>
              <a:ext cx="38019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5"/>
            <p:cNvSpPr/>
            <p:nvPr/>
          </p:nvSpPr>
          <p:spPr>
            <a:xfrm>
              <a:off x="5145120" y="2354400"/>
              <a:ext cx="380196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Group 6"/>
          <p:cNvGrpSpPr/>
          <p:nvPr/>
        </p:nvGrpSpPr>
        <p:grpSpPr>
          <a:xfrm>
            <a:off x="6305400" y="4151160"/>
            <a:ext cx="1481400" cy="1973520"/>
            <a:chOff x="6305400" y="4151160"/>
            <a:chExt cx="1481400" cy="1973520"/>
          </a:xfrm>
        </p:grpSpPr>
        <p:pic>
          <p:nvPicPr>
            <p:cNvPr id="377" name="Picture 7" descr=""/>
            <p:cNvPicPr/>
            <p:nvPr/>
          </p:nvPicPr>
          <p:blipFill>
            <a:blip r:embed="rId2"/>
            <a:stretch/>
          </p:blipFill>
          <p:spPr>
            <a:xfrm>
              <a:off x="6305400" y="4151160"/>
              <a:ext cx="1481400" cy="19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 Box 8"/>
            <p:cNvSpPr/>
            <p:nvPr/>
          </p:nvSpPr>
          <p:spPr>
            <a:xfrm>
              <a:off x="6305400" y="4151160"/>
              <a:ext cx="1481400" cy="19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1"/>
          <p:cNvGrpSpPr/>
          <p:nvPr/>
        </p:nvGrpSpPr>
        <p:grpSpPr>
          <a:xfrm>
            <a:off x="1042920" y="907920"/>
            <a:ext cx="7336080" cy="1936800"/>
            <a:chOff x="1042920" y="907920"/>
            <a:chExt cx="7336080" cy="1936800"/>
          </a:xfrm>
        </p:grpSpPr>
        <p:pic>
          <p:nvPicPr>
            <p:cNvPr id="380" name="Picture 2" descr=""/>
            <p:cNvPicPr/>
            <p:nvPr/>
          </p:nvPicPr>
          <p:blipFill>
            <a:blip r:embed="rId1">
              <a:lum contrast="18000"/>
            </a:blip>
            <a:srcRect l="0" t="53472" r="0" b="30710"/>
            <a:stretch/>
          </p:blipFill>
          <p:spPr>
            <a:xfrm>
              <a:off x="1042920" y="907920"/>
              <a:ext cx="733608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Text Box 3"/>
            <p:cNvSpPr/>
            <p:nvPr/>
          </p:nvSpPr>
          <p:spPr>
            <a:xfrm>
              <a:off x="1042920" y="907920"/>
              <a:ext cx="7336080" cy="19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Text Box 4"/>
          <p:cNvSpPr/>
          <p:nvPr/>
        </p:nvSpPr>
        <p:spPr>
          <a:xfrm>
            <a:off x="395280" y="333360"/>
            <a:ext cx="83883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  <a:ea typeface="Arial"/>
              </a:rPr>
              <a:t>Есть парабола и в телескоп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826920" y="314172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  <a:ea typeface="MS Gothic"/>
              </a:rPr>
              <a:t>Телескоп Ньютона</a:t>
            </a:r>
            <a:r>
              <a:rPr b="1" lang="ru-RU" sz="2800" spc="-1" strike="noStrike">
                <a:solidFill>
                  <a:srgbClr val="ff33cc"/>
                </a:solidFill>
                <a:latin typeface="Arial"/>
                <a:ea typeface="MS Gothic"/>
              </a:rPr>
              <a:t>.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  <a:ea typeface="MS Gothic"/>
              </a:rPr>
              <a:t> Этот инструмент самый популярный у любителей вследствие легкости его изготовления (небольшой цены) и возможности применения, как для визуальных, так и для фотографических наблюдений. Главное зеркало обычно имеет форму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  <a:ea typeface="MS Gothic"/>
              </a:rPr>
              <a:t>парабол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WordArt 6"/>
          <p:cNvSpPr txBox="1"/>
          <p:nvPr/>
        </p:nvSpPr>
        <p:spPr>
          <a:xfrm>
            <a:off x="2050920" y="2852640"/>
            <a:ext cx="1944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раболическое зерка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"/>
          <p:cNvSpPr/>
          <p:nvPr/>
        </p:nvSpPr>
        <p:spPr>
          <a:xfrm>
            <a:off x="0" y="313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S Gothic"/>
              </a:rPr>
              <a:t>«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  <a:ea typeface="MS Gothic"/>
              </a:rPr>
              <a:t>Нет ни одной области математики, как бы она абстрактна не была, которая когда-нибудь не окажется применимой к явлениям действительного мира».  </a:t>
            </a:r>
            <a:r>
              <a:rPr b="0" lang="ru-RU" sz="5400" spc="-1" strike="noStrike">
                <a:solidFill>
                  <a:srgbClr val="002060"/>
                </a:solidFill>
                <a:latin typeface="Arial"/>
                <a:ea typeface="MS Gothic"/>
              </a:rPr>
              <a:t>Н.И. Лобачевски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C:\Users\наталья\Desktop\урок\image001_57.jpg"/>
          <p:cNvPicPr/>
          <p:nvPr/>
        </p:nvPicPr>
        <p:blipFill>
          <a:blip r:embed="rId1"/>
          <a:stretch/>
        </p:blipFill>
        <p:spPr>
          <a:xfrm>
            <a:off x="1116000" y="692280"/>
            <a:ext cx="78487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C:\Users\наталья\Desktop\урок\image002_21.jpg"/>
          <p:cNvPicPr/>
          <p:nvPr/>
        </p:nvPicPr>
        <p:blipFill>
          <a:blip r:embed="rId1"/>
          <a:stretch/>
        </p:blipFill>
        <p:spPr>
          <a:xfrm>
            <a:off x="1258920" y="620640"/>
            <a:ext cx="7345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:\Users\наталья\Desktop\урок\image003_8.jpg"/>
          <p:cNvPicPr/>
          <p:nvPr/>
        </p:nvPicPr>
        <p:blipFill>
          <a:blip r:embed="rId1"/>
          <a:stretch/>
        </p:blipFill>
        <p:spPr>
          <a:xfrm>
            <a:off x="1042920" y="765000"/>
            <a:ext cx="7416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C:\Users\наталья\Desktop\урок\image004_5.jpg"/>
          <p:cNvPicPr/>
          <p:nvPr/>
        </p:nvPicPr>
        <p:blipFill>
          <a:blip r:embed="rId1"/>
          <a:stretch/>
        </p:blipFill>
        <p:spPr>
          <a:xfrm>
            <a:off x="1116000" y="549360"/>
            <a:ext cx="7201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чем мы учили эт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араболой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азывается график функции у=х², точка О(0;0) – вершина параболы, ось О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– ось параболы, равенство у=х² – уравнение параб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4"/>
          <p:cNvSpPr/>
          <p:nvPr/>
        </p:nvSpPr>
        <p:spPr>
          <a:xfrm flipH="1" flipV="1">
            <a:off x="7002360" y="2354400"/>
            <a:ext cx="92160" cy="35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5"/>
          <p:cNvSpPr/>
          <p:nvPr/>
        </p:nvSpPr>
        <p:spPr>
          <a:xfrm>
            <a:off x="5638680" y="5486400"/>
            <a:ext cx="320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6360000">
            <a:off x="5200200" y="2798640"/>
            <a:ext cx="3301920" cy="1955880"/>
          </a:xfrm>
          <a:prstGeom prst="pie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8534520" y="5410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861048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8541720" y="5486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6767640" y="5416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Users\наталья\Desktop\урок\image005_4.jpg"/>
          <p:cNvPicPr/>
          <p:nvPr/>
        </p:nvPicPr>
        <p:blipFill>
          <a:blip r:embed="rId1"/>
          <a:stretch/>
        </p:blipFill>
        <p:spPr>
          <a:xfrm>
            <a:off x="1042920" y="765000"/>
            <a:ext cx="7345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C:\Users\наталья\Desktop\урок\image006_4.jpg"/>
          <p:cNvPicPr/>
          <p:nvPr/>
        </p:nvPicPr>
        <p:blipFill>
          <a:blip r:embed="rId1"/>
          <a:stretch/>
        </p:blipFill>
        <p:spPr>
          <a:xfrm>
            <a:off x="826920" y="549360"/>
            <a:ext cx="79218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C:\Users\наталья\Desktop\урок\image007_6.jpg"/>
          <p:cNvPicPr/>
          <p:nvPr/>
        </p:nvPicPr>
        <p:blipFill>
          <a:blip r:embed="rId1"/>
          <a:stretch/>
        </p:blipFill>
        <p:spPr>
          <a:xfrm>
            <a:off x="1042920" y="549360"/>
            <a:ext cx="7416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1"/>
          <p:cNvGrpSpPr/>
          <p:nvPr/>
        </p:nvGrpSpPr>
        <p:grpSpPr>
          <a:xfrm>
            <a:off x="4716360" y="0"/>
            <a:ext cx="4419720" cy="6850080"/>
            <a:chOff x="4716360" y="0"/>
            <a:chExt cx="4419720" cy="6850080"/>
          </a:xfrm>
        </p:grpSpPr>
        <p:graphicFrame>
          <p:nvGraphicFramePr>
            <p:cNvPr id="394" name="Object 2"/>
            <p:cNvGraphicFramePr/>
            <p:nvPr/>
          </p:nvGraphicFramePr>
          <p:xfrm>
            <a:off x="4716360" y="0"/>
            <a:ext cx="4419720" cy="6850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9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16360" y="0"/>
                      <a:ext cx="4419720" cy="685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Text Box 3"/>
            <p:cNvSpPr/>
            <p:nvPr/>
          </p:nvSpPr>
          <p:spPr>
            <a:xfrm>
              <a:off x="4716360" y="0"/>
              <a:ext cx="44197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Text Box 4"/>
          <p:cNvSpPr/>
          <p:nvPr/>
        </p:nvSpPr>
        <p:spPr>
          <a:xfrm>
            <a:off x="900000" y="2708280"/>
            <a:ext cx="22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324000" y="189000"/>
            <a:ext cx="3527280" cy="69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Координаты вершины параб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Уравнение оси симметрии параб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Нули фун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Промежутки возрастания, убывания фун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&gt;0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y&lt;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Чему равен коэффициен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Как зависит положение ветвей параболы от коэффициент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Какое наибольшее значение функции существует и чему оно равн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Область значений фун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43160" y="5857920"/>
            <a:ext cx="107172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1285920" y="3244680"/>
            <a:ext cx="7051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Object 2"/>
          <p:cNvGraphicFramePr/>
          <p:nvPr/>
        </p:nvGraphicFramePr>
        <p:xfrm>
          <a:off x="4716360" y="0"/>
          <a:ext cx="4419720" cy="685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0"/>
                    <a:ext cx="441972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Прямая соединительная линия 4"/>
          <p:cNvSpPr/>
          <p:nvPr/>
        </p:nvSpPr>
        <p:spPr>
          <a:xfrm>
            <a:off x="6948360" y="333360"/>
            <a:ext cx="0" cy="575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Овал 8"/>
          <p:cNvSpPr/>
          <p:nvPr/>
        </p:nvSpPr>
        <p:spPr>
          <a:xfrm>
            <a:off x="6804000" y="549360"/>
            <a:ext cx="216000" cy="215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Овал 9"/>
          <p:cNvSpPr/>
          <p:nvPr/>
        </p:nvSpPr>
        <p:spPr>
          <a:xfrm>
            <a:off x="5651640" y="3645000"/>
            <a:ext cx="215640" cy="215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Овал 10"/>
          <p:cNvSpPr/>
          <p:nvPr/>
        </p:nvSpPr>
        <p:spPr>
          <a:xfrm>
            <a:off x="6372360" y="907920"/>
            <a:ext cx="215640" cy="217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Овал 11"/>
          <p:cNvSpPr/>
          <p:nvPr/>
        </p:nvSpPr>
        <p:spPr>
          <a:xfrm>
            <a:off x="8028000" y="3645000"/>
            <a:ext cx="216000" cy="215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оугольник 12"/>
          <p:cNvSpPr/>
          <p:nvPr/>
        </p:nvSpPr>
        <p:spPr>
          <a:xfrm>
            <a:off x="971640" y="836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= 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=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=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оугольник 13"/>
          <p:cNvSpPr/>
          <p:nvPr/>
        </p:nvSpPr>
        <p:spPr>
          <a:xfrm>
            <a:off x="684360" y="2708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=-х</a:t>
            </a:r>
            <a:r>
              <a:rPr b="0" lang="ru-RU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+2х+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98440" y="444600"/>
            <a:ext cx="8699400" cy="1152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324000" y="191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бери смайлик соответствующий твоему настроен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Group 85"/>
          <p:cNvGrpSpPr/>
          <p:nvPr/>
        </p:nvGrpSpPr>
        <p:grpSpPr>
          <a:xfrm>
            <a:off x="6084720" y="4473720"/>
            <a:ext cx="1150920" cy="1191240"/>
            <a:chOff x="6084720" y="4473720"/>
            <a:chExt cx="1150920" cy="1191240"/>
          </a:xfrm>
        </p:grpSpPr>
        <p:sp>
          <p:nvSpPr>
            <p:cNvPr id="413" name="Oval 57"/>
            <p:cNvSpPr/>
            <p:nvPr/>
          </p:nvSpPr>
          <p:spPr>
            <a:xfrm>
              <a:off x="6084720" y="4473720"/>
              <a:ext cx="1150920" cy="1186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58"/>
            <p:cNvSpPr/>
            <p:nvPr/>
          </p:nvSpPr>
          <p:spPr>
            <a:xfrm>
              <a:off x="6371280" y="4769280"/>
              <a:ext cx="191160" cy="196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59"/>
            <p:cNvSpPr/>
            <p:nvPr/>
          </p:nvSpPr>
          <p:spPr>
            <a:xfrm>
              <a:off x="6757200" y="4769280"/>
              <a:ext cx="191160" cy="196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60"/>
            <p:cNvSpPr/>
            <p:nvPr/>
          </p:nvSpPr>
          <p:spPr>
            <a:xfrm>
              <a:off x="6658200" y="4988160"/>
              <a:ext cx="3240" cy="24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Arc 61"/>
            <p:cNvSpPr/>
            <p:nvPr/>
          </p:nvSpPr>
          <p:spPr>
            <a:xfrm flipH="1" rot="13635000">
              <a:off x="6468840" y="5166720"/>
              <a:ext cx="412920" cy="41256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Arc 62"/>
            <p:cNvSpPr/>
            <p:nvPr/>
          </p:nvSpPr>
          <p:spPr>
            <a:xfrm flipH="1" rot="13816800">
              <a:off x="6377760" y="5101560"/>
              <a:ext cx="505080" cy="39528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Group 84"/>
          <p:cNvGrpSpPr/>
          <p:nvPr/>
        </p:nvGrpSpPr>
        <p:grpSpPr>
          <a:xfrm>
            <a:off x="3995640" y="4508640"/>
            <a:ext cx="1223280" cy="1404000"/>
            <a:chOff x="3995640" y="4508640"/>
            <a:chExt cx="1223280" cy="1404000"/>
          </a:xfrm>
        </p:grpSpPr>
        <p:sp>
          <p:nvSpPr>
            <p:cNvPr id="420" name="Oval 65"/>
            <p:cNvSpPr/>
            <p:nvPr/>
          </p:nvSpPr>
          <p:spPr>
            <a:xfrm>
              <a:off x="3995640" y="4508640"/>
              <a:ext cx="1223280" cy="1404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66"/>
            <p:cNvSpPr/>
            <p:nvPr/>
          </p:nvSpPr>
          <p:spPr>
            <a:xfrm>
              <a:off x="4300200" y="4858200"/>
              <a:ext cx="203760" cy="23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67"/>
            <p:cNvSpPr/>
            <p:nvPr/>
          </p:nvSpPr>
          <p:spPr>
            <a:xfrm>
              <a:off x="4710240" y="4858200"/>
              <a:ext cx="203040" cy="23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68"/>
            <p:cNvSpPr/>
            <p:nvPr/>
          </p:nvSpPr>
          <p:spPr>
            <a:xfrm>
              <a:off x="4605840" y="5117040"/>
              <a:ext cx="2880" cy="288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69"/>
            <p:cNvSpPr/>
            <p:nvPr/>
          </p:nvSpPr>
          <p:spPr>
            <a:xfrm>
              <a:off x="4405680" y="5678640"/>
              <a:ext cx="40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Group 83"/>
          <p:cNvGrpSpPr/>
          <p:nvPr/>
        </p:nvGrpSpPr>
        <p:grpSpPr>
          <a:xfrm>
            <a:off x="1547640" y="4473720"/>
            <a:ext cx="1222200" cy="1475640"/>
            <a:chOff x="1547640" y="4473720"/>
            <a:chExt cx="1222200" cy="1475640"/>
          </a:xfrm>
        </p:grpSpPr>
        <p:sp>
          <p:nvSpPr>
            <p:cNvPr id="426" name="Oval 72"/>
            <p:cNvSpPr/>
            <p:nvPr/>
          </p:nvSpPr>
          <p:spPr>
            <a:xfrm>
              <a:off x="1547640" y="4473720"/>
              <a:ext cx="1222200" cy="147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73"/>
            <p:cNvSpPr/>
            <p:nvPr/>
          </p:nvSpPr>
          <p:spPr>
            <a:xfrm>
              <a:off x="1851840" y="4841280"/>
              <a:ext cx="202680" cy="244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74"/>
            <p:cNvSpPr/>
            <p:nvPr/>
          </p:nvSpPr>
          <p:spPr>
            <a:xfrm>
              <a:off x="2261520" y="4841280"/>
              <a:ext cx="202680" cy="244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75"/>
            <p:cNvSpPr/>
            <p:nvPr/>
          </p:nvSpPr>
          <p:spPr>
            <a:xfrm>
              <a:off x="2156400" y="5086440"/>
              <a:ext cx="3240" cy="303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76"/>
            <p:cNvSpPr/>
            <p:nvPr/>
          </p:nvSpPr>
          <p:spPr>
            <a:xfrm flipH="1" flipV="1">
              <a:off x="1956240" y="5580720"/>
              <a:ext cx="405720" cy="13464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Arc 77"/>
            <p:cNvSpPr/>
            <p:nvPr/>
          </p:nvSpPr>
          <p:spPr>
            <a:xfrm flipH="1" flipV="1" rot="7965000">
              <a:off x="1978560" y="4561920"/>
              <a:ext cx="367560" cy="30456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Arc 78"/>
            <p:cNvSpPr/>
            <p:nvPr/>
          </p:nvSpPr>
          <p:spPr>
            <a:xfrm flipH="1" flipV="1" rot="7965000">
              <a:off x="2037960" y="4699080"/>
              <a:ext cx="241560" cy="20268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Line 40"/>
          <p:cNvSpPr/>
          <p:nvPr/>
        </p:nvSpPr>
        <p:spPr>
          <a:xfrm>
            <a:off x="1690560" y="3922560"/>
            <a:ext cx="1152720" cy="0"/>
          </a:xfrm>
          <a:prstGeom prst="line">
            <a:avLst/>
          </a:prstGeom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41"/>
          <p:cNvSpPr/>
          <p:nvPr/>
        </p:nvSpPr>
        <p:spPr>
          <a:xfrm>
            <a:off x="2841480" y="3922560"/>
            <a:ext cx="1152720" cy="0"/>
          </a:xfrm>
          <a:prstGeom prst="line">
            <a:avLst/>
          </a:prstGeom>
          <a:ln w="442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42"/>
          <p:cNvSpPr/>
          <p:nvPr/>
        </p:nvSpPr>
        <p:spPr>
          <a:xfrm>
            <a:off x="3994200" y="3922560"/>
            <a:ext cx="1152360" cy="0"/>
          </a:xfrm>
          <a:prstGeom prst="line">
            <a:avLst/>
          </a:prstGeom>
          <a:ln w="4428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43"/>
          <p:cNvSpPr/>
          <p:nvPr/>
        </p:nvSpPr>
        <p:spPr>
          <a:xfrm>
            <a:off x="5146560" y="3922560"/>
            <a:ext cx="1152720" cy="0"/>
          </a:xfrm>
          <a:prstGeom prst="line">
            <a:avLst/>
          </a:prstGeom>
          <a:ln w="442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44"/>
          <p:cNvSpPr/>
          <p:nvPr/>
        </p:nvSpPr>
        <p:spPr>
          <a:xfrm>
            <a:off x="6299280" y="3922560"/>
            <a:ext cx="1152360" cy="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5"/>
          <p:cNvSpPr/>
          <p:nvPr/>
        </p:nvSpPr>
        <p:spPr>
          <a:xfrm>
            <a:off x="4570560" y="3851280"/>
            <a:ext cx="0" cy="144360"/>
          </a:xfrm>
          <a:prstGeom prst="line">
            <a:avLst/>
          </a:prstGeom>
          <a:ln w="442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46"/>
          <p:cNvSpPr/>
          <p:nvPr/>
        </p:nvSpPr>
        <p:spPr>
          <a:xfrm>
            <a:off x="2266920" y="3851280"/>
            <a:ext cx="0" cy="144360"/>
          </a:xfrm>
          <a:prstGeom prst="line">
            <a:avLst/>
          </a:prstGeom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47"/>
          <p:cNvSpPr/>
          <p:nvPr/>
        </p:nvSpPr>
        <p:spPr>
          <a:xfrm>
            <a:off x="3419640" y="3851280"/>
            <a:ext cx="0" cy="144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48"/>
          <p:cNvSpPr/>
          <p:nvPr/>
        </p:nvSpPr>
        <p:spPr>
          <a:xfrm>
            <a:off x="5722920" y="3851280"/>
            <a:ext cx="0" cy="144360"/>
          </a:xfrm>
          <a:prstGeom prst="line">
            <a:avLst/>
          </a:prstGeom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49"/>
          <p:cNvSpPr/>
          <p:nvPr/>
        </p:nvSpPr>
        <p:spPr>
          <a:xfrm>
            <a:off x="6875640" y="3851280"/>
            <a:ext cx="0" cy="144360"/>
          </a:xfrm>
          <a:prstGeom prst="line">
            <a:avLst/>
          </a:prstGeom>
          <a:ln w="44280">
            <a:solidFill>
              <a:srgbClr val="0099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50"/>
          <p:cNvSpPr/>
          <p:nvPr/>
        </p:nvSpPr>
        <p:spPr>
          <a:xfrm>
            <a:off x="4259160" y="3994200"/>
            <a:ext cx="611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cc99"/>
                </a:solidFill>
                <a:latin typeface="Arial"/>
              </a:rPr>
              <a:t>0</a:t>
            </a:r>
            <a:r>
              <a:rPr b="1" lang="ru-RU" sz="1600" spc="-1" strike="noStrike">
                <a:solidFill>
                  <a:srgbClr val="00cc99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51"/>
          <p:cNvSpPr/>
          <p:nvPr/>
        </p:nvSpPr>
        <p:spPr>
          <a:xfrm>
            <a:off x="2986200" y="3994200"/>
            <a:ext cx="90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50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52"/>
          <p:cNvSpPr/>
          <p:nvPr/>
        </p:nvSpPr>
        <p:spPr>
          <a:xfrm>
            <a:off x="1706400" y="3994200"/>
            <a:ext cx="1103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-100 </a:t>
            </a:r>
            <a:r>
              <a:rPr b="1" lang="ru-RU" sz="18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53"/>
          <p:cNvSpPr/>
          <p:nvPr/>
        </p:nvSpPr>
        <p:spPr>
          <a:xfrm>
            <a:off x="5146560" y="3994200"/>
            <a:ext cx="1163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+50 </a:t>
            </a:r>
            <a:r>
              <a:rPr b="1" lang="ru-RU" sz="18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54"/>
          <p:cNvSpPr/>
          <p:nvPr/>
        </p:nvSpPr>
        <p:spPr>
          <a:xfrm>
            <a:off x="6321600" y="3994200"/>
            <a:ext cx="1091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+100 </a:t>
            </a:r>
            <a:r>
              <a:rPr b="1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86"/>
          <p:cNvSpPr/>
          <p:nvPr/>
        </p:nvSpPr>
        <p:spPr>
          <a:xfrm>
            <a:off x="5872320" y="31780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закипе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7"/>
          <p:cNvSpPr/>
          <p:nvPr/>
        </p:nvSpPr>
        <p:spPr>
          <a:xfrm>
            <a:off x="3784680" y="317808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Arial"/>
              </a:rPr>
              <a:t>«равнодушен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88"/>
          <p:cNvSpPr/>
          <p:nvPr/>
        </p:nvSpPr>
        <p:spPr>
          <a:xfrm>
            <a:off x="2050920" y="31780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«примерз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21"/>
                            </p:stCondLst>
                            <p:childTnLst>
                              <p:par>
                                <p:cTn id="8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21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21"/>
                            </p:stCondLst>
                            <p:childTnLst>
                              <p:par>
                                <p:cTn id="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642960" y="357120"/>
            <a:ext cx="814392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1371600" y="5214960"/>
            <a:ext cx="640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3"/>
          <p:cNvGrpSpPr/>
          <p:nvPr/>
        </p:nvGrpSpPr>
        <p:grpSpPr>
          <a:xfrm>
            <a:off x="428760" y="500040"/>
            <a:ext cx="7921440" cy="5635800"/>
            <a:chOff x="428760" y="500040"/>
            <a:chExt cx="7921440" cy="5635800"/>
          </a:xfrm>
        </p:grpSpPr>
        <p:pic>
          <p:nvPicPr>
            <p:cNvPr id="336" name="Picture 4" descr=""/>
            <p:cNvPicPr/>
            <p:nvPr/>
          </p:nvPicPr>
          <p:blipFill>
            <a:blip r:embed="rId1"/>
            <a:stretch/>
          </p:blipFill>
          <p:spPr>
            <a:xfrm>
              <a:off x="428760" y="500040"/>
              <a:ext cx="7921440" cy="563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7" name="Group 5"/>
            <p:cNvGrpSpPr/>
            <p:nvPr/>
          </p:nvGrpSpPr>
          <p:grpSpPr>
            <a:xfrm>
              <a:off x="1378080" y="1278000"/>
              <a:ext cx="5997600" cy="2327040"/>
              <a:chOff x="1378080" y="1278000"/>
              <a:chExt cx="5997600" cy="2327040"/>
            </a:xfrm>
          </p:grpSpPr>
          <p:sp>
            <p:nvSpPr>
              <p:cNvPr id="338" name="AutoShape 6"/>
              <p:cNvSpPr/>
              <p:nvPr/>
            </p:nvSpPr>
            <p:spPr>
              <a:xfrm flipH="1">
                <a:off x="1525680" y="1278000"/>
                <a:ext cx="5850000" cy="2327040"/>
              </a:xfrm>
              <a:prstGeom prst="pie">
                <a:avLst/>
              </a:pr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7"/>
              <p:cNvSpPr/>
              <p:nvPr/>
            </p:nvSpPr>
            <p:spPr>
              <a:xfrm>
                <a:off x="1378080" y="2444760"/>
                <a:ext cx="290520" cy="771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842976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" descr="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52149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"/>
          <p:cNvSpPr/>
          <p:nvPr/>
        </p:nvSpPr>
        <p:spPr>
          <a:xfrm>
            <a:off x="684360" y="404640"/>
            <a:ext cx="77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Times New Roman"/>
                <a:ea typeface="MS Gothic"/>
              </a:rPr>
              <a:t>Баллистическая траектория снаряда в отсутствии сопротивления воздуха при стрельбе под разным углом к горизон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абола и Косм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4716360" y="2060640"/>
            <a:ext cx="4211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49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телу придать начальную скорость в пределах от 7,9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 до11,2 км в с, то оно на Землю не упадет, а превратится в ее спутник, движущийся по эллипсу.При скорости же 11,2 км в с тело вновь начнет двигаться по параболе и уйдет от Земли навсегда. Итак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осмические корабли  выходят на орбиту по парабол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3"/>
          <p:cNvGrpSpPr/>
          <p:nvPr/>
        </p:nvGrpSpPr>
        <p:grpSpPr>
          <a:xfrm>
            <a:off x="250920" y="2349360"/>
            <a:ext cx="2396880" cy="3160800"/>
            <a:chOff x="250920" y="2349360"/>
            <a:chExt cx="2396880" cy="3160800"/>
          </a:xfrm>
        </p:grpSpPr>
        <p:pic>
          <p:nvPicPr>
            <p:cNvPr id="347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2349360"/>
              <a:ext cx="2396880" cy="31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5"/>
            <p:cNvSpPr/>
            <p:nvPr/>
          </p:nvSpPr>
          <p:spPr>
            <a:xfrm>
              <a:off x="250920" y="2349360"/>
              <a:ext cx="2396880" cy="31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49" name="Picture 6" descr=""/>
          <p:cNvPicPr/>
          <p:nvPr/>
        </p:nvPicPr>
        <p:blipFill>
          <a:blip r:embed="rId2"/>
          <a:srcRect l="5528" t="53043" r="7529" b="4634"/>
          <a:stretch/>
        </p:blipFill>
        <p:spPr>
          <a:xfrm>
            <a:off x="2700360" y="5157720"/>
            <a:ext cx="2198520" cy="1432080"/>
          </a:xfrm>
          <a:prstGeom prst="rect">
            <a:avLst/>
          </a:prstGeom>
          <a:ln w="0">
            <a:noFill/>
          </a:ln>
        </p:spPr>
      </p:pic>
      <p:grpSp>
        <p:nvGrpSpPr>
          <p:cNvPr id="350" name="Group 7"/>
          <p:cNvGrpSpPr/>
          <p:nvPr/>
        </p:nvGrpSpPr>
        <p:grpSpPr>
          <a:xfrm>
            <a:off x="3132000" y="2421000"/>
            <a:ext cx="1505160" cy="1212840"/>
            <a:chOff x="3132000" y="2421000"/>
            <a:chExt cx="1505160" cy="1212840"/>
          </a:xfrm>
        </p:grpSpPr>
        <p:pic>
          <p:nvPicPr>
            <p:cNvPr id="351" name="Picture 8" descr=""/>
            <p:cNvPicPr/>
            <p:nvPr/>
          </p:nvPicPr>
          <p:blipFill>
            <a:blip r:embed="rId3"/>
            <a:stretch/>
          </p:blipFill>
          <p:spPr>
            <a:xfrm>
              <a:off x="3132000" y="2421000"/>
              <a:ext cx="15051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9"/>
            <p:cNvSpPr/>
            <p:nvPr/>
          </p:nvSpPr>
          <p:spPr>
            <a:xfrm>
              <a:off x="3132000" y="2421000"/>
              <a:ext cx="150516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3" name="Picture 10" descr=""/>
          <p:cNvPicPr/>
          <p:nvPr/>
        </p:nvPicPr>
        <p:blipFill>
          <a:blip r:embed="rId4"/>
          <a:stretch/>
        </p:blipFill>
        <p:spPr>
          <a:xfrm>
            <a:off x="3995640" y="5227560"/>
            <a:ext cx="628920" cy="3906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1" descr=""/>
          <p:cNvPicPr/>
          <p:nvPr/>
        </p:nvPicPr>
        <p:blipFill>
          <a:blip r:embed="rId5"/>
          <a:stretch/>
        </p:blipFill>
        <p:spPr>
          <a:xfrm>
            <a:off x="4427640" y="4653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05989 L -0.12482 -0.02081 C -0.15781 -0.01272 -0.17604 -0.000229999999999999 -0.17604 0.01248 C -0.17604 0.02728 -0.15781 0.03907 -0.12482 0.04717 L 0.02084 0.08693 E">
                                      <p:cBhvr>
                                        <p:cTn id="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5:50:09Z</dcterms:created>
  <dc:creator>Ирина</dc:creator>
  <dc:description/>
  <dc:language>en-US</dc:language>
  <cp:lastModifiedBy>Admin</cp:lastModifiedBy>
  <dcterms:modified xsi:type="dcterms:W3CDTF">2015-10-07T18:23:24Z</dcterms:modified>
  <cp:revision>123</cp:revision>
  <dc:subject/>
  <dc:title>Слайд 1</dc:title>
</cp:coreProperties>
</file>