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F45-3525-4C56-A764-58460443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17E-E4D7-413A-BA07-92BF283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598-817D-4EFA-8F52-B10EA17F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151-68F2-4360-98E1-B6F73B84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C623-5FCD-4081-BC53-8DFAB167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4F1D-15E0-4E95-9FD1-BF07D966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FA15-1AF9-4114-8852-BABF88EE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AE9F-3EA9-4705-A516-CA0ABE94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FC3-BEBD-4678-8462-B0A8124B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7333-8107-41E3-B604-4286C0D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3064-F006-401E-881F-19DA419A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928-7E86-4BFA-9F5B-F2F6B273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E92A-0689-455A-B345-26F9FC88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C7AE-A588-4665-A814-8854A67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E6D7-D684-4207-A674-EEE7522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6681-DD85-41BD-8483-6659D6CE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3A59-918A-4942-8CC5-300D7855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F020F-B125-4490-9EC7-B7201073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8BDA8-2302-4DFE-9F9A-55A13E3E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8386A-D902-4560-B3F3-BCD780D5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28B2F-6CD9-4543-864B-9941C8DC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D3478-07D2-43B0-9DF5-DA52B45D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A85-135B-4A25-ADE6-4BEAA114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9C1AC-FA19-4B12-B633-E3E6D121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E41C1-130F-46AC-95E1-40D0CD76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C185C-BF88-478A-8144-C510166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EFC4C-9445-4890-8592-1358B0B8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9697B-3303-44B3-869F-A76B1FBA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1400E-FC3A-4152-9417-3C06A7F2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62AB3-D3B8-48F8-9F38-E3DB09AD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877-954F-417D-B91E-CD6B52C2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8AD-1874-4FE3-92E5-FD97C6E7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E08-889D-43ED-BC52-B56E58DA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296-AEE6-4327-B270-6CDD15D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A1E-ED90-4A79-8262-498F2EB0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9EB-9196-4992-80BF-92C11F84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BCD-2297-4AB4-AFEF-F791BD7041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5941-664A-436D-8BD3-B3A048EDD738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DCE-ECCD-42C2-9F5B-1FB200D83BFE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ГБОУ ШКОЛА № 489 Московского района </a:t>
            </a: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г. С-Петербурга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79640" y="4869000"/>
            <a:ext cx="6905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: учитель мате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акова Е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76360" y="2349360"/>
            <a:ext cx="655164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  <a:ea typeface="Arial"/>
              </a:rPr>
              <a:t>Урок по алгебре в 9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Уравнения, приводи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к квадратным.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324000" y="260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пишите уравнение, полученное в результате введения новой перемен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484280"/>
          <a:ext cx="8229600" cy="4743360"/>
        </p:xfrm>
        <a:graphic>
          <a:graphicData uri="http://schemas.openxmlformats.org/drawingml/2006/table">
            <a:tbl>
              <a:tblPr/>
              <a:tblGrid>
                <a:gridCol w="3816360"/>
                <a:gridCol w="44132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х–3)(7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х+5)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3х+1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(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3х+1)–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1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х–5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4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5)=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х+2)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х–5) –5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25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44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8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324000" y="260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пишите уравнение, полученное в результате введения новой перемен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8360" y="1484280"/>
          <a:ext cx="8229600" cy="4743360"/>
        </p:xfrm>
        <a:graphic>
          <a:graphicData uri="http://schemas.openxmlformats.org/drawingml/2006/table">
            <a:tbl>
              <a:tblPr/>
              <a:tblGrid>
                <a:gridCol w="3816360"/>
                <a:gridCol w="44132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х–3)(7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х+5)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3х+1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(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3х+1)–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1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+3х+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t-6=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х–5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4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5)=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х+2)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х–5) –5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3х</a:t>
                      </a:r>
                      <a:r>
                        <a:rPr b="1" lang="ru-RU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+5х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+2)(t-5)-5=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25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44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8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t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t+1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Физкульт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210_Na_zariadku_stanovis1.mp3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1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66"/>
                </a:solidFill>
                <a:latin typeface="Arial"/>
              </a:rPr>
              <a:t>Обобщение </a:t>
            </a:r>
            <a:br>
              <a:rPr sz="3700"/>
            </a:br>
            <a:r>
              <a:rPr b="0" lang="ru-RU" sz="3700" spc="-1" strike="noStrike">
                <a:solidFill>
                  <a:srgbClr val="ff0066"/>
                </a:solidFill>
                <a:latin typeface="Arial"/>
              </a:rPr>
              <a:t>и систематизация знан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-396720" y="1268280"/>
            <a:ext cx="9685080" cy="5445360"/>
            <a:chOff x="-396720" y="1268280"/>
            <a:chExt cx="9685080" cy="5445360"/>
          </a:xfrm>
        </p:grpSpPr>
        <p:sp>
          <p:nvSpPr>
            <p:cNvPr id="288" name="AutoShape 4"/>
            <p:cNvSpPr/>
            <p:nvPr/>
          </p:nvSpPr>
          <p:spPr>
            <a:xfrm>
              <a:off x="-396720" y="1268280"/>
              <a:ext cx="9685080" cy="54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"/>
            <p:cNvSpPr/>
            <p:nvPr/>
          </p:nvSpPr>
          <p:spPr>
            <a:xfrm>
              <a:off x="397080" y="1620000"/>
              <a:ext cx="7461720" cy="5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"/>
            <p:cNvSpPr/>
            <p:nvPr/>
          </p:nvSpPr>
          <p:spPr>
            <a:xfrm>
              <a:off x="1985040" y="2322000"/>
              <a:ext cx="3333960" cy="5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особы реш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238320" y="3200400"/>
              <a:ext cx="2063520" cy="7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раф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8"/>
            <p:cNvSpPr/>
            <p:nvPr/>
          </p:nvSpPr>
          <p:spPr>
            <a:xfrm>
              <a:off x="2620440" y="3200400"/>
              <a:ext cx="2062440" cy="7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ведение новой перемен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9"/>
            <p:cNvSpPr/>
            <p:nvPr/>
          </p:nvSpPr>
          <p:spPr>
            <a:xfrm>
              <a:off x="5001480" y="3200400"/>
              <a:ext cx="2063160" cy="7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зложение на множи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0"/>
            <p:cNvSpPr/>
            <p:nvPr/>
          </p:nvSpPr>
          <p:spPr>
            <a:xfrm>
              <a:off x="4048560" y="4781160"/>
              <a:ext cx="1586880" cy="17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ждества сокращенного умно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5795280" y="4781160"/>
              <a:ext cx="1587600" cy="17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пособ группиро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>
              <a:off x="7541640" y="4781160"/>
              <a:ext cx="1587960" cy="17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лением многочлена на многоч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2302200" y="4781160"/>
              <a:ext cx="1585800" cy="17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ынесение общего множителя за скоб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14"/>
            <p:cNvCxnSpPr>
              <a:stCxn id="290" idx="2"/>
              <a:endCxn id="291" idx="0"/>
            </p:cNvCxnSpPr>
            <p:nvPr/>
          </p:nvCxnSpPr>
          <p:spPr>
            <a:xfrm flipH="1">
              <a:off x="1269000" y="2848680"/>
              <a:ext cx="2383560" cy="35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AutoShape 15"/>
            <p:cNvCxnSpPr>
              <a:stCxn id="290" idx="2"/>
              <a:endCxn id="292" idx="0"/>
            </p:cNvCxnSpPr>
            <p:nvPr/>
          </p:nvCxnSpPr>
          <p:spPr>
            <a:xfrm flipH="1">
              <a:off x="3651480" y="2848680"/>
              <a:ext cx="1440" cy="35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0" name="AutoShape 16"/>
            <p:cNvCxnSpPr>
              <a:stCxn id="290" idx="2"/>
              <a:endCxn id="293" idx="0"/>
            </p:cNvCxnSpPr>
            <p:nvPr/>
          </p:nvCxnSpPr>
          <p:spPr>
            <a:xfrm>
              <a:off x="3652560" y="2848680"/>
              <a:ext cx="2381400" cy="35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1" name="AutoShape 17"/>
            <p:cNvCxnSpPr>
              <a:stCxn id="293" idx="2"/>
              <a:endCxn id="297" idx="0"/>
            </p:cNvCxnSpPr>
            <p:nvPr/>
          </p:nvCxnSpPr>
          <p:spPr>
            <a:xfrm flipH="1">
              <a:off x="3094200" y="3902760"/>
              <a:ext cx="293940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2" name="AutoShape 18"/>
            <p:cNvCxnSpPr>
              <a:stCxn id="293" idx="2"/>
              <a:endCxn id="294" idx="0"/>
            </p:cNvCxnSpPr>
            <p:nvPr/>
          </p:nvCxnSpPr>
          <p:spPr>
            <a:xfrm flipH="1">
              <a:off x="4842360" y="3902760"/>
              <a:ext cx="119160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3" name="AutoShape 19"/>
            <p:cNvCxnSpPr>
              <a:stCxn id="293" idx="2"/>
              <a:endCxn id="295" idx="0"/>
            </p:cNvCxnSpPr>
            <p:nvPr/>
          </p:nvCxnSpPr>
          <p:spPr>
            <a:xfrm>
              <a:off x="6033960" y="3902760"/>
              <a:ext cx="55584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4" name="AutoShape 20"/>
            <p:cNvCxnSpPr>
              <a:stCxn id="293" idx="2"/>
              <a:endCxn id="296" idx="0"/>
            </p:cNvCxnSpPr>
            <p:nvPr/>
          </p:nvCxnSpPr>
          <p:spPr>
            <a:xfrm>
              <a:off x="6033960" y="3902760"/>
              <a:ext cx="230256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05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0" y="3284640"/>
            <a:ext cx="874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3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Домашня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чебник «Алгебра 9», автор Алимов Ш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 622 (2;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борник заданий «ГИА-2012», вариант 4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идактические материалы «Алгебра 8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 Зив Б.Г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 № 12, вариант 3 (3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4"/>
          <p:cNvSpPr txBox="1"/>
          <p:nvPr/>
        </p:nvSpPr>
        <p:spPr>
          <a:xfrm>
            <a:off x="684360" y="1341360"/>
            <a:ext cx="7559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66"/>
                    </a:gs>
                    <a:gs pos="100000">
                      <a:srgbClr val="0000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66"/>
                  </a:gs>
                  <a:gs pos="100000">
                    <a:srgbClr val="0000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для урока математика.wav" descr=""/>
          <p:cNvPicPr/>
          <p:nvPr/>
        </p:nvPicPr>
        <p:blipFill>
          <a:blip r:embed="rId2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533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евиз урока: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«Чем больше я знаю, тем больше умею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Эпигра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то ничего не замеча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от ничего не изуч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то ничего не изуча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от вечно хнычет и скуч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(поэт Р.Сеф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9900"/>
                </a:solidFill>
                <a:uFillTx/>
                <a:latin typeface="Arial"/>
              </a:rPr>
              <a:t>Повторенье - Мать Уч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413000"/>
          <a:ext cx="8207280" cy="46814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азывается целым уравнением с одной переменной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азывается степенью целого уравнения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корней может иметь целое уравнение с одной переменной 2-ой, 3-ей, 4-ой,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й степ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виды целых уравнений вам знакомы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 способы решения уравнений вы знает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бъяснить метод решения каждого из уравн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– 5х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х– 2х + 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= 2х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+ 2х – 3х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х + 3х + 2 ) (х + 3х + 4 )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– 5х– 36 = 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908000" y="3357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04292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58920" y="220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258920" y="400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64000" y="400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908000" y="4508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042920" y="450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104292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42920" y="3357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ейные уравнени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+b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тический спос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спос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+b=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мее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а≠0 – один корень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-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0, 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ет корн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0, 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множество кор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1:   2х+3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2:   0х=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3:   0х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 функции у=ах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рям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рямая пересекает ось Х, то уравнение ах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 имеет один корень – абсциссу точки пересеч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рямая параллельна оси Х, то уравнение не имеет кор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рямая совпадает с осью Х (у=0), то уравнение имеет множество кор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35"/>
          <p:cNvSpPr/>
          <p:nvPr/>
        </p:nvSpPr>
        <p:spPr>
          <a:xfrm>
            <a:off x="3564000" y="522936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7"/>
          <p:cNvGrpSpPr/>
          <p:nvPr/>
        </p:nvGrpSpPr>
        <p:grpSpPr>
          <a:xfrm>
            <a:off x="4592520" y="4724280"/>
            <a:ext cx="1347840" cy="1368360"/>
            <a:chOff x="4592520" y="4724280"/>
            <a:chExt cx="1347840" cy="1368360"/>
          </a:xfrm>
        </p:grpSpPr>
        <p:sp>
          <p:nvSpPr>
            <p:cNvPr id="186" name="Line 23"/>
            <p:cNvSpPr/>
            <p:nvPr/>
          </p:nvSpPr>
          <p:spPr>
            <a:xfrm>
              <a:off x="5219640" y="494028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4714920" y="5516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6"/>
            <p:cNvSpPr/>
            <p:nvPr/>
          </p:nvSpPr>
          <p:spPr>
            <a:xfrm flipV="1">
              <a:off x="5219640" y="493992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7"/>
            <p:cNvSpPr/>
            <p:nvPr/>
          </p:nvSpPr>
          <p:spPr>
            <a:xfrm>
              <a:off x="4643280" y="55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 flipH="1">
              <a:off x="4714920" y="494028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2"/>
            <p:cNvSpPr/>
            <p:nvPr/>
          </p:nvSpPr>
          <p:spPr>
            <a:xfrm>
              <a:off x="5651640" y="5445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3"/>
            <p:cNvSpPr/>
            <p:nvPr/>
          </p:nvSpPr>
          <p:spPr>
            <a:xfrm>
              <a:off x="4930920" y="472428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4"/>
            <p:cNvSpPr/>
            <p:nvPr/>
          </p:nvSpPr>
          <p:spPr>
            <a:xfrm>
              <a:off x="5003640" y="5373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 rot="18745200">
              <a:off x="4583520" y="5144040"/>
              <a:ext cx="6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у=ах+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42"/>
          <p:cNvSpPr/>
          <p:nvPr/>
        </p:nvSpPr>
        <p:spPr>
          <a:xfrm>
            <a:off x="6589800" y="494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3"/>
          <p:cNvSpPr/>
          <p:nvPr/>
        </p:nvSpPr>
        <p:spPr>
          <a:xfrm>
            <a:off x="6084720" y="5516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4"/>
          <p:cNvSpPr/>
          <p:nvPr/>
        </p:nvSpPr>
        <p:spPr>
          <a:xfrm flipV="1">
            <a:off x="6588000" y="494172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5"/>
          <p:cNvSpPr/>
          <p:nvPr/>
        </p:nvSpPr>
        <p:spPr>
          <a:xfrm>
            <a:off x="6012000" y="551664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7021440" y="54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630072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9"/>
          <p:cNvSpPr/>
          <p:nvPr/>
        </p:nvSpPr>
        <p:spPr>
          <a:xfrm>
            <a:off x="637380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0"/>
          <p:cNvSpPr/>
          <p:nvPr/>
        </p:nvSpPr>
        <p:spPr>
          <a:xfrm>
            <a:off x="5941440" y="5084640"/>
            <a:ext cx="68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=ах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1"/>
          <p:cNvSpPr/>
          <p:nvPr/>
        </p:nvSpPr>
        <p:spPr>
          <a:xfrm>
            <a:off x="6012000" y="5300640"/>
            <a:ext cx="1152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3"/>
          <p:cNvSpPr/>
          <p:nvPr/>
        </p:nvSpPr>
        <p:spPr>
          <a:xfrm>
            <a:off x="7885080" y="494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4"/>
          <p:cNvSpPr/>
          <p:nvPr/>
        </p:nvSpPr>
        <p:spPr>
          <a:xfrm>
            <a:off x="7380360" y="551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7885080" y="494172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6"/>
          <p:cNvSpPr/>
          <p:nvPr/>
        </p:nvSpPr>
        <p:spPr>
          <a:xfrm>
            <a:off x="7308720" y="551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8317080" y="544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9"/>
          <p:cNvSpPr/>
          <p:nvPr/>
        </p:nvSpPr>
        <p:spPr>
          <a:xfrm>
            <a:off x="7596360" y="47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0"/>
          <p:cNvSpPr/>
          <p:nvPr/>
        </p:nvSpPr>
        <p:spPr>
          <a:xfrm>
            <a:off x="766764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1"/>
          <p:cNvSpPr/>
          <p:nvPr/>
        </p:nvSpPr>
        <p:spPr>
          <a:xfrm>
            <a:off x="7237080" y="5229360"/>
            <a:ext cx="68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=ах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4"/>
          <p:cNvSpPr/>
          <p:nvPr/>
        </p:nvSpPr>
        <p:spPr>
          <a:xfrm>
            <a:off x="7308720" y="5516640"/>
            <a:ext cx="1150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6"/>
          <p:cNvSpPr/>
          <p:nvPr/>
        </p:nvSpPr>
        <p:spPr>
          <a:xfrm>
            <a:off x="5219640" y="494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7"/>
          <p:cNvSpPr/>
          <p:nvPr/>
        </p:nvSpPr>
        <p:spPr>
          <a:xfrm>
            <a:off x="4714920" y="551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8"/>
          <p:cNvSpPr/>
          <p:nvPr/>
        </p:nvSpPr>
        <p:spPr>
          <a:xfrm flipV="1">
            <a:off x="5219640" y="494172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9"/>
          <p:cNvSpPr/>
          <p:nvPr/>
        </p:nvSpPr>
        <p:spPr>
          <a:xfrm>
            <a:off x="4643280" y="551664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0"/>
          <p:cNvSpPr/>
          <p:nvPr/>
        </p:nvSpPr>
        <p:spPr>
          <a:xfrm flipH="1">
            <a:off x="4716360" y="4941720"/>
            <a:ext cx="720720" cy="865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5651640" y="544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4930920" y="47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500364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763640" y="3333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вадратны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1600200"/>
          <a:ext cx="8424720" cy="4997520"/>
        </p:xfrm>
        <a:graphic>
          <a:graphicData uri="http://schemas.openxmlformats.org/drawingml/2006/table">
            <a:tbl>
              <a:tblPr/>
              <a:tblGrid>
                <a:gridCol w="3743280"/>
                <a:gridCol w="468144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тический 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+bx+c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 два корн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4a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ет корней, есл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4a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меет один корень х=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: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4a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 функци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=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+bx+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араб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арабола пересекает ось Х, то уравнение имеет два корня - абсциссы точек пересеч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арабола не пересекает ось Х, то уравнение не имеет корн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вершина параболы лежит на оси Х, то уравнение имеет один корень – абсциссу верши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8"/>
          <p:cNvSpPr/>
          <p:nvPr/>
        </p:nvSpPr>
        <p:spPr>
          <a:xfrm>
            <a:off x="2340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8"/>
          <p:cNvSpPr/>
          <p:nvPr/>
        </p:nvSpPr>
        <p:spPr>
          <a:xfrm>
            <a:off x="1763640" y="2637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9"/>
          <p:cNvSpPr/>
          <p:nvPr/>
        </p:nvSpPr>
        <p:spPr>
          <a:xfrm>
            <a:off x="1763640" y="3284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0"/>
          <p:cNvSpPr/>
          <p:nvPr/>
        </p:nvSpPr>
        <p:spPr>
          <a:xfrm>
            <a:off x="2050920" y="3933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1"/>
          <p:cNvSpPr/>
          <p:nvPr/>
        </p:nvSpPr>
        <p:spPr>
          <a:xfrm>
            <a:off x="6588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52"/>
          <p:cNvSpPr/>
          <p:nvPr/>
        </p:nvSpPr>
        <p:spPr>
          <a:xfrm flipV="1" rot="5977800">
            <a:off x="4752000" y="5263920"/>
            <a:ext cx="719280" cy="358920"/>
          </a:xfrm>
          <a:custGeom>
            <a:avLst/>
            <a:gdLst>
              <a:gd name="textAreaLeft" fmla="*/ 0 w 719280"/>
              <a:gd name="textAreaRight" fmla="*/ 719640 w 71928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6"/>
          <p:cNvSpPr/>
          <p:nvPr/>
        </p:nvSpPr>
        <p:spPr>
          <a:xfrm>
            <a:off x="4932360" y="508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7"/>
          <p:cNvSpPr/>
          <p:nvPr/>
        </p:nvSpPr>
        <p:spPr>
          <a:xfrm>
            <a:off x="442764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8"/>
          <p:cNvSpPr/>
          <p:nvPr/>
        </p:nvSpPr>
        <p:spPr>
          <a:xfrm flipV="1">
            <a:off x="4932360" y="508464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9"/>
          <p:cNvSpPr/>
          <p:nvPr/>
        </p:nvSpPr>
        <p:spPr>
          <a:xfrm>
            <a:off x="4356000" y="566100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1"/>
          <p:cNvSpPr/>
          <p:nvPr/>
        </p:nvSpPr>
        <p:spPr>
          <a:xfrm>
            <a:off x="5364000" y="5589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2"/>
          <p:cNvSpPr/>
          <p:nvPr/>
        </p:nvSpPr>
        <p:spPr>
          <a:xfrm>
            <a:off x="4643280" y="486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3"/>
          <p:cNvSpPr/>
          <p:nvPr/>
        </p:nvSpPr>
        <p:spPr>
          <a:xfrm>
            <a:off x="471636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65"/>
          <p:cNvSpPr/>
          <p:nvPr/>
        </p:nvSpPr>
        <p:spPr>
          <a:xfrm flipH="1" flipV="1" rot="15683400">
            <a:off x="4967640" y="5264640"/>
            <a:ext cx="719280" cy="358560"/>
          </a:xfrm>
          <a:custGeom>
            <a:avLst/>
            <a:gdLst>
              <a:gd name="textAreaLeft" fmla="*/ 360 w 719280"/>
              <a:gd name="textAreaRight" fmla="*/ 720000 w 71928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579600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3"/>
          <p:cNvSpPr/>
          <p:nvPr/>
        </p:nvSpPr>
        <p:spPr>
          <a:xfrm>
            <a:off x="5724360" y="566100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4"/>
          <p:cNvSpPr/>
          <p:nvPr/>
        </p:nvSpPr>
        <p:spPr>
          <a:xfrm>
            <a:off x="673272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5"/>
          <p:cNvSpPr/>
          <p:nvPr/>
        </p:nvSpPr>
        <p:spPr>
          <a:xfrm>
            <a:off x="6012000" y="486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6"/>
          <p:cNvSpPr/>
          <p:nvPr/>
        </p:nvSpPr>
        <p:spPr>
          <a:xfrm>
            <a:off x="608472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0"/>
          <p:cNvSpPr/>
          <p:nvPr/>
        </p:nvSpPr>
        <p:spPr>
          <a:xfrm>
            <a:off x="7669080" y="508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1"/>
          <p:cNvSpPr/>
          <p:nvPr/>
        </p:nvSpPr>
        <p:spPr>
          <a:xfrm>
            <a:off x="716436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2"/>
          <p:cNvSpPr/>
          <p:nvPr/>
        </p:nvSpPr>
        <p:spPr>
          <a:xfrm flipV="1">
            <a:off x="7667640" y="508464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3"/>
          <p:cNvSpPr/>
          <p:nvPr/>
        </p:nvSpPr>
        <p:spPr>
          <a:xfrm>
            <a:off x="7093080" y="566100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4"/>
          <p:cNvSpPr/>
          <p:nvPr/>
        </p:nvSpPr>
        <p:spPr>
          <a:xfrm>
            <a:off x="8101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5"/>
          <p:cNvSpPr/>
          <p:nvPr/>
        </p:nvSpPr>
        <p:spPr>
          <a:xfrm>
            <a:off x="7380360" y="486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6"/>
          <p:cNvSpPr/>
          <p:nvPr/>
        </p:nvSpPr>
        <p:spPr>
          <a:xfrm>
            <a:off x="745164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1"/>
          <p:cNvSpPr/>
          <p:nvPr/>
        </p:nvSpPr>
        <p:spPr>
          <a:xfrm>
            <a:off x="6300720" y="508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2"/>
          <p:cNvSpPr/>
          <p:nvPr/>
        </p:nvSpPr>
        <p:spPr>
          <a:xfrm flipV="1">
            <a:off x="6300720" y="508464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09"/>
          <p:cNvGrpSpPr/>
          <p:nvPr/>
        </p:nvGrpSpPr>
        <p:grpSpPr>
          <a:xfrm>
            <a:off x="6314760" y="4772520"/>
            <a:ext cx="684000" cy="768960"/>
            <a:chOff x="6314760" y="4772520"/>
            <a:chExt cx="684000" cy="768960"/>
          </a:xfrm>
        </p:grpSpPr>
        <p:sp>
          <p:nvSpPr>
            <p:cNvPr id="253" name="Arc 105"/>
            <p:cNvSpPr/>
            <p:nvPr/>
          </p:nvSpPr>
          <p:spPr>
            <a:xfrm flipV="1" rot="5977800">
              <a:off x="6192000" y="4977360"/>
              <a:ext cx="719280" cy="35856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rc 108"/>
            <p:cNvSpPr/>
            <p:nvPr/>
          </p:nvSpPr>
          <p:spPr>
            <a:xfrm flipH="1" flipV="1" rot="15683400">
              <a:off x="6407640" y="4977360"/>
              <a:ext cx="719280" cy="358560"/>
            </a:xfrm>
            <a:custGeom>
              <a:avLst/>
              <a:gdLst>
                <a:gd name="textAreaLeft" fmla="*/ 360 w 719280"/>
                <a:gd name="textAreaRight" fmla="*/ 720000 w 7192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5"/>
          <p:cNvGrpSpPr/>
          <p:nvPr/>
        </p:nvGrpSpPr>
        <p:grpSpPr>
          <a:xfrm>
            <a:off x="7683120" y="4916880"/>
            <a:ext cx="684000" cy="768960"/>
            <a:chOff x="7683120" y="4916880"/>
            <a:chExt cx="684000" cy="768960"/>
          </a:xfrm>
        </p:grpSpPr>
        <p:sp>
          <p:nvSpPr>
            <p:cNvPr id="256" name="Arc 116"/>
            <p:cNvSpPr/>
            <p:nvPr/>
          </p:nvSpPr>
          <p:spPr>
            <a:xfrm flipV="1" rot="5977800">
              <a:off x="7560360" y="5121720"/>
              <a:ext cx="719280" cy="35856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17"/>
            <p:cNvSpPr/>
            <p:nvPr/>
          </p:nvSpPr>
          <p:spPr>
            <a:xfrm flipH="1" flipV="1" rot="15683400">
              <a:off x="7776000" y="5121720"/>
              <a:ext cx="719280" cy="358560"/>
            </a:xfrm>
            <a:custGeom>
              <a:avLst/>
              <a:gdLst>
                <a:gd name="textAreaLeft" fmla="*/ 360 w 719280"/>
                <a:gd name="textAreaRight" fmla="*/ 720000 w 7192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3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лгоритм решения би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1042920" y="1557360"/>
            <a:ext cx="7489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замену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квадратное уравнение с новой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ть новое квадратное у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уться к замене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ть получившиеся квадрат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вывод о числе решений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468360" y="476280"/>
            <a:ext cx="82072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Метод введения новой перем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х + 3х + 2)(х + 3х + 4) =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95280" y="1916280"/>
          <a:ext cx="8424720" cy="1427040"/>
        </p:xfrm>
        <a:graphic>
          <a:graphicData uri="http://schemas.openxmlformats.org/drawingml/2006/table">
            <a:tbl>
              <a:tblPr/>
              <a:tblGrid>
                <a:gridCol w="985680"/>
                <a:gridCol w="4415040"/>
                <a:gridCol w="3024000"/>
              </a:tblGrid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ш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сти новую переменную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торая обозначает повторяющееся выражение х + 3х. Записать получившееся урав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х + 3х, то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)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) = 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 Box 28"/>
          <p:cNvSpPr/>
          <p:nvPr/>
        </p:nvSpPr>
        <p:spPr>
          <a:xfrm>
            <a:off x="2411280" y="981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4211640" y="981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6"/>
          <p:cNvSpPr/>
          <p:nvPr/>
        </p:nvSpPr>
        <p:spPr>
          <a:xfrm>
            <a:off x="2700360" y="24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6804000" y="184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95280" y="3357720"/>
          <a:ext cx="8424720" cy="2998800"/>
        </p:xfrm>
        <a:graphic>
          <a:graphicData uri="http://schemas.openxmlformats.org/drawingml/2006/table">
            <a:tbl>
              <a:tblPr/>
              <a:tblGrid>
                <a:gridCol w="987480"/>
                <a:gridCol w="4413240"/>
                <a:gridCol w="30240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ш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ь уравнение относительно новой переменн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t + 2t + 8 – 48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+ 6t – 40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= -1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  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уться к первоначальной переменной Х, подставив найденное значение вместо переменной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3х=-10    или  х+3х =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3х+10=0          х+3х-4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=9-40=-31         х=1; х=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&lt;0, корней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-4;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63"/>
          <p:cNvSpPr/>
          <p:nvPr/>
        </p:nvSpPr>
        <p:spPr>
          <a:xfrm>
            <a:off x="5724360" y="328464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4"/>
          <p:cNvSpPr/>
          <p:nvPr/>
        </p:nvSpPr>
        <p:spPr>
          <a:xfrm>
            <a:off x="5724360" y="3573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5"/>
          <p:cNvSpPr/>
          <p:nvPr/>
        </p:nvSpPr>
        <p:spPr>
          <a:xfrm>
            <a:off x="572436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658800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5"/>
          <p:cNvSpPr/>
          <p:nvPr/>
        </p:nvSpPr>
        <p:spPr>
          <a:xfrm>
            <a:off x="7524720" y="5373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6"/>
          <p:cNvSpPr/>
          <p:nvPr/>
        </p:nvSpPr>
        <p:spPr>
          <a:xfrm>
            <a:off x="8028000" y="5373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7"/>
          <p:cNvSpPr/>
          <p:nvPr/>
        </p:nvSpPr>
        <p:spPr>
          <a:xfrm>
            <a:off x="5724360" y="44370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8"/>
          <p:cNvSpPr/>
          <p:nvPr/>
        </p:nvSpPr>
        <p:spPr>
          <a:xfrm>
            <a:off x="7524720" y="4437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0"/>
          <p:cNvSpPr/>
          <p:nvPr/>
        </p:nvSpPr>
        <p:spPr>
          <a:xfrm>
            <a:off x="5724360" y="4724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1"/>
          <p:cNvSpPr/>
          <p:nvPr/>
        </p:nvSpPr>
        <p:spPr>
          <a:xfrm>
            <a:off x="7524720" y="4724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8:09:58Z</dcterms:created>
  <dc:creator>User</dc:creator>
  <dc:description/>
  <dc:language>en-US</dc:language>
  <cp:lastModifiedBy>Екатерина</cp:lastModifiedBy>
  <dcterms:modified xsi:type="dcterms:W3CDTF">2015-10-05T14:39:44Z</dcterms:modified>
  <cp:revision>21</cp:revision>
  <dc:subject/>
  <dc:title>Слайд 1</dc:title>
</cp:coreProperties>
</file>