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0DC5-7957-418C-922D-9C9882D2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8F98-07FF-4E12-B8D8-49D3E8C9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6C5E-8FE5-455E-A185-23FCD3F9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E34-508A-4892-9A9B-C4301D78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F973-F388-47B4-BC64-A1D1244D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5E49-CD01-4989-AA63-342A8D59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C75F-1C90-46C2-A484-ADE24097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7015-71C1-4727-A5C4-5AF464FA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72F1-315D-44C6-B54C-5E9D4425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7E81-9A51-47BD-9C15-28CEAD8A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51F2-84A1-40B1-937B-3902C6DC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DCE-ADC7-4910-B001-42D29130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D62C-7FB3-4F4A-ACFF-2AFA1C21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4AF8-D572-446D-8CD9-C4332464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8F61-FB79-4477-8710-12A5747A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65B2-F094-4BAF-B458-EE2A396D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3D65-22B9-41DF-9E18-FD6F3124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AB7-D25C-46C4-A225-05D71F42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9DAB-FDA0-4C5B-A7FF-CBBC4684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3C8-74CC-4DBC-BD41-E453A46A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9203-9001-4979-80F6-9DF0D115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1968-D6F3-4E6B-B688-8E0DC27C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B234-442F-4793-8CCB-B14D3964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2ECD-7DD4-43D9-AC86-92AD08CC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6FDB-247F-4791-B076-8FE132AEA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9901-A9D6-41E2-AF2C-D8BDE1288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5;&#1088;&#1080;&#1089;&#1086;&#1077;&#1076;&#1080;&#1085;&#1077;&#1085;&#1080;&#1077;_&#1050;&#1088;&#1099;&#1084;&#1072;_&#1082;_&#1056;&#1086;&#1089;&#1089;&#1080;&#1080;_%282014%29" TargetMode="External"/><Relationship Id="rId2" Type="http://schemas.openxmlformats.org/officeDocument/2006/relationships/hyperlink" Target="https://ru.wikipedia.org/wiki/&#1056;&#1086;&#1089;&#1089;&#1080;&#1081;&#1089;&#1082;&#1072;&#1103;_&#1060;&#1077;&#1076;&#1077;&#1088;&#1072;&#1094;&#1080;&#1103;" TargetMode="External"/><Relationship Id="rId3" Type="http://schemas.openxmlformats.org/officeDocument/2006/relationships/hyperlink" Target="https://ru.wikipedia.org/wiki/&#1050;&#1088;&#1099;&#1084;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1033560" y="320760"/>
            <a:ext cx="70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йски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езент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68840" y="2801880"/>
            <a:ext cx="313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санова Нурия Тойл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 МБДОУ ДСКВ №56 «Северян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033560" y="1476360"/>
            <a:ext cx="70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о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3029040" y="622296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МАО, г.Нижневарт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3042000" y="19224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ссийская имп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272880" y="491400"/>
            <a:ext cx="82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ётр I Вели́к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послед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царь всея Рус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с 1682 года) и перв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ператор Всероссийск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с 1721 го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 династ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омано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177840" y="1890720"/>
            <a:ext cx="438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им из главных достижений Петра стало решение поставленной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е задачи: расширение территорий России в Прибалтийском регионе после победы в Великой Северной войне, что позволило ему принять в 1721 году титул российского импера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Peter der-Grosse 1838.jpg"/>
          <p:cNvPicPr/>
          <p:nvPr/>
        </p:nvPicPr>
        <p:blipFill>
          <a:blip r:embed="rId1"/>
          <a:stretch/>
        </p:blipFill>
        <p:spPr>
          <a:xfrm>
            <a:off x="4879800" y="1353960"/>
            <a:ext cx="36370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2558880" y="19224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ечественная война 181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266760" y="6984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йна между Россией и наполеоновской Францией на территории России в 1812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279360" y="1316160"/>
            <a:ext cx="78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йна закончилась почти полным уничтожением наполеоновской армии, освобождением территории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255600" y="1967040"/>
            <a:ext cx="4210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причин поражения армии Наполеона российский историк Н. Троицкий называет всенародное участие в войне и героизм русской армии, неготовность французской армии к боевым действиям на больших пространствах и в природно-климатических условиях России, полководческие дарования русского главнокомандующего М.И. Кутузова и других генер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French invasion of Russia collage.jpg"/>
          <p:cNvPicPr/>
          <p:nvPr/>
        </p:nvPicPr>
        <p:blipFill>
          <a:blip r:embed="rId1"/>
          <a:stretch/>
        </p:blipFill>
        <p:spPr>
          <a:xfrm>
            <a:off x="4446720" y="1992240"/>
            <a:ext cx="44352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2649240" y="216000"/>
            <a:ext cx="39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стьянская реформа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446040" y="1098720"/>
            <a:ext cx="817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стьянская реформа в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в просторечи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мена крепостного пра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 — начатая в 1861 году реформа, упразднившая крепостное право в Российской империи. Явилась первой по времени и наиболее значимой из «великих реформ» императора Александ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авно назревшая, запоздалая реформа открывала дорогу к развитию капитализма в России и к индустриал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i-Tech - &amp;Kcy;&amp;acy;&amp;tcy;&amp;acy;&amp;lcy;&amp;ocy;&amp;gcy; &amp;scy;&amp;tcy;&amp;acy;&amp;tcy;&amp;iecy;&amp;jcy; - &amp;Pcy;&amp;ocy;&amp;lcy;&amp;iecy;&amp;zcy;&amp;ncy;&amp;ycy;&amp;iecy; &amp;scy;&amp;ocy;&amp;vcy;&amp;iecy;&amp;tcy;&amp;ycy;"/>
          <p:cNvPicPr/>
          <p:nvPr/>
        </p:nvPicPr>
        <p:blipFill>
          <a:blip r:embed="rId1"/>
          <a:stretch/>
        </p:blipFill>
        <p:spPr>
          <a:xfrm>
            <a:off x="3978360" y="2868480"/>
            <a:ext cx="458316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492120" y="417600"/>
            <a:ext cx="779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ая мировая вой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28 июля 1914 — 11 ноября 1918) — один из самых широкомасштабных вооруженных конфликтов в истории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31840" y="1649520"/>
            <a:ext cx="416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войны прекратили своё существование четыре империи: Российская, Австро-Венгерская, Османская и Германская. Страны-участницы потеряли убитыми более 10 млн солдат и около 12 млн мирных жителей, около 55 млн человек были ран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WWImontage.jpg"/>
          <p:cNvPicPr/>
          <p:nvPr/>
        </p:nvPicPr>
        <p:blipFill>
          <a:blip r:embed="rId1"/>
          <a:stretch/>
        </p:blipFill>
        <p:spPr>
          <a:xfrm>
            <a:off x="4381560" y="1738440"/>
            <a:ext cx="435132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446040" y="316080"/>
            <a:ext cx="798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тябрьская революция 1917 года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249120" y="1068480"/>
            <a:ext cx="4287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 из крупнейших политических событий XX века, произошедшее в России в октябре 1917 года и повлиявшее на дальнейший ход всемирной истории. В результате началась Гражданская война в России, было свергнуто Временное правительство, и к власти пришло правительство, сформированн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ероссийским съездом Советов, абсолютное большинство делегатов которого составили большев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&amp;Fcy;&amp;acy;&amp;jcy;&amp;lcy;:Serov sovvlast.jpg"/>
          <p:cNvPicPr/>
          <p:nvPr/>
        </p:nvPicPr>
        <p:blipFill>
          <a:blip r:embed="rId1"/>
          <a:stretch/>
        </p:blipFill>
        <p:spPr>
          <a:xfrm>
            <a:off x="4892760" y="1200240"/>
            <a:ext cx="373356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3087720" y="32220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тски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https://upload.wikimedia.org/wikipedia/commons/thumb/d/dc/Coat_of_arms_of_the_Soviet_Union_1923%E2%80%931936.svg/548px-Coat_of_arms_of_the_Soviet_Union_1923%E2%80%931936.svg.png"/>
          <p:cNvPicPr/>
          <p:nvPr/>
        </p:nvPicPr>
        <p:blipFill>
          <a:blip r:embed="rId1"/>
          <a:stretch/>
        </p:blipFill>
        <p:spPr>
          <a:xfrm>
            <a:off x="174600" y="1139760"/>
            <a:ext cx="3336840" cy="33181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3"/>
          <p:cNvSpPr/>
          <p:nvPr/>
        </p:nvSpPr>
        <p:spPr>
          <a:xfrm>
            <a:off x="3876840" y="130500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окончания Гражданской войны большевики вынуждены были отказаться от планов немедленного воплощения коммунистической утопии и объявить новую экономическую политику, эта политика совпала с образованием  Союза Советских Социалистических Республик, в который первоначально вошли Россия, Украина, Белоруссия и Закавказье (30 декабря 1922 года). Столицей нового государства стала Москва, а высшим органом власти ВЦ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1832760" y="181080"/>
            <a:ext cx="56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ликая Отечественная во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231840" y="965160"/>
            <a:ext cx="374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2 июня 1941 года войска Третьего Рейха без объявления войны вторглись на территорию СССР. Первые сражения начавшейся Великой Отечественной войны проходили к западу от административных границ РСФСР. Однако на северо-западе вглубь территории России вторглись вооруженные формирования Финлянд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4179960" y="32400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йна продолжалась вплоть до окончательной победы над Германией 9 мая 1945 года. Победа была одержана ценой огромных поте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результатам войны к России была присоединена часть Восточной Пруссии с городом Кёнигсберг — ныне Калининградская область. Также в 1945 году Советская Армия одержала победу над союзной Германии Японией, в результате чего Россия вернула себе Южный Сахалин и Курильские остр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&amp;Scy;&amp;iecy;&amp;rcy;&amp;dcy;&amp;tscy;&amp;iecy; &amp;pcy;&amp;ocy;&amp;lcy;&amp;kcy;&amp;ocy;&amp;vcy;&amp;ocy;&amp;dcy;&amp;tscy;&amp;acy; &amp;Dcy;&amp;ocy;&amp;ncy;&amp;iecy;&amp;tscy;&amp;kcy;&amp;icy;&amp;jcy; &amp;Kcy;&amp;ocy;&amp;mcy;&amp;mcy;&amp;ucy;&amp;ncy;&amp;icy;&amp;kcy;&amp;acy;&amp;tscy;&amp;icy;&amp;ocy;&amp;ncy;&amp;ncy;&amp;ycy;&amp;jcy; &amp;Rcy;&amp;iecy;&amp;scy;&amp;ucy;&amp;rcy;&amp;scy;"/>
          <p:cNvPicPr/>
          <p:nvPr/>
        </p:nvPicPr>
        <p:blipFill>
          <a:blip r:embed="rId1"/>
          <a:stretch/>
        </p:blipFill>
        <p:spPr>
          <a:xfrm>
            <a:off x="4357800" y="706320"/>
            <a:ext cx="426384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2994120" y="43020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ссийская Фед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504720" y="905040"/>
            <a:ext cx="828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распада СССР в декабре 1991 года Российская Федерация стала независимым государством в границах бывшей РСФСР. События октября — декабря 1993 года окончательно завершили распад СССР и 76-летний советский период в истории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487440" y="2136600"/>
            <a:ext cx="840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о фактически прекратило регулировать цены на товары. Одновременно с этим была провозглашена свобода торговли, которая нередко приобретала форму спекуляции. Прилавки магазинов стали заполняться товарами, предприятия и граждане получили свободу экономиче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https://upload.wikimedia.org/wikipedia/ru/a/a7/%D0%A0%D0%B0%D1%81%D1%81%D1%82%D1%80%D0%B5%D0%BB_%D0%B1%D0%B5%D0%BB%D0%BE%D0%B3%D0%BE_%D0%B4%D0%BE%D0%BC%D0%B0_%D0%B2_1993_%D0%B3%D0%BE%D0%B4%D1%83.jpg"/>
          <p:cNvPicPr/>
          <p:nvPr/>
        </p:nvPicPr>
        <p:blipFill>
          <a:blip r:embed="rId1"/>
          <a:stretch/>
        </p:blipFill>
        <p:spPr>
          <a:xfrm>
            <a:off x="4251240" y="3606840"/>
            <a:ext cx="42386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2883600" y="263520"/>
            <a:ext cx="30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ссия в начале XXI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184320" y="830160"/>
            <a:ext cx="86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 В. Путин выиграл в марте 2000 года выборы и стал вторым президентом России. В 2000-е годы был проведён ряд социально-экономических реформ: налоговая, земельная, пенсионная, банковская, монетизация льгот, реформы трудовых отношений, электроэнергетики и железнодорожного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374760" y="2230560"/>
            <a:ext cx="3436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 время в экономике России отмечался стабильный профицит бюджета, рост ВВП, промышленного и сельскохозяйственного производства, строительства, реальных доходов населения, а также снижение инфля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Vladimir Putin - 2006.jpg"/>
          <p:cNvPicPr/>
          <p:nvPr/>
        </p:nvPicPr>
        <p:blipFill>
          <a:blip r:embed="rId1"/>
          <a:stretch/>
        </p:blipFill>
        <p:spPr>
          <a:xfrm>
            <a:off x="4572000" y="2138400"/>
            <a:ext cx="301320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2664000" y="228600"/>
            <a:ext cx="36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379ce"/>
                </a:solidFill>
                <a:uFillTx/>
                <a:latin typeface="Arial"/>
                <a:hlinkClick r:id="rId1"/>
              </a:rPr>
              <a:t>присоединение Крыма к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2"/>
          <p:cNvSpPr/>
          <p:nvPr/>
        </p:nvSpPr>
        <p:spPr>
          <a:xfrm>
            <a:off x="771480" y="785880"/>
            <a:ext cx="756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соединение Крыма к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2014) — включение в состав </a:t>
            </a:r>
            <a:r>
              <a:rPr b="0" lang="ru-RU" sz="1800" spc="-1" strike="noStrike" u="sng">
                <a:solidFill>
                  <a:srgbClr val="6379ce"/>
                </a:solidFill>
                <a:uFillTx/>
                <a:latin typeface="Arial"/>
                <a:hlinkClick r:id="rId2"/>
              </a:rPr>
              <a:t>Российской Федер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ольшей части территории полуострова </a:t>
            </a:r>
            <a:r>
              <a:rPr b="0" lang="ru-RU" sz="1800" spc="-1" strike="noStrike" u="sng">
                <a:solidFill>
                  <a:srgbClr val="6379ce"/>
                </a:solidFill>
                <a:uFillTx/>
                <a:latin typeface="Arial"/>
                <a:hlinkClick r:id="rId3"/>
              </a:rPr>
              <a:t>Кр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тавшего после распада СССР частью независимой Украины и до 2014 года ею контролировавшегося, с образованием двух новых субъектов Федерации — Республики Крым и города федерального значения Севастоп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&amp;Kcy;&amp;rcy;&amp;ycy;&amp;mcy; &amp;vcy;&amp;ycy;&amp;khcy;&amp;ocy;&amp;dcy;&amp;icy;&amp;tcy; &amp;icy;&amp;zcy; &amp;scy;&amp;ocy;&amp;scy;&amp;tcy;&amp;acy;&amp;vcy;&amp;acy; &amp;Ucy;&amp;kcy;&amp;rcy;&amp;acy;&amp;icy;&amp;ncy;&amp;ycy;"/>
          <p:cNvPicPr/>
          <p:nvPr/>
        </p:nvPicPr>
        <p:blipFill>
          <a:blip r:embed="rId4"/>
          <a:stretch/>
        </p:blipFill>
        <p:spPr>
          <a:xfrm>
            <a:off x="3728880" y="2741760"/>
            <a:ext cx="49039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"/>
          <p:cNvSpPr/>
          <p:nvPr/>
        </p:nvSpPr>
        <p:spPr>
          <a:xfrm>
            <a:off x="392040" y="1728720"/>
            <a:ext cx="414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собой прямоугольно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тнище из трёх равновеликих горизонтальных полос: верхней — белого, средней — синего и нижней — крас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22 &amp;acy;&amp;vcy;&amp;gcy;&amp;ucy;&amp;scy;&amp;tcy;&amp;acy; - &amp;Dcy;&amp;iecy;&amp;ncy;&amp;softcy; &amp;Gcy;&amp;ocy;&amp;scy;&amp;ucy;&amp;dcy;&amp;acy;&amp;rcy;&amp;scy;&amp;tcy;&amp;vcy;&amp;iecy;&amp;ncy;&amp;ncy;&amp;ocy;&amp;gcy;&amp;ocy; &amp;fcy;&amp;lcy;&amp;acy;&amp;gcy;&amp;acy; &amp;Rcy;&amp;ocy;&amp;scy;&amp;scy;&amp;icy;&amp;jcy;&amp;scy;&amp;kcy;&amp;ocy;&amp;jcy; &amp;Fcy;&amp;iecy;&amp;dcy;&amp;iecy;&amp;rcy;&amp;acy;&amp;tscy;&amp;icy;&amp;icy; - &amp;Vcy;&amp;ycy;&amp;scy;&amp;tcy;&amp;acy;&amp;vcy;&amp;kcy;&amp;icy; &amp;vcy; &amp;Mcy;&amp;ucy;&amp;rcy;&amp;mcy;&amp;acy;&amp;ncy;&amp;scy;&amp;kcy;&amp;iecy; - &amp;YAcy;&amp;ncy;&amp;dcy;&amp;iecy;&amp;kcy;&amp;scy;.&amp;Acy;&amp;fcy;&amp;icy;&amp;shcy;&amp;acy;"/>
          <p:cNvPicPr/>
          <p:nvPr/>
        </p:nvPicPr>
        <p:blipFill>
          <a:blip r:embed="rId1"/>
          <a:stretch/>
        </p:blipFill>
        <p:spPr>
          <a:xfrm>
            <a:off x="4870440" y="1270080"/>
            <a:ext cx="4000680" cy="32004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5"/>
          <p:cNvSpPr/>
          <p:nvPr/>
        </p:nvSpPr>
        <p:spPr>
          <a:xfrm>
            <a:off x="368280" y="409680"/>
            <a:ext cx="84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флаг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2"/>
          <p:cNvSpPr/>
          <p:nvPr/>
        </p:nvSpPr>
        <p:spPr>
          <a:xfrm>
            <a:off x="3641760" y="5141880"/>
            <a:ext cx="474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работы – Хасанова Нурия Тойл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3526560" y="5889600"/>
            <a:ext cx="43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опубликована на сайт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55680" y="117360"/>
            <a:ext cx="86454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урсы Интерн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б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veinternet.ru/users/2234457/post7775902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ru.wikipedia.org/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usinessoffers.ru/ViewOffer.asp?ID=3858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hememaker.ru/themes-list.user/42333/1/37/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аг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ain-kirill.ya.ru/replies.xml?item_no=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rtem.ikso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c61.narod.ru/GimnRu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goldenkorona.ru/simvol_gim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ов Б.Н. Поурочные разработки по курсу Государственная символ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: ВАКО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Символы Родины. Курган: ИПКиПРО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4149720" y="1063800"/>
            <a:ext cx="4803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ый герб Российской Федерации представляет собой четырёхугольный, с закруглёнными нижними углами, заострённый в оконечности красный геральдический щит с золотым двуглавым орлом, поднявшим вверх распущенные крылья. Орёл увенчан двумя малыми коронами и — над ними — одной большой короной, соединёнными лентой. В правой лапе орла — скипетр, в левой — держава. На груди орла, в красном щите, — серебряный всадник в синем плаще на серебряном коне, поражающий серебряным копьём чёрного, опрокинутого навзничь и попранного конём драк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344520" y="457200"/>
            <a:ext cx="84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герб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D:\Краеведение. Граждановедение. Генеалогия\Символы России\391.7K 00061ED7 00D05C09A5A1 5BBD562D 05A10092.jpg"/>
          <p:cNvPicPr/>
          <p:nvPr/>
        </p:nvPicPr>
        <p:blipFill>
          <a:blip r:embed="rId1"/>
          <a:stretch/>
        </p:blipFill>
        <p:spPr>
          <a:xfrm>
            <a:off x="333360" y="996840"/>
            <a:ext cx="3395520" cy="403884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4047840" y="5911920"/>
            <a:ext cx="47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волизирует красоту и справедлив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еду добра над з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368280" y="88920"/>
            <a:ext cx="84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гимн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одержимое 2"/>
          <p:cNvSpPr/>
          <p:nvPr/>
        </p:nvSpPr>
        <p:spPr>
          <a:xfrm>
            <a:off x="4940280" y="582480"/>
            <a:ext cx="3930840" cy="62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— священная наша держа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— любимая наша стр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чая воля, великая слава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ё достоянье на все времен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ься, Отечество наше свободно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ских народов союз веков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ками данная мудрость народна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ься, страна! Мы гордимся тоб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южных морей до полярного кр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нулись наши леса и по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ты на свете! Одна ты такая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мая Богом родная земл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ься, Отечество наше свободно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ских народов союз веков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ками данная мудрость народна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ься, страна! Мы гордимся тоб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й простор для мечты и для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ядущие нам открывают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силу даёт наша верность Отчиз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было, так есть и так будет всегд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ься, Отечество наше свободно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ских народов союз веков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ками данная мудрость народна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ься, страна! Мы гордимся тоб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531720" y="2258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сл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Михалков, 200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зито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Александров, 193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4316400" y="4572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юрик Варяжск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тель Государства Русского. Новгородский княз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ы жизни: около 817-879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ы правления: 862-8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&amp;Rcy;&amp;YUcy;&amp;Rcy;&amp;Icy;&amp;Kcy;"/>
          <p:cNvPicPr/>
          <p:nvPr/>
        </p:nvPicPr>
        <p:blipFill>
          <a:blip r:embed="rId1"/>
          <a:stretch/>
        </p:blipFill>
        <p:spPr>
          <a:xfrm>
            <a:off x="701640" y="487440"/>
            <a:ext cx="3265560" cy="38844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"/>
          <p:cNvSpPr/>
          <p:nvPr/>
        </p:nvSpPr>
        <p:spPr>
          <a:xfrm>
            <a:off x="4270320" y="26622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862 году первыми Правителями в Древнем Отечестве согласились стать братья Рюрик, Синеус и Трувор. Страна, в которой они поселились, стала зваться Русь и с этого времени берет начало Российская Государств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4186080" y="346716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ий Олег  —присоединил к своим владениям южный центр восточных славян, сделав в 882 году главный город полян — Киев своей столицей. В историографии объединение северного и южного центров под властью Рюриковичей рассматривается как окончание процесса формирования Древнерусского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&amp;YAcy;&amp;gcy;&amp;ocy;&amp;dcy;&amp;ycy; &amp;gcy;&amp;ocy;&amp;dcy;&amp;zhcy;&amp;icy; &amp;pcy;&amp;ocy;&amp;rcy;&amp;tcy;&amp;rcy;&amp;iecy;&amp;tcy; &amp;kcy;&amp;ncy;&amp;yacy;&amp;zcy;&amp;yacy; &amp;ocy;&amp;lcy;&amp;iecy;&amp;gcy;&amp;acy; &amp;vcy;&amp;iecy;&amp;shchcy;&amp;iecy;&amp;gcy;&amp;ocy; &amp;KHcy;&amp;ucy;&amp;dcy;&amp;iecy;&amp;iecy;&amp;mcy; &amp;vcy;&amp;mcy;&amp;iecy;&amp;scy;&amp;tcy;&amp;iecy;!"/>
          <p:cNvPicPr/>
          <p:nvPr/>
        </p:nvPicPr>
        <p:blipFill>
          <a:blip r:embed="rId1"/>
          <a:stretch/>
        </p:blipFill>
        <p:spPr>
          <a:xfrm>
            <a:off x="237960" y="1004760"/>
            <a:ext cx="3543480" cy="35244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4125960" y="10396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в власть над новгородскими землями после смерти Рюрика, как регент его малолетнего сына Игоря, Олег захватил Киев и перенёс туда столицу, объединив, тем самым, два главных центра восточных славян. Нередко рассматривается как основатель Древнерусского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463680" y="343080"/>
            <a:ext cx="820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щий Оле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князь новгородский с 879 года и великий князь киевский с 88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3"/>
          <p:cNvSpPr/>
          <p:nvPr/>
        </p:nvSpPr>
        <p:spPr>
          <a:xfrm>
            <a:off x="3900600" y="2635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ягиня Оль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крещени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л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к. 890 — 11 июля 969) — княгиня, правившая Русью с 945 до 962 года после гибели мужа, Великого князя Киевского Игоря Старого. Первая из русских правителей приняла христианство ещё до крещения Ру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http://img1.liveinternet.ru/images/attach/c/1/61/890/61890327_61886934_1279946058_1246349504_kniginl_olga_6001.jpg"/>
          <p:cNvPicPr/>
          <p:nvPr/>
        </p:nvPicPr>
        <p:blipFill>
          <a:blip r:embed="rId1"/>
          <a:stretch/>
        </p:blipFill>
        <p:spPr>
          <a:xfrm>
            <a:off x="262080" y="222120"/>
            <a:ext cx="3287520" cy="43848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5"/>
          <p:cNvSpPr/>
          <p:nvPr/>
        </p:nvSpPr>
        <p:spPr>
          <a:xfrm>
            <a:off x="4019400" y="276084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903 году она стала супругой великого князя Киевского Игоря. После его убийства в 945 году восставшими древлянами не пожелавшая выйти замуж вдова возложила на себя бремя государственного служения при трехлетнем сыне Святославе. Великая княгиня вошла в историю как великая созидательница государственной жизни и культуры Киевской Ру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4340160" y="3668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ади́мир I Святосла́ви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коло 960 года — 15 июля 1015 год) — князь новгородский в 970 — 988 годах, великий князь киевский, при котором произошло крещение Ру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&amp;Vcy;&amp;icy;&amp;tcy;&amp;ocy;&amp;kcy;&amp;icy; &quot;&amp;rcy;&amp;ucy;&amp;scy;&amp;scy;&amp;kcy;&amp;icy;&amp;khcy;&quot; - &amp;Scy;&amp;tcy;&amp;rcy;&amp;acy;&amp;ncy;&amp;icy;&amp;tscy;&amp;acy; 6 - &amp;Dcy;&amp;ocy;&amp;ncy;&amp;iecy;&amp;tscy;&amp;kcy; &amp;Fcy;&amp;ocy;&amp;rcy;&amp;ucy;&amp;mcy;. &amp;Dcy;&amp;ocy;&amp;ncy;&amp;iecy;&amp;tscy;&amp;kcy;&amp;icy;&amp;jcy; &amp;fcy;&amp;ocy;&amp;rcy;&amp;ucy;&amp;mcy;."/>
          <p:cNvPicPr/>
          <p:nvPr/>
        </p:nvPicPr>
        <p:blipFill>
          <a:blip r:embed="rId1"/>
          <a:stretch/>
        </p:blipFill>
        <p:spPr>
          <a:xfrm>
            <a:off x="225360" y="247680"/>
            <a:ext cx="3646440" cy="46846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3"/>
          <p:cNvSpPr/>
          <p:nvPr/>
        </p:nvSpPr>
        <p:spPr>
          <a:xfrm>
            <a:off x="4363920" y="187164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 новгородским князем в 970 году, захватил киевский престол в 978 году. В 988 году выбрал христианство в качестве государственной религии Древнерусского государства. В крещении получил христианское им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сил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звестен также как Владимир Святой, Владимир Великий, Владимир Креститель (в церковной истории) и Владимир Красное Солнышко (в былин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4"/>
          <p:cNvSpPr/>
          <p:nvPr/>
        </p:nvSpPr>
        <p:spPr>
          <a:xfrm>
            <a:off x="303120" y="247680"/>
            <a:ext cx="853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«Повести временных лет», до крещения князя Владимира имело место «испытание вер». Было решено дополнительно испытать веру, побывав на богослужениях у мусульман, у немцев и у греков. Когда после посещения Константинополя посланники вернулись в Киев они с восторгом сообщили князю: «Не ведали где мы есть — на небе или на земле». В итоге Владимир сделал выбор в пользу христианства по греческому обря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4281480" y="217656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«Повести временных лет», в 6496 году «от сотворения мира» (то есть приблизительно в 988 году н. э.) киевский князь Владимир Святославович принял решение креститься от Константинопольской Церкви. После чего, в царствование императоров Васил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онстант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агрянородных, присланное Константинопольским Патриархом Никола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рисовергом духовенство крестило киевских людей в водах Днеп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2013 &amp;Icy;&amp;yucy;&amp;lcy;&amp;softcy; &amp;KHcy;&amp;rcy;&amp;acy;&amp;ncy;&amp;icy; &amp;Vcy;&amp;iecy;&amp;rcy;&amp;ucy;"/>
          <p:cNvPicPr/>
          <p:nvPr/>
        </p:nvPicPr>
        <p:blipFill>
          <a:blip r:embed="rId1"/>
          <a:stretch/>
        </p:blipFill>
        <p:spPr>
          <a:xfrm>
            <a:off x="263520" y="2316240"/>
            <a:ext cx="394956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2:42:17Z</dcterms:created>
  <dc:creator>Пользователь</dc:creator>
  <dc:description/>
  <dc:language>en-US</dc:language>
  <cp:lastModifiedBy>Нурия</cp:lastModifiedBy>
  <dcterms:modified xsi:type="dcterms:W3CDTF">2015-05-24T08:20:53Z</dcterms:modified>
  <cp:revision>76</cp:revision>
  <dc:subject/>
  <dc:title>Слайд 1</dc:title>
</cp:coreProperties>
</file>