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47CB-E6F1-45C6-B2E7-77A91E3C2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01AD-F793-430B-90E3-28697DCC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2CB7-C881-4831-AD5A-1500FA0A2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2571-47A0-441C-A5DD-C62A44218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497A-1C5A-4B51-81A5-722DAD050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4DBD-A65D-4D65-945D-36955458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E7E2-333D-4B83-A544-2D73502C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B8A6-37A3-4275-B905-9ED5D17D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56FD-9323-4AE3-846F-443CCF79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F2E13-E459-4EFB-982A-FC4A168E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D0CE-8D19-43F8-992F-B2BB92C8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DA45-3C8E-4046-BFEF-304CD723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DE2EA-D7EE-406F-84E6-417267A6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96D85-E82B-459F-8E8A-D84DD8C2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C6408-2847-475F-B78E-D66B3D9F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2722B-4549-42A4-9F2B-A28AA2FAD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2F90-9A67-405B-8690-281B4C5CD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1B89-6F58-45DC-9F0F-6DB7BAF4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2639-075D-4505-9692-7A25C40B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493E-AD3D-4986-A30F-5652D3AF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78BF-7515-4326-B3E0-CF8C5BAF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B134-B04C-4B28-94E9-90C389FC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A804-D336-4E20-978C-FC4C0D4F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46D6-4132-4CD0-B61F-A3A92568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2D08-BB5F-42EC-9879-A21D1EAC9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3050-7E46-4C40-9E86-DDD8DA66D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5;&#1088;&#1080;&#1089;&#1086;&#1077;&#1076;&#1080;&#1085;&#1077;&#1085;&#1080;&#1077;_&#1050;&#1088;&#1099;&#1084;&#1072;_&#1082;_&#1056;&#1086;&#1089;&#1089;&#1080;&#1080;_%282014%29" TargetMode="External"/><Relationship Id="rId2" Type="http://schemas.openxmlformats.org/officeDocument/2006/relationships/hyperlink" Target="https://ru.wikipedia.org/wiki/&#1056;&#1086;&#1089;&#1089;&#1080;&#1081;&#1089;&#1082;&#1072;&#1103;_&#1060;&#1077;&#1076;&#1077;&#1088;&#1072;&#1094;&#1080;&#1103;" TargetMode="External"/><Relationship Id="rId3" Type="http://schemas.openxmlformats.org/officeDocument/2006/relationships/hyperlink" Target="https://ru.wikipedia.org/wiki/&#1050;&#1088;&#1099;&#1084;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b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2"/>
          <p:cNvSpPr/>
          <p:nvPr/>
        </p:nvSpPr>
        <p:spPr>
          <a:xfrm>
            <a:off x="1033560" y="320760"/>
            <a:ext cx="708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сийски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резент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5568840" y="2801880"/>
            <a:ext cx="313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санова Нурия Тойл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тель  МБДОУ ДСКВ №56 «Северяноч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1033560" y="1476360"/>
            <a:ext cx="70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о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3029040" y="6222960"/>
            <a:ext cx="31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МАО, г.Нижневартов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3042000" y="19224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ссийская импе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"/>
          <p:cNvSpPr/>
          <p:nvPr/>
        </p:nvSpPr>
        <p:spPr>
          <a:xfrm>
            <a:off x="272880" y="491400"/>
            <a:ext cx="824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ётр I Вели́к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последн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царь всея Рус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с 1682 года) и первы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ператор Всероссийск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с 1721 год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ставитель династ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оманов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"/>
          <p:cNvSpPr/>
          <p:nvPr/>
        </p:nvSpPr>
        <p:spPr>
          <a:xfrm>
            <a:off x="177840" y="1890720"/>
            <a:ext cx="4383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им из главных достижений Петра стало решение поставленной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ке задачи: расширение территорий России в Прибалтийском регионе после победы в Великой Северной войне, что позволило ему принять в 1721 году титул российского императ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Peter der-Grosse 1838.jpg"/>
          <p:cNvPicPr/>
          <p:nvPr/>
        </p:nvPicPr>
        <p:blipFill>
          <a:blip r:embed="rId1"/>
          <a:stretch/>
        </p:blipFill>
        <p:spPr>
          <a:xfrm>
            <a:off x="4879800" y="1353960"/>
            <a:ext cx="363708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1"/>
          <p:cNvSpPr/>
          <p:nvPr/>
        </p:nvSpPr>
        <p:spPr>
          <a:xfrm>
            <a:off x="2558880" y="192240"/>
            <a:ext cx="37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ечественная война 1812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"/>
          <p:cNvSpPr/>
          <p:nvPr/>
        </p:nvSpPr>
        <p:spPr>
          <a:xfrm>
            <a:off x="266760" y="69840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йна между Россией и наполеоновской Францией на территории России в 1812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"/>
          <p:cNvSpPr/>
          <p:nvPr/>
        </p:nvSpPr>
        <p:spPr>
          <a:xfrm>
            <a:off x="279360" y="1316160"/>
            <a:ext cx="784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йна закончилась почти полным уничтожением наполеоновской армии, освобождением территории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4"/>
          <p:cNvSpPr/>
          <p:nvPr/>
        </p:nvSpPr>
        <p:spPr>
          <a:xfrm>
            <a:off x="255600" y="1967040"/>
            <a:ext cx="4210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и причин поражения армии Наполеона российский историк Н. Троицкий называет всенародное участие в войне и героизм русской армии, неготовность французской армии к боевым действиям на больших пространствах и в природно-климатических условиях России, полководческие дарования русского главнокомандующего М.И. Кутузова и других генера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French invasion of Russia collage.jpg"/>
          <p:cNvPicPr/>
          <p:nvPr/>
        </p:nvPicPr>
        <p:blipFill>
          <a:blip r:embed="rId1"/>
          <a:stretch/>
        </p:blipFill>
        <p:spPr>
          <a:xfrm>
            <a:off x="4446720" y="1992240"/>
            <a:ext cx="443520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2649240" y="216000"/>
            <a:ext cx="39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естьянская реформа в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2"/>
          <p:cNvSpPr/>
          <p:nvPr/>
        </p:nvSpPr>
        <p:spPr>
          <a:xfrm>
            <a:off x="446040" y="1098720"/>
            <a:ext cx="8175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естьянская реформа в Росс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в просторечи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тмена крепостного пра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 — начатая в 1861 году реформа, упразднившая крепостное право в Российской империи. Явилась первой по времени и наиболее значимой из «великих реформ» императора Александ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Давно назревшая, запоздалая реформа открывала дорогу к развитию капитализма в России и к индустриализ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Hi-Tech - &amp;Kcy;&amp;acy;&amp;tcy;&amp;acy;&amp;lcy;&amp;ocy;&amp;gcy; &amp;scy;&amp;tcy;&amp;acy;&amp;tcy;&amp;iecy;&amp;jcy; - &amp;Pcy;&amp;ocy;&amp;lcy;&amp;iecy;&amp;zcy;&amp;ncy;&amp;ycy;&amp;iecy; &amp;scy;&amp;ocy;&amp;vcy;&amp;iecy;&amp;tcy;&amp;ycy;"/>
          <p:cNvPicPr/>
          <p:nvPr/>
        </p:nvPicPr>
        <p:blipFill>
          <a:blip r:embed="rId1"/>
          <a:stretch/>
        </p:blipFill>
        <p:spPr>
          <a:xfrm>
            <a:off x="3978360" y="2868480"/>
            <a:ext cx="458316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492120" y="417600"/>
            <a:ext cx="779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ая мировая вой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28 июля 1914 — 11 ноября 1918) — один из самых широкомасштабных вооруженных конфликтов в истории челове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231840" y="1649520"/>
            <a:ext cx="416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езультате войны прекратили своё существование четыре империи: Российская, Австро-Венгерская, Османская и Германская. Страны-участницы потеряли убитыми более 10 млн солдат и около 12 млн мирных жителей, около 55 млн человек были ран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WWImontage.jpg"/>
          <p:cNvPicPr/>
          <p:nvPr/>
        </p:nvPicPr>
        <p:blipFill>
          <a:blip r:embed="rId1"/>
          <a:stretch/>
        </p:blipFill>
        <p:spPr>
          <a:xfrm>
            <a:off x="4381560" y="1738440"/>
            <a:ext cx="4351320" cy="45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"/>
          <p:cNvSpPr/>
          <p:nvPr/>
        </p:nvSpPr>
        <p:spPr>
          <a:xfrm>
            <a:off x="446040" y="316080"/>
            <a:ext cx="798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тябрьская революция 1917 года в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"/>
          <p:cNvSpPr/>
          <p:nvPr/>
        </p:nvSpPr>
        <p:spPr>
          <a:xfrm>
            <a:off x="249120" y="1068480"/>
            <a:ext cx="4287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о из крупнейших политических событий XX века, произошедшее в России в октябре 1917 года и повлиявшее на дальнейший ход всемирной истории. В результате началась Гражданская война в России, было свергнуто Временное правительство, и к власти пришло правительство, сформированно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сероссийским съездом Советов, абсолютное большинство делегатов которого составили большев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&amp;Fcy;&amp;acy;&amp;jcy;&amp;lcy;:Serov sovvlast.jpg"/>
          <p:cNvPicPr/>
          <p:nvPr/>
        </p:nvPicPr>
        <p:blipFill>
          <a:blip r:embed="rId1"/>
          <a:stretch/>
        </p:blipFill>
        <p:spPr>
          <a:xfrm>
            <a:off x="4892760" y="1200240"/>
            <a:ext cx="3733560" cy="52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1"/>
          <p:cNvSpPr/>
          <p:nvPr/>
        </p:nvSpPr>
        <p:spPr>
          <a:xfrm>
            <a:off x="3087720" y="322200"/>
            <a:ext cx="227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ветский пери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https://upload.wikimedia.org/wikipedia/commons/thumb/d/dc/Coat_of_arms_of_the_Soviet_Union_1923%E2%80%931936.svg/548px-Coat_of_arms_of_the_Soviet_Union_1923%E2%80%931936.svg.png"/>
          <p:cNvPicPr/>
          <p:nvPr/>
        </p:nvPicPr>
        <p:blipFill>
          <a:blip r:embed="rId1"/>
          <a:stretch/>
        </p:blipFill>
        <p:spPr>
          <a:xfrm>
            <a:off x="174600" y="1139760"/>
            <a:ext cx="3336840" cy="331812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3"/>
          <p:cNvSpPr/>
          <p:nvPr/>
        </p:nvSpPr>
        <p:spPr>
          <a:xfrm>
            <a:off x="3876840" y="1305000"/>
            <a:ext cx="457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 окончания Гражданской войны большевики вынуждены были отказаться от планов немедленного воплощения коммунистической утопии и объявить новую экономическую политику, эта политика совпала с образованием  Союза Советских Социалистических Республик, в который первоначально вошли Россия, Украина, Белоруссия и Закавказье (30 декабря 1922 года). Столицей нового государства стала Москва, а высшим органом власти ВЦ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1832760" y="181080"/>
            <a:ext cx="56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ликая Отечественная вой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2"/>
          <p:cNvSpPr/>
          <p:nvPr/>
        </p:nvSpPr>
        <p:spPr>
          <a:xfrm>
            <a:off x="231840" y="965160"/>
            <a:ext cx="3746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2 июня 1941 года войска Третьего Рейха без объявления войны вторглись на территорию СССР. Первые сражения начавшейся Великой Отечественной войны проходили к западу от административных границ РСФСР. Однако на северо-западе вглубь территории России вторглись вооруженные формирования Финлянд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3"/>
          <p:cNvSpPr/>
          <p:nvPr/>
        </p:nvSpPr>
        <p:spPr>
          <a:xfrm>
            <a:off x="4179960" y="324000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йна продолжалась вплоть до окончательной победы над Германией 9 мая 1945 года. Победа была одержана ценой огромных потер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результатам войны к России была присоединена часть Восточной Пруссии с городом Кёнигсберг — ныне Калининградская область. Также в 1945 году Советская Армия одержала победу над союзной Германии Японией, в результате чего Россия вернула себе Южный Сахалин и Курильские остр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&amp;Scy;&amp;iecy;&amp;rcy;&amp;dcy;&amp;tscy;&amp;iecy; &amp;pcy;&amp;ocy;&amp;lcy;&amp;kcy;&amp;ocy;&amp;vcy;&amp;ocy;&amp;dcy;&amp;tscy;&amp;acy; &amp;Dcy;&amp;ocy;&amp;ncy;&amp;iecy;&amp;tscy;&amp;kcy;&amp;icy;&amp;jcy; &amp;Kcy;&amp;ocy;&amp;mcy;&amp;mcy;&amp;ucy;&amp;ncy;&amp;icy;&amp;kcy;&amp;acy;&amp;tscy;&amp;icy;&amp;ocy;&amp;ncy;&amp;ncy;&amp;ycy;&amp;jcy; &amp;Rcy;&amp;iecy;&amp;scy;&amp;ucy;&amp;rcy;&amp;scy;"/>
          <p:cNvPicPr/>
          <p:nvPr/>
        </p:nvPicPr>
        <p:blipFill>
          <a:blip r:embed="rId1"/>
          <a:stretch/>
        </p:blipFill>
        <p:spPr>
          <a:xfrm>
            <a:off x="4357800" y="706320"/>
            <a:ext cx="426384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1"/>
          <p:cNvSpPr/>
          <p:nvPr/>
        </p:nvSpPr>
        <p:spPr>
          <a:xfrm>
            <a:off x="2994120" y="43020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ссийская Феде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2"/>
          <p:cNvSpPr/>
          <p:nvPr/>
        </p:nvSpPr>
        <p:spPr>
          <a:xfrm>
            <a:off x="504720" y="905040"/>
            <a:ext cx="828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 распада СССР в декабре 1991 года Российская Федерация стала независимым государством в границах бывшей РСФСР. События октября — декабря 1993 года окончательно завершили распад СССР и 76-летний советский период в истории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3"/>
          <p:cNvSpPr/>
          <p:nvPr/>
        </p:nvSpPr>
        <p:spPr>
          <a:xfrm>
            <a:off x="487440" y="2136600"/>
            <a:ext cx="840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о фактически прекратило регулировать цены на товары. Одновременно с этим была провозглашена свобода торговли, которая нередко приобретала форму спекуляции. Прилавки магазинов стали заполняться товарами, предприятия и граждане получили свободу экономическ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https://upload.wikimedia.org/wikipedia/ru/a/a7/%D0%A0%D0%B0%D1%81%D1%81%D1%82%D1%80%D0%B5%D0%BB_%D0%B1%D0%B5%D0%BB%D0%BE%D0%B3%D0%BE_%D0%B4%D0%BE%D0%BC%D0%B0_%D0%B2_1993_%D0%B3%D0%BE%D0%B4%D1%83.jpg"/>
          <p:cNvPicPr/>
          <p:nvPr/>
        </p:nvPicPr>
        <p:blipFill>
          <a:blip r:embed="rId1"/>
          <a:stretch/>
        </p:blipFill>
        <p:spPr>
          <a:xfrm>
            <a:off x="4251240" y="3606840"/>
            <a:ext cx="423864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"/>
          <p:cNvSpPr/>
          <p:nvPr/>
        </p:nvSpPr>
        <p:spPr>
          <a:xfrm>
            <a:off x="2883600" y="263520"/>
            <a:ext cx="30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ссия в начале XXI 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2"/>
          <p:cNvSpPr/>
          <p:nvPr/>
        </p:nvSpPr>
        <p:spPr>
          <a:xfrm>
            <a:off x="184320" y="830160"/>
            <a:ext cx="86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 В. Путин выиграл в марте 2000 года выборы и стал вторым президентом России. В 2000-е годы был проведён ряд социально-экономических реформ: налоговая, земельная, пенсионная, банковская, монетизация льгот, реформы трудовых отношений, электроэнергетики и железнодорожного транспо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3"/>
          <p:cNvSpPr/>
          <p:nvPr/>
        </p:nvSpPr>
        <p:spPr>
          <a:xfrm>
            <a:off x="374760" y="2230560"/>
            <a:ext cx="3436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это время в экономике России отмечался стабильный профицит бюджета, рост ВВП, промышленного и сельскохозяйственного производства, строительства, реальных доходов населения, а также снижение инфля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Vladimir Putin - 2006.jpg"/>
          <p:cNvPicPr/>
          <p:nvPr/>
        </p:nvPicPr>
        <p:blipFill>
          <a:blip r:embed="rId1"/>
          <a:stretch/>
        </p:blipFill>
        <p:spPr>
          <a:xfrm>
            <a:off x="4572000" y="2138400"/>
            <a:ext cx="301320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1"/>
          <p:cNvSpPr/>
          <p:nvPr/>
        </p:nvSpPr>
        <p:spPr>
          <a:xfrm>
            <a:off x="2664000" y="228600"/>
            <a:ext cx="36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379ce"/>
                </a:solidFill>
                <a:uFillTx/>
                <a:latin typeface="Arial"/>
                <a:hlinkClick r:id="rId1"/>
              </a:rPr>
              <a:t>присоединение Крыма к Росс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2"/>
          <p:cNvSpPr/>
          <p:nvPr/>
        </p:nvSpPr>
        <p:spPr>
          <a:xfrm>
            <a:off x="771480" y="785880"/>
            <a:ext cx="756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соединение Крыма к Росс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2014) — включение в состав </a:t>
            </a:r>
            <a:r>
              <a:rPr b="0" lang="ru-RU" sz="1800" spc="-1" strike="noStrike" u="sng">
                <a:solidFill>
                  <a:srgbClr val="6379ce"/>
                </a:solidFill>
                <a:uFillTx/>
                <a:latin typeface="Arial"/>
                <a:hlinkClick r:id="rId2"/>
              </a:rPr>
              <a:t>Российской Федер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ольшей части территории полуострова </a:t>
            </a:r>
            <a:r>
              <a:rPr b="0" lang="ru-RU" sz="1800" spc="-1" strike="noStrike" u="sng">
                <a:solidFill>
                  <a:srgbClr val="6379ce"/>
                </a:solidFill>
                <a:uFillTx/>
                <a:latin typeface="Arial"/>
                <a:hlinkClick r:id="rId3"/>
              </a:rPr>
              <a:t>Кры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тавшего после распада СССР частью независимой Украины и до 2014 года ею контролировавшегося, с образованием двух новых субъектов Федерации — Республики Крым и города федерального значения Севастопо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&amp;Kcy;&amp;rcy;&amp;ycy;&amp;mcy; &amp;vcy;&amp;ycy;&amp;khcy;&amp;ocy;&amp;dcy;&amp;icy;&amp;tcy; &amp;icy;&amp;zcy; &amp;scy;&amp;ocy;&amp;scy;&amp;tcy;&amp;acy;&amp;vcy;&amp;acy; &amp;Ucy;&amp;kcy;&amp;rcy;&amp;acy;&amp;icy;&amp;ncy;&amp;ycy;"/>
          <p:cNvPicPr/>
          <p:nvPr/>
        </p:nvPicPr>
        <p:blipFill>
          <a:blip r:embed="rId4"/>
          <a:stretch/>
        </p:blipFill>
        <p:spPr>
          <a:xfrm>
            <a:off x="3728880" y="2741760"/>
            <a:ext cx="490392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3"/>
          <p:cNvSpPr/>
          <p:nvPr/>
        </p:nvSpPr>
        <p:spPr>
          <a:xfrm>
            <a:off x="392040" y="1728720"/>
            <a:ext cx="4143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яет собой прямоугольно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тнище из трёх равновеликих горизонтальных полос: верхней — белого, средней — синего и нижней — красного ц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22 &amp;acy;&amp;vcy;&amp;gcy;&amp;ucy;&amp;scy;&amp;tcy;&amp;acy; - &amp;Dcy;&amp;iecy;&amp;ncy;&amp;softcy; &amp;Gcy;&amp;ocy;&amp;scy;&amp;ucy;&amp;dcy;&amp;acy;&amp;rcy;&amp;scy;&amp;tcy;&amp;vcy;&amp;iecy;&amp;ncy;&amp;ncy;&amp;ocy;&amp;gcy;&amp;ocy; &amp;fcy;&amp;lcy;&amp;acy;&amp;gcy;&amp;acy; &amp;Rcy;&amp;ocy;&amp;scy;&amp;scy;&amp;icy;&amp;jcy;&amp;scy;&amp;kcy;&amp;ocy;&amp;jcy; &amp;Fcy;&amp;iecy;&amp;dcy;&amp;iecy;&amp;rcy;&amp;acy;&amp;tscy;&amp;icy;&amp;icy; - &amp;Vcy;&amp;ycy;&amp;scy;&amp;tcy;&amp;acy;&amp;vcy;&amp;kcy;&amp;icy; &amp;vcy; &amp;Mcy;&amp;ucy;&amp;rcy;&amp;mcy;&amp;acy;&amp;ncy;&amp;scy;&amp;kcy;&amp;iecy; - &amp;YAcy;&amp;ncy;&amp;dcy;&amp;iecy;&amp;kcy;&amp;scy;.&amp;Acy;&amp;fcy;&amp;icy;&amp;shcy;&amp;acy;"/>
          <p:cNvPicPr/>
          <p:nvPr/>
        </p:nvPicPr>
        <p:blipFill>
          <a:blip r:embed="rId1"/>
          <a:stretch/>
        </p:blipFill>
        <p:spPr>
          <a:xfrm>
            <a:off x="4870440" y="1270080"/>
            <a:ext cx="4000680" cy="320040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5"/>
          <p:cNvSpPr/>
          <p:nvPr/>
        </p:nvSpPr>
        <p:spPr>
          <a:xfrm>
            <a:off x="368280" y="409680"/>
            <a:ext cx="846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й флаг 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2"/>
          <p:cNvSpPr/>
          <p:nvPr/>
        </p:nvSpPr>
        <p:spPr>
          <a:xfrm>
            <a:off x="3641760" y="5141880"/>
            <a:ext cx="474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 работы – Хасанова Нурия Тойл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"/>
          <p:cNvSpPr/>
          <p:nvPr/>
        </p:nvSpPr>
        <p:spPr>
          <a:xfrm>
            <a:off x="3526560" y="5889600"/>
            <a:ext cx="43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я опубликована на сайте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355680" y="117360"/>
            <a:ext cx="864540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сурсы Интерне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б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iveinternet.ru/users/2234457/post77759022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ru.wikipedia.org/wi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businessoffers.ru/ViewOffer.asp?ID=3858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thememaker.ru/themes-list.user/42333/1/37/1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лаг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main-kirill.ya.ru/replies.xml?item_no=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artem.ikso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мн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c61.narod.ru/GimnRu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goldenkorona.ru/simvol_gim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ов Б.Н. Поурочные разработки по курсу Государственная символ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: ВАКО, 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Символы Родины. Курган: ИПКиПРО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3"/>
          <p:cNvSpPr/>
          <p:nvPr/>
        </p:nvSpPr>
        <p:spPr>
          <a:xfrm>
            <a:off x="4149720" y="1063800"/>
            <a:ext cx="4803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енный герб Российской Федерации представляет собой четырёхугольный, с закруглёнными нижними углами, заострённый в оконечности красный геральдический щит с золотым двуглавым орлом, поднявшим вверх распущенные крылья. Орёл увенчан двумя малыми коронами и — над ними — одной большой короной, соединёнными лентой. В правой лапе орла — скипетр, в левой — держава. На груди орла, в красном щите, — серебряный всадник в синем плаще на серебряном коне, поражающий серебряным копьём чёрного, опрокинутого навзничь и попранного конём драк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4"/>
          <p:cNvSpPr/>
          <p:nvPr/>
        </p:nvSpPr>
        <p:spPr>
          <a:xfrm>
            <a:off x="344520" y="457200"/>
            <a:ext cx="846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й герб 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" descr="D:\Краеведение. Граждановедение. Генеалогия\Символы России\391.7K 00061ED7 00D05C09A5A1 5BBD562D 05A10092.jpg"/>
          <p:cNvPicPr/>
          <p:nvPr/>
        </p:nvPicPr>
        <p:blipFill>
          <a:blip r:embed="rId1"/>
          <a:stretch/>
        </p:blipFill>
        <p:spPr>
          <a:xfrm>
            <a:off x="333360" y="996840"/>
            <a:ext cx="3395520" cy="4038840"/>
          </a:xfrm>
          <a:prstGeom prst="rect">
            <a:avLst/>
          </a:prstGeom>
          <a:ln w="0">
            <a:noFill/>
          </a:ln>
        </p:spPr>
      </p:pic>
      <p:sp>
        <p:nvSpPr>
          <p:cNvPr id="92" name="TextBox 6"/>
          <p:cNvSpPr/>
          <p:nvPr/>
        </p:nvSpPr>
        <p:spPr>
          <a:xfrm>
            <a:off x="4047840" y="5911920"/>
            <a:ext cx="478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мволизирует красоту и справедливос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беду добра над з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3"/>
          <p:cNvSpPr/>
          <p:nvPr/>
        </p:nvSpPr>
        <p:spPr>
          <a:xfrm>
            <a:off x="368280" y="88920"/>
            <a:ext cx="846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й гимн 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одержимое 2"/>
          <p:cNvSpPr/>
          <p:nvPr/>
        </p:nvSpPr>
        <p:spPr>
          <a:xfrm>
            <a:off x="4940280" y="582480"/>
            <a:ext cx="3930840" cy="62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я — священная наша держав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я — любимая наша стра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чая воля, великая слава 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ё достоянье на все времен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вься, Отечество наше свободно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тских народов союз веково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ками данная мудрость народная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вься, страна! Мы гордимся тобой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южных морей до полярного кр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инулись наши леса и по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ты на свете! Одна ты такая 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имая Богом родная земля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вься, Отечество наше свободно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тских народов союз веково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ками данная мудрость народная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вься, страна! Мы гордимся тобой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ий простор для мечты и для жиз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ядущие нам открывают г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 силу даёт наша верность Отчиз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было, так есть и так будет всегд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вься, Отечество наше свободно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тских народов союз веково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ками данная мудрость народная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вься, страна! Мы гордимся тобой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"/>
          <p:cNvSpPr/>
          <p:nvPr/>
        </p:nvSpPr>
        <p:spPr>
          <a:xfrm>
            <a:off x="531720" y="225864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слов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ей Михалков, 2000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озитор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 Александров, 1938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4316400" y="4572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юрик Варяжски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тель Государства Русского. Новгородский князь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ды жизни: около 817-879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ды правления: 862-8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&amp;Rcy;&amp;YUcy;&amp;Rcy;&amp;Icy;&amp;Kcy;"/>
          <p:cNvPicPr/>
          <p:nvPr/>
        </p:nvPicPr>
        <p:blipFill>
          <a:blip r:embed="rId1"/>
          <a:stretch/>
        </p:blipFill>
        <p:spPr>
          <a:xfrm>
            <a:off x="701640" y="487440"/>
            <a:ext cx="3265560" cy="388440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3"/>
          <p:cNvSpPr/>
          <p:nvPr/>
        </p:nvSpPr>
        <p:spPr>
          <a:xfrm>
            <a:off x="4270320" y="26622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862 году первыми Правителями в Древнем Отечестве согласились стать братья Рюрик, Синеус и Трувор. Страна, в которой они поселились, стала зваться Русь и с этого времени берет начало Российская Государствен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"/>
          <p:cNvSpPr/>
          <p:nvPr/>
        </p:nvSpPr>
        <p:spPr>
          <a:xfrm>
            <a:off x="4186080" y="346716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щий Олег  —присоединил к своим владениям южный центр восточных славян, сделав в 882 году главный город полян — Киев своей столицей. В историографии объединение северного и южного центров под властью Рюриковичей рассматривается как окончание процесса формирования Древнерусского государ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&amp;YAcy;&amp;gcy;&amp;ocy;&amp;dcy;&amp;ycy; &amp;gcy;&amp;ocy;&amp;dcy;&amp;zhcy;&amp;icy; &amp;pcy;&amp;ocy;&amp;rcy;&amp;tcy;&amp;rcy;&amp;iecy;&amp;tcy; &amp;kcy;&amp;ncy;&amp;yacy;&amp;zcy;&amp;yacy; &amp;ocy;&amp;lcy;&amp;iecy;&amp;gcy;&amp;acy; &amp;vcy;&amp;iecy;&amp;shchcy;&amp;iecy;&amp;gcy;&amp;ocy; &amp;KHcy;&amp;ucy;&amp;dcy;&amp;iecy;&amp;iecy;&amp;mcy; &amp;vcy;&amp;mcy;&amp;iecy;&amp;scy;&amp;tcy;&amp;iecy;!"/>
          <p:cNvPicPr/>
          <p:nvPr/>
        </p:nvPicPr>
        <p:blipFill>
          <a:blip r:embed="rId1"/>
          <a:stretch/>
        </p:blipFill>
        <p:spPr>
          <a:xfrm>
            <a:off x="237960" y="1004760"/>
            <a:ext cx="3543480" cy="35244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3"/>
          <p:cNvSpPr/>
          <p:nvPr/>
        </p:nvSpPr>
        <p:spPr>
          <a:xfrm>
            <a:off x="4125960" y="103968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ив власть над новгородскими землями после смерти Рюрика, как регент его малолетнего сына Игоря, Олег захватил Киев и перенёс туда столицу, объединив, тем самым, два главных центра восточных славян. Нередко рассматривается как основатель Древнерусского государ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4"/>
          <p:cNvSpPr/>
          <p:nvPr/>
        </p:nvSpPr>
        <p:spPr>
          <a:xfrm>
            <a:off x="463680" y="343080"/>
            <a:ext cx="820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щий Оле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князь новгородский с 879 года и великий князь киевский с 88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3"/>
          <p:cNvSpPr/>
          <p:nvPr/>
        </p:nvSpPr>
        <p:spPr>
          <a:xfrm>
            <a:off x="3900600" y="26352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нягиня Ольг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 крещени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ле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ок. 890 — 11 июля 969) — княгиня, правившая Русью с 945 до 962 года после гибели мужа, Великого князя Киевского Игоря Старого. Первая из русских правителей приняла христианство ещё до крещения Рус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http://img1.liveinternet.ru/images/attach/c/1/61/890/61890327_61886934_1279946058_1246349504_kniginl_olga_6001.jpg"/>
          <p:cNvPicPr/>
          <p:nvPr/>
        </p:nvPicPr>
        <p:blipFill>
          <a:blip r:embed="rId1"/>
          <a:stretch/>
        </p:blipFill>
        <p:spPr>
          <a:xfrm>
            <a:off x="262080" y="222120"/>
            <a:ext cx="3287520" cy="438480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5"/>
          <p:cNvSpPr/>
          <p:nvPr/>
        </p:nvSpPr>
        <p:spPr>
          <a:xfrm>
            <a:off x="4019400" y="276084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903 году она стала супругой великого князя Киевского Игоря. После его убийства в 945 году восставшими древлянами не пожелавшая выйти замуж вдова возложила на себя бремя государственного служения при трехлетнем сыне Святославе. Великая княгиня вошла в историю как великая созидательница государственной жизни и культуры Киевской Рус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4340160" y="36684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лади́мир I Святосла́вич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около 960 года — 15 июля 1015 год) — князь новгородский в 970 — 988 годах, великий князь киевский, при котором произошло крещение Рус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&amp;Vcy;&amp;icy;&amp;tcy;&amp;ocy;&amp;kcy;&amp;icy; &quot;&amp;rcy;&amp;ucy;&amp;scy;&amp;scy;&amp;kcy;&amp;icy;&amp;khcy;&quot; - &amp;Scy;&amp;tcy;&amp;rcy;&amp;acy;&amp;ncy;&amp;icy;&amp;tscy;&amp;acy; 6 - &amp;Dcy;&amp;ocy;&amp;ncy;&amp;iecy;&amp;tscy;&amp;kcy; &amp;Fcy;&amp;ocy;&amp;rcy;&amp;ucy;&amp;mcy;. &amp;Dcy;&amp;ocy;&amp;ncy;&amp;iecy;&amp;tscy;&amp;kcy;&amp;icy;&amp;jcy; &amp;fcy;&amp;ocy;&amp;rcy;&amp;ucy;&amp;mcy;."/>
          <p:cNvPicPr/>
          <p:nvPr/>
        </p:nvPicPr>
        <p:blipFill>
          <a:blip r:embed="rId1"/>
          <a:stretch/>
        </p:blipFill>
        <p:spPr>
          <a:xfrm>
            <a:off x="225360" y="247680"/>
            <a:ext cx="3646440" cy="46846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3"/>
          <p:cNvSpPr/>
          <p:nvPr/>
        </p:nvSpPr>
        <p:spPr>
          <a:xfrm>
            <a:off x="4363920" y="1871640"/>
            <a:ext cx="45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л новгородским князем в 970 году, захватил киевский престол в 978 году. В 988 году выбрал христианство в качестве государственной религии Древнерусского государства. В крещении получил христианское им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асил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Известен также как Владимир Святой, Владимир Великий, Владимир Креститель (в церковной истории) и Владимир Красное Солнышко (в былина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4"/>
          <p:cNvSpPr/>
          <p:nvPr/>
        </p:nvSpPr>
        <p:spPr>
          <a:xfrm>
            <a:off x="303120" y="247680"/>
            <a:ext cx="853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гласно «Повести временных лет», до крещения князя Владимира имело место «испытание вер». Было решено дополнительно испытать веру, побывав на богослужениях у мусульман, у немцев и у греков. Когда после посещения Константинополя посланники вернулись в Киев они с восторгом сообщили князю: «Не ведали где мы есть — на небе или на земле». В итоге Владимир сделал выбор в пользу христианства по греческому обря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5"/>
          <p:cNvSpPr/>
          <p:nvPr/>
        </p:nvSpPr>
        <p:spPr>
          <a:xfrm>
            <a:off x="4281480" y="2176560"/>
            <a:ext cx="457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гласно «Повести временных лет», в 6496 году «от сотворения мира» (то есть приблизительно в 988 году н. э.) киевский князь Владимир Святославович принял решение креститься от Константинопольской Церкви. После чего, в царствование императоров Васил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Константи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агрянородных, присланное Константинопольским Патриархом Николае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Хрисовергом духовенство крестило киевских людей в водах Днеп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2013 &amp;Icy;&amp;yucy;&amp;lcy;&amp;softcy; &amp;KHcy;&amp;rcy;&amp;acy;&amp;ncy;&amp;icy; &amp;Vcy;&amp;iecy;&amp;rcy;&amp;ucy;"/>
          <p:cNvPicPr/>
          <p:nvPr/>
        </p:nvPicPr>
        <p:blipFill>
          <a:blip r:embed="rId1"/>
          <a:stretch/>
        </p:blipFill>
        <p:spPr>
          <a:xfrm>
            <a:off x="263520" y="2316240"/>
            <a:ext cx="394956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8T12:42:17Z</dcterms:created>
  <dc:creator>Пользователь</dc:creator>
  <dc:description/>
  <dc:language>en-US</dc:language>
  <cp:lastModifiedBy>Нурия</cp:lastModifiedBy>
  <dcterms:modified xsi:type="dcterms:W3CDTF">2015-05-24T08:20:53Z</dcterms:modified>
  <cp:revision>76</cp:revision>
  <dc:subject/>
  <dc:title>Слайд 1</dc:title>
</cp:coreProperties>
</file>