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D04-CE6A-4AA4-AE00-BB200523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EFB-4EB7-4462-9D7E-C4CF7297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68A-35BB-4F37-8A5A-A53E23C7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D0B-1BFE-4911-928D-41E3EC41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A09-4B15-47CB-853A-775F0B42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D42-003B-46E7-84B2-E9909F6E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646-E040-43BE-81E9-1AE51D7B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24C-626B-45CF-A7EC-EADDD3FF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E6C-6985-4A33-B9A9-F5B2A5C8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270-CC06-41F1-B63B-DD1DEA06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328-8258-406D-B626-F288430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D5F-4526-41B3-BBF9-D23D978B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A727-A158-47B2-A7BD-F98169A3F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24000" y="0"/>
            <a:ext cx="530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84807"/>
                </a:solidFill>
                <a:latin typeface="Monotype Corsiva"/>
              </a:rPr>
              <a:t>Виктор Петрович Астафье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Monotype Corsiva"/>
              </a:rPr>
              <a:t>1924-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344680" y="422100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Рассказ «Васюткино озеро»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E:\2006-04 (апр)\сканирование0001.jpg"/>
          <p:cNvPicPr/>
          <p:nvPr/>
        </p:nvPicPr>
        <p:blipFill>
          <a:blip r:embed="rId2"/>
          <a:stretch/>
        </p:blipFill>
        <p:spPr>
          <a:xfrm>
            <a:off x="6064200" y="34920"/>
            <a:ext cx="3073320" cy="3828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409480" y="4897440"/>
            <a:ext cx="67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первое произведение писател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родившееся из школьного сочи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-114120" y="1135080"/>
            <a:ext cx="5728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одился 1 мая 1924г. в Красноярском крае в се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всянка. Семи лет лишился матери, воспитыв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абушка Екатерина Петровна. В 1942 году уше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 фронт, сражался, вернулся. Стал писател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о последних дней жизни жил и работ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Красноярском крае, похоронен в родном се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4" descr=""/>
          <p:cNvPicPr/>
          <p:nvPr/>
        </p:nvPicPr>
        <p:blipFill>
          <a:blip r:embed="rId1"/>
          <a:stretch/>
        </p:blipFill>
        <p:spPr>
          <a:xfrm>
            <a:off x="2279520" y="1166760"/>
            <a:ext cx="458496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user\Desktop\images\image1(5).jpe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2006-04 (апр)\сканирование0005.jpg"/>
          <p:cNvPicPr/>
          <p:nvPr/>
        </p:nvPicPr>
        <p:blipFill>
          <a:blip r:embed="rId3"/>
          <a:stretch/>
        </p:blipFill>
        <p:spPr>
          <a:xfrm>
            <a:off x="3059280" y="0"/>
            <a:ext cx="584820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user\Desktop\images\¦Ъ¦-TАTВ¦-.jpg"/>
          <p:cNvPicPr/>
          <p:nvPr/>
        </p:nvPicPr>
        <p:blipFill>
          <a:blip r:embed="rId2"/>
          <a:stretch/>
        </p:blipFill>
        <p:spPr>
          <a:xfrm>
            <a:off x="2340000" y="27000"/>
            <a:ext cx="6458040" cy="5846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322800" y="6031080"/>
            <a:ext cx="44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Карта местности, где произош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история Васю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user\Desktop\images\TВ¦-¦¦¦¦¦-.jpg"/>
          <p:cNvPicPr/>
          <p:nvPr/>
        </p:nvPicPr>
        <p:blipFill>
          <a:blip r:embed="rId2"/>
          <a:stretch/>
        </p:blipFill>
        <p:spPr>
          <a:xfrm>
            <a:off x="3654360" y="119160"/>
            <a:ext cx="4434120" cy="6619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63520" y="117000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Заповедные ме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user\Desktop\images\TА¦¦TЗ¦¦¦-.jpg"/>
          <p:cNvPicPr/>
          <p:nvPr/>
        </p:nvPicPr>
        <p:blipFill>
          <a:blip r:embed="rId2"/>
          <a:stretch/>
        </p:blipFill>
        <p:spPr>
          <a:xfrm>
            <a:off x="5443560" y="1484280"/>
            <a:ext cx="3448080" cy="456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2006-04 (апр)\сканирование0003.jpg"/>
          <p:cNvPicPr/>
          <p:nvPr/>
        </p:nvPicPr>
        <p:blipFill>
          <a:blip r:embed="rId3"/>
          <a:stretch/>
        </p:blipFill>
        <p:spPr>
          <a:xfrm>
            <a:off x="1692360" y="301680"/>
            <a:ext cx="3193920" cy="5648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4899960" y="40176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Лиственный лес растет вдоль р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888800" y="624528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айга – это хвойный л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user\Desktop\images\¦Ю¦¬¦¦TА¦-.jpg"/>
          <p:cNvPicPr/>
          <p:nvPr/>
        </p:nvPicPr>
        <p:blipFill>
          <a:blip r:embed="rId2"/>
          <a:stretch/>
        </p:blipFill>
        <p:spPr>
          <a:xfrm>
            <a:off x="2268360" y="189000"/>
            <a:ext cx="6774120" cy="4895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4359240" y="5514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Лесное озер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2006-04 (апр)\сканирование0002.jpg"/>
          <p:cNvPicPr/>
          <p:nvPr/>
        </p:nvPicPr>
        <p:blipFill>
          <a:blip r:embed="rId2"/>
          <a:stretch/>
        </p:blipFill>
        <p:spPr>
          <a:xfrm>
            <a:off x="1809720" y="115920"/>
            <a:ext cx="7128000" cy="5367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24360" y="561168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Скульптор В.М.Клыков и писат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В.П.Астафьев и В.И.Бел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близ Новгорода. 1988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user\Desktop\images\¦Ы¦¦TБ.jpg"/>
          <p:cNvPicPr/>
          <p:nvPr/>
        </p:nvPicPr>
        <p:blipFill>
          <a:blip r:embed="rId2"/>
          <a:stretch/>
        </p:blipFill>
        <p:spPr>
          <a:xfrm>
            <a:off x="2627280" y="189000"/>
            <a:ext cx="6021360" cy="6151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680" y="907920"/>
            <a:ext cx="254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Тайга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хозя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 кормил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user\Desktop\images\¦а¦¦¦¦¦- ¦Х¦-¦¬TБ¦¦¦¦.jpg"/>
          <p:cNvPicPr/>
          <p:nvPr/>
        </p:nvPicPr>
        <p:blipFill>
          <a:blip r:embed="rId2"/>
          <a:stretch/>
        </p:blipFill>
        <p:spPr>
          <a:xfrm>
            <a:off x="2073240" y="189000"/>
            <a:ext cx="7070760" cy="475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4374000" y="536400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a452a"/>
                </a:solidFill>
                <a:latin typeface="Calibri"/>
              </a:rPr>
              <a:t>Енисей-батюш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user\Desktop\images\river_enisey.jpg"/>
          <p:cNvPicPr/>
          <p:nvPr/>
        </p:nvPicPr>
        <p:blipFill>
          <a:blip r:embed="rId2"/>
          <a:stretch/>
        </p:blipFill>
        <p:spPr>
          <a:xfrm>
            <a:off x="1674720" y="189000"/>
            <a:ext cx="7439040" cy="4392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566160" y="501336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Енисей – судоходная р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user\Desktop\images\¦¦¦¦¦+TА¦-¦-TЛ¦¦ ¦-TА¦¦TИ¦¦¦¬.jpg"/>
          <p:cNvPicPr/>
          <p:nvPr/>
        </p:nvPicPr>
        <p:blipFill>
          <a:blip r:embed="rId2"/>
          <a:stretch/>
        </p:blipFill>
        <p:spPr>
          <a:xfrm>
            <a:off x="2484360" y="404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080600" y="5373720"/>
            <a:ext cx="37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Кедровые ореш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user\Desktop\images\¦¦¦¬TГTЕ¦-TАTМ.jpg"/>
          <p:cNvPicPr/>
          <p:nvPr/>
        </p:nvPicPr>
        <p:blipFill>
          <a:blip r:embed="rId2"/>
          <a:stretch/>
        </p:blipFill>
        <p:spPr>
          <a:xfrm>
            <a:off x="1933560" y="333360"/>
            <a:ext cx="7024680" cy="4991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4563360" y="5651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Глухарь на то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12600" y="-12600"/>
            <a:ext cx="9131400" cy="684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E:\2006-04 (апр)\сканирование0004.jpg"/>
          <p:cNvPicPr/>
          <p:nvPr/>
        </p:nvPicPr>
        <p:blipFill>
          <a:blip r:embed="rId2"/>
          <a:stretch/>
        </p:blipFill>
        <p:spPr>
          <a:xfrm>
            <a:off x="2987640" y="260280"/>
            <a:ext cx="4683240" cy="619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-11880" y="620640"/>
            <a:ext cx="27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a452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Э-эй, мамк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Пап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Дедушк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Заблудился я!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Мои результаты сканировани\2006-04 (апр)\сканирование.jpg"/>
          <p:cNvPicPr/>
          <p:nvPr/>
        </p:nvPicPr>
        <p:blipFill>
          <a:blip r:embed="rId2"/>
          <a:stretch/>
        </p:blipFill>
        <p:spPr>
          <a:xfrm>
            <a:off x="3017880" y="157320"/>
            <a:ext cx="4867200" cy="6419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31920" y="1228680"/>
            <a:ext cx="22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Утро в тай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0:51:38Z</dcterms:created>
  <dc:creator>Лиджиева</dc:creator>
  <dc:description/>
  <dc:language>en-US</dc:language>
  <cp:lastModifiedBy>жанна</cp:lastModifiedBy>
  <dcterms:modified xsi:type="dcterms:W3CDTF">2015-10-07T09:59:46Z</dcterms:modified>
  <cp:revision>11</cp:revision>
  <dc:subject/>
  <dc:title>Презентация PowerPoint</dc:title>
</cp:coreProperties>
</file>