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4A4-A5DE-4B59-AF76-83D3F7BD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07C-9D3C-4809-9069-0038012C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C44-BD02-4000-80FA-F7150C81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167-64B5-41FE-BF90-1853C82B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877-BB37-4397-9AF4-D852B36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420-4122-4095-8199-DE7CF36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B54-B974-4634-908C-361AD955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616-EF5A-4A8C-B86A-2F62932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090-10F4-46D8-84C9-48FFDBF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933-A196-4125-8677-C7EDA76C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A60-447B-42F4-A3A4-DB7134E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838-B738-4CBA-B011-6D96769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C347-475D-4CFE-87E8-5DFD4FE1C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24000" y="0"/>
            <a:ext cx="530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84807"/>
                </a:solidFill>
                <a:latin typeface="Monotype Corsiva"/>
              </a:rPr>
              <a:t>Виктор Петрович Астафь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Monotype Corsiva"/>
              </a:rPr>
              <a:t>1924-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344680" y="422100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Рассказ «Васюткино озеро»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E:\2006-04 (апр)\сканирование0001.jpg"/>
          <p:cNvPicPr/>
          <p:nvPr/>
        </p:nvPicPr>
        <p:blipFill>
          <a:blip r:embed="rId2"/>
          <a:stretch/>
        </p:blipFill>
        <p:spPr>
          <a:xfrm>
            <a:off x="6064200" y="34920"/>
            <a:ext cx="3073320" cy="382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409480" y="4897440"/>
            <a:ext cx="67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ервое произведение писател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родившееся из школьного сочи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-114120" y="1135080"/>
            <a:ext cx="5728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одился 1 мая 1924г. в Красноярском крае в се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всянка. Семи лет лишился матери, воспитыв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бушка Екатерина Петровна. В 1942 году уше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 фронт, сражался, вернулся. Стал писател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 последних дней жизни жил и работ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Красноярском крае, похоронен в родном се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4" descr=""/>
          <p:cNvPicPr/>
          <p:nvPr/>
        </p:nvPicPr>
        <p:blipFill>
          <a:blip r:embed="rId1"/>
          <a:stretch/>
        </p:blipFill>
        <p:spPr>
          <a:xfrm>
            <a:off x="2279520" y="1166760"/>
            <a:ext cx="458496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user\Desktop\images\image1(5).jpe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2006-04 (апр)\сканирование0005.jpg"/>
          <p:cNvPicPr/>
          <p:nvPr/>
        </p:nvPicPr>
        <p:blipFill>
          <a:blip r:embed="rId3"/>
          <a:stretch/>
        </p:blipFill>
        <p:spPr>
          <a:xfrm>
            <a:off x="3059280" y="0"/>
            <a:ext cx="58482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user\Desktop\images\¦Ъ¦-TАTВ¦-.jpg"/>
          <p:cNvPicPr/>
          <p:nvPr/>
        </p:nvPicPr>
        <p:blipFill>
          <a:blip r:embed="rId2"/>
          <a:stretch/>
        </p:blipFill>
        <p:spPr>
          <a:xfrm>
            <a:off x="2340000" y="27000"/>
            <a:ext cx="6458040" cy="5846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322800" y="6031080"/>
            <a:ext cx="44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Карта местности, где произош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история Васю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user\Desktop\images\TВ¦-¦¦¦¦¦-.jpg"/>
          <p:cNvPicPr/>
          <p:nvPr/>
        </p:nvPicPr>
        <p:blipFill>
          <a:blip r:embed="rId2"/>
          <a:stretch/>
        </p:blipFill>
        <p:spPr>
          <a:xfrm>
            <a:off x="3654360" y="119160"/>
            <a:ext cx="4434120" cy="6619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63520" y="117000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Заповедные м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user\Desktop\images\TА¦¦TЗ¦¦¦-.jpg"/>
          <p:cNvPicPr/>
          <p:nvPr/>
        </p:nvPicPr>
        <p:blipFill>
          <a:blip r:embed="rId2"/>
          <a:stretch/>
        </p:blipFill>
        <p:spPr>
          <a:xfrm>
            <a:off x="5443560" y="1484280"/>
            <a:ext cx="3448080" cy="456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2006-04 (апр)\сканирование0003.jpg"/>
          <p:cNvPicPr/>
          <p:nvPr/>
        </p:nvPicPr>
        <p:blipFill>
          <a:blip r:embed="rId3"/>
          <a:stretch/>
        </p:blipFill>
        <p:spPr>
          <a:xfrm>
            <a:off x="1692360" y="301680"/>
            <a:ext cx="3193920" cy="5648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899960" y="40176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Лиственный лес растет вдоль 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888800" y="624528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айга – это хвойный л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user\Desktop\images\¦Ю¦¬¦¦TА¦-.jpg"/>
          <p:cNvPicPr/>
          <p:nvPr/>
        </p:nvPicPr>
        <p:blipFill>
          <a:blip r:embed="rId2"/>
          <a:stretch/>
        </p:blipFill>
        <p:spPr>
          <a:xfrm>
            <a:off x="2268360" y="189000"/>
            <a:ext cx="6774120" cy="4895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4359240" y="5514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Лесное озе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2006-04 (апр)\сканирование0002.jpg"/>
          <p:cNvPicPr/>
          <p:nvPr/>
        </p:nvPicPr>
        <p:blipFill>
          <a:blip r:embed="rId2"/>
          <a:stretch/>
        </p:blipFill>
        <p:spPr>
          <a:xfrm>
            <a:off x="1809720" y="115920"/>
            <a:ext cx="7128000" cy="5367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24360" y="561168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Скульптор В.М.Клыков и писа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В.П.Астафьев и В.И.Бе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близ Новгорода. 198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images\¦Ы¦¦TБ.jpg"/>
          <p:cNvPicPr/>
          <p:nvPr/>
        </p:nvPicPr>
        <p:blipFill>
          <a:blip r:embed="rId2"/>
          <a:stretch/>
        </p:blipFill>
        <p:spPr>
          <a:xfrm>
            <a:off x="2627280" y="189000"/>
            <a:ext cx="6021360" cy="6151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680" y="907920"/>
            <a:ext cx="254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йга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озя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 кормил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images\¦а¦¦¦¦¦- ¦Х¦-¦¬TБ¦¦¦¦.jpg"/>
          <p:cNvPicPr/>
          <p:nvPr/>
        </p:nvPicPr>
        <p:blipFill>
          <a:blip r:embed="rId2"/>
          <a:stretch/>
        </p:blipFill>
        <p:spPr>
          <a:xfrm>
            <a:off x="2073240" y="189000"/>
            <a:ext cx="7070760" cy="47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374000" y="536400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Енисей-батю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user\Desktop\images\river_enisey.jpg"/>
          <p:cNvPicPr/>
          <p:nvPr/>
        </p:nvPicPr>
        <p:blipFill>
          <a:blip r:embed="rId2"/>
          <a:stretch/>
        </p:blipFill>
        <p:spPr>
          <a:xfrm>
            <a:off x="1674720" y="189000"/>
            <a:ext cx="7439040" cy="4392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566160" y="501336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нисей – судоходная р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user\Desktop\images\¦¦¦¦¦+TА¦-¦-TЛ¦¦ ¦-TА¦¦TИ¦¦¦¬.jpg"/>
          <p:cNvPicPr/>
          <p:nvPr/>
        </p:nvPicPr>
        <p:blipFill>
          <a:blip r:embed="rId2"/>
          <a:stretch/>
        </p:blipFill>
        <p:spPr>
          <a:xfrm>
            <a:off x="2484360" y="404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080600" y="5373720"/>
            <a:ext cx="37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Кедровые оре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user\Desktop\images\¦¦¦¬TГTЕ¦-TАTМ.jpg"/>
          <p:cNvPicPr/>
          <p:nvPr/>
        </p:nvPicPr>
        <p:blipFill>
          <a:blip r:embed="rId2"/>
          <a:stretch/>
        </p:blipFill>
        <p:spPr>
          <a:xfrm>
            <a:off x="1933560" y="333360"/>
            <a:ext cx="7024680" cy="4991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563360" y="5651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Глухарь на то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12600" y="-12600"/>
            <a:ext cx="9131400" cy="684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E:\2006-04 (апр)\сканирование0004.jpg"/>
          <p:cNvPicPr/>
          <p:nvPr/>
        </p:nvPicPr>
        <p:blipFill>
          <a:blip r:embed="rId2"/>
          <a:stretch/>
        </p:blipFill>
        <p:spPr>
          <a:xfrm>
            <a:off x="2987640" y="260280"/>
            <a:ext cx="4683240" cy="619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-11880" y="620640"/>
            <a:ext cx="27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Э-эй, мамк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Пап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Дедушк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Заблудился я!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images\image1(5).jpe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Мои результаты сканировани\2006-04 (апр)\сканирование.jpg"/>
          <p:cNvPicPr/>
          <p:nvPr/>
        </p:nvPicPr>
        <p:blipFill>
          <a:blip r:embed="rId2"/>
          <a:stretch/>
        </p:blipFill>
        <p:spPr>
          <a:xfrm>
            <a:off x="3017880" y="157320"/>
            <a:ext cx="4867200" cy="6419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31920" y="1228680"/>
            <a:ext cx="22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Утро в тай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0:51:38Z</dcterms:created>
  <dc:creator>Лиджиева</dc:creator>
  <dc:description/>
  <dc:language>en-US</dc:language>
  <cp:lastModifiedBy>жанна</cp:lastModifiedBy>
  <dcterms:modified xsi:type="dcterms:W3CDTF">2015-10-07T09:59:46Z</dcterms:modified>
  <cp:revision>11</cp:revision>
  <dc:subject/>
  <dc:title>Презентация PowerPoint</dc:title>
</cp:coreProperties>
</file>