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FD5-A722-415A-B155-E3118C70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215-CF84-4ECE-BB5B-C596C63E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B34-79BD-45AB-A68F-ED9C7FA0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7BA-7BFC-49B6-B281-1976E2C8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436E-B59B-4CA6-8322-3034F8C6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88B3-4B20-474D-A3C2-F5C2F406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97D3-9062-4EAF-88C6-F1E3910C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0E87-BBC7-4AC3-9DF5-0500870E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7086-FC61-4B10-A9BB-9478219C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4465-63DC-4E9B-A6A9-0245DA86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59BC-0376-497B-AB79-3CE9A8D2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9F5-645C-4102-8C9A-5D42F7ED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D2A2-2F90-4456-82EF-3A794CF1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EE12-9886-46F7-A466-22194749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0C33-F93F-4D4E-9A00-02965A6B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5329-0B06-4064-A429-A485FD58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E72A-9249-445B-B475-4229B418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E8D6-B11B-4D42-BF01-C0B82176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91C7-0EA2-4E85-8C2A-661212B4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42CB-B797-450A-B0DC-0BEC8E97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DAA5-B657-44D2-A81A-7EE4224B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5D327-73C7-4465-AFFB-7C93AA18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93F-C297-4D42-A415-D08462B3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12D3F-CCE0-451E-AB6A-C8E99214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5167-0975-4B24-A45C-EC456724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D0C1-6249-46F7-9BA4-7C8B1CFF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9F94-EBF4-4161-8562-58B19ED8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6FEE-632E-4B47-ACD9-D7CDCA86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F5B8-1EA0-41E3-AE55-0E3BBA42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E5A0C-16E3-46FB-B50E-AA626D39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7A198-7023-4479-9D54-57743B7F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D98BE-FDC9-4194-BFAC-8A6DDC70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DCCF3-E93C-40CE-AF0D-A0BD51FA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48C-15D6-4385-90D2-C5AE0EFA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67598-8507-43B8-8705-0B5CF0C0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395B9-8699-49EC-ABD4-F21226CD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E4526-562A-45EC-8833-596CC061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2C792-08CB-4A8E-AB3F-7012425F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129D3-814A-4C34-B3CE-A1A7A0A6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59D3D-5E2F-4D0C-A00D-9DF96D80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51D10-AA78-4C93-8A3B-BC068770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8930DB-B745-4FB5-8A82-9ED879C2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FA995-FE29-4CEA-88EE-26053362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2AAB-142E-433B-B253-1461C010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87C-D391-40BE-8668-4C45F3EA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7015-4A5C-42B1-92E1-4BADFB65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66636-E4F6-4EDF-A625-C2823B22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97158-C8F2-4B1F-9AF4-369EFE55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5CA9A-69E9-44D0-9CCA-348173AC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6C8A-8E44-4BED-8378-40021D6B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CB8E-3CC1-44DC-9C9D-14AD215F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58E5B-F5AF-454E-A46B-33BB9833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DE20-D741-4755-BB8C-20EDF886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16CA8-57BD-4021-B47D-C752E29B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0AD5F-A435-44DB-9EA4-347585EC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623-32F5-446C-8518-798DA7C2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127E4-13EC-46FD-B4F9-60AE03DC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B40F9-741E-4D44-85E5-A8C67D12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9CBDB-9807-4017-A0E5-380574AC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2E92C-394E-452E-94F8-0C92887A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91049-08B0-4C3D-BCAE-E7A373A4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2490F-2306-42BC-9BFC-B6155057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D158D-3A5D-4800-980A-3614AECA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4FA3-4D22-4605-949E-D7B97E6D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9D1C2-8A57-4900-A982-C7F878AE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2E660-FEB1-43AF-81E7-531506FB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B2A-5416-40F5-A4AF-11C88722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A0D7-628A-4469-A2DE-5CCF5F1D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AFB9F-25A6-4959-8D82-D506BD1C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00EF-49F3-41B4-B8E9-ED27FFD0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961-1179-4C26-9A2C-9CE9FA25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BB0-EA5E-4C78-8AD4-F4AE8609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E624-C6F3-4305-AC9F-C6DCB0E06B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3263-383C-4953-9510-648B0409DF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C61C-0E26-4162-93A7-C65ABCCF36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2C60-F887-439A-BE09-A47FD6E255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7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8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625B-944E-46CC-8B01-D61DC2DF6F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2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2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7D0A-7068-40F5-BA8A-6063524CA0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English-Speaking Worl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at Brit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32000" y="314172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63640" y="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ahoma"/>
              </a:rPr>
              <a:t>RUSSI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407280" y="0"/>
            <a:ext cx="2736720" cy="17002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018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7993080" cy="3483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44000" cy="28526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24000" y="5310360"/>
            <a:ext cx="1047600" cy="15476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3203640" y="5261040"/>
            <a:ext cx="1170000" cy="15969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6732720" y="5310360"/>
            <a:ext cx="1047600" cy="15476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-99720" y="18900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ahoma"/>
              </a:rPr>
              <a:t>ENG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580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3564000" y="2421000"/>
            <a:ext cx="2736720" cy="20415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203640" y="4529160"/>
            <a:ext cx="3035160" cy="23288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0" y="2523960"/>
            <a:ext cx="2627280" cy="43340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6443640" y="2637000"/>
            <a:ext cx="2700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766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7201080" cy="22068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8532720" cy="24922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7020000" y="2205000"/>
            <a:ext cx="19144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743280" cy="3573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3889440" cy="3429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388360" cy="2737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4162680" y="620640"/>
            <a:ext cx="336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ahoma"/>
              </a:rPr>
              <a:t>The US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175280" y="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ahoma"/>
              </a:rPr>
              <a:t>CANAD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600360" cy="45813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3959280" cy="4508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0"/>
            <a:ext cx="3457440" cy="1886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7534440" y="2349360"/>
            <a:ext cx="16095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7:55:48Z</dcterms:created>
  <dc:creator>Надежда</dc:creator>
  <dc:description/>
  <dc:language>en-US</dc:language>
  <cp:lastModifiedBy>Миша</cp:lastModifiedBy>
  <dcterms:modified xsi:type="dcterms:W3CDTF">2010-01-05T08:49:54Z</dcterms:modified>
  <cp:revision>6</cp:revision>
  <dc:subject/>
  <dc:title>English-Speaking World</dc:title>
</cp:coreProperties>
</file>