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756D-E74D-431B-85FD-D0584138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18C4-9D73-4F7A-92EF-4C228141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ADB9-7EA6-4119-84F1-3740CD85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D1A3-B513-44D5-9339-048DF505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5E4E-1E82-4065-B312-E1881B56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22DA-A98E-4582-BBC0-DE55155A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7AEF-42DF-4717-BC1B-99B352EA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53DE-D5CC-4ECB-865B-04ABA0A2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2D4E-4AB3-4F8A-AE0C-51798467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731E-CC20-403B-BC32-5CDED404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C7B6-AB0C-4D79-8305-1B11FB6D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7F6F-1150-45D0-B76F-A394B3CD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0BE1-73FC-4304-9247-6494577A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1B2E-1716-4E70-8D21-BFB0448B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8CDF-4867-4977-97F4-4CE882F1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2402-8699-4695-9531-F82CDAD2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7B9D-D4BD-414A-8DF3-B724E0BC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42D1C-5EA4-4119-8F0F-312C54CE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AB738-058E-42DA-B1ED-9409AF41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2727C-4E88-4FCB-A9AD-8DCFC8E5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D0F0C-BB10-4659-AC41-3B73CC3E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28043-099E-429D-8255-2EBA1F55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A00B-08F6-4FD3-9041-587291E0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4760D-E158-47A6-A8CF-3ECB7963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6DC0A-B2B9-41C6-8A40-C49F5956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ED1F0-57E1-49D9-90BC-9F34E6AF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67CA8-DF53-4CE9-B782-F2CAF412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73730-87A3-4FAE-B560-D07522A6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F7828-04A7-4DA5-A467-4CDE4986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E9992-1832-42ED-BAE5-E9CD560B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E7D9F2-8550-43EB-9888-620276D2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6565E4-8472-410C-B9A4-92AE18DE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A0B832-3DBC-4C68-A2AD-4EE22608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82C6-A99C-48CA-8182-251285FC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0387F7-363D-40D4-B6E7-F15A97F4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FA0E79-FC23-4B30-81DD-74C0AE34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2D1B3A-2594-438B-8F82-E454BC8C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5E24B2-A004-4EFB-A7FE-CBAA0A0C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277FB4-668E-46A2-B2ED-2AFA35F0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1D3E3D-FDE7-4437-A96C-AC62609F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7C60FB-EE05-4AD6-9944-96197792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B34D92-59E3-4E04-AE02-A5B1FCB5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E3B15A-B357-438F-8DFE-3C05F603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F087B-9BFB-4474-8D1C-F02C038E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71CA-CDA5-45FE-B117-D10EF70B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6652B-7384-4400-B348-15A3C240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0755E-7F89-4BC8-B333-5CA85E90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AD1CD-942F-42B6-BEB8-9F9F74B9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FF54D-320A-43BE-9748-A6C97D67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899FB-08F2-4D08-8A6D-1ED6EAE0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88A64-6B5D-4F39-8886-B8953471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1B24A-A36A-4E11-961F-C0890303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04548-DCEF-4CBA-A533-ED2D513F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2D82A-3684-4C6C-AF47-E2B5B597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E0237-EC1C-44E0-83EE-149A42E7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94F6-A5CD-44C9-A8BA-15791F71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FB01E-0FA4-4521-972E-99C1D7A9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3F9C9-2A8A-430D-B0C3-B2982EC5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EF107-CAA1-4F7B-99BF-BD2DBC27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7DE13-DB9B-49A2-BD6D-5EBCEBA3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83F3C-821E-4109-AB60-24F58F8B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67FEE-CEDE-437B-B2D9-472E673B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5BE92-8287-4DC1-90CF-56CFFA77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95E85-4E21-4708-8A28-AB203FB8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06CA2-EB46-4018-9057-683EFEF7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28F3B-4467-4375-9A9B-ECF9E3A1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BDEA-FF15-49CE-9C2C-E836D243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20766-E3AF-4FEF-A95C-B3DDBE4C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B6518-9898-4142-BD7D-E3D7855A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0CA46-234B-461C-A1D8-8FA02E69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E27E-7797-4851-A1C4-E593831A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45E-7CD8-451D-9444-35DFD76F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5408-4651-41C1-871C-B0B8BFF8C1B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B08B-846F-4AC6-9402-14940326899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B33D-AD5F-4A60-8290-B97CAD8C6D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1039-755B-453D-AAA1-5753C927A4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78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79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82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D15E-8797-4A48-9609-F787C13729D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2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2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7C2C-2260-4418-9CAE-FBCDD9653A2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English-Speaking World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eat Brita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gl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132000" y="314172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763640" y="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ahoma"/>
              </a:rPr>
              <a:t>RUSSIA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6407280" y="0"/>
            <a:ext cx="2736720" cy="17002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018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7993080" cy="34830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44000" cy="28526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324000" y="5310360"/>
            <a:ext cx="1047600" cy="15476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4"/>
          <a:stretch/>
        </p:blipFill>
        <p:spPr>
          <a:xfrm>
            <a:off x="3203640" y="5261040"/>
            <a:ext cx="1170000" cy="15969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5"/>
          <a:stretch/>
        </p:blipFill>
        <p:spPr>
          <a:xfrm>
            <a:off x="6732720" y="5310360"/>
            <a:ext cx="1047600" cy="15476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-99720" y="18900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Tahoma"/>
              </a:rPr>
              <a:t>ENG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705800" cy="75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3564000" y="2421000"/>
            <a:ext cx="2736720" cy="20415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3203640" y="4529160"/>
            <a:ext cx="3035160" cy="23288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0" y="2523960"/>
            <a:ext cx="2627280" cy="433404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5"/>
          <a:stretch/>
        </p:blipFill>
        <p:spPr>
          <a:xfrm>
            <a:off x="6443640" y="2637000"/>
            <a:ext cx="27003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766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7201080" cy="22068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0" y="4365720"/>
            <a:ext cx="8532720" cy="24922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7020000" y="2205000"/>
            <a:ext cx="19144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5076720" y="3284640"/>
            <a:ext cx="3743280" cy="35733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3889440" cy="34290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8388360" cy="27370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4162680" y="620640"/>
            <a:ext cx="336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ahoma"/>
              </a:rPr>
              <a:t>The USA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4175280" y="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ahoma"/>
              </a:rPr>
              <a:t>CANAD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3600360" cy="45813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3564000" y="2349360"/>
            <a:ext cx="3959280" cy="45086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971640" y="0"/>
            <a:ext cx="3457440" cy="18860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7534440" y="2349360"/>
            <a:ext cx="16095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07:55:48Z</dcterms:created>
  <dc:creator>Надежда</dc:creator>
  <dc:description/>
  <dc:language>en-US</dc:language>
  <cp:lastModifiedBy>Миша</cp:lastModifiedBy>
  <dcterms:modified xsi:type="dcterms:W3CDTF">2010-01-05T08:49:54Z</dcterms:modified>
  <cp:revision>6</cp:revision>
  <dc:subject/>
  <dc:title>English-Speaking World</dc:title>
</cp:coreProperties>
</file>