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E53-62E3-46F2-B0A3-3C7258E5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E98-8045-4544-9FE9-421B7A6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E4D-7EDB-4287-B158-8580111B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412-E82B-4A03-806A-64DCCB5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911-7C06-4226-9F76-FBA31560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F19E-B7BF-4649-AC19-46C5CB3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DA53-D087-4047-A6EF-B456A2E0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FC91-1666-45CF-BCD5-FE607D32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C1A-2185-484F-9890-E7FB7C4B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EB3-3DC8-475D-8CB2-5C92D70A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A3F8-0A3E-4A4B-98D9-A3B5B57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F4A-04E0-472E-AC74-D7029CB0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F5C-F3CC-4F0C-840E-FBF0142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246-6D1D-4128-8893-E1D6E3F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7BA-91B2-44BE-B313-0BBD1E42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D8A1-A8CC-4B47-85C7-6FE6112C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E26-8596-4F78-9EF3-5F75F8BC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4D9-102C-4625-BA47-E82EF4E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713-6CEE-4F5C-B9BC-43994643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CD5-4D26-40B7-A04A-3DF62E09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9ED-A932-406B-897C-B616A9F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D6E-9F12-4EA4-B274-6BCECFD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553-8135-4972-AE2C-8245EF1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CCB-51EA-47E6-B37E-7167402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BEF-4066-4B27-A56B-326CE02AF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9FDA-546D-4D9E-825C-B1A8611B0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736560"/>
            <a:ext cx="7696440" cy="3759120"/>
          </a:xfrm>
          <a:prstGeom prst="rect">
            <a:avLst/>
          </a:prstGeom>
          <a:noFill/>
          <a:ln w="9360">
            <a:solidFill>
              <a:srgbClr val="cbbd8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80000"/>
                </a:solidFill>
                <a:latin typeface="Times New Roman"/>
              </a:rPr>
              <a:t>ENGLISH-SPEAKING 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b80000"/>
                </a:solidFill>
                <a:latin typeface="Times New Roman"/>
              </a:rPr>
              <a:t>WORLD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990720" y="10666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13372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 I V E R P O O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4952880" y="1066680"/>
            <a:ext cx="1719360" cy="547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71600" y="1981080"/>
            <a:ext cx="809640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SUPER GAME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1295280" y="14479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8901"/>
                </a:solidFill>
                <a:latin typeface="Times New Roman"/>
              </a:rPr>
              <a:t>It’s a well-known square in Lond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1828800" y="609480"/>
            <a:ext cx="609588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48901"/>
                </a:solidFill>
                <a:latin typeface="Impact"/>
              </a:rPr>
              <a:t>Picadilly Circuss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48901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oose your priz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400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as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300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oo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ce of toa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1143000" y="2133720"/>
            <a:ext cx="752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bbd83"/>
                  </a:solidFill>
                  <a:miter/>
                </a:ln>
                <a:solidFill>
                  <a:srgbClr val="b80000"/>
                </a:solidFill>
                <a:latin typeface="Times New Roman"/>
              </a:rPr>
              <a:t>FIELD OF WONDERS</a:t>
            </a:r>
            <a:endParaRPr b="1" i="1" lang="en-US" sz="6000" spc="1" strike="noStrike">
              <a:ln w="9360">
                <a:solidFill>
                  <a:srgbClr val="cbbd83"/>
                </a:solidFill>
                <a:miter/>
              </a:ln>
              <a:solidFill>
                <a:srgbClr val="b8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447920" y="99072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8901"/>
                </a:solidFill>
                <a:latin typeface="Times New Roman"/>
              </a:rPr>
              <a:t>THE  TRADITIONAL  ENGLISH MEAL ON CHRISTMAS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066680" y="1600200"/>
            <a:ext cx="762012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1981080" y="533520"/>
            <a:ext cx="53341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UDDING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371600" y="990720"/>
            <a:ext cx="723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48901"/>
                </a:solidFill>
                <a:latin typeface="Times New Roman"/>
              </a:rPr>
              <a:t>A LARGE BUILDING OR GROUP OF BUILDINGS FORTIFIED AGAINST ATTACK, ESP. AS IN OLD TI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666880" y="762120"/>
            <a:ext cx="3962520" cy="11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CASTLE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pic>
        <p:nvPicPr>
          <p:cNvPr id="97" name="Picture 7" descr="ЗАМОК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371600" y="838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95280" y="16002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8901"/>
                </a:solidFill>
                <a:latin typeface="Times New Roman"/>
              </a:rPr>
              <a:t>A  CHIEF  CHURCH  IN  WHICH IS THE  BISHOP`S  THR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295280" y="68580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 rot="5400000">
            <a:off x="5052600" y="2490480"/>
            <a:ext cx="52862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8901"/>
                </a:solidFill>
                <a:latin typeface="Arial"/>
              </a:rPr>
              <a:t>CATHEDRAL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48901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47920" y="91440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8901"/>
                </a:solidFill>
                <a:latin typeface="Times New Roman"/>
              </a:rPr>
              <a:t>THE  HOMETOWN  OF THE  BEAT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1:22Z</dcterms:created>
  <dc:creator>1</dc:creator>
  <dc:description/>
  <dc:language>en-US</dc:language>
  <cp:lastModifiedBy>елена</cp:lastModifiedBy>
  <dcterms:modified xsi:type="dcterms:W3CDTF">2015-01-28T08:59:26Z</dcterms:modified>
  <cp:revision>14</cp:revision>
  <dc:subject/>
  <dc:title>ENGLISH-SPEAKING   WORLD</dc:title>
</cp:coreProperties>
</file>