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shreg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6B7-D232-4427-A2DC-6BA455DE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1E6-9A75-4F6A-95EC-04D3147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824-4373-42C4-8E5A-430375B8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2BF-0D3E-4392-9FCC-80E4BDAE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DCD-1E9E-4DFF-A8E0-B95658BA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1D37-0A58-4EB3-83C6-C7C8FDB7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E84-6E20-412D-A0F0-EF1C5673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2436-297B-44E4-B377-95C6AB4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890A-75CB-48BC-A952-309C857C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2C1A-FFEB-4758-918F-95A7B241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5E68-0F3B-4E55-9106-4D58635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E24-6F38-4F29-AE65-D456250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EDDF-03BF-45CA-A51A-1C98C47B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66B3-5272-48F7-B230-3D38FB2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0C5E-F69F-42F8-B226-118F9069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EB91-C443-4CE6-A1C1-BCEA4C22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95C4-EC23-4C8E-B3E3-666F6DDF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8AB-F01B-47F8-B226-0316BE62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8F4-F766-4E50-8E60-023788AA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422-28A3-4A2D-93EF-D935669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FB8-2E65-477D-8150-915650A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81A-042F-4D9D-A67F-C9EAE79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29D-9BBC-4C81-A3D8-4424276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C71-B5A2-4BC9-866A-AFD1464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260F-068A-47DB-ADAD-A97DFC88FB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9F7-F1E8-432E-9943-E184545AD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736560"/>
            <a:ext cx="7696440" cy="3759120"/>
          </a:xfrm>
          <a:prstGeom prst="rect">
            <a:avLst/>
          </a:prstGeom>
          <a:noFill/>
          <a:ln w="9360">
            <a:solidFill>
              <a:srgbClr val="cbbd8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80000"/>
                </a:solidFill>
                <a:latin typeface="Times New Roman"/>
              </a:rPr>
              <a:t>ENGLISH-SPEAKING </a:t>
            </a: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b80000"/>
                </a:solidFill>
                <a:latin typeface="Times New Roman"/>
              </a:rPr>
              <a:t>WORLD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990720" y="106668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13372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 I V E R P O O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4952880" y="1066680"/>
            <a:ext cx="1719360" cy="547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371600" y="1981080"/>
            <a:ext cx="809640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SUPER GAME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1295280" y="14479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8901"/>
                </a:solidFill>
                <a:latin typeface="Times New Roman"/>
              </a:rPr>
              <a:t>It’s a well-known square in Lond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1828800" y="609480"/>
            <a:ext cx="609588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48901"/>
                </a:solidFill>
                <a:latin typeface="Impact"/>
              </a:rPr>
              <a:t>Picadilly Circuss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48901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oose your priz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p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400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as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300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oo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ce of toa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w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1143000" y="2133720"/>
            <a:ext cx="752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bbd83"/>
                  </a:solidFill>
                  <a:miter/>
                </a:ln>
                <a:solidFill>
                  <a:srgbClr val="b80000"/>
                </a:solidFill>
                <a:latin typeface="Times New Roman"/>
              </a:rPr>
              <a:t>FIELD OF WONDERS</a:t>
            </a:r>
            <a:endParaRPr b="1" i="1" lang="en-US" sz="6000" spc="1" strike="noStrike">
              <a:ln w="9360">
                <a:solidFill>
                  <a:srgbClr val="cbbd83"/>
                </a:solidFill>
                <a:miter/>
              </a:ln>
              <a:solidFill>
                <a:srgbClr val="b8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447920" y="990720"/>
            <a:ext cx="723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48901"/>
                </a:solidFill>
                <a:latin typeface="Times New Roman"/>
              </a:rPr>
              <a:t>THE  TRADITIONAL  ENGLISH MEAL ON CHRISTMAS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066680" y="1600200"/>
            <a:ext cx="762012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1981080" y="533520"/>
            <a:ext cx="53341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UDDING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371600" y="990720"/>
            <a:ext cx="723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48901"/>
                </a:solidFill>
                <a:latin typeface="Times New Roman"/>
              </a:rPr>
              <a:t>A LARGE BUILDING OR GROUP OF BUILDINGS FORTIFIED AGAINST ATTACK, ESP. AS IN OLD TI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666880" y="762120"/>
            <a:ext cx="3962520" cy="11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CASTLE</a:t>
            </a:r>
            <a:endParaRPr b="0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pic>
        <p:nvPicPr>
          <p:cNvPr id="97" name="Picture 7" descr="ЗАМОК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371600" y="838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95280" y="16002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48901"/>
                </a:solidFill>
                <a:latin typeface="Times New Roman"/>
              </a:rPr>
              <a:t>A  CHIEF  CHURCH  IN  WHICH IS THE  BISHOP`S  THR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1295280" y="68580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 rot="5400000">
            <a:off x="5052600" y="2490480"/>
            <a:ext cx="528624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8901"/>
                </a:solidFill>
                <a:latin typeface="Arial"/>
              </a:rPr>
              <a:t>CATHEDRAL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48901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47920" y="91440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8901"/>
                </a:solidFill>
                <a:latin typeface="Times New Roman"/>
              </a:rPr>
              <a:t>THE  HOMETOWN  OF THE  BEAT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1:22Z</dcterms:created>
  <dc:creator>1</dc:creator>
  <dc:description/>
  <dc:language>en-US</dc:language>
  <cp:lastModifiedBy>елена</cp:lastModifiedBy>
  <dcterms:modified xsi:type="dcterms:W3CDTF">2015-01-28T08:59:26Z</dcterms:modified>
  <cp:revision>14</cp:revision>
  <dc:subject/>
  <dc:title>ENGLISH-SPEAKING   WORLD</dc:title>
</cp:coreProperties>
</file>