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273-EA49-4160-8888-543FA309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417-53DC-4E79-A2D2-EB60DB6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2C0-92B9-42BE-8008-E367D31A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4D2-40EA-48BB-A5E7-D1DC7A29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A6A5-385F-4BDE-BAAC-9ABF929C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1CD-587D-47E5-A89F-68220787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C480-BD67-4160-98D0-32BE87C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9742-D3E7-40DC-9A9F-C1969EB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28AC-70C6-4FDD-A1DA-EEA26F18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B82C-0B78-4529-9A82-6C1CB580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6D8-0425-4219-A7F7-4A00EB1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6BC-D8DA-4800-8FB1-371E239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7C7F-09BE-48A6-8A02-AF51E5E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36D6-E848-4794-B0F9-13510039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6742-CF08-4CAF-A8A6-41D3C8CA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2ED7-D4A0-4750-995F-980FDD06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8CC2-D59C-4172-9B52-DE758E16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C162-64E4-40F8-BC88-FFBB4222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30EC-6003-4D3C-9A23-A48490B6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358C-DEB9-4586-8C3A-9491610E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5E05-7551-4AEF-B1EE-F2C51BF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60E1-158F-4FBA-BED2-A634660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D3E-2270-4C51-9358-4FA42AD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012E-4FC1-4692-93C1-FAD494FA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4A8A-69A5-4CBF-9713-11D3CBA7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7604-4300-4ABF-9361-F9071CB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5B2E-3381-4E1A-A155-9E4C3090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7803-1CC5-407C-8EC9-ADA3D3A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E261-98E1-4BF5-8B1E-373107DE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2969-D313-46B6-80ED-C463E84D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C1D-D7A8-4B01-AEE4-A97830E3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753-A01F-4811-9106-CE8047B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433-3C65-4705-B0E4-4DBD0ED8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FDD-959B-4CB3-AA8D-79BA066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3B0-31E5-4B05-979D-3743CA69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52A-0ED2-46B8-83DB-2BA50B6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4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2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54F-9633-4250-B266-49ACE55D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43F1-6E86-4EF3-9AAE-67DD190F76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5913-BA93-4092-9CCF-969796CF27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коро в школу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523044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товность к школьному обу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6"/>
          <p:cNvPicPr/>
          <p:nvPr/>
        </p:nvPicPr>
        <p:blipFill>
          <a:blip r:embed="rId1"/>
          <a:stretch/>
        </p:blipFill>
        <p:spPr>
          <a:xfrm rot="20791800">
            <a:off x="3419640" y="1773000"/>
            <a:ext cx="2304720" cy="33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http://nivagold.ru/raznoe1/derevo/PhotoAlbum1/Photo%20042.gif"/>
          <p:cNvPicPr/>
          <p:nvPr/>
        </p:nvPicPr>
        <p:blipFill>
          <a:blip r:embed="rId1"/>
          <a:stretch/>
        </p:blipFill>
        <p:spPr>
          <a:xfrm>
            <a:off x="2195640" y="620640"/>
            <a:ext cx="4897440" cy="5545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5724360" y="1196640"/>
            <a:ext cx="3106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ра в ребёнка         Поддержка                  Оптимизм               Поощрение   Ответствен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юбимый ребё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79640" y="5949720"/>
            <a:ext cx="237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4723920"/>
            <a:ext cx="40384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рительная и слуховая память, мышление, внимание и творческое вообра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3213000"/>
            <a:ext cx="30956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4005360"/>
            <a:ext cx="38894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153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1153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1153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1153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457440" cy="50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з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дагог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ихологическа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теллекту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тив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моционально-вол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153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153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1153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1153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0088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Физическое развити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628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ильные физические упражнения и подвижн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мускулатуры, мышц сп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мелкой группы мыш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P1010105"/>
          <p:cNvPicPr/>
          <p:nvPr/>
        </p:nvPicPr>
        <p:blipFill>
          <a:blip r:embed="rId1"/>
          <a:stretch/>
        </p:blipFill>
        <p:spPr>
          <a:xfrm>
            <a:off x="1908000" y="1138320"/>
            <a:ext cx="424836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153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153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1153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1153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едагогическ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вы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40"/>
          <p:cNvPicPr/>
          <p:nvPr/>
        </p:nvPicPr>
        <p:blipFill>
          <a:blip r:embed="rId1"/>
          <a:stretch/>
        </p:blipFill>
        <p:spPr>
          <a:xfrm>
            <a:off x="5867280" y="1268280"/>
            <a:ext cx="1946520" cy="2873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37"/>
          <p:cNvPicPr/>
          <p:nvPr/>
        </p:nvPicPr>
        <p:blipFill>
          <a:blip r:embed="rId2"/>
          <a:stretch/>
        </p:blipFill>
        <p:spPr>
          <a:xfrm>
            <a:off x="2627280" y="2565360"/>
            <a:ext cx="325584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153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153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115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115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сихологическ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знавательные психические процес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рительная и слуховая пам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орческое вооб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153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1153" fill="hold"/>
                                        <p:tgtEl>
                                          <p:spTgt spid="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1153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1153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.Я. Марша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взрослых изводил вопросом «почему?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го прозвали «маленький философ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только он подрос, как начали 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подносить ответы без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тех пор он больше ник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досаждал вопросом «почему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90"/>
          <p:cNvPicPr/>
          <p:nvPr/>
        </p:nvPicPr>
        <p:blipFill>
          <a:blip r:embed="rId1"/>
          <a:stretch/>
        </p:blipFill>
        <p:spPr>
          <a:xfrm>
            <a:off x="7631280" y="333360"/>
            <a:ext cx="1512720" cy="33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153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1153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1153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1153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Маме так удобнее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1187280" y="1468440"/>
            <a:ext cx="6480360" cy="49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69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69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69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69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2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Я СА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83520" cy="41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69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69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69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69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адо развивать самостоятельность, поощрять инициативность, замечать успехи в изучении окружающего мира и помогать учиться новому,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а не делать всё за них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51280" y="3429000"/>
            <a:ext cx="3035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5" descr="54"/>
          <p:cNvPicPr/>
          <p:nvPr/>
        </p:nvPicPr>
        <p:blipFill>
          <a:blip r:embed="rId1"/>
          <a:stretch/>
        </p:blipFill>
        <p:spPr>
          <a:xfrm>
            <a:off x="5940360" y="3573360"/>
            <a:ext cx="2805120" cy="301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7:29:13Z</dcterms:created>
  <dc:creator>Психолог</dc:creator>
  <dc:description/>
  <dc:language>en-US</dc:language>
  <cp:lastModifiedBy>pna</cp:lastModifiedBy>
  <dcterms:modified xsi:type="dcterms:W3CDTF">2014-04-04T21:58:07Z</dcterms:modified>
  <cp:revision>23</cp:revision>
  <dc:subject/>
  <dc:title>Скоро в школу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