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6D0-A4F6-4BCE-AF79-818E64F5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6F3-83E5-4569-B2AD-3028522C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60C-9402-498B-BF18-A10C5C1A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FAF-ABCE-462B-A73C-E76CFAB1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BCB8-852E-42BA-B913-E6D54281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02EB-0488-4F46-9967-23067419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464E-C395-48CE-AEEB-C27DB6E4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5B12-3394-4BBF-A974-191FFC00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992D-A04C-46EF-B2BA-3CEC6741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AE8B-8CE6-4A34-BB1B-5C3D0A11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CF81-CCA3-4CDC-B19C-65494D79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DCF-788A-4693-81CE-DEDD4F73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42E9-7EA0-44F9-A90F-C5F45C20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F816-BC85-4DAD-81AD-C4D9F6B9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3241-216F-45A7-B07A-FD794E92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AD90-36F9-4C07-9AAF-8C4C85C8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6D95-1F5C-4294-9B82-8E34253F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5A5F-903A-4748-94D4-07F58F07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56EE-1EF1-44AF-8F84-B8773024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12D4-0F02-4B49-A900-4A7CF8C9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31F36-9D84-4A1E-BABD-F756F31C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EFA5E-84E3-4AF2-8A5B-5214B5D2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E7C-F216-4798-9762-A88E05E7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9564-D13A-4F72-9550-7C56106F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BE0A6-229B-4D15-8BD0-BFC9228F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7FBB6-D3A8-4889-9B07-1625D885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D4C26-A381-4CD6-9F2C-F18690CE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0C041-B4D8-4ED3-BDB2-5C197C5C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2A90-1295-4373-8098-B64BE89A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F7A2-2BC7-4F41-B0B1-C85ECD09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B1F-6174-4944-8BDC-239B7EF8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CFF-D194-4C17-A3C6-01A599B8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41F-AAD7-4A76-B1CF-AB37361A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6BE-3BAE-4933-A78D-7DD16BC1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DE7-63DA-47D5-9E35-4E7136CC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47C-6679-46BB-A84F-B5077FCF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4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2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C24C-859F-4E27-8FBB-660A28437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FEFD-AC0B-4E81-B1CB-A7257383EF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1AC2-E5A5-42B3-BC34-FDF3C04082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Скоро в школу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523044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товность к школьному обу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6"/>
          <p:cNvPicPr/>
          <p:nvPr/>
        </p:nvPicPr>
        <p:blipFill>
          <a:blip r:embed="rId1"/>
          <a:stretch/>
        </p:blipFill>
        <p:spPr>
          <a:xfrm rot="20791800">
            <a:off x="3419640" y="1773000"/>
            <a:ext cx="2304720" cy="331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9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9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9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9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1" descr="http://nivagold.ru/raznoe1/derevo/PhotoAlbum1/Photo%20042.gif"/>
          <p:cNvPicPr/>
          <p:nvPr/>
        </p:nvPicPr>
        <p:blipFill>
          <a:blip r:embed="rId1"/>
          <a:stretch/>
        </p:blipFill>
        <p:spPr>
          <a:xfrm>
            <a:off x="2195640" y="620640"/>
            <a:ext cx="4897440" cy="55450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5724360" y="1196640"/>
            <a:ext cx="3106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ра в ребёнка         Поддержка                  Оптимизм               Поощрение   Ответствен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юбимый ребён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779640" y="5949720"/>
            <a:ext cx="237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тив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4723920"/>
            <a:ext cx="40384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рительная и слуховая память, мышление, внимание и творческое вообра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9640" y="3213000"/>
            <a:ext cx="30956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5280" y="4005360"/>
            <a:ext cx="38894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153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1153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1153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1153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3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3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3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Благодарю за внимание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3457440" cy="500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Школьная готов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изиче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дагог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сихологическая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601"/>
              </a:spcBef>
              <a:buClr>
                <a:srgbClr val="99ff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теллекту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601"/>
              </a:spcBef>
              <a:buClr>
                <a:srgbClr val="99ff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тив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601"/>
              </a:spcBef>
              <a:buClr>
                <a:srgbClr val="99ff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моционально-воле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99ff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муникативн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153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1153" fill="hold"/>
                                        <p:tgtEl>
                                          <p:spTgt spid="3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1153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1153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0088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Физическое развити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628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ильные физические упражнения и подвижны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витие мускулатуры, мышц сп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витие мелкой группы мыш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4" descr="P1010105"/>
          <p:cNvPicPr/>
          <p:nvPr/>
        </p:nvPicPr>
        <p:blipFill>
          <a:blip r:embed="rId1"/>
          <a:stretch/>
        </p:blipFill>
        <p:spPr>
          <a:xfrm>
            <a:off x="1908000" y="1138320"/>
            <a:ext cx="4248360" cy="318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153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1153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1153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1153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едагогическая готов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м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вы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40"/>
          <p:cNvPicPr/>
          <p:nvPr/>
        </p:nvPicPr>
        <p:blipFill>
          <a:blip r:embed="rId1"/>
          <a:stretch/>
        </p:blipFill>
        <p:spPr>
          <a:xfrm>
            <a:off x="5867280" y="1268280"/>
            <a:ext cx="1946520" cy="2873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37"/>
          <p:cNvPicPr/>
          <p:nvPr/>
        </p:nvPicPr>
        <p:blipFill>
          <a:blip r:embed="rId2"/>
          <a:stretch/>
        </p:blipFill>
        <p:spPr>
          <a:xfrm>
            <a:off x="2627280" y="2565360"/>
            <a:ext cx="3255840" cy="36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153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153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1153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1153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сихологическая готов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знавательные психические процес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рительная и слуховая пам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ыш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ворческое вооб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153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1153" fill="hold"/>
                                        <p:tgtEl>
                                          <p:spTgt spid="3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1153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1153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.Я. Марша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 взрослых изводил вопросом «почему?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го прозвали «маленький философ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только он подрос, как начали е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подносить ответы без вопро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тех пор он больше ник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досаждал вопросом «почему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90"/>
          <p:cNvPicPr/>
          <p:nvPr/>
        </p:nvPicPr>
        <p:blipFill>
          <a:blip r:embed="rId1"/>
          <a:stretch/>
        </p:blipFill>
        <p:spPr>
          <a:xfrm>
            <a:off x="7631280" y="333360"/>
            <a:ext cx="1512720" cy="33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153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1153" fill="hold"/>
                                        <p:tgtEl>
                                          <p:spTgt spid="3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1153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1153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847" fill="hold">
                                          <p:stCondLst>
                                            <p:cond delay="1153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Маме так удобнее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1187280" y="1468440"/>
            <a:ext cx="6480360" cy="497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69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69" fill="hold"/>
                                        <p:tgtEl>
                                          <p:spTgt spid="3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69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69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2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Я СА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83520" cy="41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69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69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69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69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27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Надо развивать самостоятельность, поощрять инициативность, замечать успехи в изучении окружающего мира и помогать учиться новому,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а не делать всё за них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51280" y="3429000"/>
            <a:ext cx="30351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5" descr="54"/>
          <p:cNvPicPr/>
          <p:nvPr/>
        </p:nvPicPr>
        <p:blipFill>
          <a:blip r:embed="rId1"/>
          <a:stretch/>
        </p:blipFill>
        <p:spPr>
          <a:xfrm>
            <a:off x="5940360" y="3573360"/>
            <a:ext cx="2805120" cy="301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7:29:13Z</dcterms:created>
  <dc:creator>Психолог</dc:creator>
  <dc:description/>
  <dc:language>en-US</dc:language>
  <cp:lastModifiedBy>pna</cp:lastModifiedBy>
  <dcterms:modified xsi:type="dcterms:W3CDTF">2014-04-04T21:58:07Z</dcterms:modified>
  <cp:revision>23</cp:revision>
  <dc:subject/>
  <dc:title>Скоро в школу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