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994C-0890-41A4-95E6-A4155FE5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347F-F06D-49B9-A129-6165DC32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13D-DA57-42B3-B3AB-3749677E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977-64CC-4A71-A42C-8DDF7569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7073-0C1C-49CE-9BA1-698D4D75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4550-2658-4079-BE18-7352A9DD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668B-81CE-4218-8554-066F2869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5509-74B9-48E0-B07B-ADA3B678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3A43-123B-4C91-A025-BDCE28BE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3759-5259-4DC7-8248-0984AE79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0292-F52F-4401-BF4E-9873F59E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F5E4-D724-4C1D-9FA9-0345E271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5C76-D590-4D75-A39E-5E547F76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CC84-B58F-4A67-8D14-91EE9D93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BEB1-309B-4842-9796-208417FE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9821-C10C-408A-BC36-DDBD84CE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C223-0D0F-4898-894D-2EDF016F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9E666-BF8F-47FE-A06B-4C191612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2CC82-F037-4676-BB89-E2A10981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79EE3-D70C-4413-BC5C-7ECC80F7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F84F8-611F-4910-A52F-A1739AFE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04FEF-9D4A-43B2-A80C-EC20A929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0476-6922-4767-BB99-025B7312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CF150-C9B3-405F-89C6-0D3C0DF2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C7244-0315-4304-9EF2-C0F17720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F6446-E505-4242-AE63-966992AE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1370C-C3BB-4CCC-93AD-60B5CE54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7EF85-BF21-46AC-892D-6FACA183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E45E4-3BA5-4E60-B5E6-3D07747E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AC0D8-D35F-4D66-9998-1839CB13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7B641-8CF7-45C4-98BD-00F02A07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9B4EE-5B89-4448-AA01-97D91F16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9165B-60B8-47F8-8E02-A666EB55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D8B6-A903-4FFA-8C4E-A057CA69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1A885-C783-4924-91DB-7A6AB9D6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11D76-C3D5-4697-95EC-D49A9028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8A441-B48E-4426-B104-13E8BD7E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C1A22-0B92-49CA-A485-7A398741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E5D37-EE6E-4B73-9FC4-150ABDC7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DC76B-A9A1-48D6-AA77-D088219D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560A2-88F9-4D55-9B86-93CE165E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0A795-5D6D-4B3B-A66D-D5597259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16A1D-7E02-45D3-9303-580C4BFE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1C8C4-D5C7-4A56-9004-B2A3C10F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4D29-90D8-4967-B94E-84DF9D1D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74922-6A41-4A50-8B7B-75707868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F0DC0-BBE5-40E3-8372-A5573548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31DD9-2099-4DB7-9794-CA01E231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F041E-6FCF-418B-A8A5-8221FFBF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F4F37-77DB-49D8-A8DA-5AC06DDE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C3964-51DD-4B84-B0FF-81E864B2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69F31-CE1B-49EB-AB7F-5BFA067A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AA22C-08AE-46A5-8C57-9B9F11C6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3AE55-3675-42D6-8DAC-9C7B0302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578BA-FBFE-4BE7-B1B4-B55E0DB5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FD5-995D-4A19-9248-EAF2B1A7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A3247-31CE-4A5F-B139-8DBF4996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BA5BA-7A80-4248-A7B8-2F9E38BA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E9A47-8E71-4570-8F69-4DFE30BB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1D3DC-682F-4972-812F-77313A9A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B6CB1-1787-49B2-8123-82CC5CBA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A1B99-B9A8-4E4E-9A35-C3E2E5C9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7F87D-E38D-4E7B-9843-2D9AB4E3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D599F-33EE-4FDA-B75B-BB50AECE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51122-D6C0-40BC-BB7A-040C735E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2FDCE-7D41-4B2E-BCC4-0A627FDB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223C-D0C1-4B45-8C23-B52DAB92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0CC3B-95BF-4260-8944-8BA75D5E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74056-44B7-428A-AE45-35A943AD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C1243-551F-4BDD-B062-262FDD2B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6016E-A36A-46D4-A11D-201BA497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E5EF3-AFF3-49A2-A255-F242FD0A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2FCFA-4060-4FA5-89C9-E4411CC3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404D0-DF3C-4273-980B-C22A13A9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E367C-B0B7-4013-AAC6-5B647F93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5CE0B-846E-4DA5-B568-4832A4BD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44C23-B8E3-4B5B-941E-973FC461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304E-0E36-4A3F-B2E0-33708D09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886B7-FE2C-4CA5-BF91-C6FFCAC4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F0CFC-DF5F-40CC-8DD5-7B69ADFA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20C48-DA6C-453F-A897-BB7C0464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BF149-09EA-465A-BAD8-637AC7CC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CBDB3-329A-424A-A03B-430377D1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F315-B039-4338-85F4-CC98FFB0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6C51-2401-4B0B-A60A-D0465E73483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8AAC-BEB0-4770-88E2-C176995C3E12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B597-6A10-4604-A39E-D2D80846C26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BDCC-026D-4831-B396-DE7FF808201C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446A-6507-451E-86FE-5DE78B43E74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29C5-A258-4FE6-A6BF-1448929BDA3D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B8C2-F9CE-4D1B-909A-84F51E4A7F01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s://ru.wikipedia.org/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536400" y="285840"/>
            <a:ext cx="8071200" cy="196380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1779480" y="4559400"/>
            <a:ext cx="8229600" cy="184140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6" descr="C:\Users\Computer\Desktop\загружено.jpg"/>
          <p:cNvPicPr/>
          <p:nvPr/>
        </p:nvPicPr>
        <p:blipFill>
          <a:blip r:embed="rId3"/>
          <a:stretch/>
        </p:blipFill>
        <p:spPr>
          <a:xfrm>
            <a:off x="428760" y="2786040"/>
            <a:ext cx="2428920" cy="32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1438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1.Цель: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рассказать  о храмах и   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достопримечательностях города  Новосибирска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428760" y="1928880"/>
            <a:ext cx="4024080" cy="242892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 5"/>
          <p:cNvSpPr/>
          <p:nvPr/>
        </p:nvSpPr>
        <p:spPr>
          <a:xfrm>
            <a:off x="4714920" y="2000160"/>
            <a:ext cx="3929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ор во имя Александра Невского — православный храм в Новосибирске. Первое каменное здание Новосибирска, освящённое спустя всего 6 лет после возникновения поселения. Царская семья, придавала большое значение строительству этого храма, безвозмездно предоставила земельный участок, выделила дополнительные средства, подарила иконы и церковную утварь.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3071880" y="1571400"/>
            <a:ext cx="58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 algn="ctr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оицкий собор - собор Новосибирской и Бердской епархии Русской Православной церкви, расположен в городе Новосибирске. Является подворьем Михаило-Архангельского мужского монастыря в селе Козиха (Новосибирская область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ительство было начато в 1999 году. По проекту храм вмещал 1500 человек, имел два уровня (верхний храм во имя Святой Троицы и нижний во имя равноапостольного князя Владимира). Высота храма 60 метров (до верхней точки креста). Храм крестово-купольный, шестистолпный, трёхглавый с шестью престолам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2"/>
          <a:stretch/>
        </p:blipFill>
        <p:spPr>
          <a:xfrm>
            <a:off x="357120" y="2357280"/>
            <a:ext cx="27860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3643200" cy="273204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6"/>
          <p:cNvSpPr/>
          <p:nvPr/>
        </p:nvSpPr>
        <p:spPr>
          <a:xfrm>
            <a:off x="4214880" y="1928880"/>
            <a:ext cx="47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несенский собор — кафедральный собор Новосибирской и Бердской епархии Русской Православной церкви построен в гор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913 году. Расположенный на северной окраине города, храм являлся тогда одним из самых бедных в Новониколаевс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2714400" cy="271440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4"/>
          <p:cNvSpPr/>
          <p:nvPr/>
        </p:nvSpPr>
        <p:spPr>
          <a:xfrm>
            <a:off x="3857760" y="1785960"/>
            <a:ext cx="4786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овня святителя Николая расположена на Красном проспекте в самом центре Новосибирска, около площади Ленина. По легенде это место было центром Российской империи. Строительство часовни началось в Новониколаевске 20 июля 1914 года, в ознаменование 20-летнего юбилея со дня закладки железнодорожного моста через Обь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9918720" cy="1577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357120" y="2286000"/>
            <a:ext cx="3214800" cy="2286000"/>
          </a:xfrm>
          <a:prstGeom prst="rect">
            <a:avLst/>
          </a:prstGeom>
          <a:ln w="0">
            <a:noFill/>
          </a:ln>
        </p:spPr>
      </p:pic>
      <p:sp>
        <p:nvSpPr>
          <p:cNvPr id="321" name="Прямоугольник 4"/>
          <p:cNvSpPr/>
          <p:nvPr/>
        </p:nvSpPr>
        <p:spPr>
          <a:xfrm>
            <a:off x="4000680" y="2571840"/>
            <a:ext cx="4857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толический собор в городе Новосибирске. Собор имеет статус кафедрального в Преображенской епархии (с центром в Новосибирске), возглавляемой епископом Иосифом Вертом. Расположен по адресу: улица М. Горького, д.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s://ru.wikipedia.or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ttp://obzor-mest.ru/xramy-novosibirska/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ttps://ru.wikipedia.org/wiki/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Категория:Храмы_Новосибирск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ttps://www.google.ru/search?q=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храмы+новосибирск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5778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entury Gothic"/>
              </a:rPr>
              <a:t>Спасибо за внимание!!!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06:53:05Z</dcterms:created>
  <dc:creator>ученик</dc:creator>
  <dc:description/>
  <dc:language>en-US</dc:language>
  <cp:lastModifiedBy>Computer</cp:lastModifiedBy>
  <dcterms:modified xsi:type="dcterms:W3CDTF">2015-10-07T16:24:41Z</dcterms:modified>
  <cp:revision>11</cp:revision>
  <dc:subject/>
  <dc:title> Храмы    города Новосибирска</dc:title>
</cp:coreProperties>
</file>