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942-46F5-4637-8C57-B6C9AA0E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F69-6E1A-48F7-9955-F36AF90A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D39-E761-4A44-91BA-9BB780F9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0A4-1F99-4D80-BF72-318633A8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4AE9-CEC3-47E3-9549-16B75739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5257-0621-4D03-A2A4-238B760D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1D42-4F15-486E-8F5C-7F7010E3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83E2-E756-46DF-9E2F-9C237804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B243-4E4D-482D-96EF-E478B15E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1C2B-6BC8-404C-8A86-B56F4BE0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96C-152D-4CA3-A4BF-B317860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C57-6A41-4A14-9750-AB9FB768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7D27-6C49-4EAB-B578-F9C88C1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EB44-0077-4ED7-8AC2-CC07597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11AA-37E9-4EED-A1F5-538D01A6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10AA-A013-49DF-A35C-A156CACF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3CE6-2A9C-4DAF-8C87-F25A0AC6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34D6-F357-41F7-BD7A-834DE8F0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3FB6-85AF-4253-B714-D963A6D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B5A1-E5B5-49A7-AD24-AF2CE4C4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8B2D-2122-496B-BC5F-81DFC70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210C-C177-4D46-A53E-EBE01B7B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8D1-36B1-43C0-8E7D-2F144F53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53A3C-2665-4FAC-9A36-D3B6CDC6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E8CD-2DF8-4C32-8170-96C7B6A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B487-D608-4267-9062-630FAC85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B297-8F9F-445D-A7E2-D9AD4109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6111-65CD-4FEB-8115-A94FBA2A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C503-FD06-4221-9132-278AA3A0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C8B4-B0DA-474B-923D-6759BB35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9F8E-AD00-4B65-944A-F9516F1D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4E76-6D92-47E6-A4A8-AFA4FECB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DD6E-3C07-47FA-8890-95EA9965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F11-4D69-44F7-B13E-2ABEB462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3E01-13E9-490E-B8C7-8F60DD1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FDAD-4F33-4EF3-9C88-55799D4F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1B0D-C1F2-4C72-ABA6-FC16461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FBDC-A42E-41E1-A668-CCB8D7DA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A5410-58AE-4A0D-95FD-7BDFA866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70BD6-4934-4E1B-9BD5-6F1C58A1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05D29-DAA8-4990-B6CD-722BAB86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D276-4EE1-4325-B8B5-F5539198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F359-E8F9-4185-9221-66B388B9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FEA1-C3E4-49F5-A549-2CCF7859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9F6-7477-4961-971D-635FB2FA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88E3-2F0D-4AEF-B83C-15BC64EE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5E5C-2AE2-458B-97BE-28E697F4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AA2C3-DAC5-4D82-8884-F0290663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EBBA3-F681-453F-91A8-354442CB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42D0-1A9A-4A41-95C8-B7D565D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545A-19E4-402E-B331-68C51BC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A4927-5069-4364-A870-5AFFBF3D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B882-D5BB-461A-A322-0887E8E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8A6E-5BD4-4705-8D05-C155298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0864-8940-45AB-B3E8-F6EC93BF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236-57F1-42F2-83EA-1D6E0DF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66AFE-1355-4D1A-8085-76F7C6B6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78D7F-AF4E-43DD-B31D-A96412BC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9317-27F1-4A8A-A055-D84FD134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D2C6C-A006-409E-901D-69ED899B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C4815-3307-4BDA-8D55-4B775F0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C15F-413D-445F-8353-C96AA9E8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6C661-A4D9-48DD-988A-07F00155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6BF8-782B-4241-B568-6184BCA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3C186-1502-47F1-B77B-60EDB31A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25D0-294A-4134-AC77-A2C8EAA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786-473E-42E0-A5B9-8E295D1D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5B1F-0126-42C8-B585-AC28BDD2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42901-F8C9-4A1D-986D-BD9DF339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01AA8-939D-43F3-9F0D-2265FE7C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19475-8D38-42F3-9D2E-17B53D52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7657-FDB2-4C77-867B-CE1644E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E0C0B-5353-4B43-A7E3-D116531E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A0C5-1F7C-425F-83A8-A54BD4DE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838A-B86C-4A64-87B1-C27F476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8D68-4C98-4D79-BFDB-5B02900E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212E3-849B-4172-A29F-7B36BD5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C94-6D44-4621-A071-B7A7F52F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B16E-3502-4850-A3D0-B6E2D66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503F-B9DF-40A8-8290-F29CAE7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93368-C690-4FDC-9BB8-60C055AC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915D9-A5B9-4B84-A442-2237C0EC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57D8D-766A-4E4F-8887-CC7E96FB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386-FC48-4646-A0CE-644664E2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FDB1-C63B-4065-92D4-B00F59443E7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3762-5758-4018-8007-0EE64DE3ECF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108D-981F-458C-8C87-A1EF1D4B6AC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86E-CB4C-4113-8811-52294943595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29E-40E2-4E1E-B843-43EAD3253E5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5A1-9B0C-4C2C-976A-61D9C5E57B0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BE5-D3A5-43D1-95C2-823E5CA6448D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s://ru.wikipedia.org/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8071200" cy="19638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1779480" y="4559400"/>
            <a:ext cx="8229600" cy="18414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6" descr="C:\Users\Computer\Desktop\загружено.jpg"/>
          <p:cNvPicPr/>
          <p:nvPr/>
        </p:nvPicPr>
        <p:blipFill>
          <a:blip r:embed="rId3"/>
          <a:stretch/>
        </p:blipFill>
        <p:spPr>
          <a:xfrm>
            <a:off x="428760" y="2786040"/>
            <a:ext cx="242892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1.Цель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рассказать  о храмах и   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достопримечательностях города  Новосибирска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4024080" cy="242892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5"/>
          <p:cNvSpPr/>
          <p:nvPr/>
        </p:nvSpPr>
        <p:spPr>
          <a:xfrm>
            <a:off x="4714920" y="2000160"/>
            <a:ext cx="3929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ор во имя Александра Невского — православный храм в Новосибирске. Первое каменное здание Новосибирска, освящённое спустя всего 6 лет после возникновения поселения. Царская семья, придавала большое значение строительству этого храма, безвозмездно предоставила земельный участок, выделила дополнительные средства, подарила иконы и церковную утварь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071880" y="157140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 algn="ctr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ицкий собор - собор Новосибирской и Бердской епархии Русской Православной церкви, расположен в городе Новосибирске. Является подворьем Михаило-Архангельского мужского монастыря в селе Козиха (Новосибирская область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было начато в 1999 году. По проекту храм вмещал 1500 человек, имел два уровня (верхний храм во имя Святой Троицы и нижний во имя равноапостольного князя Владимира). Высота храма 60 метров (до верхней точки креста). Храм крестово-купольный, шестистолпный, трёхглавый с шестью престола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2786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3643200" cy="273204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6"/>
          <p:cNvSpPr/>
          <p:nvPr/>
        </p:nvSpPr>
        <p:spPr>
          <a:xfrm>
            <a:off x="4214880" y="192888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есенский собор — кафедральный собор Новосибирской и Бердской епархии Русской Православной церкви построен в го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13 году. Расположенный на северной окраине города, храм являлся тогда одним из самых бедных в Новониколаев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2714400" cy="27144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4"/>
          <p:cNvSpPr/>
          <p:nvPr/>
        </p:nvSpPr>
        <p:spPr>
          <a:xfrm>
            <a:off x="3857760" y="1785960"/>
            <a:ext cx="4786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овня святителя Николая расположена на Красном проспекте в самом центре Новосибирска, около площади Ленина. По легенде это место было центром Российской империи. Строительство часовни началось в Новониколаевске 20 июля 1914 года, в ознаменование 20-летнего юбилея со дня закладки железнодорожного моста через Обь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9918720" cy="1577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57120" y="2286000"/>
            <a:ext cx="3214800" cy="228600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4000680" y="2571840"/>
            <a:ext cx="485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олический собор в городе Новосибирске. Собор имеет статус кафедрального в Преображенской епархии (с центром в Новосибирске), возглавляемой епископом Иосифом Вертом. Расположен по адресу: улица М. Горького, д.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s://ru.wikipedia.or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obzor-mest.ru/xramy-novosibirska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s://ru.wikipedia.org/wiki/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атегория:Храмы_Новосибирс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s://www.google.ru/search?q=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храмы+новосибирс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5778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entury Gothic"/>
              </a:rPr>
              <a:t>Спасибо за внимание!!!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6:53:05Z</dcterms:created>
  <dc:creator>ученик</dc:creator>
  <dc:description/>
  <dc:language>en-US</dc:language>
  <cp:lastModifiedBy>Computer</cp:lastModifiedBy>
  <dcterms:modified xsi:type="dcterms:W3CDTF">2015-10-07T16:24:41Z</dcterms:modified>
  <cp:revision>11</cp:revision>
  <dc:subject/>
  <dc:title> Храмы    города Новосибирска</dc:title>
</cp:coreProperties>
</file>