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802-A93C-4AD0-8FD1-4EEED6C6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EF3-9521-42BE-9251-15B39C7B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1AE-C8C3-4AF5-A990-3CB55D00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0CF-343B-4B8E-8E17-8CB6F379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267-8DF9-48FB-B14E-8382EE92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1C8-6F47-4F5B-89F4-17FBCA83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104-3D9D-4257-A2F0-8AE9F7D7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CDE-7371-4095-B441-EB9D9758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B32-6DEC-48A2-9CCC-7DD10896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F72-DB48-4DFC-AFAE-C3780F7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4EA-8F7A-499C-ABF3-45FD48CF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B18-C745-4E95-85D1-378A9786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830E-BBFE-406F-90CA-7F32223AC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eb-web.ru/feb/pushkin/texts/push10/v02/D02-353-.htm#1826.&#1055;&#1056;&#1054;&#1056;&#1054;&#1050;_$3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rtnow.ru/img/440000/44060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s004.radikal.ru/i206/1004/e0/55e96ad9e954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Тема поэта и поэзии в лирике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324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549360"/>
            <a:ext cx="410400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О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ховной жаждою томи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устыне мрачной я влачилс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шестикрылый серафи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репутье мне явился;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ерст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егкими как со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х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зени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снулся он: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Отверзлис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щие зениц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у испуганной орлиц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х ушей коснулся он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их наполнил шум и звон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нял я неба содрогань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горн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гелов полет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гад морских подводный ход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дольн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зы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розябан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н к устам моим приник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ырвал грешный мой язык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разднословный и лукавы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жало мудрыя зме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ста замершие мо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ожил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деснице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ровав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836640"/>
            <a:ext cx="4500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н мне грудь рассек мечо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сердце трепетное вынул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угль, пылающий огне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грудь отверстую водвину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труп в пустыне я лежал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бога глас ко мне воззвал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осстань, пророк, 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ижд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 внемл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нись волею мое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, обходя моря и земли,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Глагол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жги сердца люд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43120" y="322200"/>
            <a:ext cx="73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естикрылый сераф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44 из 3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41300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2 из 3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1413000"/>
            <a:ext cx="41148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6 из 372"/>
          <p:cNvPicPr/>
          <p:nvPr/>
        </p:nvPicPr>
        <p:blipFill>
          <a:blip r:embed="rId6"/>
          <a:stretch/>
        </p:blipFill>
        <p:spPr>
          <a:xfrm>
            <a:off x="1835280" y="1557360"/>
            <a:ext cx="5076720" cy="359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549360"/>
            <a:ext cx="410400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ПРО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ховной жаждою томи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устыне мрачной я влачилс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шестикрылый серафи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репутье мне явился;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ерст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егкими как со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х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зени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снулся он: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Отверзлис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щие зениц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у испуганной орлиц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х ушей коснулся он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их наполнил шум и звон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нял я неба содрогань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горн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гелов полет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гад морских подводный ход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дольн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зы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розябан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н к устам моим приник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ырвал грешный мой язык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разднословный и лукавы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жало мудрыя зме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ста замершие мо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ожил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деснице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ровав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836640"/>
            <a:ext cx="4500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н мне грудь рассек мечо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сердце трепетное вынул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угль, пылающий огне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грудь отверстую водвину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труп в пустыне я лежал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бога глас ко мне воззвал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осстань, пророк, и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ижд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 внемл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нись волею мое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, обходя моря и земли,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Глагол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жги сердца люд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40000" y="476280"/>
            <a:ext cx="6119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Э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! не дорожи любовию народной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рженных похвал пройдет минутный шум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лышишь суд глупца и смех толпы холодной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ты останься тверд, спокоен и угрю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ы царь: живи один. Дорогою свободно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и, куда влечет тебя свободный у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овершенствуя плоды любимых ду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требуя наград за подвиг благород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и в самом тебе. Ты сам свой высший суд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х строже оценить умеешь ты свой труд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ы им доволен ли, взыскательный художн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волен? Так пускай толпа его брани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люет на алтарь, где твой огонь горит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 детской резвости колеблет твой тренож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68360" y="0"/>
            <a:ext cx="6048720" cy="67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МЯТНИ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памятник себе воздвиг чудесный, вечны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таллов тверже он и выше пирамид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 вихрь его, ни гром не сломит быстротечны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времени полет его не сокруши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!— весь я не умру, но часть меня больш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тлена убежав, по смерти станет жить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слава возрастет моя, не увяда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коль славянов род вселенна будет чтить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ух пройдет обо мне от Белых вод до Черных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де Волга, Дон, Нева, с Рифея льет Урал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як будет помнить то в народах неисчетных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из безвестности я тем известен стал,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первый я дерзнул в забавном русском слог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добродетелях Фелицы возгласить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ердечной простоте беседовать о Бог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истину царям с улыбкой говорить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муза! возгордись заслугой справедливо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презрит кто тебя, сама тех презира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принужденною рукой нетороплив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ло твое зарей бессмертия венча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 Р. Держав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33336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ександрийский столп (Александровская колон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орцовой площади в Санкт-Петер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рыт в 183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6767280" cy="451008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0:12:06Z</dcterms:created>
  <dc:creator>ира</dc:creator>
  <dc:description/>
  <dc:language>en-US</dc:language>
  <cp:lastModifiedBy>ира</cp:lastModifiedBy>
  <dcterms:modified xsi:type="dcterms:W3CDTF">2010-11-21T11:17:13Z</dcterms:modified>
  <cp:revision>2</cp:revision>
  <dc:subject/>
  <dc:title>Слайд 1</dc:title>
</cp:coreProperties>
</file>