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5A4-5F65-4915-A8EB-6239FD9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829-9DF1-4439-A933-87A4B0A4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581-90FF-475B-9F3A-A6164B8F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FDB-E724-46A1-A3B5-D20873A2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BCB-9C73-4449-B99D-3E97A8B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4BB-E8AD-4FE9-AA51-8CB5A71B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D11-8EFE-41A7-9F66-9AE8277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D99-143E-4AFF-82A9-9F9DA05E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94B-A421-4671-80B2-2431878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36A-69E3-443D-B59D-54087DC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21A-7773-4979-A86E-815F57F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2CA-C7CD-44DA-AFF8-7A442E2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D35-0998-4D03-9629-B39D4A2A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eb-web.ru/feb/pushkin/texts/push10/v02/D02-353-.htm#1826.&#1055;&#1056;&#1054;&#1056;&#1054;&#1050;_$3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tnow.ru/img/440000/44060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s004.radikal.ru/i206/1004/e0/55e96ad9e954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ма поэта и поэзии в лирике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24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549360"/>
            <a:ext cx="410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ховной жаждою томи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устыне мрачной я влачилс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икрылый серафи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путье мне явился;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ерс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егкими как с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ени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снулся он: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тверзли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щие зен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у испуганной орли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ушей коснулся он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наполнил шум и звон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нял я неба содрог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ор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елов пол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гад морских подводный ход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ольн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зы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озябан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к устам моим прини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рвал грешный мой язы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зднословный и лукавы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жало мудрыя зме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та замершие мо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ожил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еснице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овав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836640"/>
            <a:ext cx="4500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мне грудь рассек меч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ердце трепетное выну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гль, пылающий огне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рудь отверстую водвину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труп в пустыне я леж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ога глас ко мне воззвал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сстань, пророк, 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ижд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 внем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сь волею мое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обходя моря и земли,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лагол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жги сердц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3120" y="322200"/>
            <a:ext cx="73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естикрылый сераф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44 из 3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413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2 из 3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141300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6 из 372"/>
          <p:cNvPicPr/>
          <p:nvPr/>
        </p:nvPicPr>
        <p:blipFill>
          <a:blip r:embed="rId6"/>
          <a:stretch/>
        </p:blipFill>
        <p:spPr>
          <a:xfrm>
            <a:off x="1835280" y="1557360"/>
            <a:ext cx="5076720" cy="359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549360"/>
            <a:ext cx="410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Р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ховной жаждою томи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устыне мрачной я влачилс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икрылый серафи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путье мне явился;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ерс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егкими как с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ени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снулся он: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тверзли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щие зен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у испуганной орли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ушей коснулся он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наполнил шум и звон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нял я неба содрог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ор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елов пол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гад морских подводный ход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ольн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зы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озябан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к устам моим прини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рвал грешный мой язы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зднословный и лукавы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жало мудрыя зме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та замершие мо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ожил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еснице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овав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836640"/>
            <a:ext cx="4500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мне грудь рассек меч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ердце трепетное выну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гль, пылающий огне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рудь отверстую водвину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труп в пустыне я леж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ога глас ко мне воззвал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сстань, пророк, 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ижд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 внем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сь волею мое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обходя моря и земли,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лагол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жги сердц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476280"/>
            <a:ext cx="6119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! не дорожи любовию народно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рженных похвал пройдет минутный шум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ышишь суд глупца и смех толпы холодной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ты останься тверд, спокоен и угрю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царь: живи один. Дорогою свободно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и, куда влечет тебя свободный у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овершенствуя плоды любимых ду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ребуя наград за подвиг благород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в самом тебе. Ты сам свой высший суд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х строже оценить умеешь ты свой тру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им доволен ли, взыскательный худож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волен? Так пускай толпа его брани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люет на алтарь, где твой огонь гори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 детской резвости колеблет твой тренож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0"/>
            <a:ext cx="6048720" cy="67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МЯТ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памятник себе воздвиг чудесный, веч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аллов тверже он и выше пирамид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 вихрь его, ни гром не сломит быстротеч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времени полет его не сокруши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!— весь я не умру, но часть меня больш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тлена убежав, по смерти станет жи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слава возрастет моя, не увяд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коль славянов род вселенна будет чтить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ух пройдет обо мне от Белых вод до Черны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Волга, Дон, Нева, с Рифея льет Урал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як будет помнить то в народах неисчетны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из безвестности я тем известен стал,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первый я дерзнул в забавном русском слог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добродетелях Фелицы возгласи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ердечной простоте беседовать о Бог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истину царям с улыбкой говорить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уза! возгордись заслугой справедлив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резрит кто тебя, сама тех презира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принужденною рукой нетороплив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ло твое зарей бессмертия венча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Р. Держа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ександрийский столп (Александровская колон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орцовой площади 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767280" cy="451008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0:12:06Z</dcterms:created>
  <dc:creator>ира</dc:creator>
  <dc:description/>
  <dc:language>en-US</dc:language>
  <cp:lastModifiedBy>ира</cp:lastModifiedBy>
  <dcterms:modified xsi:type="dcterms:W3CDTF">2010-11-21T11:17:13Z</dcterms:modified>
  <cp:revision>2</cp:revision>
  <dc:subject/>
  <dc:title>Слайд 1</dc:title>
</cp:coreProperties>
</file>