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A905-53EC-4291-A5C8-9E1865EC3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8DA6-5B46-4A37-8791-AD1E95F79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DEA-9166-484D-96B5-1DFEE58B90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989-4ED5-411F-8DD5-53365B3E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151-6E14-411D-9221-5348D8BF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FBC-7836-418F-AF73-2B48ABF8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D82-B79D-45E7-8782-F1D8308F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CD1-B4AA-4C2B-AB6E-F4AA29D7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1C9-85F1-406D-A736-D6CA3F7C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F95-7D07-4048-8538-DD1C75CA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E92-74A8-4B57-99A8-4B4AA591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00B-5599-4A33-ADD4-CB8AB158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778-8069-4CB3-A56E-5E0810D6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4A5-5961-4B1C-A4DD-B9195D5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82E-2473-4BA3-8FCB-005F8C90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C985-28F8-44A7-A2E1-2A5F497C1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вуковые волны.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               Человек в мире зву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561440" cy="4525920"/>
          </a:xfrm>
          <a:prstGeom prst="rect">
            <a:avLst/>
          </a:prstGeom>
          <a:solidFill>
            <a:srgbClr val="b4ede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пиграф к уро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Труднее создавать тишину, чем создавать зву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. Л.Кап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Мир звуков так многообра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Богат, красив, разнообраз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Но всех нас мучает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Откуда звуки возник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Что слух нам всюду услажд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Пора задуматься всерьё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02_Пение птиц.mp3" descr=""/>
          <p:cNvPicPr/>
          <p:nvPr/>
        </p:nvPicPr>
        <p:blipFill>
          <a:blip r:embed="rId1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tfl.gif"/>
          <p:cNvPicPr/>
          <p:nvPr/>
        </p:nvPicPr>
        <p:blipFill>
          <a:blip r:embed="rId1"/>
          <a:stretch/>
        </p:blipFill>
        <p:spPr>
          <a:xfrm>
            <a:off x="468360" y="76500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www.computerbooks.ru/books/Music/Book.AdobeAfterEffect6/Glava_01/8.gif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8816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" name="Vanessa Paradise - J.mp3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05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18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дельфин2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tmn.fio.ru/works/89x/308/images/16f-i1.gif"/>
          <p:cNvPicPr/>
          <p:nvPr/>
        </p:nvPicPr>
        <p:blipFill>
          <a:blip r:embed="rId1"/>
          <a:stretch/>
        </p:blipFill>
        <p:spPr>
          <a:xfrm>
            <a:off x="2195640" y="1844640"/>
            <a:ext cx="4200480" cy="4392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611280" y="33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ожно ли  услышать звон колокола, находящегося внутри сосуда, из которого откачан воздух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47640" y="1341360"/>
          <a:ext cx="5904000" cy="3729240"/>
        </p:xfrm>
        <a:graphic>
          <a:graphicData uri="http://schemas.openxmlformats.org/drawingml/2006/table">
            <a:tbl>
              <a:tblPr/>
              <a:tblGrid>
                <a:gridCol w="3570480"/>
                <a:gridCol w="2333520"/>
              </a:tblGrid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ь звука,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Воздух  (при 0</a:t>
                      </a:r>
                      <a:r>
                        <a:rPr b="0" lang="ru-RU" sz="2400" spc="-1" strike="noStrike" baseline="30000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Ге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1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33ff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Морск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Тяжелая древес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Железо и ста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5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Прямоугольник 5"/>
          <p:cNvSpPr/>
          <p:nvPr/>
        </p:nvSpPr>
        <p:spPr>
          <a:xfrm>
            <a:off x="395280" y="566100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корость звука зависит от свойств среды,  в которой распространяется зв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воздухе при повышении температуры на 1°С скорость звука возрастает приблизительно на 0,60 м/с.</a:t>
            </a:r>
            <a:r>
              <a:rPr b="0" lang="ru-RU" sz="1800" spc="-1" strike="noStrike">
                <a:solidFill>
                  <a:srgbClr val="0f217b"/>
                </a:solidFill>
                <a:latin typeface="Arial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f217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47628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ука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различных веществ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рисунке приведены графики звуковых колебаний. Како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из них соответствует самой большой громкости звука? Самому низкому зву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0" t="1247" r="0" b="0"/>
          <a:stretch/>
        </p:blipFill>
        <p:spPr>
          <a:xfrm>
            <a:off x="324000" y="1197000"/>
            <a:ext cx="82296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428840" y="57168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extBox 6" descr=""/>
          <p:cNvPicPr/>
          <p:nvPr/>
        </p:nvPicPr>
        <p:blipFill>
          <a:blip r:embed="rId1"/>
          <a:stretch/>
        </p:blipFill>
        <p:spPr>
          <a:xfrm>
            <a:off x="182520" y="2365200"/>
            <a:ext cx="8589960" cy="2633760"/>
          </a:xfrm>
          <a:prstGeom prst="rect">
            <a:avLst/>
          </a:prstGeom>
          <a:ln w="0">
            <a:noFill/>
          </a:ln>
        </p:spPr>
      </p:pic>
      <p:pic>
        <p:nvPicPr>
          <p:cNvPr id="69" name="j0074318.mid" descr=""/>
          <p:cNvPicPr/>
          <p:nvPr/>
        </p:nvPicPr>
        <p:blipFill>
          <a:blip r:embed="rId2"/>
          <a:stretch/>
        </p:blipFill>
        <p:spPr>
          <a:xfrm>
            <a:off x="4786200" y="1785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D:\WINDOWS\Users\Aida\Мои документы\переименовать\science_sound_s.gif"/>
          <p:cNvPicPr/>
          <p:nvPr/>
        </p:nvPicPr>
        <p:blipFill>
          <a:blip r:embed="rId3"/>
          <a:stretch/>
        </p:blipFill>
        <p:spPr>
          <a:xfrm>
            <a:off x="3564000" y="981000"/>
            <a:ext cx="2149560" cy="1357560"/>
          </a:xfrm>
          <a:prstGeom prst="rect">
            <a:avLst/>
          </a:prstGeom>
          <a:ln w="0">
            <a:noFill/>
          </a:ln>
        </p:spPr>
      </p:pic>
      <p:pic>
        <p:nvPicPr>
          <p:cNvPr id="71" name="сок ''Я''.mp3" descr=""/>
          <p:cNvPicPr/>
          <p:nvPr/>
        </p:nvPicPr>
        <p:blipFill>
          <a:blip r:embed="rId4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46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1485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7:41:19Z</dcterms:created>
  <dc:creator>Фанзия</dc:creator>
  <dc:description/>
  <dc:language>en-US</dc:language>
  <cp:lastModifiedBy>учитель  физики</cp:lastModifiedBy>
  <dcterms:modified xsi:type="dcterms:W3CDTF">2013-10-30T04:59:05Z</dcterms:modified>
  <cp:revision>15</cp:revision>
  <dc:subject/>
  <dc:title>Слайд 1</dc:title>
</cp:coreProperties>
</file>