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8E2-8F87-4BD0-82F6-791FCFAA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376-F44F-495A-A4D0-D5C5E4A1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EBB-D620-4198-AA82-62D01ECE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30F-D7E1-4C61-899F-E2FFD075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FF5-2B0A-423C-BBA2-B481B006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B0B-33EE-467E-96A7-D2FE3BFA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EC5-EA2C-4839-924E-D0873377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192-CC13-4024-AE8C-3FC9A0AC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4A8-93A9-493D-9B3D-6A3B38B7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151-A750-4994-B45B-FD41309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F34-5C13-4A3C-BD1C-9C5D8994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D61-BC5D-47A2-9364-976E891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E30D-9E24-45EC-9E23-955893513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0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ородская научно-практическая конференция «Технопар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555800" y="3881520"/>
            <a:ext cx="369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полнила: Жирк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«В» класс ГБОУ СОШ № 13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нсультанты: Захарьян Т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403440" y="5824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сква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692360" y="234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АЛЯНИЕ ШЕР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79280" y="835200"/>
            <a:ext cx="518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крое валяние осуществляется при помощи мыльного или специального раство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чала выкладывается изделие из шерсти, смачивается раствором и при помощи трения производят процесс валя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Мокрое валяние"/>
          <p:cNvPicPr/>
          <p:nvPr/>
        </p:nvPicPr>
        <p:blipFill>
          <a:blip r:embed="rId1"/>
          <a:stretch/>
        </p:blipFill>
        <p:spPr>
          <a:xfrm>
            <a:off x="5364000" y="98100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179280" y="3501720"/>
            <a:ext cx="2592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м потребуютс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сть, вода, мыло, подстилка под изделие, сетка, перчатки для рук, деревянная скалка, махровое полоте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92200" y="5868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крое валя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148360" y="3573360"/>
            <a:ext cx="369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крое валяние подходит для изготовления одежды, аксессуаров, сумки, обуви, головных уборов, ков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d5163ac99eac"/>
          <p:cNvPicPr/>
          <p:nvPr/>
        </p:nvPicPr>
        <p:blipFill>
          <a:blip r:embed="rId2"/>
          <a:stretch/>
        </p:blipFill>
        <p:spPr>
          <a:xfrm>
            <a:off x="2735280" y="357336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233cb2b8aa3d40c8d60b6a1b9d878cb5"/>
          <p:cNvPicPr/>
          <p:nvPr/>
        </p:nvPicPr>
        <p:blipFill>
          <a:blip r:embed="rId3"/>
          <a:stretch/>
        </p:blipFill>
        <p:spPr>
          <a:xfrm>
            <a:off x="7164360" y="5157720"/>
            <a:ext cx="1800360" cy="146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x_ea97f072"/>
          <p:cNvPicPr/>
          <p:nvPr/>
        </p:nvPicPr>
        <p:blipFill>
          <a:blip r:embed="rId4"/>
          <a:stretch/>
        </p:blipFill>
        <p:spPr>
          <a:xfrm>
            <a:off x="4932360" y="5013360"/>
            <a:ext cx="2160720" cy="162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231840" y="136044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79280" y="90792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деляют три основных техн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39640" y="26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зготовление картин из шер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79280" y="1341360"/>
            <a:ext cx="4916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Выкладыван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хой шерсти на основу. Шерстяные волокна выкладываются слоями. Готовая работа обязательно оформляется в рамку под стекл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56000" y="3141720"/>
            <a:ext cx="6356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Создание картины из шерстяных волокон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крым способ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данном случае применяются мыло и вода. Такие картины представляют собой полотно и называются валяны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79280" y="5013360"/>
            <a:ext cx="5761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мешанный способ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начале картина формируется методом мокрого валяния шерсти в полотно с основными цветовыми пятнами. Затем наносится сюжет (делается это при помощи иглы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37417028977-kartiny-panno-kartina-iz-shersti-podsolnuhi-n5149"/>
          <p:cNvPicPr/>
          <p:nvPr/>
        </p:nvPicPr>
        <p:blipFill>
          <a:blip r:embed="rId1"/>
          <a:stretch/>
        </p:blipFill>
        <p:spPr>
          <a:xfrm>
            <a:off x="5724360" y="1341360"/>
            <a:ext cx="2448000" cy="181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Мастер-класс &quot;Шерстяная акварель&quot; - мокрым способом, в Москве, 3 марта в 15 ч. у метро Семеновская - Ярмарка Мастеров - ручная р"/>
          <p:cNvPicPr/>
          <p:nvPr/>
        </p:nvPicPr>
        <p:blipFill>
          <a:blip r:embed="rId2"/>
          <a:stretch/>
        </p:blipFill>
        <p:spPr>
          <a:xfrm>
            <a:off x="179280" y="3213000"/>
            <a:ext cx="2376720" cy="173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9198279"/>
          <p:cNvPicPr/>
          <p:nvPr/>
        </p:nvPicPr>
        <p:blipFill>
          <a:blip r:embed="rId3"/>
          <a:stretch/>
        </p:blipFill>
        <p:spPr>
          <a:xfrm>
            <a:off x="5867280" y="45813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95280" y="1125360"/>
            <a:ext cx="4248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нескольких техник работы самой простой является выкладыва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я, созданные таким методом, поражают своим разнообразием. Выкладываются фрукты, цветы, животные и даже портр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84084664_2915694b9eb53081715m750x740u8304b"/>
          <p:cNvPicPr/>
          <p:nvPr/>
        </p:nvPicPr>
        <p:blipFill>
          <a:blip r:embed="rId1"/>
          <a:stretch/>
        </p:blipFill>
        <p:spPr>
          <a:xfrm>
            <a:off x="5219640" y="1052640"/>
            <a:ext cx="3241800" cy="266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73136644_3518263_24"/>
          <p:cNvPicPr/>
          <p:nvPr/>
        </p:nvPicPr>
        <p:blipFill>
          <a:blip r:embed="rId2"/>
          <a:stretch/>
        </p:blipFill>
        <p:spPr>
          <a:xfrm>
            <a:off x="395280" y="4292640"/>
            <a:ext cx="3097080" cy="23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i?id=15733f93e92b75753b8aaf7964932d82-41-144&amp;n=33&amp;h=210"/>
          <p:cNvPicPr/>
          <p:nvPr/>
        </p:nvPicPr>
        <p:blipFill>
          <a:blip r:embed="rId3"/>
          <a:stretch/>
        </p:blipFill>
        <p:spPr>
          <a:xfrm>
            <a:off x="6732720" y="3933720"/>
            <a:ext cx="2226960" cy="2719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i?id=aba3f406a540783525c5fe7de7318b57-37-144&amp;n=33&amp;h=210"/>
          <p:cNvPicPr/>
          <p:nvPr/>
        </p:nvPicPr>
        <p:blipFill>
          <a:blip r:embed="rId4"/>
          <a:stretch/>
        </p:blipFill>
        <p:spPr>
          <a:xfrm>
            <a:off x="3995640" y="4292640"/>
            <a:ext cx="2360880" cy="2158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6"/>
          <p:cNvSpPr/>
          <p:nvPr/>
        </p:nvSpPr>
        <p:spPr>
          <a:xfrm>
            <a:off x="376200" y="352440"/>
            <a:ext cx="75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клады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-3900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50920" y="1341360"/>
            <a:ext cx="547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яние шерсти – это процесс создания изделий из непряденой пряжи. Из шерсти можно сделать все, что угодно: картины, валяные фигурки животных, птиц и людей, одежду, сумки и укра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аляние шерсти является очень популярным видом рукоделия. Изделия из валяной шерсти получаются очень уютными, теплыми и оригина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яние шерсти очень полезно: развивается мелкая моторика, фантазия, учит упорству и старанию, развивает аккура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Valynie_iz_shersti_s_detmi2"/>
          <p:cNvPicPr/>
          <p:nvPr/>
        </p:nvPicPr>
        <p:blipFill>
          <a:blip r:embed="rId1"/>
          <a:stretch/>
        </p:blipFill>
        <p:spPr>
          <a:xfrm>
            <a:off x="6012000" y="1557360"/>
            <a:ext cx="2360520" cy="4608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19120" y="18900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i?id=c2892b604635a0da299131aa8828be77-38-144&amp;n=33&amp;h=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42920" y="1197000"/>
            <a:ext cx="70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468360" y="1557360"/>
            <a:ext cx="542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следовать технику валяния и рассмотреть на пример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8" descr="i?id=70f9a9b2a2b26afa7e3e9dc5eed1ed07-112-144&amp;n=33&amp;h=210"/>
          <p:cNvPicPr/>
          <p:nvPr/>
        </p:nvPicPr>
        <p:blipFill>
          <a:blip r:embed="rId1"/>
          <a:stretch/>
        </p:blipFill>
        <p:spPr>
          <a:xfrm>
            <a:off x="324000" y="4094280"/>
            <a:ext cx="2808000" cy="246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i?id=7beb7095c8c9a446837d693caf8cc8e8-03-144&amp;n=33&amp;h=210"/>
          <p:cNvPicPr/>
          <p:nvPr/>
        </p:nvPicPr>
        <p:blipFill>
          <a:blip r:embed="rId2"/>
          <a:stretch/>
        </p:blipFill>
        <p:spPr>
          <a:xfrm>
            <a:off x="6084720" y="141300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i?id=c8904809a895cc310af4dfac2e2996ed-08-144&amp;n=33&amp;h=210"/>
          <p:cNvPicPr/>
          <p:nvPr/>
        </p:nvPicPr>
        <p:blipFill>
          <a:blip r:embed="rId3"/>
          <a:stretch/>
        </p:blipFill>
        <p:spPr>
          <a:xfrm>
            <a:off x="3132000" y="2781360"/>
            <a:ext cx="2952720" cy="2735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4"/>
          <p:cNvSpPr/>
          <p:nvPr/>
        </p:nvSpPr>
        <p:spPr>
          <a:xfrm>
            <a:off x="1023840" y="274680"/>
            <a:ext cx="63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Цель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468360" y="1197000"/>
            <a:ext cx="484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. История техники вал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основные тех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ое вал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брать шер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ства дл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крое вал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ение картин из шер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клады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1286779537_49536122_2386389540_8ef7acb8aa_b"/>
          <p:cNvPicPr/>
          <p:nvPr/>
        </p:nvPicPr>
        <p:blipFill>
          <a:blip r:embed="rId1"/>
          <a:stretch/>
        </p:blipFill>
        <p:spPr>
          <a:xfrm>
            <a:off x="5651640" y="1341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original_1_"/>
          <p:cNvPicPr/>
          <p:nvPr/>
        </p:nvPicPr>
        <p:blipFill>
          <a:blip r:embed="rId2"/>
          <a:stretch/>
        </p:blipFill>
        <p:spPr>
          <a:xfrm>
            <a:off x="4140360" y="4365720"/>
            <a:ext cx="338436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0b22853c8e5d0da5bbbc7a3ef2ca5f08"/>
          <p:cNvPicPr/>
          <p:nvPr/>
        </p:nvPicPr>
        <p:blipFill>
          <a:blip r:embed="rId3"/>
          <a:stretch/>
        </p:blipFill>
        <p:spPr>
          <a:xfrm>
            <a:off x="468360" y="4365720"/>
            <a:ext cx="3024000" cy="2259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879480" y="20160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808200" y="189000"/>
            <a:ext cx="70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тория техники валя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Noahs_Ark_on_Mount_Ararat_by_Simon_de_Myle"/>
          <p:cNvPicPr/>
          <p:nvPr/>
        </p:nvPicPr>
        <p:blipFill>
          <a:blip r:embed="rId1"/>
          <a:stretch/>
        </p:blipFill>
        <p:spPr>
          <a:xfrm>
            <a:off x="4427640" y="2060640"/>
            <a:ext cx="423216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376200" y="1792440"/>
            <a:ext cx="405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яние шер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таринная тех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валяния связ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легендой о Великом Пот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ев Ковчег был устлан первым валяным ковром из шерсти находившихся там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08200" y="281160"/>
            <a:ext cx="736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63480" y="549360"/>
            <a:ext cx="455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00 лет назад, в России научились валять из шерсти валенки. Мастерство передавалось из поколения в поко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344941466_1"/>
          <p:cNvPicPr/>
          <p:nvPr/>
        </p:nvPicPr>
        <p:blipFill>
          <a:blip r:embed="rId1"/>
          <a:stretch/>
        </p:blipFill>
        <p:spPr>
          <a:xfrm>
            <a:off x="5148360" y="260280"/>
            <a:ext cx="3744720" cy="2836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179280" y="270828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валяние - популярный вид рукоде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де войлочные аксессуары и украшения из войлока, одежда, войлочные картины и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 flipV="1" rot="10800000">
            <a:off x="3348000" y="515664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и изобретают новые приемы валяния шерсти, сочетают войлок с керамикой, металлом, стек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home24"/>
          <p:cNvPicPr/>
          <p:nvPr/>
        </p:nvPicPr>
        <p:blipFill>
          <a:blip r:embed="rId2"/>
          <a:stretch/>
        </p:blipFill>
        <p:spPr>
          <a:xfrm>
            <a:off x="7264440" y="2997360"/>
            <a:ext cx="1879560" cy="208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scarfs10"/>
          <p:cNvPicPr/>
          <p:nvPr/>
        </p:nvPicPr>
        <p:blipFill>
          <a:blip r:embed="rId3"/>
          <a:stretch/>
        </p:blipFill>
        <p:spPr>
          <a:xfrm>
            <a:off x="324000" y="4724280"/>
            <a:ext cx="2808000" cy="1959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other10"/>
          <p:cNvPicPr/>
          <p:nvPr/>
        </p:nvPicPr>
        <p:blipFill>
          <a:blip r:embed="rId4"/>
          <a:stretch/>
        </p:blipFill>
        <p:spPr>
          <a:xfrm>
            <a:off x="5219640" y="3213000"/>
            <a:ext cx="2232000" cy="145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062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аляные из шерсти вещи создаются одной из двух техник валяния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к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х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 техники основаны на том, что волоски шерсти имеют на своем теле небольшие зазубрины. И при трении волоски зацепляются друг за друга этими зазубринами, и спутываются между соб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i?id=0dbb8aacc221c066ebb76366ef537bea-141-144&amp;n=33&amp;h=210"/>
          <p:cNvPicPr/>
          <p:nvPr/>
        </p:nvPicPr>
        <p:blipFill>
          <a:blip r:embed="rId1"/>
          <a:stretch/>
        </p:blipFill>
        <p:spPr>
          <a:xfrm>
            <a:off x="3419640" y="4278240"/>
            <a:ext cx="2734920" cy="237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?id=25a844197db71c564f2d989f29f9785e-125-144&amp;n=33&amp;h=210"/>
          <p:cNvPicPr/>
          <p:nvPr/>
        </p:nvPicPr>
        <p:blipFill>
          <a:blip r:embed="rId2"/>
          <a:stretch/>
        </p:blipFill>
        <p:spPr>
          <a:xfrm>
            <a:off x="6443640" y="3860640"/>
            <a:ext cx="2449440" cy="2432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?id=0d91a32bfdb13443f613337411456702-141-144&amp;n=33&amp;h=210"/>
          <p:cNvPicPr/>
          <p:nvPr/>
        </p:nvPicPr>
        <p:blipFill>
          <a:blip r:embed="rId3"/>
          <a:stretch/>
        </p:blipFill>
        <p:spPr>
          <a:xfrm>
            <a:off x="611280" y="3865680"/>
            <a:ext cx="2450880" cy="2427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808200" y="20160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ве основные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24000" y="1123920"/>
            <a:ext cx="554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сть многократно протыкается специальной иглой до состояния свалив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локна сцепляются между собой, образуя плотный и однородный материа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i?id=fd708071feb3919820ea627f12cddecb-62-144&amp;n=33&amp;h=210"/>
          <p:cNvPicPr/>
          <p:nvPr/>
        </p:nvPicPr>
        <p:blipFill>
          <a:blip r:embed="rId1"/>
          <a:stretch/>
        </p:blipFill>
        <p:spPr>
          <a:xfrm>
            <a:off x="6156360" y="1125360"/>
            <a:ext cx="2519280" cy="2382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i?id=764c54225161b34935a362969ad2c9df-06-16f-92515&amp;n=33&amp;h=210"/>
          <p:cNvPicPr/>
          <p:nvPr/>
        </p:nvPicPr>
        <p:blipFill>
          <a:blip r:embed="rId2"/>
          <a:stretch/>
        </p:blipFill>
        <p:spPr>
          <a:xfrm>
            <a:off x="395280" y="3500280"/>
            <a:ext cx="2160720" cy="273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i?id=a321d3dac76972d87bb4f799c63862f6-99-144&amp;n=33&amp;h=210"/>
          <p:cNvPicPr/>
          <p:nvPr/>
        </p:nvPicPr>
        <p:blipFill>
          <a:blip r:embed="rId3"/>
          <a:stretch/>
        </p:blipFill>
        <p:spPr>
          <a:xfrm>
            <a:off x="3276720" y="3068640"/>
            <a:ext cx="2592360" cy="1728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9"/>
          <p:cNvSpPr/>
          <p:nvPr/>
        </p:nvSpPr>
        <p:spPr>
          <a:xfrm>
            <a:off x="1042920" y="2016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ухое валя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843280" y="4869000"/>
            <a:ext cx="6119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хое валяние применяется для создания объемных изделий — игрушек, бижутерии, фигурок, авторских кукол, а также нанесения рисунков и узоров на войлок, фетр и предварительно свалянные поде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>
            <a:off x="324000" y="1341360"/>
            <a:ext cx="467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сть бывает различных видов, выбирать нужно исходя из того, что Вы собираетесь сдел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ще всего используется овечья шерсть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вечья шерсть долговечная, прочная и мягк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i?id=153ff74c997a34ce13ecbd1a46d3c021-25-144&amp;n=33&amp;h=210"/>
          <p:cNvPicPr/>
          <p:nvPr/>
        </p:nvPicPr>
        <p:blipFill>
          <a:blip r:embed="rId1"/>
          <a:stretch/>
        </p:blipFill>
        <p:spPr>
          <a:xfrm>
            <a:off x="5508720" y="4508640"/>
            <a:ext cx="2806560" cy="2112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1095480" y="201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 выбрать шер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364000" y="2781360"/>
            <a:ext cx="29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изготовления игрушек лучше использовать грубую овечью шер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d(19)"/>
          <p:cNvPicPr/>
          <p:nvPr/>
        </p:nvPicPr>
        <p:blipFill>
          <a:blip r:embed="rId2"/>
          <a:stretch/>
        </p:blipFill>
        <p:spPr>
          <a:xfrm>
            <a:off x="826920" y="4365720"/>
            <a:ext cx="3600720" cy="213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i?id=c7d88c43e4d81ce6d5f94787c9e5e00b-71-144&amp;n=21"/>
          <p:cNvPicPr/>
          <p:nvPr/>
        </p:nvPicPr>
        <p:blipFill>
          <a:blip r:embed="rId3"/>
          <a:stretch/>
        </p:blipFill>
        <p:spPr>
          <a:xfrm>
            <a:off x="5580000" y="1197000"/>
            <a:ext cx="266400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img_0486"/>
          <p:cNvPicPr/>
          <p:nvPr/>
        </p:nvPicPr>
        <p:blipFill>
          <a:blip r:embed="rId1"/>
          <a:stretch/>
        </p:blipFill>
        <p:spPr>
          <a:xfrm>
            <a:off x="971640" y="1125360"/>
            <a:ext cx="1296720" cy="97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filcevatel_derevyannyy"/>
          <p:cNvPicPr/>
          <p:nvPr/>
        </p:nvPicPr>
        <p:blipFill>
          <a:blip r:embed="rId2"/>
          <a:stretch/>
        </p:blipFill>
        <p:spPr>
          <a:xfrm>
            <a:off x="250920" y="2133720"/>
            <a:ext cx="1296720" cy="863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2268360" y="112500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лы для валяния, бывают разные: по толщине (грубые, тонкие); по профилю (треугольные, звездочка); крученые; не кручены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692360" y="2133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янный держатель для игл или фильцеватель ру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ANd9GcRAiP6dQ6Ip91INK4HvuI4ZuVofBQ5LtpU9Z2zN8rxXKhMLzfcf"/>
          <p:cNvPicPr/>
          <p:nvPr/>
        </p:nvPicPr>
        <p:blipFill>
          <a:blip r:embed="rId3"/>
          <a:stretch/>
        </p:blipFill>
        <p:spPr>
          <a:xfrm>
            <a:off x="1116000" y="2852640"/>
            <a:ext cx="1217520" cy="1584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4"/>
          <p:cNvSpPr/>
          <p:nvPr/>
        </p:nvSpPr>
        <p:spPr>
          <a:xfrm>
            <a:off x="2627280" y="3156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ческий фильцеватель. Иглы защищены пластиковой панел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i?id=bda04f038f98069cc21811cdbdc0a7a2-143-144&amp;n=33&amp;h=210"/>
          <p:cNvPicPr/>
          <p:nvPr/>
        </p:nvPicPr>
        <p:blipFill>
          <a:blip r:embed="rId4"/>
          <a:stretch/>
        </p:blipFill>
        <p:spPr>
          <a:xfrm>
            <a:off x="324000" y="4221000"/>
            <a:ext cx="1223640" cy="1224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8"/>
          <p:cNvSpPr/>
          <p:nvPr/>
        </p:nvSpPr>
        <p:spPr>
          <a:xfrm>
            <a:off x="1692360" y="4508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тка для сухого вал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629440" y="544500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ход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3" descr="130202090231"/>
          <p:cNvPicPr/>
          <p:nvPr/>
        </p:nvPicPr>
        <p:blipFill>
          <a:blip r:embed="rId5"/>
          <a:stretch/>
        </p:blipFill>
        <p:spPr>
          <a:xfrm>
            <a:off x="3492360" y="4292640"/>
            <a:ext cx="1152720" cy="102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121228003048"/>
          <p:cNvPicPr/>
          <p:nvPr/>
        </p:nvPicPr>
        <p:blipFill>
          <a:blip r:embed="rId6"/>
          <a:stretch/>
        </p:blipFill>
        <p:spPr>
          <a:xfrm>
            <a:off x="4788000" y="4292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6"/>
          <p:cNvSpPr/>
          <p:nvPr/>
        </p:nvSpPr>
        <p:spPr>
          <a:xfrm>
            <a:off x="5848200" y="4292640"/>
            <a:ext cx="18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взять мат или губку вместо щ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8" descr="130109215652"/>
          <p:cNvPicPr/>
          <p:nvPr/>
        </p:nvPicPr>
        <p:blipFill>
          <a:blip r:embed="rId7"/>
          <a:stretch/>
        </p:blipFill>
        <p:spPr>
          <a:xfrm>
            <a:off x="1116000" y="5373720"/>
            <a:ext cx="1295280" cy="113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130105225419"/>
          <p:cNvPicPr/>
          <p:nvPr/>
        </p:nvPicPr>
        <p:blipFill>
          <a:blip r:embed="rId8"/>
          <a:stretch/>
        </p:blipFill>
        <p:spPr>
          <a:xfrm>
            <a:off x="3995640" y="5373720"/>
            <a:ext cx="1074960" cy="1081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1"/>
          <p:cNvSpPr/>
          <p:nvPr/>
        </p:nvSpPr>
        <p:spPr>
          <a:xfrm>
            <a:off x="5292720" y="551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ерстки для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950760" y="58680"/>
            <a:ext cx="70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редства дл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16:36:17Z</dcterms:created>
  <dc:creator>Женя</dc:creator>
  <dc:description/>
  <dc:language>en-US</dc:language>
  <cp:lastModifiedBy>Ядыкина</cp:lastModifiedBy>
  <dcterms:modified xsi:type="dcterms:W3CDTF">2015-03-20T16:54:11Z</dcterms:modified>
  <cp:revision>48</cp:revision>
  <dc:subject/>
  <dc:title>Валяние</dc:title>
</cp:coreProperties>
</file>