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AA9-9E9C-49A8-8EE5-35CC1582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35B-AC1F-48BF-8D87-5929952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568-7B54-4FE6-A7BC-0DCD62F6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D96-114B-4E11-A9C3-6CDAFA59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EC71-D83F-47F3-B295-D4F08200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9555-A4A4-4429-8080-0471FF71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72A9-79AC-4404-BB26-DCBC5D73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186A-0B64-4E85-8B2D-9C408C32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B2AE-8210-46DD-BDEB-3949711A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8B62-8418-454A-A482-525D78B0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2194-C71D-4C15-98F5-76A14B96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1B6-BFFF-4912-9863-555406A3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BC5D-5E3C-4563-8598-E4EFCB58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2E66-E8D0-4B32-8A7A-4AB13528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77C1-5475-4E9D-B167-B7998B78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4F92-4C0E-4B8D-998D-8C86E583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BC7F-5DF8-4218-8741-D7F099AB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C13-35A6-48A2-8DA1-3005D2D1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A91-9EDE-4C18-9630-88123556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3A9-2DC4-4623-A2C4-76065B4B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0CF-A362-4C7F-BED7-81E20B91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2F5-7E2D-49E0-92A0-63C551A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8A0-6655-445F-84DB-BA8D97E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958-3C48-4118-B8B2-FDC22FF5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1572-A52D-4001-9383-53312DD5C5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8129-8BDF-43D2-B23D-179785FAE3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9246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0776"/>
                </a:solidFill>
                <a:latin typeface="Arial"/>
              </a:rPr>
              <a:t>Тепловая обработка продуктов.</a:t>
            </a: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 Варка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715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1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Как сохранить витамины при вар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4800" y="9903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Чтобы сохранить витамины при варке, необходимо избавиться от кислорода в воде, для этог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окипятить воду 5 мину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слегка подсолить воду, чтобы вывести остаток кислор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оложить овощи, коренья, зел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378240" cy="5079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410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Для тепловой обработки продуктов необходимо иметь: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- несколько кастрюль 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различной емкости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(вместимости) –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от 1 до 5 литров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- сковороды различного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размера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- посуду с толстым дном и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стенками (утятница)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- несколько противней и форм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4876920" cy="15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1. Основной способ </a:t>
            </a:r>
            <a:br>
              <a:rPr sz="3600"/>
            </a:b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варки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24280" y="228600"/>
            <a:ext cx="4191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одукт варят в большом количестве жидкости при температуре 100 граду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Если закрыть кастрюлю крышкой, температура повышается до      101 – 102 граду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 герметически закрытой крышке температура 108 -11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4419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873080"/>
            <a:ext cx="3962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2880" y="609480"/>
            <a:ext cx="3733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 основном способе варки в жидкость переходит максимальное количество питатель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меняется для приготовления бульонов и суп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5720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4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2. Варка на пару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Сохраняется максимальное количество питатель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Широко применяется в лечебном пит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9528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1168e"/>
                </a:solidFill>
                <a:latin typeface="Arial"/>
              </a:rPr>
              <a:t>3. Припускани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10080" y="152280"/>
            <a:ext cx="3276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одукт варят в небольшом количестве жидкости (продукт закрыт жидкостью на 1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3 своей высот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ипускают продукты и в собственном с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ипускают в сотейниках под закрытой крыш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63520"/>
            <a:ext cx="8510400" cy="83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4. Варка на водяной бан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2880" y="91404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одукт кладут в посуду, которую помещают в емкость с кипящей во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Температура продукта составляет 40 – 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меняют для приготовления пудингов, омлетов, со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5720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1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Содержание витаминов в овощах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1680" y="1676520"/>
          <a:ext cx="8540280" cy="4422240"/>
        </p:xfrm>
        <a:graphic>
          <a:graphicData uri="http://schemas.openxmlformats.org/drawingml/2006/table">
            <a:tbl>
              <a:tblPr/>
              <a:tblGrid>
                <a:gridCol w="2999520"/>
                <a:gridCol w="1794240"/>
                <a:gridCol w="1941840"/>
                <a:gridCol w="1804680"/>
              </a:tblGrid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Ово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 (м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А (м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РР (м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Картоф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5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ле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,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Капу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5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ле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,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Морков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,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Укр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50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Лук зеле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60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Огур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,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168e"/>
                </a:solidFill>
                <a:latin typeface="Arial"/>
              </a:rPr>
              <a:t>Это нужно знать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За первые 15 минут варки уходит 30% витамина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и температуре кипения 100 градусов разрушаются витамины группы 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Витамины разрушаются не за счет высокой температуры, а за счет кислорода, который растворен в вод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Прокипяченная вода кислорода не содерж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52:27Z</dcterms:created>
  <dc:creator>Надя</dc:creator>
  <dc:description/>
  <dc:language>en-US</dc:language>
  <cp:lastModifiedBy>надя</cp:lastModifiedBy>
  <dcterms:modified xsi:type="dcterms:W3CDTF">2015-10-07T16:20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