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A28-B482-400E-AB03-943F1F3A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87A-83BB-4169-BC0B-ABD51BF1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64C-1178-455E-AEFE-3921AFD5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4CB-40FC-498F-BAD7-A8CA265B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FC40-0C8D-4A6A-B5CE-E5B79666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0C9E-39B2-4177-A0DD-58566156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FCA8-20E5-4550-8D06-2AAAD4B2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07BC-32B2-4E0B-8BCA-18A41C91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FFEB-4296-477D-AAED-E9AE8809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4EA8-87CE-4124-901C-62C47D4B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3E95-D660-4BF2-B272-CFAA65C3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9B9-4C2A-4D51-9122-766B1F3E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7C48-07A7-4A05-B653-2BF32DE5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9E0C-D537-4936-853E-C6F2099B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93A6-EDBC-4A45-B62A-0FE573B8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22C5-B352-487C-9658-AB7C3548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B081-EE0A-47C0-A978-B8DC68B5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07F-B22C-47F4-BF71-2A6E4F57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2AA-025E-4280-90E7-DD652626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60C-10A6-4F64-BB8D-9DFD5DC8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DF5-8CFD-4076-AD4C-85117E01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3FF-FE05-434C-B693-B72D1671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A81-2409-47F2-9D7D-BC6742A4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244-27E7-445A-A7FF-0083F763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8340-17EF-4CA6-8C2E-098C2313ED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0021-998D-4F58-8F46-483F51152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9246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0776"/>
                </a:solidFill>
                <a:latin typeface="Arial"/>
              </a:rPr>
              <a:t>Тепловая обработка продуктов.</a:t>
            </a: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 Варка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5715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1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Как сохранить витамины при вар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14800" y="9903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Чтобы сохранить витамины при варке, необходимо избавиться от кислорода в воде, для этог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окипятить воду 5 мину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слегка подсолить воду, чтобы вывести остаток кислор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оложить овощи, коренья, зел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378240" cy="5079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410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Для тепловой обработки продуктов необходимо иметь: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- несколько кастрюль 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различной емкости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(вместимости) –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от 1 до 5 литров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- сковороды различного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размера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- посуду с толстым дном и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стенками (утятница)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- несколько противней и форм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4876920" cy="15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1. Основной способ </a:t>
            </a:r>
            <a:br>
              <a:rPr sz="3600"/>
            </a:b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варки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24280" y="228600"/>
            <a:ext cx="4191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одукт варят в большом количестве жидкости при температуре 100 граду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Если закрыть кастрюлю крышкой, температура повышается до      101 – 102 граду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и герметически закрытой крышке температура 108 -11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4419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873080"/>
            <a:ext cx="3962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2880" y="609480"/>
            <a:ext cx="37339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и основном способе варки в жидкость переходит максимальное количество питатель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именяется для приготовления бульонов и суп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5720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4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2. Варка на пару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0" y="1219320"/>
            <a:ext cx="4114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Сохраняется максимальное количество питатель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Широко применяется в лечебном пит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9528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1168e"/>
                </a:solidFill>
                <a:latin typeface="Arial"/>
              </a:rPr>
              <a:t>3. Припускани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10080" y="152280"/>
            <a:ext cx="3276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родукт варят в небольшом количестве жидкости (продукт закрыт жидкостью на 1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3 своей высот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рипускают продукты и в собственном с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рипускают в сотейниках под закрытой крыш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63520"/>
            <a:ext cx="8510400" cy="83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4. Варка на водяной бан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2880" y="91404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одукт кладут в посуду, которую помещают в емкость с кипящей во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Температура продукта составляет 40 – 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именяют для приготовления пудингов, омлетов, со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5720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1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Содержание витаминов в овощах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1680" y="1676520"/>
          <a:ext cx="8540280" cy="4422240"/>
        </p:xfrm>
        <a:graphic>
          <a:graphicData uri="http://schemas.openxmlformats.org/drawingml/2006/table">
            <a:tbl>
              <a:tblPr/>
              <a:tblGrid>
                <a:gridCol w="2999520"/>
                <a:gridCol w="1794240"/>
                <a:gridCol w="1941840"/>
                <a:gridCol w="1804680"/>
              </a:tblGrid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Овощ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 (м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А (м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РР (м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Картоф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15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ле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1,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Капус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5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ле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,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Морков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,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Укр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150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Лук зеле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60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Огур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,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Это нужно знать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За первые 15 минут варки уходит 30% витамина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и температуре кипения 100 градусов разрушаются витамины группы 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Витамины разрушаются не за счет высокой температуры, а за счет кислорода, который растворен в вод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окипяченная вода кислорода не содерж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52:27Z</dcterms:created>
  <dc:creator>Надя</dc:creator>
  <dc:description/>
  <dc:language>en-US</dc:language>
  <cp:lastModifiedBy>надя</cp:lastModifiedBy>
  <dcterms:modified xsi:type="dcterms:W3CDTF">2015-10-07T16:20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