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4D46-F7D9-48D4-B60C-5FDC0EA83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D77-8B5E-40A6-AF16-5D10510A95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1C22-AE94-4CC0-B282-15E932382E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E4EE-F414-44EF-87F8-8F15F58544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E9AC-F866-4151-A11D-529041B685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DFA1-2B78-499D-9EE0-F17E3A02AE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3F7-81BE-485A-8B6E-2AA9AC1B5C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829-F452-40DC-8151-C4E98D56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0BE-1226-42A4-9ECF-B247E488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B23-94EC-4F0D-9726-11389ED2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016-3ED2-4ABB-BEBD-81953A18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F5F9-AB09-4068-998F-02E666FE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8829-F21E-4163-92FA-095159A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7E43-A5E8-4037-8F38-89177682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C11-060F-4159-AF4F-332EFD0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1204-4F02-4458-B0A8-CAC95C8F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0372-5AF6-4C45-A566-124FBEF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5475-78E3-44DC-B7DD-57C79F6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069-A706-4295-AB91-6C763C7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FC11-7AB9-43B1-B1C0-9B10919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3202-6712-410F-8047-531759F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C561-DE51-4726-9B70-50FD85FC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312C-F522-45B6-93FC-9DC6C607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79F5-DE12-4BA7-8DAC-3E52C079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71A-9BD3-4775-A2B7-D5F6A5A2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5B8-E2A5-4C5B-85AF-926B016F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B72-2E48-4D20-9B8F-1958032D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8C0-CB4D-4213-90F2-7D342AA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6C0-8D99-4C3E-8F76-5CB9192F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054-C872-4236-8CA3-F32FB4F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D7D-66BE-46FA-AE54-261576D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EF21-9FA2-4BA4-998D-76E272B23BD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448-AA11-44B8-A408-C0BCAD61001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i="1" lang="ru-RU" sz="9600" spc="-1" strike="noStrike">
                <a:solidFill>
                  <a:srgbClr val="ffff00"/>
                </a:solidFill>
                <a:latin typeface="Monotype Corsiva"/>
              </a:rPr>
              <a:t>Весь мир театр...</a:t>
            </a:r>
            <a:br>
              <a:rPr sz="9600"/>
            </a:br>
            <a:r>
              <a:rPr b="1" i="1" lang="ru-RU" sz="7200" spc="-1" strike="noStrike">
                <a:solidFill>
                  <a:srgbClr val="ffff00"/>
                </a:solidFill>
                <a:latin typeface="Monotype Corsiva"/>
              </a:rPr>
              <a:t>и дети в нем актеры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52902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Gde vodyatsya volshebniki.mp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8286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800" spc="-1" strike="noStrike" u="sng">
                <a:solidFill>
                  <a:srgbClr val="ffff00"/>
                </a:solidFill>
                <a:uFillTx/>
                <a:latin typeface="Monotype Corsiva"/>
              </a:rPr>
              <a:t>Театрализация </a:t>
            </a: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это в первую очередь импровизация, оживление предметов и звуков. Она  тесно взаимосвязана с другими видами деятельности – пением, движением под музыку, слушанием и т.д.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1428840"/>
            <a:ext cx="8143920" cy="23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Monotype Corsiva"/>
              </a:rPr>
              <a:t>Театрализованная деятельность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воляет решать многие задачи, касающиеся формирования выразительности речи, психического и интеллектуального развития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714240" y="378612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познаём мир умом и сердцем, выражаем свое отношение  к  добру  и  злу; познаём  радость, связанную с преодолением трудностей общения, неуверенности  в  себ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Спектакль «Контакт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28720" y="2285640"/>
            <a:ext cx="40006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8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Через тернии звёзд и дым при посадке 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168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иду на контакт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168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  жителям  Земл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3" descr="C:\Documents and Settings\Учитель\Рабочий стол\DSC01582.JPG"/>
          <p:cNvPicPr/>
          <p:nvPr/>
        </p:nvPicPr>
        <p:blipFill>
          <a:blip r:embed="rId1"/>
          <a:srcRect l="63361" t="10102" r="0" b="0"/>
          <a:stretch/>
        </p:blipFill>
        <p:spPr>
          <a:xfrm>
            <a:off x="928800" y="1785960"/>
            <a:ext cx="3214440" cy="4360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Есть – кон-т-а-к-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43560" y="2057400"/>
            <a:ext cx="390600" cy="406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Учитель\Рабочий стол\DSC01585.JPG"/>
          <p:cNvPicPr/>
          <p:nvPr/>
        </p:nvPicPr>
        <p:blipFill>
          <a:blip r:embed="rId2"/>
          <a:srcRect l="15561" t="10102" r="-118" b="-780"/>
          <a:stretch/>
        </p:blipFill>
        <p:spPr>
          <a:xfrm>
            <a:off x="1643040" y="2071800"/>
            <a:ext cx="6286680" cy="4143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Авторский коллектив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F:\фото выступления\DSC09647.JPG"/>
          <p:cNvPicPr/>
          <p:nvPr/>
        </p:nvPicPr>
        <p:blipFill>
          <a:blip r:embed="rId1"/>
          <a:srcRect l="16389" t="9519" r="17697" b="23319"/>
          <a:stretch/>
        </p:blipFill>
        <p:spPr>
          <a:xfrm>
            <a:off x="1857240" y="2071800"/>
            <a:ext cx="5786640" cy="3714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500600" y="2057400"/>
            <a:ext cx="1033560" cy="4068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56800" y="1285560"/>
            <a:ext cx="3000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Творим , выдумываем, пробуем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Рисунок 2" descr="Изображение 002"/>
          <p:cNvPicPr/>
          <p:nvPr/>
        </p:nvPicPr>
        <p:blipFill>
          <a:blip r:embed="rId1"/>
          <a:srcRect l="4510" t="3050" r="14838" b="5893"/>
          <a:stretch/>
        </p:blipFill>
        <p:spPr>
          <a:xfrm>
            <a:off x="4429080" y="857160"/>
            <a:ext cx="40719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ши родители принимают активное участие в театральных  постановках – являясь строгими судь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Рисунок 8" descr="Изображение 2182"/>
          <p:cNvPicPr/>
          <p:nvPr/>
        </p:nvPicPr>
        <p:blipFill>
          <a:blip r:embed="rId1"/>
          <a:srcRect l="3271" t="11766" r="0" b="0"/>
          <a:stretch/>
        </p:blipFill>
        <p:spPr>
          <a:xfrm>
            <a:off x="1457280" y="2428920"/>
            <a:ext cx="6686640" cy="39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ши  результаты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img158"/>
          <p:cNvPicPr/>
          <p:nvPr/>
        </p:nvPicPr>
        <p:blipFill>
          <a:blip r:embed="rId1"/>
          <a:srcRect l="2218" t="1375" r="2218" b="9203"/>
          <a:stretch/>
        </p:blipFill>
        <p:spPr>
          <a:xfrm>
            <a:off x="1071720" y="1643040"/>
            <a:ext cx="3071520" cy="465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Фото для портфолио\для детей\img165.jpg"/>
          <p:cNvPicPr/>
          <p:nvPr/>
        </p:nvPicPr>
        <p:blipFill>
          <a:blip r:embed="rId2"/>
          <a:srcRect l="1361" t="1518" r="2149" b="1518"/>
          <a:stretch/>
        </p:blipFill>
        <p:spPr>
          <a:xfrm>
            <a:off x="5143680" y="1643040"/>
            <a:ext cx="3214440" cy="471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Monotype Corsiva"/>
              </a:rPr>
              <a:t>Продолжение следует…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mic Sans MS"/>
              </a:rPr>
              <a:t>Благодарим за 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Актуальность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356840"/>
            <a:ext cx="8105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атр- один из самых доступных видов искусства для детей, помогающий решить многие актуальные проблемы связанные с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 развитием коммуникативных качеств личности (вербальные и невербальные виды общ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воспитанием воли, развитием памяти, воображения, инициативности, фантазии, реч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м эстетического вкуса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самое главное, что театральная деятельность способствует развитию общечеловеческой способности к межличностному взаимодействию, творчеству в любой области, помогает адаптироваться в обществе, почувствовать себя успешным, т.е способствует развитию интегративных качеств лич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571680"/>
            <a:ext cx="82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00"/>
                </a:solidFill>
                <a:latin typeface="Monotype Corsiva"/>
              </a:rPr>
              <a:t>Цель проекта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14560"/>
            <a:ext cx="7081560" cy="33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спектакл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творческой активности, через проектную деятельнос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Задачи проект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1356840"/>
            <a:ext cx="8248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Развитие коммуникативных навыков через театрализованное представл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Написать сценарий для фестивал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добрать актер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шить костюм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формить сцен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беспечить необходимое техническое оснащени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Что такое театр?.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78483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лучшее, по утверждению К.С.Станиславского, средство для общения людей, для понимания их сокровенных  чувст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3936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Monotype Corsiva"/>
              </a:rPr>
              <a:t>Этапы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Monotype Corsiva"/>
              </a:rPr>
              <a:t> реализации проекта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1 этап. Подготовительный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85520" y="157176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желания и возможности каждого участника проек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возможности вовлечения родителей в создание и реализацию театральной постановки.            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познавательной литерату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сценария «Контакт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борка и изучение иллюстрированной литературы, для выявления различных способов оформления декорац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влечение родителей в создание спектакля (помощь в разработке и изготовлении костюмов, декораций, участие в спектакл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2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этап. Творческий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57160" y="1571400"/>
            <a:ext cx="76773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творческихспособностей участников реализации проек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лана-схемы подготовки к театральной постановк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сценар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эскизов и создание декораций для оформления сце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и создание эскиза костюмов для главных герое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учивание сценария, подбор музыки и песен, постановка танце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3 этап.   Итоговый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880" y="1785960"/>
            <a:ext cx="7748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 спектакля в рамках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II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ого  фестиваля художественного чтения по теме «Мы – дети Земли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одится рефлекс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анализ выступления на фестивал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ефлексия: понравилась ли ребятам самостоятельная подготовка и выступление на фестива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3:44:28Z</dcterms:created>
  <dc:creator>ион</dc:creator>
  <dc:description/>
  <dc:language>en-US</dc:language>
  <cp:lastModifiedBy>metodist2</cp:lastModifiedBy>
  <dcterms:modified xsi:type="dcterms:W3CDTF">2014-02-14T07:34:53Z</dcterms:modified>
  <cp:revision>199</cp:revision>
  <dc:subject/>
  <dc:title>И это всё о нас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49</vt:lpwstr>
  </property>
</Properties>
</file>