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2FE4-B2CA-4FE7-A175-8BB859B376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FD7F-52D3-46F9-BD3E-BC541DDA7A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AF5B-ABEB-4956-8195-DBDCFF10AC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3A26-166A-4F9D-83AF-D0638D6F64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FA0-C2B1-4F81-9E7F-50A1939880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2D87-9904-47DB-A7F1-62099026AB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E456-2EBA-4EA1-A0B3-C23470F1AD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DC1-0CE1-482C-9DD1-1EB6A288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20F-2D12-4E04-98AF-840BBAB6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06A-CD19-48EB-BF11-6B438782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1A9-E0C3-4B70-82FA-B671914F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7F91-DBE3-442C-ACE9-91A609DF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5887-15CA-40A0-8CC8-B32CE09A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001A-AA64-47F9-ABB7-47C85AE8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7F0A-ED35-4D49-8AAF-FB7AB8B4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4E8C-C4BB-43F4-AC69-BC8A15D0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3F34-84E0-43EB-A047-DABA8061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4F69-9375-4E59-8683-74BC755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696-CC1D-4F1E-B746-8FDB4A3E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E253-3928-4375-AA62-11EFBD80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3C5A-6153-4F74-95A9-2D51599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F427-69E4-4970-9690-5DDC67EB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FFD5-1642-4813-8D31-4E17DBAD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9759-3C6B-4387-A693-216DE2CA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F3C-AF04-4428-9B5D-845B1104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80E-585E-47A2-822B-290116E8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C7F-A062-4B8F-99AE-563B14B7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747-3474-4EBE-A34D-31DBF912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F18-28D9-4341-9822-4E46BCFF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BF9-5DB2-4C24-99F0-82AA399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C6D-C589-46A8-A94A-2E5D24FF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F5A-3317-4F14-B1F6-011171FEB8F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AE5F-2EB6-4E38-BA7A-5F0CB227453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i="1" lang="ru-RU" sz="9600" spc="-1" strike="noStrike">
                <a:solidFill>
                  <a:srgbClr val="ffff00"/>
                </a:solidFill>
                <a:latin typeface="Monotype Corsiva"/>
              </a:rPr>
              <a:t>Весь мир театр...</a:t>
            </a:r>
            <a:br>
              <a:rPr sz="9600"/>
            </a:br>
            <a:r>
              <a:rPr b="1" i="1" lang="ru-RU" sz="7200" spc="-1" strike="noStrike">
                <a:solidFill>
                  <a:srgbClr val="ffff00"/>
                </a:solidFill>
                <a:latin typeface="Monotype Corsiva"/>
              </a:rPr>
              <a:t>и дети в нем актеры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529020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" name="Gde vodyatsya volshebniki.mp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8286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800" spc="-1" strike="noStrike" u="sng">
                <a:solidFill>
                  <a:srgbClr val="ffff00"/>
                </a:solidFill>
                <a:uFillTx/>
                <a:latin typeface="Monotype Corsiva"/>
              </a:rPr>
              <a:t>Театрализация </a:t>
            </a:r>
            <a:r>
              <a:rPr b="0" lang="ru-RU" sz="4800" spc="-1" strike="noStrike">
                <a:solidFill>
                  <a:srgbClr val="ffff00"/>
                </a:solidFill>
                <a:latin typeface="Monotype Corsiva"/>
              </a:rPr>
              <a:t>– 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это в первую очередь импровизация, оживление предметов и звуков. Она  тесно взаимосвязана с другими видами деятельности – пением, движением под музыку, слушанием и т.д.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1428840"/>
            <a:ext cx="8143920" cy="23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00"/>
                </a:solidFill>
                <a:uFillTx/>
                <a:latin typeface="Monotype Corsiva"/>
              </a:rPr>
              <a:t>Театрализованная деятельность</a:t>
            </a:r>
            <a:br>
              <a:rPr sz="3200"/>
            </a:br>
            <a:r>
              <a:rPr b="0" i="1" lang="ru-RU" sz="32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воляет решать многие задачи, касающиеся формирования выразительности речи, психического и интеллектуального развития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714240" y="3786120"/>
            <a:ext cx="81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познаём мир умом и сердцем, выражаем свое отношение  к  добру  и  злу; познаём  радость, связанную с преодолением трудностей общения, неуверенности  в  себе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Спектакль «Контакт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28720" y="2285640"/>
            <a:ext cx="40006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8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Через тернии звёзд и дым при посадке 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168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иду на контакт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168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  жителям  Земл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3" descr="C:\Documents and Settings\Учитель\Рабочий стол\DSC01582.JPG"/>
          <p:cNvPicPr/>
          <p:nvPr/>
        </p:nvPicPr>
        <p:blipFill>
          <a:blip r:embed="rId1"/>
          <a:srcRect l="63361" t="10102" r="0" b="0"/>
          <a:stretch/>
        </p:blipFill>
        <p:spPr>
          <a:xfrm>
            <a:off x="928800" y="1785960"/>
            <a:ext cx="3214440" cy="4360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Есть – кон-т-а-к-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43560" y="2057400"/>
            <a:ext cx="390600" cy="4068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Учитель\Рабочий стол\DSC01585.JPG"/>
          <p:cNvPicPr/>
          <p:nvPr/>
        </p:nvPicPr>
        <p:blipFill>
          <a:blip r:embed="rId2"/>
          <a:srcRect l="15561" t="10102" r="-118" b="-780"/>
          <a:stretch/>
        </p:blipFill>
        <p:spPr>
          <a:xfrm>
            <a:off x="1643040" y="2071800"/>
            <a:ext cx="6286680" cy="4143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Авторский коллектив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F:\фото выступления\DSC09647.JPG"/>
          <p:cNvPicPr/>
          <p:nvPr/>
        </p:nvPicPr>
        <p:blipFill>
          <a:blip r:embed="rId1"/>
          <a:srcRect l="16389" t="9519" r="17697" b="23319"/>
          <a:stretch/>
        </p:blipFill>
        <p:spPr>
          <a:xfrm>
            <a:off x="1857240" y="2071800"/>
            <a:ext cx="5786640" cy="3714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500600" y="2057400"/>
            <a:ext cx="1033560" cy="4068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56800" y="1285560"/>
            <a:ext cx="3000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Творим , выдумываем, пробуем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Рисунок 2" descr="Изображение 002"/>
          <p:cNvPicPr/>
          <p:nvPr/>
        </p:nvPicPr>
        <p:blipFill>
          <a:blip r:embed="rId1"/>
          <a:srcRect l="4510" t="3050" r="14838" b="5893"/>
          <a:stretch/>
        </p:blipFill>
        <p:spPr>
          <a:xfrm>
            <a:off x="4429080" y="857160"/>
            <a:ext cx="4071960" cy="5357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9725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аши родители принимают активное участие в театральных  постановках – являясь строгими судь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Рисунок 8" descr="Изображение 2182"/>
          <p:cNvPicPr/>
          <p:nvPr/>
        </p:nvPicPr>
        <p:blipFill>
          <a:blip r:embed="rId1"/>
          <a:srcRect l="3271" t="11766" r="0" b="0"/>
          <a:stretch/>
        </p:blipFill>
        <p:spPr>
          <a:xfrm>
            <a:off x="1457280" y="2428920"/>
            <a:ext cx="6686640" cy="39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ши  результаты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2" descr="img158"/>
          <p:cNvPicPr/>
          <p:nvPr/>
        </p:nvPicPr>
        <p:blipFill>
          <a:blip r:embed="rId1"/>
          <a:srcRect l="2218" t="1375" r="2218" b="9203"/>
          <a:stretch/>
        </p:blipFill>
        <p:spPr>
          <a:xfrm>
            <a:off x="1071720" y="1643040"/>
            <a:ext cx="3071520" cy="465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F:\Фото для портфолио\для детей\img165.jpg"/>
          <p:cNvPicPr/>
          <p:nvPr/>
        </p:nvPicPr>
        <p:blipFill>
          <a:blip r:embed="rId2"/>
          <a:srcRect l="1361" t="1518" r="2149" b="1518"/>
          <a:stretch/>
        </p:blipFill>
        <p:spPr>
          <a:xfrm>
            <a:off x="5143680" y="1643040"/>
            <a:ext cx="3214440" cy="471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Monotype Corsiva"/>
              </a:rPr>
              <a:t>Продолжение следует…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mic Sans MS"/>
              </a:rPr>
              <a:t>Благодарим за вним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Актуальность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356840"/>
            <a:ext cx="8105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атр- один из самых доступных видов искусства для детей, помогающий решить многие актуальные проблемы связанные с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 развитием коммуникативных качеств личности (вербальные и невербальные виды общ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воспитанием воли, развитием памяти, воображения, инициативности, фантазии, реч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м эстетического вкуса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самое главное, что театральная деятельность способствует развитию общечеловеческой способности к межличностному взаимодействию, творчеству в любой области, помогает адаптироваться в обществе, почувствовать себя успешным, т.е способствует развитию интегративных качеств лич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571680"/>
            <a:ext cx="82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00"/>
                </a:solidFill>
                <a:latin typeface="Monotype Corsiva"/>
              </a:rPr>
              <a:t>Цель проекта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014560"/>
            <a:ext cx="7081560" cy="33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спектакл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творческой активности, через проектную деятельнос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Задачи проект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1356840"/>
            <a:ext cx="8248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Развитие коммуникативных навыков через театрализованное представл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Написать сценарий для фестивал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одобрать актер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ошить костюм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формить сцен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беспечить необходимое техническое оснащение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Что такое театр?.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0920" y="1412640"/>
            <a:ext cx="78483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лучшее, по утверждению К.С.Станиславского, средство для общения людей, для понимания их сокровенных  чувст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3936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Monotype Corsiva"/>
              </a:rPr>
              <a:t>Этапы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Monotype Corsiva"/>
              </a:rPr>
              <a:t> реализации проекта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1 этап. Подготовительный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85520" y="157176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желания и возможности каждого участника проек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возможности вовлечения родителей в создание и реализацию театральной постановки.            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познавательной литерату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сценария «Контакт»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борка и изучение иллюстрированной литературы, для выявления различных способов оформления декорац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влечение родителей в создание спектакля (помощь в разработке и изготовлении костюмов, декораций, участие в спектакл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2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этап. Творческий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57160" y="1571400"/>
            <a:ext cx="76773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творческихспособностей участников реализации проек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плана-схемы подготовки к театральной постановк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сценар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эскизов и создание декораций для оформления сце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и создание эскиза костюмов для главных герое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учивание сценария, подбор музыки и песен, постановка танце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316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3 этап.   Итоговый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880" y="1785960"/>
            <a:ext cx="7748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 спектакля в рамках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III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ского  фестиваля художественного чтения по теме «Мы – дети Земли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одится рефлекси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анализ выступления на фестивал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рефлексия: понравилась ли ребятам самостоятельная подготовка и выступление на фестива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35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8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3:44:28Z</dcterms:created>
  <dc:creator>ион</dc:creator>
  <dc:description/>
  <dc:language>en-US</dc:language>
  <cp:lastModifiedBy>metodist2</cp:lastModifiedBy>
  <dcterms:modified xsi:type="dcterms:W3CDTF">2014-02-14T07:34:53Z</dcterms:modified>
  <cp:revision>199</cp:revision>
  <dc:subject/>
  <dc:title>И это всё о нас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49</vt:lpwstr>
  </property>
</Properties>
</file>