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E1183-12E0-4ABC-B915-5017F6663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79123-79C0-4CB2-A668-7FBCFC8AE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A5D1D-766C-4762-A80D-5DCE6E32B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4D43F-FE06-4674-9B2B-2544365CC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564D8-78E4-43D8-BD2D-7D319B101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C847B-FB65-4F7E-9AC0-DEA51A4D8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3ABFB-7204-4536-9C0C-FCDAAE227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6CBAA-94DA-4438-9BB6-445D48AD6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BA7E5-001E-4CF5-83B4-85A64905E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AA871-A95D-435C-8705-00537CAF1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CDBC3-1EF3-4718-BC1C-DCFF84D6D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08D44-AE32-42FF-9F31-F738AB634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5BA23-CD7E-42E2-9834-FA68C8B73C2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2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2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2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2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2.wmf"/><Relationship Id="rId18" Type="http://schemas.openxmlformats.org/officeDocument/2006/relationships/oleObject" Target="../embeddings/oleObject9.bin"/><Relationship Id="rId19" Type="http://schemas.openxmlformats.org/officeDocument/2006/relationships/image" Target="../media/image2.wmf"/><Relationship Id="rId2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2.wmf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2.wmf"/><Relationship Id="rId8" Type="http://schemas.openxmlformats.org/officeDocument/2006/relationships/oleObject" Target="../embeddings/oleObject2.bin"/><Relationship Id="rId9" Type="http://schemas.openxmlformats.org/officeDocument/2006/relationships/image" Target="../media/image2.wmf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2.wmf"/><Relationship Id="rId12" Type="http://schemas.openxmlformats.org/officeDocument/2006/relationships/oleObject" Target="../embeddings/oleObject4.bin"/><Relationship Id="rId13" Type="http://schemas.openxmlformats.org/officeDocument/2006/relationships/image" Target="../media/image2.wmf"/><Relationship Id="rId1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2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2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2.wmf"/><Relationship Id="rId11" Type="http://schemas.openxmlformats.org/officeDocument/2006/relationships/oleObject" Target="../embeddings/oleObject4.bin"/><Relationship Id="rId12" Type="http://schemas.openxmlformats.org/officeDocument/2006/relationships/image" Target="../media/image2.wmf"/><Relationship Id="rId13" Type="http://schemas.openxmlformats.org/officeDocument/2006/relationships/image" Target="../media/image5.jpeg"/><Relationship Id="rId14" Type="http://schemas.openxmlformats.org/officeDocument/2006/relationships/image" Target="../media/image6.jpeg"/><Relationship Id="rId15" Type="http://schemas.openxmlformats.org/officeDocument/2006/relationships/image" Target="../media/image7.jpeg"/><Relationship Id="rId1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2.wmf"/><Relationship Id="rId10" Type="http://schemas.openxmlformats.org/officeDocument/2006/relationships/image" Target="../media/image8.jpeg"/><Relationship Id="rId11" Type="http://schemas.openxmlformats.org/officeDocument/2006/relationships/image" Target="../media/image9.jpeg"/><Relationship Id="rId12" Type="http://schemas.openxmlformats.org/officeDocument/2006/relationships/image" Target="../media/image10.jpeg"/><Relationship Id="rId13" Type="http://schemas.openxmlformats.org/officeDocument/2006/relationships/image" Target="../media/image11.jpeg"/><Relationship Id="rId1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2.wmf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2.wmf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2.wmf"/><Relationship Id="rId10" Type="http://schemas.openxmlformats.org/officeDocument/2006/relationships/image" Target="../media/image12.jpeg"/><Relationship Id="rId11" Type="http://schemas.openxmlformats.org/officeDocument/2006/relationships/image" Target="../media/image13.jpeg"/><Relationship Id="rId12" Type="http://schemas.openxmlformats.org/officeDocument/2006/relationships/image" Target="../media/image14.jpeg"/><Relationship Id="rId1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2.wmf"/><Relationship Id="rId8" Type="http://schemas.openxmlformats.org/officeDocument/2006/relationships/oleObject" Target="../embeddings/oleObject2.bin"/><Relationship Id="rId9" Type="http://schemas.openxmlformats.org/officeDocument/2006/relationships/image" Target="../media/image2.wmf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2.wmf"/><Relationship Id="rId12" Type="http://schemas.openxmlformats.org/officeDocument/2006/relationships/oleObject" Target="../embeddings/oleObject4.bin"/><Relationship Id="rId13" Type="http://schemas.openxmlformats.org/officeDocument/2006/relationships/image" Target="../media/image2.wmf"/><Relationship Id="rId14" Type="http://schemas.openxmlformats.org/officeDocument/2006/relationships/image" Target="../media/image15.jpeg"/><Relationship Id="rId1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oleObject" Target="../embeddings/oleObject1.bin"/><Relationship Id="rId10" Type="http://schemas.openxmlformats.org/officeDocument/2006/relationships/image" Target="../media/image2.wmf"/><Relationship Id="rId11" Type="http://schemas.openxmlformats.org/officeDocument/2006/relationships/oleObject" Target="../embeddings/oleObject2.bin"/><Relationship Id="rId12" Type="http://schemas.openxmlformats.org/officeDocument/2006/relationships/image" Target="../media/image2.wmf"/><Relationship Id="rId13" Type="http://schemas.openxmlformats.org/officeDocument/2006/relationships/oleObject" Target="../embeddings/oleObject3.bin"/><Relationship Id="rId14" Type="http://schemas.openxmlformats.org/officeDocument/2006/relationships/image" Target="../media/image2.wmf"/><Relationship Id="rId15" Type="http://schemas.openxmlformats.org/officeDocument/2006/relationships/oleObject" Target="../embeddings/oleObject4.bin"/><Relationship Id="rId16" Type="http://schemas.openxmlformats.org/officeDocument/2006/relationships/image" Target="../media/image2.wmf"/><Relationship Id="rId1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0" descr="15"/>
          <p:cNvPicPr/>
          <p:nvPr/>
        </p:nvPicPr>
        <p:blipFill>
          <a:blip r:embed="rId1"/>
          <a:stretch/>
        </p:blipFill>
        <p:spPr>
          <a:xfrm>
            <a:off x="10800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722160" y="3500280"/>
            <a:ext cx="7772760" cy="3097800"/>
          </a:xfrm>
          <a:prstGeom prst="rect">
            <a:avLst/>
          </a:prstGeom>
          <a:solidFill>
            <a:srgbClr val="ffff99"/>
          </a:solidFill>
          <a:ln w="9360">
            <a:solidFill>
              <a:srgbClr val="808080"/>
            </a:solidFill>
            <a:miter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entury Schoolbook"/>
              </a:rPr>
              <a:t>ИСПОЛЬЗОВАНИЕ РОДИТЕЛЬСКИХ УГОЛКОВ КАК СРЕДСТВА ИНФОРМАЦИИ И ПРОСВЕЩЕНИЯ РОДИТЕЛЕЙ ПО ФИЗИЧЕСКОМУ РАЗВИТИЮ ДЕТЕЙ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                               </a:t>
            </a:r>
            <a:r>
              <a:rPr b="1" i="1" lang="ru-RU" sz="1600" spc="-1" strike="noStrike">
                <a:solidFill>
                  <a:srgbClr val="000000"/>
                </a:solidFill>
                <a:latin typeface="Century Schoolbook"/>
              </a:rPr>
              <a:t>ВОСПИТАТЕЛЬ  Л.И. ЛАЗАРЕВ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722160" y="18900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Государственное бюджетное дошкольное образовательное учреждение детский сад №8 общеразвивающего вида с приоритетным осуществлением деятельности по физическому развитию детей Пушкинского района Санкт-Петербург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Object 14"/>
          <p:cNvGraphicFramePr/>
          <p:nvPr/>
        </p:nvGraphicFramePr>
        <p:xfrm>
          <a:off x="7839000" y="2997360"/>
          <a:ext cx="1305000" cy="1304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1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839000" y="2997360"/>
                    <a:ext cx="1305000" cy="130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16"/>
          <p:cNvGraphicFramePr/>
          <p:nvPr/>
        </p:nvGraphicFramePr>
        <p:xfrm>
          <a:off x="7164360" y="3068640"/>
          <a:ext cx="80028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1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164360" y="3068640"/>
                    <a:ext cx="80028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17"/>
          <p:cNvGraphicFramePr/>
          <p:nvPr/>
        </p:nvGraphicFramePr>
        <p:xfrm>
          <a:off x="6300720" y="3068640"/>
          <a:ext cx="655560" cy="6555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49" name="Object 1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300720" y="3068640"/>
                    <a:ext cx="655560" cy="65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18"/>
          <p:cNvGraphicFramePr/>
          <p:nvPr/>
        </p:nvGraphicFramePr>
        <p:xfrm>
          <a:off x="5651640" y="3141720"/>
          <a:ext cx="439560" cy="4395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1" name="Object 18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5651640" y="3141720"/>
                    <a:ext cx="439560" cy="43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21"/>
          <p:cNvGraphicFramePr/>
          <p:nvPr/>
        </p:nvGraphicFramePr>
        <p:xfrm>
          <a:off x="5148360" y="3213000"/>
          <a:ext cx="296640" cy="2970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3" name="Object 21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5148360" y="3213000"/>
                    <a:ext cx="296640" cy="29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" name="Object 22"/>
          <p:cNvGraphicFramePr/>
          <p:nvPr/>
        </p:nvGraphicFramePr>
        <p:xfrm>
          <a:off x="4643280" y="3357720"/>
          <a:ext cx="225720" cy="2253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55" name="Object 22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4643280" y="3357720"/>
                    <a:ext cx="225720" cy="22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" name="Object 23"/>
          <p:cNvGraphicFramePr/>
          <p:nvPr/>
        </p:nvGraphicFramePr>
        <p:xfrm>
          <a:off x="4211640" y="3429000"/>
          <a:ext cx="225360" cy="22536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57" name="Object 23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4211640" y="3429000"/>
                    <a:ext cx="225360" cy="22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" name="Object 24"/>
          <p:cNvGraphicFramePr/>
          <p:nvPr/>
        </p:nvGraphicFramePr>
        <p:xfrm>
          <a:off x="3708360" y="3573360"/>
          <a:ext cx="225360" cy="22536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59" name="Object 24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3708360" y="3573360"/>
                    <a:ext cx="225360" cy="22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" name="Object 25"/>
          <p:cNvGraphicFramePr/>
          <p:nvPr/>
        </p:nvGraphicFramePr>
        <p:xfrm>
          <a:off x="3276720" y="3716280"/>
          <a:ext cx="225360" cy="22536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61" name="Object 25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3276720" y="3716280"/>
                    <a:ext cx="225360" cy="22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5" descr="1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1258920" y="1197000"/>
            <a:ext cx="763416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Спасибо за внимание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56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0" name="Object 6"/>
          <p:cNvGraphicFramePr/>
          <p:nvPr/>
        </p:nvGraphicFramePr>
        <p:xfrm>
          <a:off x="1908000" y="189000"/>
          <a:ext cx="873360" cy="873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1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08000" y="189000"/>
                    <a:ext cx="873360" cy="87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2" name="Object 8"/>
          <p:cNvGraphicFramePr/>
          <p:nvPr/>
        </p:nvGraphicFramePr>
        <p:xfrm>
          <a:off x="2843280" y="404640"/>
          <a:ext cx="584280" cy="584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63" name="Object 8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843280" y="404640"/>
                    <a:ext cx="584280" cy="5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4" name="Object 9"/>
          <p:cNvGraphicFramePr/>
          <p:nvPr/>
        </p:nvGraphicFramePr>
        <p:xfrm>
          <a:off x="3635280" y="692280"/>
          <a:ext cx="368280" cy="3682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65" name="Object 9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635280" y="692280"/>
                    <a:ext cx="368280" cy="36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6" name="Object 10"/>
          <p:cNvGraphicFramePr/>
          <p:nvPr/>
        </p:nvGraphicFramePr>
        <p:xfrm>
          <a:off x="4211640" y="836640"/>
          <a:ext cx="223920" cy="2239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67" name="Object 10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211640" y="836640"/>
                    <a:ext cx="223920" cy="22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5" descr="1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40000" y="115560"/>
            <a:ext cx="6480000" cy="1081080"/>
          </a:xfrm>
          <a:prstGeom prst="rect">
            <a:avLst/>
          </a:prstGeom>
          <a:solidFill>
            <a:srgbClr val="ffff99"/>
          </a:solidFill>
          <a:ln w="936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Century Schoolbook"/>
              </a:rPr>
              <a:t>Материалы,</a:t>
            </a: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Century Schoolbook"/>
              </a:rPr>
              <a:t>используемые в родительском уголк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11280" y="1268280"/>
            <a:ext cx="842472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наглядно-информационны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информационно-ознакомительны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информационно-просветительск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entury Schoolbook"/>
              </a:rPr>
              <a:t>Цель использования материалов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знакомление родителей с работой дошкольного учреждения по физическому развитию дете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ормирование знаний о физическом развитии дете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знакомление родителей с основными движениями, общеразвивающими упражнениями;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учение конкретным подвижным играм, приемам и методам игровых упражне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мощь в составлении индивидуальных занятий в условиях семьи, с учетом физического развития дет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Object 6"/>
          <p:cNvGraphicFramePr/>
          <p:nvPr/>
        </p:nvGraphicFramePr>
        <p:xfrm>
          <a:off x="1547640" y="692280"/>
          <a:ext cx="873360" cy="8730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6" name="Object 6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547640" y="692280"/>
                    <a:ext cx="873360" cy="87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" name="Object 8"/>
          <p:cNvGraphicFramePr/>
          <p:nvPr/>
        </p:nvGraphicFramePr>
        <p:xfrm>
          <a:off x="2340000" y="765000"/>
          <a:ext cx="584280" cy="5842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68" name="Object 8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340000" y="765000"/>
                    <a:ext cx="584280" cy="5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" name="Object 9"/>
          <p:cNvGraphicFramePr/>
          <p:nvPr/>
        </p:nvGraphicFramePr>
        <p:xfrm>
          <a:off x="2843280" y="836640"/>
          <a:ext cx="368280" cy="3682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70" name="Object 9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843280" y="836640"/>
                    <a:ext cx="368280" cy="36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" name="Object 10"/>
          <p:cNvGraphicFramePr/>
          <p:nvPr/>
        </p:nvGraphicFramePr>
        <p:xfrm>
          <a:off x="3203640" y="836640"/>
          <a:ext cx="223920" cy="22392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72" name="Object 10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3203640" y="836640"/>
                    <a:ext cx="223920" cy="22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5" descr="1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979280" y="115560"/>
            <a:ext cx="7056360" cy="1584360"/>
          </a:xfrm>
          <a:prstGeom prst="rect">
            <a:avLst/>
          </a:prstGeom>
          <a:solidFill>
            <a:srgbClr val="ffff99"/>
          </a:solidFill>
          <a:ln w="936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Century Schoolbook"/>
              </a:rPr>
              <a:t>Основные компоненты родительского уголка по физическому развитию детей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618920" y="2133720"/>
            <a:ext cx="727380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Полезная информация для родител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Информация для дошкольни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Рисунки и поделки детей по теме «Здоровье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Object 6"/>
          <p:cNvGraphicFramePr/>
          <p:nvPr/>
        </p:nvGraphicFramePr>
        <p:xfrm>
          <a:off x="1403280" y="1341360"/>
          <a:ext cx="873360" cy="873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1341360"/>
                    <a:ext cx="873360" cy="87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8" name="Object 8"/>
          <p:cNvGraphicFramePr/>
          <p:nvPr/>
        </p:nvGraphicFramePr>
        <p:xfrm>
          <a:off x="2050920" y="1773360"/>
          <a:ext cx="584280" cy="5839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9" name="Object 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050920" y="1773360"/>
                    <a:ext cx="584280" cy="58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" name="Object 9"/>
          <p:cNvGraphicFramePr/>
          <p:nvPr/>
        </p:nvGraphicFramePr>
        <p:xfrm>
          <a:off x="2700360" y="1916280"/>
          <a:ext cx="368280" cy="3682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700360" y="1916280"/>
                    <a:ext cx="368280" cy="36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" name="Object 10"/>
          <p:cNvGraphicFramePr/>
          <p:nvPr/>
        </p:nvGraphicFramePr>
        <p:xfrm>
          <a:off x="3203640" y="1916280"/>
          <a:ext cx="223920" cy="2235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8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203640" y="1916280"/>
                    <a:ext cx="223920" cy="22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4" name="Рисунок 1" descr=""/>
          <p:cNvPicPr/>
          <p:nvPr/>
        </p:nvPicPr>
        <p:blipFill>
          <a:blip r:embed="rId13"/>
          <a:stretch/>
        </p:blipFill>
        <p:spPr>
          <a:xfrm>
            <a:off x="87480" y="4197240"/>
            <a:ext cx="3044520" cy="2409840"/>
          </a:xfrm>
          <a:prstGeom prst="rect">
            <a:avLst/>
          </a:prstGeom>
          <a:ln w="0">
            <a:noFill/>
          </a:ln>
        </p:spPr>
      </p:pic>
      <p:pic>
        <p:nvPicPr>
          <p:cNvPr id="85" name="Рисунок 2" descr=""/>
          <p:cNvPicPr/>
          <p:nvPr/>
        </p:nvPicPr>
        <p:blipFill>
          <a:blip r:embed="rId14"/>
          <a:stretch/>
        </p:blipFill>
        <p:spPr>
          <a:xfrm>
            <a:off x="3176640" y="3860640"/>
            <a:ext cx="3095640" cy="2322720"/>
          </a:xfrm>
          <a:prstGeom prst="rect">
            <a:avLst/>
          </a:prstGeom>
          <a:ln w="0">
            <a:noFill/>
          </a:ln>
        </p:spPr>
      </p:pic>
      <p:pic>
        <p:nvPicPr>
          <p:cNvPr id="86" name="Рисунок 1" descr=""/>
          <p:cNvPicPr/>
          <p:nvPr/>
        </p:nvPicPr>
        <p:blipFill>
          <a:blip r:embed="rId15"/>
          <a:stretch/>
        </p:blipFill>
        <p:spPr>
          <a:xfrm>
            <a:off x="6272280" y="4278240"/>
            <a:ext cx="2836800" cy="21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5" descr="1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68000" y="188640"/>
            <a:ext cx="856764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89" name="Object 6"/>
          <p:cNvGraphicFramePr/>
          <p:nvPr/>
        </p:nvGraphicFramePr>
        <p:xfrm>
          <a:off x="82440" y="115920"/>
          <a:ext cx="873360" cy="873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0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2440" y="115920"/>
                    <a:ext cx="873360" cy="87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1" name="Object 8"/>
          <p:cNvGraphicFramePr/>
          <p:nvPr/>
        </p:nvGraphicFramePr>
        <p:xfrm>
          <a:off x="108000" y="893880"/>
          <a:ext cx="584280" cy="583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2" name="Object 8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8000" y="893880"/>
                    <a:ext cx="584280" cy="58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3" name="Object 9"/>
          <p:cNvGraphicFramePr/>
          <p:nvPr/>
        </p:nvGraphicFramePr>
        <p:xfrm>
          <a:off x="117360" y="1628640"/>
          <a:ext cx="368280" cy="3682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94" name="Object 9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7360" y="1628640"/>
                    <a:ext cx="368280" cy="36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5" name="Object 10"/>
          <p:cNvGraphicFramePr/>
          <p:nvPr/>
        </p:nvGraphicFramePr>
        <p:xfrm>
          <a:off x="179280" y="2133720"/>
          <a:ext cx="223920" cy="2235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96" name="Object 10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79280" y="2133720"/>
                    <a:ext cx="223920" cy="22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7" name="Рисунок 1" descr=""/>
          <p:cNvPicPr/>
          <p:nvPr/>
        </p:nvPicPr>
        <p:blipFill>
          <a:blip r:embed="rId10"/>
          <a:stretch/>
        </p:blipFill>
        <p:spPr>
          <a:xfrm>
            <a:off x="4956120" y="3213000"/>
            <a:ext cx="3990960" cy="2992680"/>
          </a:xfrm>
          <a:prstGeom prst="rect">
            <a:avLst/>
          </a:prstGeom>
          <a:ln w="0">
            <a:noFill/>
          </a:ln>
        </p:spPr>
      </p:pic>
      <p:pic>
        <p:nvPicPr>
          <p:cNvPr id="98" name="Рисунок 2" descr=""/>
          <p:cNvPicPr/>
          <p:nvPr/>
        </p:nvPicPr>
        <p:blipFill>
          <a:blip r:embed="rId11"/>
          <a:stretch/>
        </p:blipFill>
        <p:spPr>
          <a:xfrm>
            <a:off x="304920" y="189000"/>
            <a:ext cx="3816360" cy="2860560"/>
          </a:xfrm>
          <a:prstGeom prst="rect">
            <a:avLst/>
          </a:prstGeom>
          <a:ln w="0">
            <a:noFill/>
          </a:ln>
        </p:spPr>
      </p:pic>
      <p:pic>
        <p:nvPicPr>
          <p:cNvPr id="99" name="Рисунок 1" descr=""/>
          <p:cNvPicPr/>
          <p:nvPr/>
        </p:nvPicPr>
        <p:blipFill>
          <a:blip r:embed="rId12"/>
          <a:stretch/>
        </p:blipFill>
        <p:spPr>
          <a:xfrm>
            <a:off x="684360" y="3213000"/>
            <a:ext cx="4010040" cy="3008520"/>
          </a:xfrm>
          <a:prstGeom prst="rect">
            <a:avLst/>
          </a:prstGeom>
          <a:ln w="0">
            <a:noFill/>
          </a:ln>
        </p:spPr>
      </p:pic>
      <p:pic>
        <p:nvPicPr>
          <p:cNvPr id="100" name="Рисунок 2" descr=""/>
          <p:cNvPicPr/>
          <p:nvPr/>
        </p:nvPicPr>
        <p:blipFill>
          <a:blip r:embed="rId13"/>
          <a:stretch/>
        </p:blipFill>
        <p:spPr>
          <a:xfrm>
            <a:off x="4572000" y="189000"/>
            <a:ext cx="3870360" cy="29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5" descr="1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834920" y="-360"/>
            <a:ext cx="7056360" cy="1009800"/>
          </a:xfrm>
          <a:prstGeom prst="rect">
            <a:avLst/>
          </a:prstGeom>
          <a:solidFill>
            <a:srgbClr val="ffff99"/>
          </a:solidFill>
          <a:ln w="936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Century Schoolbook"/>
              </a:rPr>
              <a:t>Темы консультаций для родительского угол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835344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Как правильно одеть ребенка дома и на прогулку?»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Правильный режим дня малыша – основа здоровья»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Рацион здорового ребенка»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Профилактика заболеваний или здоровый малыш»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Общие советы по физическому воспитанию дошколят (осанка, профилактика кариеса, зарядка и т.д.)»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Безопасность в воде»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Десять советов родителям» (по вопросам относительно здоровья ребенка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Кодекс здоровья»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Развитие ребенка и его здоровье»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Особенности развития организма детей»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Примерный перечень двигательных навыков и умений»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Закаливание»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Аскорбинка и ее друзья» о пользе витаминов и т.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Object 6"/>
          <p:cNvGraphicFramePr/>
          <p:nvPr/>
        </p:nvGraphicFramePr>
        <p:xfrm>
          <a:off x="1547640" y="333360"/>
          <a:ext cx="873360" cy="873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5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47640" y="333360"/>
                    <a:ext cx="873360" cy="87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" name="Object 8"/>
          <p:cNvGraphicFramePr/>
          <p:nvPr/>
        </p:nvGraphicFramePr>
        <p:xfrm>
          <a:off x="2268360" y="836640"/>
          <a:ext cx="584280" cy="584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07" name="Object 8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268360" y="836640"/>
                    <a:ext cx="584280" cy="5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8" name="Object 9"/>
          <p:cNvGraphicFramePr/>
          <p:nvPr/>
        </p:nvGraphicFramePr>
        <p:xfrm>
          <a:off x="2916360" y="1052640"/>
          <a:ext cx="368280" cy="3682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09" name="Object 9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916360" y="1052640"/>
                    <a:ext cx="368280" cy="36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0" name="Object 10"/>
          <p:cNvGraphicFramePr/>
          <p:nvPr/>
        </p:nvGraphicFramePr>
        <p:xfrm>
          <a:off x="3419640" y="1268280"/>
          <a:ext cx="223560" cy="2239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11" name="Object 10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419640" y="1268280"/>
                    <a:ext cx="223560" cy="22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5" descr="1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79280" y="115920"/>
            <a:ext cx="7056360" cy="1657440"/>
          </a:xfrm>
          <a:prstGeom prst="rect">
            <a:avLst/>
          </a:prstGeom>
          <a:solidFill>
            <a:srgbClr val="ffff99"/>
          </a:solidFill>
          <a:ln w="936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i="1" lang="ru-RU" sz="4400" spc="-1" strike="noStrike">
                <a:solidFill>
                  <a:srgbClr val="000000"/>
                </a:solidFill>
                <a:latin typeface="Century Schoolbook"/>
              </a:rPr>
              <a:t>«</a:t>
            </a:r>
            <a:r>
              <a:rPr b="1" i="1" lang="ru-RU" sz="3200" spc="-1" strike="noStrike">
                <a:solidFill>
                  <a:srgbClr val="000000"/>
                </a:solidFill>
                <a:latin typeface="Century Schoolbook"/>
              </a:rPr>
              <a:t>Подвижная игра детей, как средство физического развития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99640" y="2349000"/>
            <a:ext cx="7993080" cy="37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сказывания классиков педагогики о назначении подвижной игры для физического развития детей дошкольного возраст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кие атрибуты необходимы ребенку того или иного возраста, их перечень  и фотографи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к организовать игровой уголок дом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раткая характеристика подвижных игр в разном возрасте, их роль в физическом развития дете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комендации по руководству подвижной игрой в семь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писок рекомендуемой литератур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Object 6"/>
          <p:cNvGraphicFramePr/>
          <p:nvPr/>
        </p:nvGraphicFramePr>
        <p:xfrm>
          <a:off x="1476360" y="1268280"/>
          <a:ext cx="873000" cy="873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6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76360" y="1268280"/>
                    <a:ext cx="873000" cy="87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7" name="Object 8"/>
          <p:cNvGraphicFramePr/>
          <p:nvPr/>
        </p:nvGraphicFramePr>
        <p:xfrm>
          <a:off x="2268360" y="1268280"/>
          <a:ext cx="584280" cy="584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18" name="Object 8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268360" y="1268280"/>
                    <a:ext cx="584280" cy="5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9" name="Object 9"/>
          <p:cNvGraphicFramePr/>
          <p:nvPr/>
        </p:nvGraphicFramePr>
        <p:xfrm>
          <a:off x="2916360" y="1268280"/>
          <a:ext cx="368280" cy="3682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0" name="Object 9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916360" y="1268280"/>
                    <a:ext cx="368280" cy="36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1" name="Object 10"/>
          <p:cNvGraphicFramePr/>
          <p:nvPr/>
        </p:nvGraphicFramePr>
        <p:xfrm>
          <a:off x="3419640" y="1268280"/>
          <a:ext cx="223560" cy="2239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22" name="Object 10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419640" y="1268280"/>
                    <a:ext cx="223560" cy="22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1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4" name="Object 5"/>
          <p:cNvGraphicFramePr/>
          <p:nvPr/>
        </p:nvGraphicFramePr>
        <p:xfrm>
          <a:off x="1754280" y="0"/>
          <a:ext cx="873000" cy="873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54280" y="0"/>
                    <a:ext cx="873000" cy="87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Object 6"/>
          <p:cNvGraphicFramePr/>
          <p:nvPr/>
        </p:nvGraphicFramePr>
        <p:xfrm>
          <a:off x="2671920" y="189000"/>
          <a:ext cx="583920" cy="584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671920" y="189000"/>
                    <a:ext cx="583920" cy="5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Object 7"/>
          <p:cNvGraphicFramePr/>
          <p:nvPr/>
        </p:nvGraphicFramePr>
        <p:xfrm>
          <a:off x="3348000" y="260280"/>
          <a:ext cx="368280" cy="3682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348000" y="260280"/>
                    <a:ext cx="368280" cy="36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Object 8"/>
          <p:cNvGraphicFramePr/>
          <p:nvPr/>
        </p:nvGraphicFramePr>
        <p:xfrm>
          <a:off x="3924360" y="189000"/>
          <a:ext cx="223920" cy="2239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Object 8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924360" y="189000"/>
                    <a:ext cx="223920" cy="22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" name="Rectangle 9"/>
          <p:cNvSpPr/>
          <p:nvPr/>
        </p:nvSpPr>
        <p:spPr>
          <a:xfrm>
            <a:off x="5651640" y="2060640"/>
            <a:ext cx="3384360" cy="36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133" name="Рисунок 2" descr=""/>
          <p:cNvPicPr/>
          <p:nvPr/>
        </p:nvPicPr>
        <p:blipFill>
          <a:blip r:embed="rId10"/>
          <a:stretch/>
        </p:blipFill>
        <p:spPr>
          <a:xfrm>
            <a:off x="4716360" y="3405240"/>
            <a:ext cx="4224600" cy="3166920"/>
          </a:xfrm>
          <a:prstGeom prst="rect">
            <a:avLst/>
          </a:prstGeom>
          <a:ln w="0">
            <a:noFill/>
          </a:ln>
        </p:spPr>
      </p:pic>
      <p:pic>
        <p:nvPicPr>
          <p:cNvPr id="134" name="Рисунок 3" descr=""/>
          <p:cNvPicPr/>
          <p:nvPr/>
        </p:nvPicPr>
        <p:blipFill>
          <a:blip r:embed="rId11"/>
          <a:stretch/>
        </p:blipFill>
        <p:spPr>
          <a:xfrm>
            <a:off x="755640" y="954000"/>
            <a:ext cx="3530520" cy="4707000"/>
          </a:xfrm>
          <a:prstGeom prst="rect">
            <a:avLst/>
          </a:prstGeom>
          <a:ln w="0">
            <a:noFill/>
          </a:ln>
        </p:spPr>
      </p:pic>
      <p:pic>
        <p:nvPicPr>
          <p:cNvPr id="135" name="Рисунок 4" descr=""/>
          <p:cNvPicPr/>
          <p:nvPr/>
        </p:nvPicPr>
        <p:blipFill>
          <a:blip r:embed="rId12"/>
          <a:stretch/>
        </p:blipFill>
        <p:spPr>
          <a:xfrm>
            <a:off x="4716360" y="142920"/>
            <a:ext cx="422460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5" descr="1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979280" y="115560"/>
            <a:ext cx="7056360" cy="1152360"/>
          </a:xfrm>
          <a:prstGeom prst="rect">
            <a:avLst/>
          </a:prstGeom>
          <a:solidFill>
            <a:srgbClr val="ffff99"/>
          </a:solidFill>
          <a:ln w="936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Century Schoolbook"/>
              </a:rPr>
              <a:t>Оформление родительского уголк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68360" y="1483920"/>
            <a:ext cx="842472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местоположени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заголовок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информационная составляюща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красоч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Object 6"/>
          <p:cNvGraphicFramePr/>
          <p:nvPr/>
        </p:nvGraphicFramePr>
        <p:xfrm>
          <a:off x="1403280" y="836640"/>
          <a:ext cx="873360" cy="8730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40" name="Object 6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403280" y="836640"/>
                    <a:ext cx="873360" cy="87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1" name="Object 8"/>
          <p:cNvGraphicFramePr/>
          <p:nvPr/>
        </p:nvGraphicFramePr>
        <p:xfrm>
          <a:off x="2268360" y="1125360"/>
          <a:ext cx="584280" cy="5842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42" name="Object 8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268360" y="1125360"/>
                    <a:ext cx="584280" cy="5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3" name="Object 9"/>
          <p:cNvGraphicFramePr/>
          <p:nvPr/>
        </p:nvGraphicFramePr>
        <p:xfrm>
          <a:off x="2916360" y="1268280"/>
          <a:ext cx="368280" cy="3682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44" name="Object 9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916360" y="1268280"/>
                    <a:ext cx="368280" cy="36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5" name="Object 10"/>
          <p:cNvGraphicFramePr/>
          <p:nvPr/>
        </p:nvGraphicFramePr>
        <p:xfrm>
          <a:off x="3419640" y="1268280"/>
          <a:ext cx="223560" cy="22392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46" name="Object 10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3419640" y="1268280"/>
                    <a:ext cx="223560" cy="22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7" name="Рисунок 4" descr=""/>
          <p:cNvPicPr/>
          <p:nvPr/>
        </p:nvPicPr>
        <p:blipFill>
          <a:blip r:embed="rId14"/>
          <a:stretch/>
        </p:blipFill>
        <p:spPr>
          <a:xfrm>
            <a:off x="3114720" y="2852640"/>
            <a:ext cx="518472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5" descr="1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1258920" y="1197000"/>
            <a:ext cx="763416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-25704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одители умеют анализировать и оценивать степень физического здоровья и двигательного развития дете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рганизовывают процесс воспитания в определенной системе, выбирая наиболее целесообразные средства, формы и методы работы в конкретных условиях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вышается ответственность родителей за воспитание детей в семь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стоянно совершенствуются знания родителе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здается атмосфера взаимопонимания и доверительных отношений между родителями, педагогами и детьм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499"/>
              </a:spcBef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исходит обмен опытом между родителям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499"/>
              </a:spcBef>
              <a:buSzPct val="10279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еспечивается совместный успех в деле обучения детей подвижным играм в условиях семь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2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Object 6"/>
          <p:cNvGraphicFramePr/>
          <p:nvPr/>
        </p:nvGraphicFramePr>
        <p:xfrm>
          <a:off x="1908000" y="189000"/>
          <a:ext cx="873360" cy="8730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51" name="Object 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908000" y="189000"/>
                    <a:ext cx="873360" cy="87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2" name="Object 8"/>
          <p:cNvGraphicFramePr/>
          <p:nvPr/>
        </p:nvGraphicFramePr>
        <p:xfrm>
          <a:off x="2843280" y="404640"/>
          <a:ext cx="584280" cy="5842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53" name="Object 8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843280" y="404640"/>
                    <a:ext cx="584280" cy="5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Object 9"/>
          <p:cNvGraphicFramePr/>
          <p:nvPr/>
        </p:nvGraphicFramePr>
        <p:xfrm>
          <a:off x="3635280" y="692280"/>
          <a:ext cx="368280" cy="3682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55" name="Object 9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635280" y="692280"/>
                    <a:ext cx="368280" cy="36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6" name="Object 10"/>
          <p:cNvGraphicFramePr/>
          <p:nvPr/>
        </p:nvGraphicFramePr>
        <p:xfrm>
          <a:off x="4211640" y="836640"/>
          <a:ext cx="223920" cy="2239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57" name="Object 10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4211640" y="836640"/>
                    <a:ext cx="223920" cy="22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5T13:38:56Z</dcterms:created>
  <dc:creator>Юлия</dc:creator>
  <dc:description/>
  <dc:language>en-US</dc:language>
  <cp:lastModifiedBy>Людмила</cp:lastModifiedBy>
  <dcterms:modified xsi:type="dcterms:W3CDTF">2015-03-18T11:32:14Z</dcterms:modified>
  <cp:revision>34</cp:revision>
  <dc:subject/>
  <dc:title>Слайд 1</dc:title>
</cp:coreProperties>
</file>