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C4E-DAC3-4740-B57E-20982D5A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86D-88F2-448D-9361-1CDF80EB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505-78E4-4129-920C-6DC582F3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7CF-DC69-435F-938A-EA21A4B8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95B-6084-4ECB-8B9B-604BF00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428-2E4F-4980-AEB3-D086FD20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5A2-E9DB-436E-9959-CFF93A24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041-79E8-4158-A461-270EBA7C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604-EBF0-4341-BE3C-BA466A00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A0E-96F5-4FB4-B4D9-3E863A8B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4BF-3149-41B1-B93F-FF99A4F3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4FB-18EB-494C-9F07-32CBF00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E242-DBE2-462C-9D77-FD2D0EE64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.wmf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.wmf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.wmf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15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22160" y="3500280"/>
            <a:ext cx="7772760" cy="30978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СПОЛЬЗОВАНИЕ РОДИТЕЛЬСКИХ УГОЛКОВ КАК СРЕДСТВА ИНФОРМАЦИИ И ПРОСВЕЩЕНИЯ РОДИТЕЛЕЙ ПО ФИЗИЧЕСКОМУ РАЗВИТИЮ ДЕТЕ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ВОСПИТАТЕЛЬ  Л.И. ЛАЗАРЕ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2216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ое бюджетное дошкольное образовательное учреждение детский сад №8 общеразвивающего вида с приоритетным осуществлением деятельности по физическому развитию детей Пушкин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14"/>
          <p:cNvGraphicFramePr/>
          <p:nvPr/>
        </p:nvGraphicFramePr>
        <p:xfrm>
          <a:off x="7839000" y="29973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9000" y="29973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6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17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8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21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22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23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4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25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1" name="Object 2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6"/>
          <p:cNvGraphicFramePr/>
          <p:nvPr/>
        </p:nvGraphicFramePr>
        <p:xfrm>
          <a:off x="1908000" y="18900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8900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8"/>
          <p:cNvGraphicFramePr/>
          <p:nvPr/>
        </p:nvGraphicFramePr>
        <p:xfrm>
          <a:off x="2843280" y="40464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3280" y="404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9"/>
          <p:cNvGraphicFramePr/>
          <p:nvPr/>
        </p:nvGraphicFramePr>
        <p:xfrm>
          <a:off x="3635280" y="692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5280" y="692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"/>
          <p:cNvGraphicFramePr/>
          <p:nvPr/>
        </p:nvGraphicFramePr>
        <p:xfrm>
          <a:off x="4211640" y="83664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1640" y="83664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115560"/>
            <a:ext cx="64800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Материалы,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спользуемые в родительском угол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глядно-информацио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формационно-ознакомитель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формационно-просветитель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Цель использования материа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комление родителей с работой дошкольного учреждения по физическому развитию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знаний о физическом развити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комление родителей с основными движениями, общеразвивающими упражнениям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конкретным подвижным играм, приемам и методам игровых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в составлении индивидуальных занятий в условиях семьи, с учетом физического развит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547640" y="692280"/>
          <a:ext cx="873360" cy="87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9228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8"/>
          <p:cNvGraphicFramePr/>
          <p:nvPr/>
        </p:nvGraphicFramePr>
        <p:xfrm>
          <a:off x="2340000" y="765000"/>
          <a:ext cx="584280" cy="58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40000" y="76500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9"/>
          <p:cNvGraphicFramePr/>
          <p:nvPr/>
        </p:nvGraphicFramePr>
        <p:xfrm>
          <a:off x="2843280" y="836640"/>
          <a:ext cx="36828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83664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0"/>
          <p:cNvGraphicFramePr/>
          <p:nvPr/>
        </p:nvGraphicFramePr>
        <p:xfrm>
          <a:off x="3203640" y="836640"/>
          <a:ext cx="223920" cy="223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2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3640" y="83664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сновные компоненты родительского уголка по физическому развитию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8920" y="2133720"/>
            <a:ext cx="727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езная информация для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формация для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исунки и поделки детей по теме «Здоровь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6"/>
          <p:cNvGraphicFramePr/>
          <p:nvPr/>
        </p:nvGraphicFramePr>
        <p:xfrm>
          <a:off x="1403280" y="1341360"/>
          <a:ext cx="873360" cy="87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1341360"/>
                    <a:ext cx="87336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8"/>
          <p:cNvGraphicFramePr/>
          <p:nvPr/>
        </p:nvGraphicFramePr>
        <p:xfrm>
          <a:off x="2050920" y="1773360"/>
          <a:ext cx="584280" cy="58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1773360"/>
                    <a:ext cx="5842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9"/>
          <p:cNvGraphicFramePr/>
          <p:nvPr/>
        </p:nvGraphicFramePr>
        <p:xfrm>
          <a:off x="2700360" y="1916280"/>
          <a:ext cx="3682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1916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0"/>
          <p:cNvGraphicFramePr/>
          <p:nvPr/>
        </p:nvGraphicFramePr>
        <p:xfrm>
          <a:off x="3203640" y="1916280"/>
          <a:ext cx="223920" cy="22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1916280"/>
                    <a:ext cx="223920" cy="22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Рисунок 1" descr=""/>
          <p:cNvPicPr/>
          <p:nvPr/>
        </p:nvPicPr>
        <p:blipFill>
          <a:blip r:embed="rId13"/>
          <a:stretch/>
        </p:blipFill>
        <p:spPr>
          <a:xfrm>
            <a:off x="87480" y="4197240"/>
            <a:ext cx="3044520" cy="2409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"/>
          <p:cNvPicPr/>
          <p:nvPr/>
        </p:nvPicPr>
        <p:blipFill>
          <a:blip r:embed="rId14"/>
          <a:stretch/>
        </p:blipFill>
        <p:spPr>
          <a:xfrm>
            <a:off x="3176640" y="386064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"/>
          <p:cNvPicPr/>
          <p:nvPr/>
        </p:nvPicPr>
        <p:blipFill>
          <a:blip r:embed="rId15"/>
          <a:stretch/>
        </p:blipFill>
        <p:spPr>
          <a:xfrm>
            <a:off x="6272280" y="4278240"/>
            <a:ext cx="28368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5676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9" name="Object 6"/>
          <p:cNvGraphicFramePr/>
          <p:nvPr/>
        </p:nvGraphicFramePr>
        <p:xfrm>
          <a:off x="82440" y="11592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" y="11592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8"/>
          <p:cNvGraphicFramePr/>
          <p:nvPr/>
        </p:nvGraphicFramePr>
        <p:xfrm>
          <a:off x="108000" y="893880"/>
          <a:ext cx="58428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893880"/>
                    <a:ext cx="5842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9"/>
          <p:cNvGraphicFramePr/>
          <p:nvPr/>
        </p:nvGraphicFramePr>
        <p:xfrm>
          <a:off x="117360" y="162864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360" y="162864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0"/>
          <p:cNvGraphicFramePr/>
          <p:nvPr/>
        </p:nvGraphicFramePr>
        <p:xfrm>
          <a:off x="179280" y="2133720"/>
          <a:ext cx="223920" cy="223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2133720"/>
                    <a:ext cx="223920" cy="22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Рисунок 1" descr=""/>
          <p:cNvPicPr/>
          <p:nvPr/>
        </p:nvPicPr>
        <p:blipFill>
          <a:blip r:embed="rId10"/>
          <a:stretch/>
        </p:blipFill>
        <p:spPr>
          <a:xfrm>
            <a:off x="4956120" y="3213000"/>
            <a:ext cx="3990960" cy="2992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11"/>
          <a:stretch/>
        </p:blipFill>
        <p:spPr>
          <a:xfrm>
            <a:off x="304920" y="189000"/>
            <a:ext cx="3816360" cy="2860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12"/>
          <a:stretch/>
        </p:blipFill>
        <p:spPr>
          <a:xfrm>
            <a:off x="684360" y="3213000"/>
            <a:ext cx="4010040" cy="3008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13"/>
          <a:stretch/>
        </p:blipFill>
        <p:spPr>
          <a:xfrm>
            <a:off x="4572000" y="189000"/>
            <a:ext cx="3870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7056360" cy="10098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Темы консультаций для родительского уго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к правильно одеть ребенка дома и на прогулку?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авильный режим дня малыша – основа здоровь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цион здорового ребенк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офилактика заболеваний или здоровый малыш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бщие советы по физическому воспитанию дошколят (осанка, профилактика кариеса, зарядка и т.д.)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зопасность в вод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сять советов родителям» (по вопросам относительно здоровья ребен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декс здоровь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звитие ребенка и его здоровь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собенности развития организма дете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имерный перечень двигательных навыков и умени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каливани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скорбинка и ее друзья» о пользе витамин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1547640" y="333360"/>
          <a:ext cx="87336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33336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8"/>
          <p:cNvGraphicFramePr/>
          <p:nvPr/>
        </p:nvGraphicFramePr>
        <p:xfrm>
          <a:off x="2268360" y="83664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836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9"/>
          <p:cNvGraphicFramePr/>
          <p:nvPr/>
        </p:nvGraphicFramePr>
        <p:xfrm>
          <a:off x="2916360" y="105264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05264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16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одвижная игра детей, как средство физического развит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9930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казывания классиков педагогики о назначении подвижной игры для физического развития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атрибуты необходимы ребенку того или иного возраста, их перечень  и фотограф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организовать игровой уголок до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кая характеристика подвижных игр в разном возрасте, их роль в физическом развити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по руководству подвижной игрой в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рекомендуем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5"/>
          <p:cNvGraphicFramePr/>
          <p:nvPr/>
        </p:nvGraphicFramePr>
        <p:xfrm>
          <a:off x="1754280" y="0"/>
          <a:ext cx="873000" cy="8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4280" y="0"/>
                    <a:ext cx="8730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2671920" y="189000"/>
          <a:ext cx="5839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71920" y="189000"/>
                    <a:ext cx="583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7"/>
          <p:cNvGraphicFramePr/>
          <p:nvPr/>
        </p:nvGraphicFramePr>
        <p:xfrm>
          <a:off x="3348000" y="260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8000" y="260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8"/>
          <p:cNvGraphicFramePr/>
          <p:nvPr/>
        </p:nvGraphicFramePr>
        <p:xfrm>
          <a:off x="3924360" y="189000"/>
          <a:ext cx="22392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18900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3" name="Рисунок 2" descr=""/>
          <p:cNvPicPr/>
          <p:nvPr/>
        </p:nvPicPr>
        <p:blipFill>
          <a:blip r:embed="rId10"/>
          <a:stretch/>
        </p:blipFill>
        <p:spPr>
          <a:xfrm>
            <a:off x="4716360" y="3405240"/>
            <a:ext cx="4224600" cy="3166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"/>
          <p:cNvPicPr/>
          <p:nvPr/>
        </p:nvPicPr>
        <p:blipFill>
          <a:blip r:embed="rId11"/>
          <a:stretch/>
        </p:blipFill>
        <p:spPr>
          <a:xfrm>
            <a:off x="755640" y="954000"/>
            <a:ext cx="3530520" cy="4707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12"/>
          <a:stretch/>
        </p:blipFill>
        <p:spPr>
          <a:xfrm>
            <a:off x="4716360" y="142920"/>
            <a:ext cx="4224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7056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формление родительского угол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стополо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голов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формационная составляющ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со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403280" y="836640"/>
          <a:ext cx="873360" cy="87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83664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8"/>
          <p:cNvGraphicFramePr/>
          <p:nvPr/>
        </p:nvGraphicFramePr>
        <p:xfrm>
          <a:off x="2268360" y="1125360"/>
          <a:ext cx="584280" cy="58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112536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Рисунок 4" descr=""/>
          <p:cNvPicPr/>
          <p:nvPr/>
        </p:nvPicPr>
        <p:blipFill>
          <a:blip r:embed="rId14"/>
          <a:stretch/>
        </p:blipFill>
        <p:spPr>
          <a:xfrm>
            <a:off x="3114720" y="285264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 умеют анализировать и оценивать степень физического здоровья и двигательного развити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ывают процесс воспитания в определенной системе, выбирая наиболее целесообразные средства, формы и методы работы в конкрет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ается ответственность родителей за воспитание детей в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 совершенствуются знания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ся атмосфера взаимопонимания и доверительных отношений между родителями, педагогами и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обмен опытом между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совместный успех в деле обучения детей подвижным играм в условиях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908000" y="189000"/>
          <a:ext cx="873360" cy="87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189000"/>
                    <a:ext cx="873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8"/>
          <p:cNvGraphicFramePr/>
          <p:nvPr/>
        </p:nvGraphicFramePr>
        <p:xfrm>
          <a:off x="2843280" y="404640"/>
          <a:ext cx="584280" cy="584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40464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9"/>
          <p:cNvGraphicFramePr/>
          <p:nvPr/>
        </p:nvGraphicFramePr>
        <p:xfrm>
          <a:off x="3635280" y="692280"/>
          <a:ext cx="36828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692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"/>
          <p:cNvGraphicFramePr/>
          <p:nvPr/>
        </p:nvGraphicFramePr>
        <p:xfrm>
          <a:off x="4211640" y="836640"/>
          <a:ext cx="223920" cy="2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83664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38:56Z</dcterms:created>
  <dc:creator>Юлия</dc:creator>
  <dc:description/>
  <dc:language>en-US</dc:language>
  <cp:lastModifiedBy>Людмила</cp:lastModifiedBy>
  <dcterms:modified xsi:type="dcterms:W3CDTF">2015-03-18T11:32:14Z</dcterms:modified>
  <cp:revision>34</cp:revision>
  <dc:subject/>
  <dc:title>Слайд 1</dc:title>
</cp:coreProperties>
</file>