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62C-6C4B-41C5-96E0-DF8DB39F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926-7499-4234-AD75-92F499D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648-8DDC-444E-9892-49BA09E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034-F8A5-4FBD-8336-1B963E04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6AF-A5C1-49A7-97B1-E075BC2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706-0C98-4073-971B-3CF3056E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9BC-BF7B-4E56-A2CB-6F800CEF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D51-3843-4947-8806-37571B3B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49B-8BB4-4F7B-8915-E6004609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DC2-BC32-42B7-BE8B-732268F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D36-FBDB-4823-9985-175A204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370-6DCA-486F-9171-F755BD6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30B8-BF65-45D9-8340-977FC806A1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0%25D0%25BD%25D0%25B3%25D0%25BB%25D0%25B8%25D0%25B9%25D1%2581%25D0%25BA%25D0%25B8%25D0%25B9_%25D1%258F%25D0%25B7%25D1%258B%25D0%25BA" TargetMode="External"/><Relationship Id="rId2" Type="http://schemas.openxmlformats.org/officeDocument/2006/relationships/hyperlink" Target="file:///../../../wiki/%25D0%2591%25D0%25B0%25D1%2581%25D0%25BA%25D0%25B5%25D1%2582%25D0%25B1%25D0%25BE%25D0%25BB%25D1%258C%25D0%25BD%25D1%258B%25D0%25B9_%25D0%25BC%25D1%258F%25D1%2587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аскетбо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л: Атопшев Андр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 : Данилов Евг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918600" y="64882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5-20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380880"/>
            <a:ext cx="5977080" cy="455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Содержание понятия игры баскетб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Баскетбол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англ.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aske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корзина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al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мяч) — спортивная командная игра с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яч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 баскетбол играют две команды, каждая из которых состоит из пяти игроков. Цель каждой команды — забросить руками мяч в кольцо с сеткой (корзину) соперника и помешать другой команде овладеть мячом и забросить его в свою корзину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зина (кольцо с сеткой) находится на высоте 3,05 метра от пола (10 футов). От каждой команды на площадке находится по 5 человек, всего в команде 12 человек, замены не ограничены. За мяч, заброшенный с ближней и средней дистанции, засчитывается 2 очка, с дальней (из-за трехочковой линии) — 3 очка. Штрафной бросок оценивается в одно очко. Стандартный размер баскетбольной площадки 28 метров в длину и 15 метров в ширину. Баскетбол один из самых популярных видов спорта в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8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3059280" y="544500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684360" y="5445000"/>
            <a:ext cx="1677960" cy="106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5076720" y="5445000"/>
            <a:ext cx="142884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7"/>
          <a:stretch/>
        </p:blipFill>
        <p:spPr>
          <a:xfrm>
            <a:off x="7093080" y="5445000"/>
            <a:ext cx="15001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5324760" cy="64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стория развития баскетбол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Рисунок 3" descr="C:\Documents and Settings\Admin\Рабочий стол\Сабина\IMGOOpj7yIA.jpg"/>
          <p:cNvPicPr/>
          <p:nvPr/>
        </p:nvPicPr>
        <p:blipFill>
          <a:blip r:embed="rId1"/>
          <a:stretch/>
        </p:blipFill>
        <p:spPr>
          <a:xfrm>
            <a:off x="250920" y="105264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124000" y="32274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1" descr="C:\Documents and Settings\Admin\Рабочий стол\Сабина\1628246.jpg"/>
          <p:cNvPicPr/>
          <p:nvPr/>
        </p:nvPicPr>
        <p:blipFill>
          <a:blip r:embed="rId2"/>
          <a:stretch/>
        </p:blipFill>
        <p:spPr>
          <a:xfrm>
            <a:off x="6948360" y="3860640"/>
            <a:ext cx="1989360" cy="1917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4211640" y="148428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48000" y="90792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ой из наиболее распространённых на сегодняшний день игр с мячом является баскетбол. Это подвижная, весёлая игра, развивающая ловкость и вынослив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 любая другая спортивная игра, баскетбол помогает организму поддерживать и восстанавливать здоровье, сохранять молодость. В баскетбол играют и дети, и молодёжь, и люди старшего поколения. Этой игре и посвящена моя раб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9280" y="3789360"/>
            <a:ext cx="66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6600"/>
                </a:solidFill>
                <a:uFillTx/>
                <a:latin typeface="Tahoma"/>
              </a:rPr>
              <a:t>Актуальность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современной жизни все больше использование занятий физическими упражнениями направлено не на достижение высоких результатов, а на повышение их оздоровительного влияния на широкие массы населения. Для решения такой глобальной проблемы наиболее эффективными средствами являются,  прежде всего,  спортивные игры. (. Матвеев Л.П, 1991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C:\Documents and Settings\Admin\Рабочий стол\Сабина\sport_sky_squad_basketball_acrobatics.jpg"/>
          <p:cNvPicPr/>
          <p:nvPr/>
        </p:nvPicPr>
        <p:blipFill>
          <a:blip r:embed="rId1"/>
          <a:stretch/>
        </p:blipFill>
        <p:spPr>
          <a:xfrm>
            <a:off x="3348000" y="83664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274320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скетбол - не только самый увлекательный, но и самый совершенный из игровых видов спорта. Он предпочтительней всех других по динамике, разнообразию игровых ситуаций, зрелищности и эмоциональности восприятия. Баскетбол не ограничивает количество разыгрываемых очков, как, например, волейбол или тенни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скетбол сегодня - самый гармонично развивающийся вид спорта. Он не зажат в тисках одной только интенсификации по принципу «атлетизм плюс скорость», как другие спортивные игры. В нем заложены богатейшие внутренние возможности для развития игрового мышления и совершенствования технических прием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22400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1369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380520"/>
            <a:ext cx="5554800" cy="60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История зарождения баскетбол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3068640"/>
            <a:ext cx="757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рыгивающий мяч, эта детская забава, безусловно же, завораживает. Как, впрочем, и любой другой периодический процесс: колебания маятника, вращение скакалки или популярный сегодня настольный сувенир Mobil, имитирующий вечный двигатель. В этом смысле человек недалеко ушел от кош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ечно, идей всевозможных игр с мячом в истории человечества было гораздо больше, чем те несколько игр, которые оформились как современные виды спорта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возможной предтечи баскетбола спортивные историки называют игры: «пок-тапок» (VII в. н. э., Центральная Америк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1657080" cy="122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728720" cy="135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1716120" cy="128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5003640" y="162864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5"/>
          <a:stretch/>
        </p:blipFill>
        <p:spPr>
          <a:xfrm>
            <a:off x="6948360" y="1628640"/>
            <a:ext cx="1390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464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ткрытие Джеймса Нейсмит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Рисунок 6" descr="C:\Documents and Settings\Admin\Рабочий стол\nsmith.gif"/>
          <p:cNvPicPr/>
          <p:nvPr/>
        </p:nvPicPr>
        <p:blipFill>
          <a:blip r:embed="rId1"/>
          <a:stretch/>
        </p:blipFill>
        <p:spPr>
          <a:xfrm>
            <a:off x="539640" y="260280"/>
            <a:ext cx="3168720" cy="273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067280" y="1268280"/>
            <a:ext cx="4825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скетбол, пожалуй, единственный из популярных видов спорта, дата и место возникновения которого доподлинно известны. Об этом знаменательном событии написан не один десяток книг, часто с вымышленными подробностями повествующих о первых шагах этого будущего пристрастия миллионов. И, тем не менее, имеет смысл хотя бы схематично обозначить основные моменты становления и развития баскетбола, искусственно изобретенной игры, сумевшей за считанные десятилетия завоевать сердца поклонников во всем мире, что само по себе представляется явлением беспрецедентны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79280" y="3068640"/>
            <a:ext cx="3864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подаватель физкультуры, профессором колледжа в Спрингфелде, Джеймс Нейсмит столкнулся с проблемой создания игры для зимы штата Массачусетс, периода между соревнованиями по бейсболу и футбол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йсмит полагал, что в связи с погодой этого времени года, лучшим решением будет изобрести игру для закрытых помещени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50920" y="142164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кабре 1891 года, Джеймс Нейсмит представил своему гимнастическому классу в Спрингфилде (YMCA) свое безымянное изобретени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ньше чем за час, Джеймс Нейсмит, сидя за столом в своем офисе в YMCA сформулировал тринадцать правил игры в баскетбо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течением времени баскетбол изменялся…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февраля 1892 года, изучив правила и освоив азы техники, студенты Спрингфилдского колледжа в присутствии ста зрителей провели первый в истории баскетбола "официальный" матч, мирно завершившийся с результатом 2:2. Его успех был настолько оглушительным, а слух о новой игре распространился с такой скоростью, что вскоре две спрингфилдские команды стали проводить показательные встречи, собирая на своих выступлениях сотни зри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1042920" y="5300640"/>
            <a:ext cx="1584360" cy="114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3348000" y="5300640"/>
            <a:ext cx="1655640" cy="113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3348000" y="333360"/>
            <a:ext cx="16556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1573200" cy="109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6"/>
          <a:stretch/>
        </p:blipFill>
        <p:spPr>
          <a:xfrm>
            <a:off x="5867280" y="5300640"/>
            <a:ext cx="1573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404640"/>
            <a:ext cx="5338800" cy="455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рождение баскетбола в Росс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79640" y="1052640"/>
            <a:ext cx="700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ой отечественного баскетбола является Санкт-Петербург. Факт этот общеизвестен и сомнений не вызывае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минание об этой игре в нашей стране принадлежит известному русскому пропагандисту физической культуры и спорта петербуржцу Георгию Дюпперону и относится оно к 1901 году. Еще в сентябре 1900 года в Петербурге был создан Комитет содействия нравственному и умственному развитию молодых люд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3470400"/>
            <a:ext cx="813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09 году состоялось событие, ставшее определенной вехой в истории не только отечественного, но и мирового баскетбола, В Петербург приехала группа членов американской ассоциации христиан. Из них и была составлена баскетбольная команда, которая, к общей радости петербуржцев, проиграла местной команде "лиловых” со счетом 19:28. Эта встреча проходила в новом зале Общества "Маяк” в доме № 35 на Надежденской улице (в советские времена - улица Маяковского). Именно эта историческая встреча в книге "Мировой баскетбол”, изданной в Мюнхене в 1972 году к 40,-летию баскетбольной федерации ФИБА, названа первым настоящим международным баскетбольным матче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58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85120" y="836640"/>
            <a:ext cx="105408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00000" y="1916280"/>
            <a:ext cx="75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скетболист должен быть всесторонне физически развитым спортсменом. Для этого надо воспитывать в себе такие важные физические качества, как быстрота движений (передачи, броски, перехваты мяча и др.), скорость передвижения (бег, уход в отрыв, возвращение в защиту и др.), прыгучесть (броски в кольцо, борьба за отскочивший мяч), ловкость (финты, борьба за мяч), глазомер (передачи, броски) и, конечно, выносливость, без которой 40 мин игрового времени станут невероятно трудными. Особенно когда против команды применяется прессин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13280" y="6308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1428840" cy="122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142884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2987640" y="4508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5"/>
          <a:stretch/>
        </p:blipFill>
        <p:spPr>
          <a:xfrm>
            <a:off x="4500720" y="4653000"/>
            <a:ext cx="142848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6"/>
          <a:stretch/>
        </p:blipFill>
        <p:spPr>
          <a:xfrm>
            <a:off x="6443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7"/>
          <a:stretch/>
        </p:blipFill>
        <p:spPr>
          <a:xfrm>
            <a:off x="4643280" y="404640"/>
            <a:ext cx="1152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6:07:17Z</dcterms:created>
  <dc:creator>Никитос</dc:creator>
  <dc:description/>
  <dc:language>en-US</dc:language>
  <cp:lastModifiedBy>User</cp:lastModifiedBy>
  <dcterms:modified xsi:type="dcterms:W3CDTF">2015-09-27T07:24:24Z</dcterms:modified>
  <cp:revision>5</cp:revision>
  <dc:subject/>
  <dc:title>История развития баскетбол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