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4797-4DA1-4103-9D66-8133ADC76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8135-19A7-4CD8-84EB-77688595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2550-6AB2-4660-B70D-5DB31394A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566D-662C-43BE-907A-2F973323A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F80C-BDE1-4360-ACB9-29EA6AA73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73F1-821D-4D4D-9AF5-6806E6B1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A69B-6EF9-4699-A8C6-FFF88931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D798-37CA-44F7-9759-FA8F2645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E4BD-8511-42D1-B79C-49F5B980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4EDE-6212-41E5-A634-85121065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2013-3DAE-43F2-B114-1AF917F8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DAD5-B0CF-45AA-B9AB-081D4874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BEA3-76F1-401E-8CF6-D5A04247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7F63-0890-4F0F-BA27-63A5C187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4427-9B5C-4185-B2B0-E9A2A6A2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E54E-5D03-40A4-9279-F36067926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784F-36ED-4775-B055-A8BD5C317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A94BD-7BFB-42DB-A5B3-D6255C3EC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44127-078B-46BB-9F50-C9A31879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267C3-527E-416D-96B7-07667F23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D4525-1915-49A5-ABAA-3CD0B18D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78B0D-84E5-445C-A77E-EEA333B4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55CE-674C-4C03-9FE2-6B6FD027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FA859-0D7E-4EB3-ADF9-DFA95B50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6E89B-6E29-434C-8263-9AE09A2A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CFB5E-F8B1-4972-866B-55CF3418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88890-A09B-4C40-BCD6-F5F33112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F6084-DD83-4CF3-8407-6270E9C4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38F81-E3B1-413D-AD88-094309632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80B38-E8A9-4786-9DA5-B7844FE64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7C035-E2F4-465F-A753-E62CE8E88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9B6BD-E2B7-4D35-806B-20C6F075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1CF2F-D652-4356-88F9-CD87D5D4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BFB8-2B09-457B-AF0D-68F0F0CB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793DF-400F-493C-A2D5-D489F653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82DD0-7BC3-4328-BD4E-8F14375F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921BC-79B6-41C2-BF91-526BE3D0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6E118-1C16-49E5-AF00-42533BCA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5578E-0842-4C65-AF13-8B902852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D3C76-F42F-44D5-9109-BBFF7AA9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4F938-B96E-4A3C-9475-69805243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513A0-F1FC-43AD-BF7A-FB54641C0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EE94C-92C9-47FD-A699-434145052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BDAC5-4086-4B78-8602-5B2CF51E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8BEC-B275-42FD-8F3D-0C968D92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94C5F-28F9-4FAE-9B99-64E0D8CC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F6480-813D-473A-9B7C-E3C089D8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FA736-7215-470A-AD49-6654393D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5F3CC-659A-4B9A-993F-D83DD81B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409FC-50D5-47F5-A73D-935EC3F6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AFC2B-10D1-44B4-9D77-EA677E32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E39B1-0FCC-482C-BF68-538C43E3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4BB6B-721B-4C22-B503-99ECAB5F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F89AB-CBD0-4EB0-B705-D1DAFBA4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2F9E0-14A2-40DE-B1A6-6915BB86C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9A38-AFE9-43B1-BBB6-4FF22E95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35D6A-0B06-4FBF-BAAA-4910AD50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C84DA-B4DB-4671-B9F4-57668D04A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340CA-73E2-45AA-957A-F38D8025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1C286-A5A3-481A-94AD-6C6F3371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C7546-CEBC-48CD-B3F0-87D62B36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3BC55-7629-4CAC-8525-D8FA39D0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02B3D-C7E2-49F6-9843-2D8ED2B9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5DAE6-B6A3-4570-9BEB-BA1EF54E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30280-D16E-4583-8C53-228B9DBA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500E8-A370-4F20-BF0A-7119C817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58AE-C607-4A3A-A164-2DF11CC4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1710E-DDE4-4E22-9F27-D4F3FC64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22298-5EDE-4597-AFFE-93B6118AE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3FA3B-9BBA-4B3C-8737-9940F700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63AAC-E400-4954-B7EC-7A6A3097E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20D30-F42F-4332-B359-DC425DF0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1DCC1-93F0-46E6-88E4-CED77C44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6D203-7CE5-455A-B210-FBFDF3CC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8936D-DEF6-4F9B-9D6D-42555811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03D04-0FA8-4AA4-9B83-81324B48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26FF5-315C-46B1-9F58-03E19C1F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BA41-3908-4796-9C2E-B6F49E20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74A73-9813-4E96-A04B-69B4095D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A1D46-94C4-4F0C-BFBE-C1774F9B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7D2A2-49FF-486E-A687-6CE7E15F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C8E82-BAD6-4AD8-AF89-558635A00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2C855-A421-4BC2-91F5-C305A9C81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4188-7A5E-4829-AC6D-7A0DF6BA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D8B7-F5EE-492F-A107-E2546BC897DF}" type="slidenum">
              <a:rPr b="0" lang="bg-BG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D4F0-B778-4E22-9B2B-AF0FEF88D184}" type="slidenum">
              <a:rPr b="0" lang="bg-BG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857A-99F8-44AA-96F1-CACD6C311836}" type="slidenum">
              <a:rPr b="0" lang="bg-BG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5D07-CE27-4BBF-98B0-51C840D22EE4}" type="slidenum">
              <a:rPr b="0" lang="bg-BG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DA6A-EA5D-4614-AC38-FDA3BA0E1684}" type="slidenum">
              <a:rPr b="0" lang="bg-BG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7148-6ADA-47F5-BC82-576BD4741A35}" type="slidenum">
              <a:rPr b="0" lang="bg-BG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312F-3906-409D-B4E5-F6C28C6DDD3E}" type="slidenum">
              <a:rPr b="0" lang="bg-BG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8" descr=""/>
          <p:cNvPicPr/>
          <p:nvPr/>
        </p:nvPicPr>
        <p:blipFill>
          <a:blip r:embed="rId1"/>
          <a:stretch/>
        </p:blipFill>
        <p:spPr>
          <a:xfrm>
            <a:off x="604800" y="152280"/>
            <a:ext cx="7662960" cy="505152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6"/>
          <p:cNvSpPr/>
          <p:nvPr/>
        </p:nvSpPr>
        <p:spPr>
          <a:xfrm>
            <a:off x="5149800" y="53593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ыполнила Сорокина Екатер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5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7" descr=""/>
          <p:cNvPicPr/>
          <p:nvPr/>
        </p:nvPicPr>
        <p:blipFill>
          <a:blip r:embed="rId1"/>
          <a:stretch/>
        </p:blipFill>
        <p:spPr>
          <a:xfrm>
            <a:off x="368280" y="380880"/>
            <a:ext cx="854712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6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960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5" descr=""/>
          <p:cNvPicPr/>
          <p:nvPr/>
        </p:nvPicPr>
        <p:blipFill>
          <a:blip r:embed="rId1"/>
          <a:stretch/>
        </p:blipFill>
        <p:spPr>
          <a:xfrm>
            <a:off x="-39600" y="318960"/>
            <a:ext cx="8691480" cy="635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7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153640" cy="61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Candara"/>
              </a:rPr>
              <a:t>Быстрый обмен веществ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7" descr=""/>
          <p:cNvPicPr/>
          <p:nvPr/>
        </p:nvPicPr>
        <p:blipFill>
          <a:blip r:embed="rId1"/>
          <a:stretch/>
        </p:blipFill>
        <p:spPr>
          <a:xfrm>
            <a:off x="312840" y="1528920"/>
            <a:ext cx="861372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5" descr=""/>
          <p:cNvPicPr/>
          <p:nvPr/>
        </p:nvPicPr>
        <p:blipFill>
          <a:blip r:embed="rId1"/>
          <a:stretch/>
        </p:blipFill>
        <p:spPr>
          <a:xfrm>
            <a:off x="334800" y="1428840"/>
            <a:ext cx="822816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andara"/>
              </a:rPr>
              <a:t>Конец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andara"/>
              </a:rPr>
              <a:t>Спасибо за просмотр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5-10-08T20:01:53Z</dcterms:modified>
  <cp:revision>2</cp:revision>
  <dc:subject/>
  <dc:title>Презентация PowerPoint</dc:title>
</cp:coreProperties>
</file>