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6EA5-9C1B-458C-B9B3-18037D7D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858B-84AC-401A-8A50-2C058CC9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DBED-A54D-4801-8E18-53C5D024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E745-287C-41B3-B9C0-75280EA4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72C9-26FE-49F7-B7B6-B17C85CD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05AE-937E-4A03-A4AA-C13EDF1C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00FB-3480-4C2F-9F96-A2ADD881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42FF-8409-43B0-86F9-88223FEF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5490-1B4F-49EF-933C-EFFA3DD1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76A8-733F-44B8-AB1B-970F1B3F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F529-AB4C-4D56-B73B-26D0EE18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D03-DEEC-4C31-8B8B-DB601F0E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25FA-5F63-4D78-BED6-C391B3E1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1ED1-0358-43E3-BFEB-9EEB7C2B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30D1-1850-406F-AB19-211A8503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BE65-D71B-4D02-B546-9A782AE5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D38B-859C-4B98-9B81-A926F1CA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4690A-1215-4B28-9956-8E8ED52D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69219-F285-4560-AE89-99938A8E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F996C-EB01-4F90-B0E5-90A5CE5B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3052F-B0D9-4904-91D6-3309753A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EDD57-3475-48B1-9F73-8C1BF9A5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A074-B6AB-4467-B936-11FB8DE0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2A11A-E746-475B-A637-BD602DE6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69ACD-8923-46A3-B3BE-1CC7D550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020F1-56B8-424F-B8F3-62784B90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05145-D814-49F9-980F-B2932DF2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94350-F25D-45CE-9C26-962DACD1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906A0-F714-4A0B-9C02-A3B5144F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8C65F-2706-40A4-A2A6-442EEFF6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A7045-CCE0-43C0-BAC7-24460AB9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F5CAA-6803-452E-B9B6-8A4735A9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CE988-697D-4BB7-9A13-D47D4732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5F38-4B91-4A9C-BAFC-4E00E64C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888E6-1AD6-4E8D-B8AA-010CE7AD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7BAE2-1009-4903-9DC2-2214D422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5862E-F8CD-4E66-A8AA-829B1AE8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DA611-D686-476A-B1AD-ADE24261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65DFB-9568-4CC6-B206-4A75F19E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C464C-055D-4800-9251-39B2EEDE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133BD-7519-47F0-BD02-CA440F4E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C8AA5-7B4B-4B89-919E-DD47548E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3609C-02D6-4415-9772-9FB99E28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47BBC-5824-4393-89CF-4EBC868A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19B8-BC24-4377-AB1D-43099942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6AD95-AE23-441F-A2AF-581EC8E2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D0B04-FA6E-42E6-AD89-DD742AAC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36B42-3C6C-4247-AFF7-1DE614A5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D2D17-E610-4395-9065-251A92E8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81DAC-BF72-4484-A933-89771A3B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1B73E-CDF6-47CA-88D2-2EACDD72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A94C5-A470-4F7B-9B55-0BBBD5E8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172E5-9F9D-4844-8567-78EAF653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CFA53-6105-48EA-A53F-1235F534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80B08-EDF7-4EFB-A938-07FEDB48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7CF3-72A5-4459-968B-2D1D0E70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8AF25-8A6D-4D34-8B48-111CD9A4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0CBF9-6632-4534-9D76-C9140FB8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E0555-44F0-4574-A296-1D8D73E2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4F502-468A-4C3D-8858-9F27A737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3DC54-40FC-45E0-A333-4BB821F5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C0497-BA8F-4758-8069-7ECA6A1A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65358-6787-494C-B419-3E0C60A8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CA27B-CA8C-41D8-ABE5-2AB8FCE4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93F0B-249B-43E5-BAAA-367D2D26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8841C-E3DA-4C33-8984-C55DAE19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0550-B2BC-4EE9-8DF8-5164F8CD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E2B89-932F-4F71-A337-A220C279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8E713-DB26-4CEB-A21B-C585AE95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8522F-2012-4B14-86D2-FCF617F4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9FF10-8D42-4925-9712-B48FB400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D59FA-480E-4447-8923-D8BE8F6C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D2705-328B-4429-A3F9-C1A36D03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D425B-47ED-43F5-A828-F5E8559E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FD5A9-8BB4-4324-AA2B-1BBC3216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E8E0F-AC77-4938-AB8B-0312D001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AA77A-40A1-4E42-9736-5D116387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43D8-2758-4E7A-9DB7-0B1758A9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D2CBA-A35D-46C8-A9E2-8877F81E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F2D0F-0ADA-4A52-90AE-068A440D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39A75-96B3-4AA9-86F2-01EE41C0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2B6CE-4B1A-42A4-B5B3-D27FCC01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5B997-DDCD-4B1A-9F99-4A7DB72B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BB23-2269-4EB5-9949-532B6AA7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064E-8CD2-401E-B743-6E352D8648C0}" type="slidenum">
              <a:rPr b="0" lang="bg-BG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2FD5-FA1B-42F5-8CED-41395DC25744}" type="slidenum">
              <a:rPr b="0" lang="bg-BG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B2A4-58AB-48AA-A7C4-742CAA1D7177}" type="slidenum">
              <a:rPr b="0" lang="bg-BG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E970-59F1-4FDC-8C7A-5C3010C84E38}" type="slidenum">
              <a:rPr b="0" lang="bg-BG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F6CB-55A8-454F-9095-3AE33BEA2191}" type="slidenum">
              <a:rPr b="0" lang="bg-BG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8AAF-A908-4D8C-BB94-E8F1F382BB5B}" type="slidenum">
              <a:rPr b="0" lang="bg-BG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7B6D-1D8B-4E73-9051-2189195F3829}" type="slidenum">
              <a:rPr b="0" lang="bg-BG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8" descr=""/>
          <p:cNvPicPr/>
          <p:nvPr/>
        </p:nvPicPr>
        <p:blipFill>
          <a:blip r:embed="rId1"/>
          <a:stretch/>
        </p:blipFill>
        <p:spPr>
          <a:xfrm>
            <a:off x="604800" y="152280"/>
            <a:ext cx="7662960" cy="50515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6"/>
          <p:cNvSpPr/>
          <p:nvPr/>
        </p:nvSpPr>
        <p:spPr>
          <a:xfrm>
            <a:off x="5149800" y="53593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ыполнила Сорокина Екатер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7" descr=""/>
          <p:cNvPicPr/>
          <p:nvPr/>
        </p:nvPicPr>
        <p:blipFill>
          <a:blip r:embed="rId1"/>
          <a:stretch/>
        </p:blipFill>
        <p:spPr>
          <a:xfrm>
            <a:off x="368280" y="380880"/>
            <a:ext cx="85471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6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960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-39600" y="318960"/>
            <a:ext cx="8691480" cy="635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7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15364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Candara"/>
              </a:rPr>
              <a:t>Быстрый обмен веществ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312840" y="1528920"/>
            <a:ext cx="861372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5" descr=""/>
          <p:cNvPicPr/>
          <p:nvPr/>
        </p:nvPicPr>
        <p:blipFill>
          <a:blip r:embed="rId1"/>
          <a:stretch/>
        </p:blipFill>
        <p:spPr>
          <a:xfrm>
            <a:off x="334800" y="1428840"/>
            <a:ext cx="822816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andara"/>
              </a:rPr>
              <a:t>Конец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andara"/>
              </a:rPr>
              <a:t>Спасибо за просмотр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5-10-08T20:01:53Z</dcterms:modified>
  <cp:revision>2</cp:revision>
  <dc:subject/>
  <dc:title>Презентация PowerPoint</dc:title>
</cp:coreProperties>
</file>