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5C2F-BC3E-4B85-B73D-475FEE8A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003-F490-4089-975C-2E276EC7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400-6E62-4F4B-9A01-6800503B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4F8-EA4C-4780-9642-53F994FF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7A0-4523-4626-B2DD-ACF5C954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4ED-E56D-435E-8ED4-81433998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56E5-5E1C-4A40-8F88-3CC33B6B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D14-BABC-40DF-86D3-31E669A8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646D-F23C-466E-BDC7-CC086213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3C0-0E55-4C8B-8080-79CA5922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08D6-A253-4225-B014-3BC5B95F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89F-44D2-462B-B61C-96500C70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F397-DAF3-497D-ACFC-4F70C1FF67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1957" TargetMode="External"/><Relationship Id="rId3" Type="http://schemas.openxmlformats.org/officeDocument/2006/relationships/hyperlink" Target="http://ru.wikipedia.org/wiki/1958" TargetMode="External"/><Relationship Id="rId4" Type="http://schemas.openxmlformats.org/officeDocument/2006/relationships/hyperlink" Target="http://ru.wikipedia.org/wiki/1961" TargetMode="External"/><Relationship Id="rId5" Type="http://schemas.openxmlformats.org/officeDocument/2006/relationships/hyperlink" Target="http://ru.wikipedia.org/wiki/1962" TargetMode="External"/><Relationship Id="rId6" Type="http://schemas.openxmlformats.org/officeDocument/2006/relationships/hyperlink" Target="http://ru.wikipedia.org/w/index.php?title=&#1042;&#1099;&#1089;&#1096;&#1080;&#1077;_&#1083;&#1080;&#1090;&#1077;&#1088;&#1072;&#1090;&#1091;&#1088;&#1085;&#1099;&#1077;_&#1082;&#1091;&#1088;&#1089;&#1099;&amp;action=edit&amp;redlink=1" TargetMode="External"/><Relationship Id="rId7" Type="http://schemas.openxmlformats.org/officeDocument/2006/relationships/hyperlink" Target="http://ru.wikipedia.org/wiki/&#1052;&#1086;&#1089;&#1082;&#1074;&#1072;" TargetMode="External"/><Relationship Id="rId8" Type="http://schemas.openxmlformats.org/officeDocument/2006/relationships/hyperlink" Target="http://ru.wikipedia.org/wiki/1980" TargetMode="External"/><Relationship Id="rId9" Type="http://schemas.openxmlformats.org/officeDocument/2006/relationships/hyperlink" Target="http://ru.wikipedia.org/wiki/1986" TargetMode="External"/><Relationship Id="rId10" Type="http://schemas.openxmlformats.org/officeDocument/2006/relationships/hyperlink" Target="http://ru.wikipedia.org/wiki/1986" TargetMode="External"/><Relationship Id="rId11" Type="http://schemas.openxmlformats.org/officeDocument/2006/relationships/hyperlink" Target="http://ru.wikipedia.org/wiki/1989" TargetMode="External"/><Relationship Id="rId12" Type="http://schemas.openxmlformats.org/officeDocument/2006/relationships/hyperlink" Target="http://ru.wikipedia.org/wiki/1990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334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6600ff"/>
                </a:solidFill>
                <a:latin typeface="Calibri"/>
              </a:rPr>
              <a:t>«Читая книгу жизни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10" descr="http://im7-tub.yandex.net/i?id=47118688&amp;tov=7"/>
          <p:cNvPicPr/>
          <p:nvPr/>
        </p:nvPicPr>
        <p:blipFill>
          <a:blip r:embed="rId2"/>
          <a:stretch/>
        </p:blipFill>
        <p:spPr>
          <a:xfrm>
            <a:off x="1476360" y="404640"/>
            <a:ext cx="3503520" cy="5185080"/>
          </a:xfrm>
          <a:prstGeom prst="rect">
            <a:avLst/>
          </a:prstGeom>
          <a:ln w="0">
            <a:noFill/>
          </a:ln>
        </p:spPr>
      </p:pic>
      <p:sp>
        <p:nvSpPr>
          <p:cNvPr id="43" name="Содержимое 2"/>
          <p:cNvSpPr/>
          <p:nvPr/>
        </p:nvSpPr>
        <p:spPr>
          <a:xfrm>
            <a:off x="5867280" y="1341360"/>
            <a:ext cx="30258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Calibri"/>
              </a:rPr>
              <a:t>Всего сильней – огонь душ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Calibri"/>
              </a:rPr>
              <a:t>Открыть в себе его спеш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. Скребцо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http://im4-tub.yandex.net/i?id=30085463&amp;tov=4"/>
          <p:cNvPicPr/>
          <p:nvPr/>
        </p:nvPicPr>
        <p:blipFill>
          <a:blip r:embed="rId2"/>
          <a:stretch/>
        </p:blipFill>
        <p:spPr>
          <a:xfrm>
            <a:off x="4557600" y="3841920"/>
            <a:ext cx="28800" cy="428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" descr="http://im4-tub.yandex.net/i?id=30085463&amp;tov=4"/>
          <p:cNvPicPr/>
          <p:nvPr/>
        </p:nvPicPr>
        <p:blipFill>
          <a:blip r:embed="rId3"/>
          <a:stretch/>
        </p:blipFill>
        <p:spPr>
          <a:xfrm>
            <a:off x="0" y="1413000"/>
            <a:ext cx="2789280" cy="3168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916360" y="260280"/>
            <a:ext cx="622764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вгений Носов родился в семье потомственного мастерового, кузнеца. Закончил до войны восемь классов. Шестнадцатилетним юношей пережил фашистскую оккупацию. После Курского сражения (5 июля - 23 августа 1943), Носов ушёл на фронт, поступив в артиллерийские войска. В 1945 под Кенигсбергом был ранен и 9 мая 1945 был встречен в госпитале в Серпухове, о чём позже написал рассказ «Красное вино победы». Выйдя из госпиталя, получил пособие по инвалидности. После войны закончил среднюю школу. Уехал в Среднюю Азию, работал художником, оформителем, литературным сотрудником. Начал писать про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7" descr="Следующая"/>
          <p:cNvPicPr/>
          <p:nvPr/>
        </p:nvPicPr>
        <p:blipFill>
          <a:blip r:embed="rId2"/>
          <a:stretch/>
        </p:blipFill>
        <p:spPr>
          <a:xfrm>
            <a:off x="250920" y="1332000"/>
            <a:ext cx="5113080" cy="34653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http://im4-tub.yandex.net/i?id=25594713&amp;tov=4"/>
          <p:cNvPicPr/>
          <p:nvPr/>
        </p:nvPicPr>
        <p:blipFill>
          <a:blip r:embed="rId3"/>
          <a:srcRect l="0" t="4193" r="0" b="4193"/>
          <a:stretch/>
        </p:blipFill>
        <p:spPr>
          <a:xfrm>
            <a:off x="5133960" y="620640"/>
            <a:ext cx="40100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Bookman Old Style"/>
              </a:rPr>
              <a:t>Творчество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13880"/>
            <a:ext cx="832968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жнейшие темы творчества Е.И. Носова— военная и деревенская.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57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первая публикация, рассказ «Радуга» был опубликован в курском альманахе.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1958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ходит его первая книга рассказов и повестей «На рыбачьей тропе».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196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озвращается в Курск, становится профессиональным писателем.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196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учится н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Высших литературных курса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Москв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Много печатался в журналах «Наш современник», «Новый мир», где вышли лучшие его рассказы и повести, занимая достойное место в русской литературе. Большой успех имела повесть «Усвятские шлемоносцы»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198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198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д этим названием выходит его сборник повестей и рассказо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198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 в том же году - книга очерков «На дальней станции сойду»;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198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книга рассказов для младших школьников «Где просыпается солнце»;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199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повести и рассказы «В чистом поле»; в 1992 — книга рассказов для старших школьников «Красное вино победы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Bookman Old Style"/>
              </a:rPr>
              <a:t>Звания и наград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714240"/>
            <a:ext cx="81867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рой Соц. Труда (1990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граждён Орденами Ленина (1984, 1990) и Отечественной войны, медаля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сударственная премия РСФСР (1975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мии журнала «НС» (197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мия «Литературной газеты» (1988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мия газеты «Правда» (1990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мия им. М.Шолохова (1996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мия журнала «Юность» (1997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мия «Москва — Пенне» (1998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мия им. А. Платонова «Умное сердце» (2000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мия Александра Солженицына (2001) — «...чьи произведения в полновесной правде явили трагическое начало Великой Отечественной войны, её ход, её последствия для русской деревни и позднюю горечь пренебрежённых ветеранов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нсия Президента РФ (с 199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Bookman Old Style"/>
              </a:rPr>
              <a:t>Е. Носов и А. Солженицы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8" descr="http://im0-tub.yandex.net/i?id=14747014&amp;tov=0"/>
          <p:cNvPicPr/>
          <p:nvPr/>
        </p:nvPicPr>
        <p:blipFill>
          <a:blip r:embed="rId2"/>
          <a:stretch/>
        </p:blipFill>
        <p:spPr>
          <a:xfrm>
            <a:off x="2428920" y="2000160"/>
            <a:ext cx="42148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Bookman Old Style"/>
              </a:rPr>
              <a:t>Книги Е. Нос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13" descr="http://im6-tub.yandex.net/i?id=39425524&amp;tov=6"/>
          <p:cNvPicPr/>
          <p:nvPr/>
        </p:nvPicPr>
        <p:blipFill>
          <a:blip r:embed="rId2"/>
          <a:stretch/>
        </p:blipFill>
        <p:spPr>
          <a:xfrm>
            <a:off x="539640" y="1844640"/>
            <a:ext cx="2322720" cy="3384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2" descr="Следующая"/>
          <p:cNvPicPr/>
          <p:nvPr/>
        </p:nvPicPr>
        <p:blipFill>
          <a:blip r:embed="rId3"/>
          <a:stretch/>
        </p:blipFill>
        <p:spPr>
          <a:xfrm>
            <a:off x="3419640" y="2565360"/>
            <a:ext cx="2435040" cy="35290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5" descr="Следующая"/>
          <p:cNvPicPr/>
          <p:nvPr/>
        </p:nvPicPr>
        <p:blipFill>
          <a:blip r:embed="rId4"/>
          <a:stretch/>
        </p:blipFill>
        <p:spPr>
          <a:xfrm>
            <a:off x="6543720" y="3141720"/>
            <a:ext cx="2276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25268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859280" y="1700280"/>
            <a:ext cx="428472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08:08:43Z</dcterms:created>
  <dc:creator>Пользователь</dc:creator>
  <dc:description/>
  <dc:language>en-US</dc:language>
  <cp:lastModifiedBy>класс10</cp:lastModifiedBy>
  <dcterms:modified xsi:type="dcterms:W3CDTF">2010-04-21T23:52:09Z</dcterms:modified>
  <cp:revision>14</cp:revision>
  <dc:subject/>
  <dc:title>«Читая книгу жизни…»</dc:title>
</cp:coreProperties>
</file>