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EDD-B2DA-4B0C-88A5-71D065CD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4913-F42B-4767-855E-FB30F836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7AADF-9840-42EF-80FD-EA680BA8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B13A8-032C-41B2-91FB-F90D6E89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61520-5805-4525-8188-8B1F34F7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A23A3-77FA-43DC-91D4-88770673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77E51-0CDC-43B9-8BD5-CB8FD3CD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C3311-A5C8-402B-A720-8761EAE4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8367A-B891-4501-A111-D5EB64BD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EED40-D632-497B-AA19-989FF350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7FB18-11D0-4577-8BF5-F16A92EB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682E5-DDCF-4FD0-8483-222055C5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2CB-3E1F-460A-A2F2-FDBD7413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6ACE5-2F1B-42FE-9C85-0A11197F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17AC1-A5DC-48C9-A27D-89099C02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EC859-7DD4-4C70-90D6-DDB39D12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EA701-5856-4AB0-AC83-B6A6828B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9EE60-8658-4C1C-8348-CB82644B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9BF83-8312-468B-8D55-1A6BDDCD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1BA25-1CE2-4887-813E-FF75FE2A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827B6-D1BB-4257-B337-4F6487C4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61F7A-A65D-44AB-AD03-7A44A4BE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AC3FA-8607-4BE0-BA44-DE4842E0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2FA-E97F-4724-AA43-F6519299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5A1F8-1989-49F1-8C7E-058D7D57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9C846-BD3E-4554-ACDA-9680A18C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47705-FDC9-4B97-BC5D-0180DEE6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2FBF1-F562-4145-8751-360087CA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8FE8A-23C0-453F-AD34-E6142D33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3E694-7B15-40E0-BDB6-0070D7BF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3E2D1-0214-42B3-8DD4-021EDB77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AA854-3E43-4449-BFAF-23673966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FADC7-B661-4D40-8F92-ADE93429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BFA93-4594-49AE-9E11-9451810B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80AE-6AE9-4B75-AC46-08765F77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AABAA-B87F-4478-B316-6BC317E3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E9050-290D-4360-87E7-5B8F72E7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5695C-C4D6-4429-B55C-E61E9D11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C4748-D1C3-43C3-8B0D-A17CA1DB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6FBA7-81EB-4A7F-99E6-3E0356C9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F056F-F391-42A5-BF6B-3FDB7F27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09991-FFD2-4F05-AEE0-7EFCF981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3F4DD-DEE1-47EE-BE5C-A901650F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F4F19-4D7C-4B52-B8A2-960C1251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CD818-A5B2-4B11-85B3-1F2BB2B9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5B0D-A7E2-4F8A-B6BD-ADB117DF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4CFCB-915C-43E7-9454-93C1B8F0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72369-94C2-443F-BF02-525D4AED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314B5-4E5F-434E-97A6-F8CF5ACD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80097-66F5-45D4-A171-C6B9A16F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151A8-804D-46B2-9B36-068C754C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E9F9-3679-4D64-8A3C-395DA7E4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3E4D-F4D4-46D1-A602-BEB53603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B541-80F9-4327-9D73-C4DF861D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3662-30AC-43AB-8AFF-8FCDE113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FE1D-CB81-45E5-B7FD-F0BF236B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5BB8-C5AA-4D77-90D7-80895544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6F4C-9B37-4184-83AE-82437A93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E66B-FB86-4E8D-8823-228D2840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93C7-E419-4FA2-B8FD-2246D7B7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F588-7E4B-4DE9-AC70-EBFB34F4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5A8E-C4B8-4329-9EDE-242AA9CF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AB4EE-3AD9-4382-A899-40ED9755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BC8B9-B9DD-4020-96C4-8ADEE719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FAE41-7AA5-433A-B23A-A58C5B7E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FA748-91E2-4226-9506-BD2BD61F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58F81-D51F-44FD-AE8E-C6690345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C28-D302-421A-9519-319C615E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878EF-2B4E-4BA3-86E8-99DBC465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00826-A181-495A-92C0-5706D112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E1354-FE7F-4993-AABB-B33A22BC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B6D81-5B18-4DB4-B4F5-924D6574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77699-91E6-4430-B584-809213A4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E685-865C-4BF1-81B2-80893CD7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F44AE-2CBB-4893-A924-091A3C67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EAE86-AF0C-44BD-94C2-28E94653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67FF1-5C39-4180-AE0F-F17B5ABC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2C4D0-3F30-49D7-9CDB-09815316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47E-265A-40C6-8D0A-CDB581A0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E4954-F829-41D1-A4A0-7AD912E6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3D6E9-172E-4286-9DA3-C4762579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1B639-D9F6-4A80-86F5-A5B67834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F3083-B064-47C0-ACC3-53C136E3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2134E-A65A-4EE3-BD16-5DA861BE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A817A-499A-446F-AF16-27A3C892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9A064-F474-4337-BD56-912C8583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D617B-2E48-4CBD-8570-67A84653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1A2D7-AF77-40B6-83A9-A43EBC67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7B73A-1889-442C-BC7A-24D66CC1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A371-C4FC-4C90-A724-C5E7DE07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9DB01-275F-4062-808B-C698293A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8FF17-51B2-4A5C-A522-05EBC3DE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A0B61-B23B-458C-B93F-F2D66FA1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03089-DCCC-45C2-90AD-D09BFD5F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57729-D82D-4A6E-9A9E-3F9EA859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4F4E2-7A3D-4E44-A5F3-7EB826C6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D21D3-C136-4A13-8826-FD2277E6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D6D66-B3C4-45A5-A43B-997BBC3E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124A0-32DF-4E31-99E1-52600773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AB627-CED8-48C5-A49A-33DD8F72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E45A-5140-48ED-8013-85863E4C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369F3-AEBB-4366-A39A-C38F6D47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13678-7530-435C-83E5-99849C14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CC775-EF47-4A6A-9108-2B11E60A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B1969-0046-42C5-A559-73033C0A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D2A76-B900-47FF-BA17-9DF839A6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076A1-C514-4F4D-A8A5-13DEAD68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1523E-CB9F-49A8-A26F-6CEED031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951B9-ADD1-4653-BB9E-316DCB82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94EEA-8033-4EC9-BFD4-C5D63AF7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8D5E4-B8BF-459D-BE37-41BA15B9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621-B66C-41D7-A246-C9975E85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6CC60-3BE7-4422-A7FD-9C1FB689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0CF78-5F4B-40D1-B151-58788A86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882A2-0EEC-4D79-8997-A813C03E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49FBC-7E75-4367-978F-EDBA54DD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C6504-FB93-4736-A810-6D7D3E07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44C23-1CF5-41EE-A58A-B7E9592F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24E2A-B9C0-4B22-8DEB-D4A39C79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546D0-B6BC-416F-B291-047C669E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B8ED1-BFD8-4082-9AF2-2DFE423F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9737E-0CC1-494D-8AF2-999D6537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5B9-AAD2-40A3-A42A-90CADFE6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18450-CA94-464A-AD52-38648181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DB88B-4BAB-4DD3-AA93-52C0310D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8B748-9EA2-44B0-A944-E9D6D92B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DC2BD-935D-42C2-8AA3-6467D2EC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1DF3A-991B-4726-B837-DE63D70F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68FA7-0F3D-4EAD-B56E-1C0A090D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E8593-02CF-4096-99EA-77C03928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96D1A-010B-49CA-8D1C-BC78F628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7782B-888E-4599-BE8D-2BC164ED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7C616-9A70-4234-BCFB-25237111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FFF-BE71-450A-B02A-3A2C7B96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3AE94-4E99-4013-966D-2005884E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6B84A-9B00-4238-BDEB-00F216CA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83E11-56ED-4F59-9376-C7F67FF4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4F796-902C-4456-90D6-26E94239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DFAC8-D98F-4601-8E73-F1C94BB7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7F4DB-A720-485D-A723-6EF9F899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301C6-C58E-4F30-A85F-5B713E0E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7E658-52E6-45AE-9848-52DCBC40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EACB6-81DE-411F-81A6-9A5B3C1B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DDAE4-8551-48EE-ADB2-F5C37CF7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A72A-4260-4CFE-A85D-13B7B6BF5B1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7E0E-3B56-4B87-A4D3-3181B9A9A84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E758-3F43-441E-A7DE-1B145C82276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2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27BE-C6DD-4796-B5F4-87289F118D8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0247-9B3A-42C3-9AB0-88394D69AD4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C873-38DF-49C9-B57F-FDC4347F42C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5EAD-F186-4FAA-8D17-CA6A5E2B364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668F-E4DC-467E-A791-0448B69EDDC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0F14-58D3-4617-93C3-9328FC2B761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EBF1-2D7E-47FB-B142-843CD012977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4366-49C3-47A8-9E3C-164C3AA948F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0649-BBCE-4F9C-8BA9-04D90EC10EA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900" spc="-1" strike="noStrike">
                <a:solidFill>
                  <a:srgbClr val="cc0066"/>
                </a:solidFill>
                <a:latin typeface="Candara"/>
              </a:rPr>
              <a:t>Боги </a:t>
            </a:r>
            <a:br>
              <a:rPr sz="5900"/>
            </a:br>
            <a:r>
              <a:rPr b="1" i="1" lang="ru-RU" sz="5900" spc="-1" strike="noStrike">
                <a:solidFill>
                  <a:srgbClr val="cc0066"/>
                </a:solidFill>
                <a:latin typeface="Candara"/>
              </a:rPr>
              <a:t>Древнего Египта</a:t>
            </a:r>
            <a:endParaRPr b="0" lang="en-US" sz="5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76" name="Picture 8" descr="http://www.egyptgod.ru/images/gods_title.jpg"/>
          <p:cNvPicPr/>
          <p:nvPr/>
        </p:nvPicPr>
        <p:blipFill>
          <a:blip r:embed="rId1"/>
          <a:stretch/>
        </p:blipFill>
        <p:spPr>
          <a:xfrm>
            <a:off x="539640" y="1989000"/>
            <a:ext cx="8069400" cy="280836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3"/>
          <p:cNvSpPr/>
          <p:nvPr/>
        </p:nvSpPr>
        <p:spPr>
          <a:xfrm>
            <a:off x="5302080" y="5013360"/>
            <a:ext cx="3313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2381400" y="4735440"/>
            <a:ext cx="640548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ndar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одготови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Учитель исто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ГБОУ СОШ №45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анкт-Петербург, Колпи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Морозова А.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250920" y="89064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Тот присутствовал на суде Осириса и записывал результаты взвешивания души покойника. Поскольку Тот участвовал в оправдании Осириса и давал приказ о его бальзамировании, то и принимал участие в погребальном ритуале всякого покойного египтянина и вел его в царство мертвых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02" name="Picture 7" descr="6713"/>
          <p:cNvPicPr/>
          <p:nvPr/>
        </p:nvPicPr>
        <p:blipFill>
          <a:blip r:embed="rId1"/>
          <a:stretch/>
        </p:blipFill>
        <p:spPr>
          <a:xfrm>
            <a:off x="4643280" y="712800"/>
            <a:ext cx="4105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f8f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0066"/>
                </a:solidFill>
                <a:latin typeface="Candara"/>
              </a:rPr>
              <a:t>Бог Осирис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427640" y="1773000"/>
            <a:ext cx="42480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3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3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Осирис, в египетской мифологии бог производительных сил природы, владыка загробного мира, судья в царстве мертвых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05" name="Picture 9" descr="Боги Древнего Египта: Осирис"/>
          <p:cNvPicPr/>
          <p:nvPr/>
        </p:nvPicPr>
        <p:blipFill>
          <a:blip r:embed="rId1"/>
          <a:stretch/>
        </p:blipFill>
        <p:spPr>
          <a:xfrm>
            <a:off x="8172360" y="189000"/>
            <a:ext cx="809640" cy="19047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0" descr="Боги Древнего Египта: Осирис"/>
          <p:cNvPicPr/>
          <p:nvPr/>
        </p:nvPicPr>
        <p:blipFill>
          <a:blip r:embed="rId2"/>
          <a:stretch/>
        </p:blipFill>
        <p:spPr>
          <a:xfrm>
            <a:off x="8172360" y="189000"/>
            <a:ext cx="809640" cy="1904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8" descr="http://otvet.imgsmail.ru/download/4b5713f6ea95ae1a06d0a811723b480f_i-101.jpg"/>
          <p:cNvPicPr/>
          <p:nvPr/>
        </p:nvPicPr>
        <p:blipFill>
          <a:blip r:embed="rId3"/>
          <a:stretch/>
        </p:blipFill>
        <p:spPr>
          <a:xfrm>
            <a:off x="611280" y="1376280"/>
            <a:ext cx="31687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4500720" y="1484280"/>
            <a:ext cx="442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73e87"/>
                </a:solidFill>
                <a:latin typeface="Candara"/>
              </a:rPr>
              <a:t>Осирис</a:t>
            </a:r>
            <a:r>
              <a:rPr b="0" lang="ru-RU" sz="3000" spc="-1" strike="noStrike">
                <a:solidFill>
                  <a:srgbClr val="073e87"/>
                </a:solidFill>
                <a:latin typeface="Candara"/>
              </a:rPr>
              <a:t> - </a:t>
            </a:r>
            <a:br>
              <a:rPr sz="3000"/>
            </a:br>
            <a:r>
              <a:rPr b="0" lang="ru-RU" sz="3000" spc="-1" strike="noStrike">
                <a:solidFill>
                  <a:srgbClr val="073e87"/>
                </a:solidFill>
                <a:latin typeface="Candara"/>
              </a:rPr>
              <a:t>бог ежегодно умирающей и возрождающейся природы, позднее бог загробного мира и судья умерших; изображался в виде человеческой мумии в короне, обрамленной перьями, бородой, в согнутых руках скипетр и плеть. </a:t>
            </a:r>
            <a:br>
              <a:rPr sz="2400"/>
            </a:b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09" name="Picture 7" descr="Картинка 2 из 320"/>
          <p:cNvPicPr/>
          <p:nvPr/>
        </p:nvPicPr>
        <p:blipFill>
          <a:blip r:embed="rId1"/>
          <a:srcRect l="29032" t="0" r="6913" b="5955"/>
          <a:stretch/>
        </p:blipFill>
        <p:spPr>
          <a:xfrm>
            <a:off x="755640" y="620640"/>
            <a:ext cx="360684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4284360" y="339480"/>
            <a:ext cx="403236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ет, его брат, злобный бог пустыни, решил погубить Осириса и изготовил саркофаг по мерке старшего брата. Устроив пир, он пригласил Осириса и объявил, что саркофаг будет подарен тому, кому придется впору. Когда Осирис лег в capкафаг, заговорщики захлопнули крышку, залили ее свинцом и бросили в воды Нила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1045440" y="6490440"/>
            <a:ext cx="28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ир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г в саркофа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6" descr="http://www.hlbiznartz.com/set_3.jpg"/>
          <p:cNvPicPr/>
          <p:nvPr/>
        </p:nvPicPr>
        <p:blipFill>
          <a:blip r:embed="rId1"/>
          <a:stretch/>
        </p:blipFill>
        <p:spPr>
          <a:xfrm>
            <a:off x="1042920" y="333360"/>
            <a:ext cx="274968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4643280" y="549000"/>
            <a:ext cx="450072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ерная супруга Осириса, Исида, нашла тело мужа, извлекла чудесным образом скрытую в нем жизненную силу и зачала от мертвого Осириса сына, названного Гором. Когда Гор вырос, он отомстил Сету. Свое волшебное Око, вырванное Сетом в начале битвы, Гор дал проглотить мертвому отцу. Осирис ожил, но не захотел вернуться на землю, а, оставив трон Гору, стал царствовать и вершить суд в загробном мире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0" y="494136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убис совершает погребальный обряд над тел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ир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1-web"/>
          <p:cNvPicPr/>
          <p:nvPr/>
        </p:nvPicPr>
        <p:blipFill>
          <a:blip r:embed="rId1"/>
          <a:stretch/>
        </p:blipFill>
        <p:spPr>
          <a:xfrm>
            <a:off x="179280" y="1628640"/>
            <a:ext cx="47624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643280" y="475920"/>
            <a:ext cx="432144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Часто Осириса изображали человеком с зеленой кожей, сидящим среди деревьев, или с виноградной лозой, обвивающей его фигуру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читалось, что, подобно всему растительному миру, Осирис ежегодно умирает и возрождается к новой жизни, но оплодотворяющая жизненная сила в нем сохраняется даже в мертвом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17" name="Picture 9" descr="Картинка 45 из 320"/>
          <p:cNvPicPr/>
          <p:nvPr/>
        </p:nvPicPr>
        <p:blipFill>
          <a:blip r:embed="rId2"/>
          <a:stretch/>
        </p:blipFill>
        <p:spPr>
          <a:xfrm>
            <a:off x="395280" y="476280"/>
            <a:ext cx="3951360" cy="552600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0"/>
          <p:cNvSpPr/>
          <p:nvPr/>
        </p:nvSpPr>
        <p:spPr>
          <a:xfrm>
            <a:off x="974520" y="6236640"/>
            <a:ext cx="30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ир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головой бар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cc0066"/>
                </a:solidFill>
                <a:latin typeface="Candara"/>
              </a:rPr>
              <a:t>Богиня Исида</a:t>
            </a:r>
            <a:br>
              <a:rPr sz="6500"/>
            </a:br>
            <a:endParaRPr b="0" lang="en-US" sz="6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78920" y="1252080"/>
            <a:ext cx="525636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Исида (Изида) в египетской мифологии богиня плодородия, воды и ветра, символ женственности и супружеском верности, богиня мореплавания, дочь Геба и Нут, сестра и супруга Осириса. Исида помогала Осирису цивилизовать Египет и обучила женщин жать, прясть и ткать, лечить болезни и учредила институт брака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21" name="Picture 7" descr="Картинка 9 из 233"/>
          <p:cNvPicPr/>
          <p:nvPr/>
        </p:nvPicPr>
        <p:blipFill>
          <a:blip r:embed="rId1"/>
          <a:srcRect l="25877" t="4611" r="16797" b="2041"/>
          <a:stretch/>
        </p:blipFill>
        <p:spPr>
          <a:xfrm>
            <a:off x="6084720" y="981000"/>
            <a:ext cx="23432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2414160" y="1413000"/>
            <a:ext cx="65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Амон ("сокрытый", "потаенный"), в египетской мифологии бог солнца. Священное животное Амона — баран и гусь (оба - символы мудрости). 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Бога изображали в виде человека (иногда с головой барана), со скипетром и в короне, с двумя высокими перьями и солнечным диском. 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cc0066"/>
                </a:solidFill>
                <a:latin typeface="Candara"/>
              </a:rPr>
              <a:t>Бог Амон</a:t>
            </a:r>
            <a:br>
              <a:rPr sz="6500"/>
            </a:br>
            <a:endParaRPr b="0" lang="en-US" sz="6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81" name="Picture 5" descr="Боги Древнего Египта: Амон"/>
          <p:cNvPicPr/>
          <p:nvPr/>
        </p:nvPicPr>
        <p:blipFill>
          <a:blip r:embed="rId2"/>
          <a:stretch/>
        </p:blipFill>
        <p:spPr>
          <a:xfrm>
            <a:off x="395280" y="1341360"/>
            <a:ext cx="20160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2626920" y="162864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700" spc="-1" strike="noStrike">
                <a:solidFill>
                  <a:srgbClr val="073e87"/>
                </a:solidFill>
                <a:latin typeface="Candara"/>
              </a:rPr>
              <a:t>Анубис, в египетской мифологии бог - покровитель мертвых, сын бога растительности Осириса и Нефтиды, сестры Исиды. 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7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700" spc="-1" strike="noStrike">
                <a:solidFill>
                  <a:srgbClr val="073e87"/>
                </a:solidFill>
                <a:latin typeface="Candara"/>
              </a:rPr>
              <a:t>Новорожденного Анубиса Нефтида прятала от своего супруга Сета в болотах дельты Нила. Богиня-мать Исида нашла юного бога и воспитала его. </a:t>
            </a:r>
            <a:br>
              <a:rPr sz="2700"/>
            </a:b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66"/>
                </a:solidFill>
                <a:latin typeface="Candara"/>
              </a:rPr>
              <a:t>Бог Анубис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84" name="Picture 5" descr="Боги Древнего Египта: Анубис"/>
          <p:cNvPicPr/>
          <p:nvPr/>
        </p:nvPicPr>
        <p:blipFill>
          <a:blip r:embed="rId1"/>
          <a:stretch/>
        </p:blipFill>
        <p:spPr>
          <a:xfrm>
            <a:off x="179280" y="981000"/>
            <a:ext cx="2305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9" descr="1-web"/>
          <p:cNvPicPr/>
          <p:nvPr/>
        </p:nvPicPr>
        <p:blipFill>
          <a:blip r:embed="rId1"/>
          <a:stretch/>
        </p:blipFill>
        <p:spPr>
          <a:xfrm>
            <a:off x="2124000" y="404640"/>
            <a:ext cx="4653000" cy="307368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1186920" y="3644640"/>
            <a:ext cx="6697800" cy="25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Позднее, когда Сет убил Осириса, Анубис, организуя погребение умершего бога, завернул его тело в ткани, пропитанные особым составом, сделав таким образом первую мумию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Поэтому Анубиса считают создателем погребальных обрядов и называют богом</a:t>
            </a: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 бальзамирования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611280" y="4292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Анубис также помогал судить умерших и сопровождал праведных к трону Осириса. Анубиса изображали в виде шакала или дикой собаки Саб черного цвета (или человека с головой шакала или собаки).</a:t>
            </a:r>
            <a:br>
              <a:rPr sz="2600"/>
            </a:b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88" name="Picture 8" descr="На загробном суде Осириса на одну чашу весов клали сердце покойного, на другую - статуэтку богини истины и порядка Маат. Или ее атрибут - страусовое перо"/>
          <p:cNvPicPr/>
          <p:nvPr/>
        </p:nvPicPr>
        <p:blipFill>
          <a:blip r:embed="rId1"/>
          <a:stretch/>
        </p:blipFill>
        <p:spPr>
          <a:xfrm>
            <a:off x="826920" y="260280"/>
            <a:ext cx="75250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2626920" y="1413000"/>
            <a:ext cx="626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Гор, Хор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("высота", "небо"), в египетской мифологии бог неба и солнца в облике сокола, человека с головой сокола или крылатого солнца, сын богини плодородия Исиды и Осириса, бога производительных сил. Его символ — солнечный диск с распростертыми крыльями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cc0066"/>
                </a:solidFill>
                <a:latin typeface="Candara"/>
              </a:rPr>
              <a:t>Бог Гор</a:t>
            </a:r>
            <a:br>
              <a:rPr sz="6500"/>
            </a:br>
            <a:endParaRPr b="0" lang="en-US" sz="6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91" name="Picture 5" descr="Боги Древнего Египта: Гор"/>
          <p:cNvPicPr/>
          <p:nvPr/>
        </p:nvPicPr>
        <p:blipFill>
          <a:blip r:embed="rId1"/>
          <a:stretch/>
        </p:blipFill>
        <p:spPr>
          <a:xfrm>
            <a:off x="250920" y="333360"/>
            <a:ext cx="23763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3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826920" y="3179880"/>
            <a:ext cx="540072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Первоначально бог-сокол почитался как хищный бог охоты, когтями впивающийся в добычу.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93" name="Picture 9" descr="бог Хор (Horus, Гор)"/>
          <p:cNvPicPr/>
          <p:nvPr/>
        </p:nvPicPr>
        <p:blipFill>
          <a:blip r:embed="rId1"/>
          <a:stretch/>
        </p:blipFill>
        <p:spPr>
          <a:xfrm>
            <a:off x="6227640" y="476280"/>
            <a:ext cx="250524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0066"/>
                </a:solidFill>
                <a:latin typeface="Candara"/>
              </a:rPr>
              <a:t>Бог Сет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788000" y="1268280"/>
            <a:ext cx="403848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ет, в египетской мифологии бог пустыни, т. е. "чужеземных стран", олицетворение злого начала, брат и убийца Осириса, один из четырех детей бога земли Геба и Нут, богини неба. Священными животными Сета считались свинья ("отвращение для богов"), антилопа, жираф, а главным был осел. Египтяне представляли его себе человеком с тонким длинным туловищем и ослиной головой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96" name="Picture 5" descr="СЕТ. Персонификация разрушительных сил Природы. Он же волк из сказки"/>
          <p:cNvPicPr/>
          <p:nvPr/>
        </p:nvPicPr>
        <p:blipFill>
          <a:blip r:embed="rId2"/>
          <a:stretch/>
        </p:blipFill>
        <p:spPr>
          <a:xfrm>
            <a:off x="755640" y="1197000"/>
            <a:ext cx="363852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1331640" y="170028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Тот, Джехути, в египетской мифологии бог луны, мудрости, счета и письма, покровитель наук, писцов, священных книг, создатель календаря. Женой Тота считалась богиня истины и порядка Маат. Священным животным Тота был ибис, и поэтому бога часто изображали в виде человека с головой ибиса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cc0066"/>
                </a:solidFill>
                <a:latin typeface="Candara"/>
              </a:rPr>
              <a:t>Бог Тот</a:t>
            </a:r>
            <a:br>
              <a:rPr sz="6500"/>
            </a:br>
            <a:endParaRPr b="0" lang="en-US" sz="6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99" name="Picture 5" descr="tot"/>
          <p:cNvPicPr/>
          <p:nvPr/>
        </p:nvPicPr>
        <p:blipFill>
          <a:blip r:embed="rId1"/>
          <a:stretch/>
        </p:blipFill>
        <p:spPr>
          <a:xfrm>
            <a:off x="7451640" y="4076640"/>
            <a:ext cx="1476360" cy="26481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Боги Древнего Египта: Тот"/>
          <p:cNvPicPr/>
          <p:nvPr/>
        </p:nvPicPr>
        <p:blipFill>
          <a:blip r:embed="rId2"/>
          <a:stretch/>
        </p:blipFill>
        <p:spPr>
          <a:xfrm>
            <a:off x="468360" y="476280"/>
            <a:ext cx="9824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3:21:40Z</dcterms:created>
  <dc:creator>Admin</dc:creator>
  <dc:description/>
  <dc:language>en-US</dc:language>
  <cp:lastModifiedBy>Тёма</cp:lastModifiedBy>
  <dcterms:modified xsi:type="dcterms:W3CDTF">2015-10-08T08:17:38Z</dcterms:modified>
  <cp:revision>97</cp:revision>
  <dc:subject/>
  <dc:title>Боги Древнего Египта</dc:title>
</cp:coreProperties>
</file>