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C5E-6EF3-41A0-AE2D-860CCB2E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355-9FF3-4A90-B7DD-9D86D2CB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45FF1-5724-4662-8993-6C7848C2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14318-2BAD-422D-BDC4-C741A19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B4268-7B07-405D-A8CD-B5528B43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99BA3-BD96-4620-A012-9694A327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FACB2-DDC1-4788-867D-E52F6B3D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8D13F-C5F8-45E8-884A-1ADFB43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A34BF-1776-4204-8D6C-42D2120F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B8DCC-DAED-4035-AD99-86AAA115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B78F8-C807-44A2-BF79-988E74F8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580D3-95EB-4F4D-AE87-1778FB70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8A7-BB7F-4401-BE73-1AF04E45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670C0-443B-4882-B7E6-594E74FC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602DC-E867-40E0-A9F7-D3E07D6F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D3CA6-1630-490D-9BDC-2388350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E6D7A-E3F0-4B16-B0E9-4318B08E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430B0-772A-4681-B94D-9A86C318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A2786-9239-4F88-9D56-BF55C2E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BBED5-FD22-4567-A2FD-EC25DDC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07254-A5F0-445B-B68F-E1E63D6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CE372-B219-483B-A25A-31E98BB2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F00A9-25A0-4E3E-8C4B-818B53CF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C57-1E91-4D2E-9A8C-1E71FF8F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23515-06D0-41ED-B43A-A46B8161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35A4B-0299-4F0B-B9B7-673998A7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1CFB7-015D-442E-A4C7-1615576C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3D3C9-A0F4-458F-89AB-1BCC2A0F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ECFE2-4504-4705-8BCB-C0E8BC45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C26A9-4C17-43A0-8283-C02397F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EF6C9-264E-4B49-9774-58732302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926C2-756E-47F8-A605-403DB529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CF16D-FCE6-4D87-A687-8F3F1A4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2B0F1-D3D5-4102-ACD2-B73374D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843E-EB6E-42EE-B029-89826FEA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9825C-1C21-45B4-8C01-37D8D95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F996F-83AC-465D-AA77-841EFD7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B2306-E680-4C79-8BD3-58697A73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A40BA-B366-4686-A1FC-8CD932C9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FC4B3-4368-44BE-B671-06CA70FF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9C985-270E-49D3-A97A-050165D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2C738-CDB0-4771-9ABB-4A2CDF5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0D9E8-641E-4E38-B31B-15421390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727EF-4B90-421E-A91A-183A872C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E2FC0-4EFF-4547-A622-73ED9BFA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E2F6-CA82-422F-B34C-95FACCAC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0124A-F34A-4937-9227-8BBBC2D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C25B8-062A-4C2F-A2F3-19A5C4B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D6304-79CD-44BA-A9C6-59563F1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B4485-8724-4BAE-858B-98A0F5F3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811B8-7B5E-4484-ADE1-B8C4C1B1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2A4B-3370-4597-BF10-D3ACE682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D972-2EFE-4611-94C6-4E33CDD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64FD-70BB-40D3-905F-58883E5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F4C7-B3E1-4AFC-8E25-841897F7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48BA-62A2-4029-9F4A-3BC72C1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04D-A672-41BC-B049-D5E5210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1E46-DA03-42B5-A495-179595D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D718-A6E8-4BB6-94F7-9846344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5CF0-AE42-4BCA-950A-77640E5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AAA4-C92C-4E41-AB15-77EED56D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162-4CBD-41F8-8E97-C654FEF6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99FD-CC73-414B-8035-EEBBAC34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C576-EE68-4351-94E1-AABAEA02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B570-40EA-4770-B6A3-6B365BC3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7FB9-41A6-4A96-84EE-BB6C65B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28CD-8E8F-46F5-AA56-71E1EF3B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582-285E-46A9-97AE-6D921005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E8BE-AE22-490F-81FC-EEFA9152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04B7-1FB3-49A6-A1B0-C0A5E0E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F20A-38D6-4AD4-BDF3-8FB60A39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22F7-19D4-4253-809A-8BDD4D3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A91C-F4DD-4444-A742-E0C130B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415D-33FD-43D4-B07E-AC2666BC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C8AE-5AC9-46A9-97D6-B93570EA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DF05-4CF9-42BB-8F6A-FE910BF0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9F6B-1A86-4CBA-90DD-BFF9E7E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7E5B-EC5C-4E16-973A-4AD51AF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9ED-6E7D-4053-88ED-52F2C400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44920-B62A-45B7-A24A-48CA9027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D361-02FF-4304-851E-92AF2CB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67C32-815E-44CF-A5D3-AE979BC6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3150-18B6-43F4-95DB-9B18A70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543D-889E-4455-B016-FD24408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DF1E-5347-4E47-9993-40ED7BD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98A4-06D6-46F4-8AD7-C99DA57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7ECDE-2D51-48A4-B9E6-02917762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0F29-E0E9-4303-A204-C3965BE7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D0DF-4B83-4251-AC96-EE7F00DC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FA9-45F0-4AFE-A5C0-5C5E7035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199B-54F6-44A0-92EF-623C1035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8914D-02B0-47C1-B962-091ECBE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E6D0-FE7B-4796-BEAA-F7295CBA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BB6C7-423A-4BFD-930D-199407D3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EA31-D795-4C0D-815C-B06F616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C9AE0-D612-4998-8D51-BBEBF5C1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352B8-5DA1-4C1B-8E52-D6CECF1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DC59-7B12-483B-B3F7-A31B299F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77AF-7465-4337-8B40-39C62E89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D45C-54B2-48A0-96C2-F810D905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A83-3278-4B60-A728-D38DD5B2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FC116-20A7-4F32-A3C5-43044216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69FC-9473-452E-924F-B7EE9FA1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672B-0393-40DB-AC96-760951C8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32E8-7C91-4CC4-8BDA-44329147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806E6-B531-471D-9809-32386BA6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5B953-B041-49A2-93C4-63A7B08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7FC8-A07B-4F2A-AF1C-36CE5D67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ECB4-2835-4EE2-9ACF-8B4C02D2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C4213-8789-4958-BE66-2283E8D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E38E-F4BA-4D77-9B73-647ECE6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52C-AB46-4F4E-B5DE-946D4D56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BF2B7-5013-4B43-A8BD-6F51A7C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C166A-2557-4C14-A04A-54C944FE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4D95-ED51-43CC-940F-26BAE31E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88F2-6A1C-4D64-BC77-F33AB05B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C2930-883F-448B-9D8B-6E0F303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3B50E-FB12-4A2B-B12E-45310A0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3676E-7FAE-4701-9F2A-AEB5AFC6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B4922-2DB2-45F8-A977-CC536F0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57CBB-913A-4233-8FA5-DED8E4A8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60C26-EED1-4289-A084-4E4558E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683-21DB-4AC9-8D54-B4FF5E0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B398-6E6F-4433-A083-379F958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9360F-0F63-4A28-B372-34827B83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749E4-549D-4457-9139-7EC07A2E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30AC0-C7E8-40D7-BE85-6BD0F2F8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6C4D-E31F-47BC-A1FF-85D53EBF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5B8B-9D73-41B0-9EED-5658B1C8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A3599-C074-4714-8078-E6DB1FBC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7D4A-0179-4477-A0D5-CD3252C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1714-BC58-4717-B467-E36361C7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921D1-FEB7-41E0-BD39-ACFB2700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276-B018-428B-87EC-5701BDE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7FFA-0615-4050-9548-4BE2EE8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61B72-2BE0-408F-9A96-7A71F7D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F9AA-965D-4881-83D7-DE35A8C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752C-B01B-44B7-987A-96937E2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EE69A-AA11-42EF-8AF3-756C05B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E8C69-C7D2-496F-9BB3-829AF488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07AEC-8524-49B2-AEF4-9619C11A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7F293-6579-4ADD-869B-1DC8A19D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FF556-CF1A-4BFC-8C97-51D8C202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C7AA9-22CF-4F4B-B536-535BC247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E9CA-1174-41AC-AF95-5B5C6774F56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494C-FF12-4492-A3B7-EF62809B46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B993-8BAA-4770-90F3-600C4BFA8E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2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9810-E582-4AE4-B109-F4518A1279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A2B6-11E9-47D9-BBDD-F2A6C268783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4F6-0F3F-483F-9DEE-67821020C6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653A-19BC-47A5-97C7-95663E9516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5E41-5D86-4C90-9181-4009668B628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5E14-2562-46A7-8618-8583E20B79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239-5397-48A1-B1AB-68797C8964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D8F-919C-4C21-B5B2-5366BB8B2F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4350-D945-469F-9A13-615E63DB5A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cc0066"/>
                </a:solidFill>
                <a:latin typeface="Candara"/>
              </a:rPr>
              <a:t>Боги </a:t>
            </a:r>
            <a:br>
              <a:rPr sz="5900"/>
            </a:br>
            <a:r>
              <a:rPr b="1" i="1" lang="ru-RU" sz="5900" spc="-1" strike="noStrike">
                <a:solidFill>
                  <a:srgbClr val="cc0066"/>
                </a:solidFill>
                <a:latin typeface="Candara"/>
              </a:rPr>
              <a:t>Древнего Египта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76" name="Picture 8" descr="http://www.egyptgod.ru/images/gods_title.jpg"/>
          <p:cNvPicPr/>
          <p:nvPr/>
        </p:nvPicPr>
        <p:blipFill>
          <a:blip r:embed="rId1"/>
          <a:stretch/>
        </p:blipFill>
        <p:spPr>
          <a:xfrm>
            <a:off x="539640" y="1989000"/>
            <a:ext cx="8069400" cy="28083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3"/>
          <p:cNvSpPr/>
          <p:nvPr/>
        </p:nvSpPr>
        <p:spPr>
          <a:xfrm>
            <a:off x="5302080" y="5013360"/>
            <a:ext cx="331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2381400" y="4735440"/>
            <a:ext cx="64054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ndar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одготов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Учитель ис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ГБОУ СОШ №4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анкт-Петербург, Колпи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Морозова А.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250920" y="89064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от присутствовал на суде Осириса и записывал результаты взвешивания души покойника. Поскольку Тот участвовал в оправдании Осириса и давал приказ о его бальзамировании, то и принимал участие в погребальном ритуале всякого покойного египтянина и вел его в царство мертвых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2" name="Picture 7" descr="6713"/>
          <p:cNvPicPr/>
          <p:nvPr/>
        </p:nvPicPr>
        <p:blipFill>
          <a:blip r:embed="rId1"/>
          <a:stretch/>
        </p:blipFill>
        <p:spPr>
          <a:xfrm>
            <a:off x="4643280" y="712800"/>
            <a:ext cx="4105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Candara"/>
              </a:rPr>
              <a:t>Бог Осирис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427640" y="1773000"/>
            <a:ext cx="4248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Осирис, в египетской мифологии бог производительных сил природы, владыка загробного мира, судья в царстве мертвых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5" name="Picture 9" descr="Боги Древнего Египта: Осирис"/>
          <p:cNvPicPr/>
          <p:nvPr/>
        </p:nvPicPr>
        <p:blipFill>
          <a:blip r:embed="rId1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Боги Древнего Египта: Осирис"/>
          <p:cNvPicPr/>
          <p:nvPr/>
        </p:nvPicPr>
        <p:blipFill>
          <a:blip r:embed="rId2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http://otvet.imgsmail.ru/download/4b5713f6ea95ae1a06d0a811723b480f_i-101.jpg"/>
          <p:cNvPicPr/>
          <p:nvPr/>
        </p:nvPicPr>
        <p:blipFill>
          <a:blip r:embed="rId3"/>
          <a:stretch/>
        </p:blipFill>
        <p:spPr>
          <a:xfrm>
            <a:off x="611280" y="1376280"/>
            <a:ext cx="31687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00720" y="148428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73e87"/>
                </a:solidFill>
                <a:latin typeface="Candara"/>
              </a:rPr>
              <a:t>Осирис</a:t>
            </a: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 - </a:t>
            </a:r>
            <a:br>
              <a:rPr sz="3000"/>
            </a:b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бог ежегодно умирающей и возрождающейся природы, позднее бог загробного мира и судья умерших; изображался в виде человеческой мумии в короне, обрамленной перьями, бородой, в согнутых руках скипетр и плеть. </a:t>
            </a:r>
            <a:br>
              <a:rPr sz="2400"/>
            </a:b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9" name="Picture 7" descr="Картинка 2 из 320"/>
          <p:cNvPicPr/>
          <p:nvPr/>
        </p:nvPicPr>
        <p:blipFill>
          <a:blip r:embed="rId1"/>
          <a:srcRect l="29032" t="0" r="6913" b="5955"/>
          <a:stretch/>
        </p:blipFill>
        <p:spPr>
          <a:xfrm>
            <a:off x="755640" y="620640"/>
            <a:ext cx="36068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4284360" y="339480"/>
            <a:ext cx="403236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ет, его брат, злобный бог пустыни, решил погубить Осириса и изготовил саркофаг по мерке старшего брата. Устроив пир, он пригласил Осириса и объявил, что саркофаг будет подарен тому, кому придется впору. Когда Осирис лег в capкафаг, заговорщики захлопнули крышку, залили ее свинцом и бросили в воды Нил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045440" y="6490440"/>
            <a:ext cx="28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 в саркоф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6" descr="http://www.hlbiznartz.com/set_3.jpg"/>
          <p:cNvPicPr/>
          <p:nvPr/>
        </p:nvPicPr>
        <p:blipFill>
          <a:blip r:embed="rId1"/>
          <a:stretch/>
        </p:blipFill>
        <p:spPr>
          <a:xfrm>
            <a:off x="1042920" y="333360"/>
            <a:ext cx="27496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643280" y="549000"/>
            <a:ext cx="450072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рная супруга Осириса, Исида, нашла тело мужа, извлекла чудесным образом скрытую в нем жизненную силу и зачала от мертвого Осириса сына, названного Гором. Когда Гор вырос, он отомстил Сету. Свое волшебное Око, вырванное Сетом в начале битвы, Гор дал проглотить мертвому отцу. Осирис ожил, но не захотел вернуться на землю, а, оставив трон Гору, стал царствовать и вершить суд в загробном мир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0" y="49413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убис совершает погребальный обряд над тел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1-web"/>
          <p:cNvPicPr/>
          <p:nvPr/>
        </p:nvPicPr>
        <p:blipFill>
          <a:blip r:embed="rId1"/>
          <a:stretch/>
        </p:blipFill>
        <p:spPr>
          <a:xfrm>
            <a:off x="179280" y="1628640"/>
            <a:ext cx="47624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32144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Часто Осириса изображали человеком с зеленой кожей, сидящим среди деревьев, или с виноградной лозой, обвивающей его фигуру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читалось, что, подобно всему растительному миру, Осирис ежегодно умирает и возрождается к новой жизни, но оплодотворяющая жизненная сила в нем сохраняется даже в мертвом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17" name="Picture 9" descr="Картинка 45 из 320"/>
          <p:cNvPicPr/>
          <p:nvPr/>
        </p:nvPicPr>
        <p:blipFill>
          <a:blip r:embed="rId2"/>
          <a:stretch/>
        </p:blipFill>
        <p:spPr>
          <a:xfrm>
            <a:off x="395280" y="476280"/>
            <a:ext cx="3951360" cy="55260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0"/>
          <p:cNvSpPr/>
          <p:nvPr/>
        </p:nvSpPr>
        <p:spPr>
          <a:xfrm>
            <a:off x="974520" y="6236640"/>
            <a:ext cx="30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головой бар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иня Исида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8920" y="1252080"/>
            <a:ext cx="525636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Исида (Изида) в египетской мифологии богиня плодородия, воды и ветра, символ женственности и супружеском верности, богиня мореплавания, дочь Геба и Нут, сестра и супруга Осириса. Исида помогала Осирису цивилизовать Египет и обучила женщин жать, прясть и ткать, лечить болезни и учредила институт брака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21" name="Picture 7" descr="Картинка 9 из 233"/>
          <p:cNvPicPr/>
          <p:nvPr/>
        </p:nvPicPr>
        <p:blipFill>
          <a:blip r:embed="rId1"/>
          <a:srcRect l="25877" t="4611" r="16797" b="2041"/>
          <a:stretch/>
        </p:blipFill>
        <p:spPr>
          <a:xfrm>
            <a:off x="6084720" y="981000"/>
            <a:ext cx="23432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2414160" y="1413000"/>
            <a:ext cx="65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Амон ("сокрытый", "потаенный"), в египетской мифологии бог солнца. Священное животное Амона — баран и гусь (оба - символы мудрости).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Бога изображали в виде человека (иногда с головой барана), со скипетром и в короне, с двумя высокими перьями и солнечным диском.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 Амон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1" name="Picture 5" descr="Боги Древнего Египта: Амон"/>
          <p:cNvPicPr/>
          <p:nvPr/>
        </p:nvPicPr>
        <p:blipFill>
          <a:blip r:embed="rId2"/>
          <a:stretch/>
        </p:blipFill>
        <p:spPr>
          <a:xfrm>
            <a:off x="395280" y="1341360"/>
            <a:ext cx="2016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626920" y="1628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Анубис, в египетской мифологии бог - покровитель мертвых, сын бога растительности Осириса и Нефтиды, сестры Исиды. 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Новорожденного Анубиса Нефтида прятала от своего супруга Сета в болотах дельты Нила. Богиня-мать Исида нашла юного бога и воспитала его. </a:t>
            </a:r>
            <a:br>
              <a:rPr sz="2700"/>
            </a:b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66"/>
                </a:solidFill>
                <a:latin typeface="Candara"/>
              </a:rPr>
              <a:t>Бог Ануби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4" name="Picture 5" descr="Боги Древнего Египта: Анубис"/>
          <p:cNvPicPr/>
          <p:nvPr/>
        </p:nvPicPr>
        <p:blipFill>
          <a:blip r:embed="rId1"/>
          <a:stretch/>
        </p:blipFill>
        <p:spPr>
          <a:xfrm>
            <a:off x="179280" y="981000"/>
            <a:ext cx="2305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9" descr="1-web"/>
          <p:cNvPicPr/>
          <p:nvPr/>
        </p:nvPicPr>
        <p:blipFill>
          <a:blip r:embed="rId1"/>
          <a:stretch/>
        </p:blipFill>
        <p:spPr>
          <a:xfrm>
            <a:off x="2124000" y="404640"/>
            <a:ext cx="4653000" cy="307368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186920" y="3644640"/>
            <a:ext cx="669780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озднее, когда Сет убил Осириса, Анубис, организуя погребение умершего бога, завернул его тело в ткани, пропитанные особым составом, сделав таким образом первую мумию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оэтому Анубиса считают создателем погребальных обрядов и называют богом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 бальзамирования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11280" y="4292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Анубис также помогал судить умерших и сопровождал праведных к трону Осириса. Анубиса изображали в виде шакала или дикой собаки Саб черного цвета (или человека с головой шакала или собаки).</a:t>
            </a: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88" name="Picture 8" descr="На загробном суде Осириса на одну чашу весов клали сердце покойного, на другую - статуэтку богини истины и порядка Маат. Или ее атрибут - страусовое перо"/>
          <p:cNvPicPr/>
          <p:nvPr/>
        </p:nvPicPr>
        <p:blipFill>
          <a:blip r:embed="rId1"/>
          <a:stretch/>
        </p:blipFill>
        <p:spPr>
          <a:xfrm>
            <a:off x="826920" y="260280"/>
            <a:ext cx="7525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2626920" y="141300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Гор, Хор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("высота", "небо"), в египетской мифологии бог неба и солнца в облике сокола, человека с головой сокола или крылатого солнца, сын богини плодородия Исиды и Осириса, бога производительных сил. Его символ — солнечный диск с распростертыми крыльями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 Гор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91" name="Picture 5" descr="Боги Древнего Египта: Гор"/>
          <p:cNvPicPr/>
          <p:nvPr/>
        </p:nvPicPr>
        <p:blipFill>
          <a:blip r:embed="rId1"/>
          <a:stretch/>
        </p:blipFill>
        <p:spPr>
          <a:xfrm>
            <a:off x="250920" y="333360"/>
            <a:ext cx="2376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3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826920" y="3179880"/>
            <a:ext cx="540072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ервоначально бог-сокол почитался как хищный бог охоты, когтями впивающийся в добычу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3" name="Picture 9" descr="бог Хор (Horus, Гор)"/>
          <p:cNvPicPr/>
          <p:nvPr/>
        </p:nvPicPr>
        <p:blipFill>
          <a:blip r:embed="rId1"/>
          <a:stretch/>
        </p:blipFill>
        <p:spPr>
          <a:xfrm>
            <a:off x="6227640" y="476280"/>
            <a:ext cx="25052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Candara"/>
              </a:rPr>
              <a:t>Бог Сет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40384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т, в египетской мифологии бог пустыни, т. е. "чужеземных стран", олицетворение злого начала, брат и убийца Осириса, один из четырех детей бога земли Геба и Нут, богини неба. Священными животными Сета считались свинья ("отвращение для богов"), антилопа, жираф, а главным был осел. Египтяне представляли его себе человеком с тонким длинным туловищем и ослиной головой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6" name="Picture 5" descr="СЕТ. Персонификация разрушительных сил Природы. Он же волк из сказки"/>
          <p:cNvPicPr/>
          <p:nvPr/>
        </p:nvPicPr>
        <p:blipFill>
          <a:blip r:embed="rId2"/>
          <a:stretch/>
        </p:blipFill>
        <p:spPr>
          <a:xfrm>
            <a:off x="755640" y="1197000"/>
            <a:ext cx="36385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331640" y="17002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Тот, Джехути, в египетской мифологии бог луны, мудрости, счета и письма, покровитель наук, писцов, священных книг, создатель календаря. Женой Тота считалась богиня истины и порядка Маат. Священным животным Тота был ибис, и поэтому бога часто изображали в виде человека с головой ибиса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 Тот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99" name="Picture 5" descr="tot"/>
          <p:cNvPicPr/>
          <p:nvPr/>
        </p:nvPicPr>
        <p:blipFill>
          <a:blip r:embed="rId1"/>
          <a:stretch/>
        </p:blipFill>
        <p:spPr>
          <a:xfrm>
            <a:off x="7451640" y="4076640"/>
            <a:ext cx="1476360" cy="2648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Боги Древнего Египта: Тот"/>
          <p:cNvPicPr/>
          <p:nvPr/>
        </p:nvPicPr>
        <p:blipFill>
          <a:blip r:embed="rId2"/>
          <a:stretch/>
        </p:blipFill>
        <p:spPr>
          <a:xfrm>
            <a:off x="468360" y="476280"/>
            <a:ext cx="982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21:40Z</dcterms:created>
  <dc:creator>Admin</dc:creator>
  <dc:description/>
  <dc:language>en-US</dc:language>
  <cp:lastModifiedBy>Тёма</cp:lastModifiedBy>
  <dcterms:modified xsi:type="dcterms:W3CDTF">2015-10-08T08:17:38Z</dcterms:modified>
  <cp:revision>97</cp:revision>
  <dc:subject/>
  <dc:title>Боги Древнего Египта</dc:title>
</cp:coreProperties>
</file>