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1D45-9CD6-4A7C-8091-D0590DE20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9E91-E0E9-401C-B6C0-52B50E90C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3B8-7397-4E22-B23F-C2280BED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C89-338F-40AD-8563-AE7AE56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B87-3D8E-4573-B63A-4CAA701C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439-3324-47C1-A881-6220D67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CE7-5751-4838-9EE7-16C03AFE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DB8-1B32-417D-B06C-1FEC54DC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BF5-F2FF-4918-AFC5-8B8F0D4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99-5B7C-4068-9364-F5F1336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DE6-72DF-4E7B-AC29-67CE54E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FAB-822D-4170-8F43-84D1E4D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AB3-8899-4CB2-878A-D3B5520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5E8-49A6-4A54-A65A-600FBA9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1F42-98FD-45F2-B44C-C077D7B576B4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E435-E4E3-4577-A69F-DA942C2E77D9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Декоративно –прикладное искусство Куба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0EB-4157-42E8-9030-98C23372880C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4859280" y="1700280"/>
            <a:ext cx="417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«Ты Кубань, ты наша Род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ековой наш богатыр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ноговодная, раздольн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азлилась ты вдаль и вшир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 тебе здесь вспоминаюч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Как о матери родн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 врага, на басурман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 пойдем на смертный б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 тебе здесь вспоминаюч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За тебя ль не постоя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За твою ли славу стар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Жизнь свою ли не отд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,  как дань свою покор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т прославленных знам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Шлем тебе, Кубань родим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До сырой земли поклон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                     (Из народной песн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28640" y="2421000"/>
            <a:ext cx="33685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br>
              <a:rPr sz="25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сширить представление детей о крае, в котором они живут; познакомить с символикой Кубани: флагом, гербом, гимном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родолжать углублять знания детей о кубанских ремеслах;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звивать интерес у детей  о народных ремеслах, познавательный процесс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вызвать желание узнать больше о декоративно-прикладном искусстве Кубан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воспитывать уважение к труду  и людям труда, желание следовать старинным  народным традициям, любовь к родному краю, Родине.</a:t>
            </a: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ы исследования: 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Изучение литературы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оход в музей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ссматривание предметов быта казаков и кубанских народных ремесел; предметов современного декоративно-прикладного искусства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росмотр познавательных фильм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репление знаний о Кубан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1943-FC93-4BB3-8A61-349DAE1B05DA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050920" y="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Краснодарский кра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9A73-F7FE-4E3F-B1D5-1D8BC58777FA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179280" y="646200"/>
            <a:ext cx="561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раснодарский край — субъект Российской Федерации на юге Европейской части России. Краснодарский край делится рекой Кубань на две части: северную — равнинную, и южную — предгорную и горную. Высшая точка — гора Цахвоа (3345 м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419640" y="2133720"/>
            <a:ext cx="5545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 19 века Кубань представляла собой нераспаханную степь. Густая, высокая трава наполняла степь ароматом цветов, казалось она ждала, что придет земледелец и начнет пользоваться её плодородными  просторами.  Казаки, прибывшие на Кубань, начали распахивать степь. Земля была очень твердая, плуг и соха с трудом могли её поднять. С годами кропотливого труда распашка земли становилась легче. Важнейшей культурой на Кубани являлась пшеница. Вслед за пшенице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тали сажать подсолнечник. Вначале его выращивали на семечки, потом  стали давить из него масло. Еще садили кукурузу. Кубанцы занимались садоводством, растили черешни, вишни, сливы. А ещё яблоки, груши, персики, абрикосы, виноградни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44280" y="2255760"/>
            <a:ext cx="2778120" cy="2268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449280" y="4594320"/>
            <a:ext cx="30258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590-0F10-454F-BD34-45A460612C53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08000" y="115920"/>
            <a:ext cx="360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«Казак» –  означает «вольный человек». Так называли свободных людей,  которые  прибыли на Кубань охранять  границы  от неприятелей  и были на службе у царицы Екатерины II. Национальная кубанская одежда очень древняя. Казачий костюм  складывался веками. В первую очередь это относится к штанам. Они называются шаровары. Прошло очень много лет, но ничего не изменилось. Это такие же широкие шаровары – в узких штанах на коня не сядешь. Конные казаки носили синие шаровары и кафтан красного цвета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4730760"/>
            <a:ext cx="2381040" cy="1584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3924360" y="2852640"/>
            <a:ext cx="4319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Женский казачий костюм сложился на Кубани в конце 19 века. Женская казачья одежда, даже повседневная,  шилась и украшалась с любовью. Но особенно красивой, нарядной  одежда  казачки была в праздники. На все случаи жизни казачки имели одежду. Самый любимый и самый красивый наряд она надевала на свадьбу, один раз в жизн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зготовление кубанского национального костюма связано с различными народными промыслами: шитьем, ткачеством, плетением кружев, вышивкой. Вышивка являлась украшением одежды. Костюм состоял из юбки и кофт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5508720" y="458640"/>
            <a:ext cx="1334880" cy="231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189000"/>
            <a:ext cx="6577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пределенную роль в казачьем быту и занятиях играли различные промыслы и ремесла: кузнечное и гончарное, обработка дерева, лозоплетение, ткачество, вышивка, художественная обработка металла, изготовление изделий из кожи и войлочной шерст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 конца XIX века в искусстве народных кубанских мастеров преобладают мотивы русских, украинских и кавказских традиций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278400" y="189000"/>
            <a:ext cx="2779920" cy="190188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D71-A5FE-46AE-9C2E-3100597900E8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2843280" y="1916280"/>
            <a:ext cx="5905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старейших промыслов на Кубани было гончарное ремесло. Гончарное ремесло  особенно хорошо развивалось в тех районах, где поблизости  залегала хорошая, вязкая глина. Из глины делали посуду, детские игрушки, изготавливали кирпич, черепицу для крыш. Первыми умелыми мастерами-гончарами стали Иван  Шестидесятый и Никифор Гончар. Предметы посуды, которые делали гончары: миски, кувшины, макитры, махотки, чугунок, глэчик. В формах, орнаменте очень часто перекликались мотивы русской, украинской и кавказской керамики. Формы кубанской керамики просты, орнамент яркий, растительный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чугунке варили картошку, кашу, щ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кувшин набирали и пили из него во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глэчике держали сметану, варенье, моло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макитре замешивали тесто – это большой глиняный горшок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179280" y="2895480"/>
            <a:ext cx="24386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15920"/>
            <a:ext cx="47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древнейших народных промыслов восточных славян является лозоплетение. На Кубань оно было завезено черноморскими казаками из Украины в конце XVIII века. Значительную часть домашней утвари – от овощных корзин до плетней и хозяйственных построек жители Кубанских станиц делали из лозы. Всевозможные верши, корзины, разнообразные плетни, кошели (емкости для хранения зерна),  плелись из гибкой ивовой лозы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F46-8B29-4526-8505-92AFAC33A237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5292720" y="266760"/>
            <a:ext cx="2778120" cy="2311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2124000" y="2728800"/>
            <a:ext cx="676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скусство художественной обработки дерева имеет на Кубани глубокую традицию и в настоящее время широко развивается. Лесные богатства Кубани  сделали дерево наиболее  любимым материалом в народных промыслах.  Деревянная посуда – бочки, ведра, корыта, чаши, ложки, ступы, мешалки и другие предметы изготавливались во всех горных и предгорных станицах, богатых лесом. Из дерева казаки любили мастерить мебель, резные зеркала,   сундуки с росписью. Резные изделия – это деревянные блюда, прялки, рубели на ткацком станке. В убранстве домов – крылечки и налични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3780000" y="5318280"/>
            <a:ext cx="1920600" cy="1103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1454040" cy="152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C31-9C00-4F56-8E72-DBF37AC77FD7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4720" y="503280"/>
            <a:ext cx="45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скусство вышивания всегда ценилось на Кубани. Вышитые узоры не только украшали одежду и бытовые предметы из ткани, но и служили оберегами от злых сил. В каждой семье, независимо от социального положения, женщины должны были владеть различными видами рукоделия: ткачеством и вышивкой. В домах князей, бояр, богатых людей на Руси и зажиточных казаков Кубани имелись вышивальные и ткацкие мастерские, где проводили свой досуг все женщины дома. Как правило, творческим процессом руководила хозяйка дом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024360" cy="3054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108000" y="4716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важных промыслов было ткачество. Ткали материал для одежды и для украшения жилища. В казацких семьях уже с 7-9 лет девочек приучали к ткачеству, прядени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24000" y="792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иболее широко на Кубани была распространена вышивка. Мастерицы-казачки вышивали рушники, скатерти, салфетки, занавески, рубашки, наволоч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ушник издавна служил незаменимой принадлежностью традиционных народных обычаев и обрядов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231-3A6E-47E1-B95E-E73C34AEC417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6659640" y="120600"/>
            <a:ext cx="237168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2604960" y="2316240"/>
            <a:ext cx="65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Также распространённым видом народного промысла в Краснодарском крае считается плетение из соломы, талаша (листьев кукурузных початков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971640" y="1486080"/>
            <a:ext cx="1633320" cy="2206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79280" y="3641760"/>
            <a:ext cx="66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сторически на Кубани наиболее широкое распространение получила ковань - кузнечное ремесло. Кузнецы были главными мастерами. В каждой кубанской станице с конца XIX века работали до пяти кузниц. Здесь изготавливалось всё необходимое для быта станичников - подковы, замки, ухваты. Кубанские кузнецы создавали настоящие художественные произведения из металла: кованные надкрылечные зонты – «козырьки», решетки для окон, дверей, балконов, парадные лестницы, ограды, флюгер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3"/>
          <a:stretch/>
        </p:blipFill>
        <p:spPr>
          <a:xfrm>
            <a:off x="6553080" y="4179960"/>
            <a:ext cx="2559240" cy="203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826920" y="495360"/>
            <a:ext cx="28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 Кубани вырос я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не родней, понятне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ши южные края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тепи необъятные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горы хлеба до небес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етки вишен алые, ес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лес - так южный ле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перед перевала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9963-9DF1-4173-958E-E8D3099A7FAF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11280" y="3860640"/>
            <a:ext cx="8064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народно – прикладное искусство Кубани является частью народного искусства России и мира. Утрата традиции любого народа может привести к исчезновению самого этноса. Вот почему так важно знать традиции культуры своего народа и народное декоративно – прикладное искусство, как его ча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584520" y="920880"/>
            <a:ext cx="4565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8:45:37Z</dcterms:created>
  <dc:creator>Паровоз</dc:creator>
  <dc:description/>
  <dc:language>en-US</dc:language>
  <cp:lastModifiedBy>паровоз12345</cp:lastModifiedBy>
  <dcterms:modified xsi:type="dcterms:W3CDTF">2015-10-08T17:07:12Z</dcterms:modified>
  <cp:revision>57</cp:revision>
  <dc:subject/>
  <dc:title>Декоративно –прикладное искусство Кубани</dc:title>
</cp:coreProperties>
</file>