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1C3F-F5BF-47DF-A4E8-71BF77BDF3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EDF-EE98-43B3-BD3D-39FDC4028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6BA-D232-4734-855D-B0135679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04B-CA83-4757-85EA-B682B7B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7EE-4B24-4ABC-A96C-A55D3C77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879-A3B2-4569-886A-FA5E3B17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315-A6DF-472B-92B1-0DC83298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FFF-7077-4189-9358-BEE1ED29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929-5EFC-441C-9E56-C01AA9FC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BA6-5122-4CEA-8973-C15D9161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6D3-870F-4E13-AC3C-619DBDAE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9AC-5F69-41ED-9DB8-591B3803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C53-480E-44C7-BB9B-729E94F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828-3DB4-4F07-8AD1-CD27B78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7B0-CE5C-44D0-AA9B-B31DE8F4ECDE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9D3-AD3C-4DF3-859D-FB3DBEB91338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Декоративно –прикладное искусство Куба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7997-BA9D-4A74-BCD1-39ACC761A29E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4859280" y="1700280"/>
            <a:ext cx="417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«Ты Кубань, ты наша Роди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Вековой наш богатыр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ноговодная, раздольн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Разлилась ты вдаль и вшир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 тебе здесь вспоминаюч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Как о матери родн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 врага, на басурмани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ы пойдем на смертный б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 тебе здесь вспоминаюч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За тебя ль не постоя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За твою ли славу стар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Жизнь свою ли не отд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ы,  как дань свою покор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т прославленных знам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Шлем тебе, Кубань родим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До сырой земли поклон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                     (Из народной песн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728640" y="2421000"/>
            <a:ext cx="336852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br>
              <a:rPr sz="25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расширить представление детей о крае, в котором они живут; познакомить с символикой Кубани: флагом, гербом, гимном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продолжать углублять знания детей о кубанских ремеслах;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развивать интерес у детей  о народных ремеслах, познавательный процесс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вызвать желание узнать больше о декоративно-прикладном искусстве Кубан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воспитывать уважение к труду  и людям труда, желание следовать старинным  народным традициям, любовь к родному краю, Родине.</a:t>
            </a: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ы исследования: 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Изучение литературы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Поход в музей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Рассматривание предметов быта казаков и кубанских народных ремесел; предметов современного декоративно-прикладного искусства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*Просмотр познавательных фильмо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репление знаний о Кубан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BA89-C6B7-4999-8F1C-CCECBD745785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050920" y="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Краснодарский кра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D4C4-6546-4818-BFB0-1E204A4C1461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179280" y="646200"/>
            <a:ext cx="561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Краснодарский край — субъект Российской Федерации на юге Европейской части России. Краснодарский край делится рекой Кубань на две части: северную — равнинную, и южную — предгорную и горную. Высшая точка — гора Цахвоа (3345 м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3419640" y="2133720"/>
            <a:ext cx="5545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До 19 века Кубань представляла собой нераспаханную степь. Густая, высокая трава наполняла степь ароматом цветов, казалось она ждала, что придет земледелец и начнет пользоваться её плодородными  просторами.  Казаки, прибывшие на Кубань, начали распахивать степь. Земля была очень твердая, плуг и соха с трудом могли её поднять. С годами кропотливого труда распашка земли становилась легче. Важнейшей культурой на Кубани являлась пшеница. Вслед за пшенице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тали сажать подсолнечник. Вначале его выращивали на семечки, потом  стали давить из него масло. Еще садили кукурузу. Кубанцы занимались садоводством, растили черешни, вишни, сливы. А ещё яблоки, груши, персики, абрикосы, виноградни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44280" y="2255760"/>
            <a:ext cx="2778120" cy="2268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449280" y="4594320"/>
            <a:ext cx="3025800" cy="196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157D-C6A3-4B37-B1D2-A74C5EC7454C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108000" y="115920"/>
            <a:ext cx="360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«Казак» –  означает «вольный человек». Так называли свободных людей,  которые  прибыли на Кубань охранять  границы  от неприятелей  и были на службе у царицы Екатерины II. Национальная кубанская одежда очень древняя. Казачий костюм  складывался веками. В первую очередь это относится к штанам. Они называются шаровары. Прошло очень много лет, но ничего не изменилось. Это такие же широкие шаровары – в узких штанах на коня не сядешь. Конные казаки носили синие шаровары и кафтан красного цвета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50920" y="4730760"/>
            <a:ext cx="2381040" cy="1584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3924360" y="2852640"/>
            <a:ext cx="4319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Женский казачий костюм сложился на Кубани в конце 19 века. Женская казачья одежда, даже повседневная,  шилась и украшалась с любовью. Но особенно красивой, нарядной  одежда  казачки была в праздники. На все случаи жизни казачки имели одежду. Самый любимый и самый красивый наряд она надевала на свадьбу, один раз в жизн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зготовление кубанского национального костюма связано с различными народными промыслами: шитьем, ткачеством, плетением кружев, вышивкой. Вышивка являлась украшением одежды. Костюм состоял из юбки и кофт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5508720" y="458640"/>
            <a:ext cx="1334880" cy="231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9280" y="189000"/>
            <a:ext cx="6577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Определенную роль в казачьем быту и занятиях играли различные промыслы и ремесла: кузнечное и гончарное, обработка дерева, лозоплетение, ткачество, вышивка, художественная обработка металла, изготовление изделий из кожи и войлочной шерст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 конца XIX века в искусстве народных кубанских мастеров преобладают мотивы русских, украинских и кавказских традиций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278400" y="189000"/>
            <a:ext cx="2779920" cy="190188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75B-C3D8-49CE-8170-3970F5D3877E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2843280" y="1916280"/>
            <a:ext cx="5905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Одним из старейших промыслов на Кубани было гончарное ремесло. Гончарное ремесло  особенно хорошо развивалось в тех районах, где поблизости  залегала хорошая, вязкая глина. Из глины делали посуду, детские игрушки, изготавливали кирпич, черепицу для крыш. Первыми умелыми мастерами-гончарами стали Иван  Шестидесятый и Никифор Гончар. Предметы посуды, которые делали гончары: миски, кувшины, макитры, махотки, чугунок, глэчик. В формах, орнаменте очень часто перекликались мотивы русской, украинской и кавказской керамики. Формы кубанской керамики просты, орнамент яркий, растительный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чугунке варили картошку, кашу, щ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кувшин набирали и пили из него вод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глэчике держали сметану, варенье, молок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макитре замешивали тесто – это большой глиняный горшок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179280" y="2895480"/>
            <a:ext cx="24386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15920"/>
            <a:ext cx="47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Одним из древнейших народных промыслов восточных славян является лозоплетение. На Кубань оно было завезено черноморскими казаками из Украины в конце XVIII века. Значительную часть домашней утвари – от овощных корзин до плетней и хозяйственных построек жители Кубанских станиц делали из лозы. Всевозможные верши, корзины, разнообразные плетни, кошели (емкости для хранения зерна),  плелись из гибкой ивовой лозы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F4A7-2317-4375-A5AA-014E117BC3C5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5292720" y="266760"/>
            <a:ext cx="2778120" cy="2311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2124000" y="2728800"/>
            <a:ext cx="676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скусство художественной обработки дерева имеет на Кубани глубокую традицию и в настоящее время широко развивается. Лесные богатства Кубани  сделали дерево наиболее  любимым материалом в народных промыслах.  Деревянная посуда – бочки, ведра, корыта, чаши, ложки, ступы, мешалки и другие предметы изготавливались во всех горных и предгорных станицах, богатых лесом. Из дерева казаки любили мастерить мебель, резные зеркала,   сундуки с росписью. Резные изделия – это деревянные блюда, прялки, рубели на ткацком станке. В убранстве домов – крылечки и налични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3780000" y="5318280"/>
            <a:ext cx="1920600" cy="1103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1454040" cy="152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4C0A-112E-4801-A9EA-780737400E9F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284720" y="503280"/>
            <a:ext cx="45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Искусство вышивания всегда ценилось на Кубани. Вышитые узоры не только украшали одежду и бытовые предметы из ткани, но и служили оберегами от злых сил. В каждой семье, независимо от социального положения, женщины должны были владеть различными видами рукоделия: ткачеством и вышивкой. В домах князей, бояр, богатых людей на Руси и зажиточных казаков Кубани имелись вышивальные и ткацкие мастерские, где проводили свой досуг все женщины дома. Как правило, творческим процессом руководила хозяйка дома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3024360" cy="3054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108000" y="47160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дним из важных промыслов было ткачество. Ткали материал для одежды и для украшения жилища. В казацких семьях уже с 7-9 лет девочек приучали к ткачеству, прядению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324000" y="792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иболее широко на Кубани была распространена вышивка. Мастерицы-казачки вышивали рушники, скатерти, салфетки, занавески, рубашки, наволоч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Рушник издавна служил незаменимой принадлежностью традиционных народных обычаев и обрядов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9296-26A6-4E37-ACFD-14DAC33E0F98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6659640" y="120600"/>
            <a:ext cx="237168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2604960" y="2316240"/>
            <a:ext cx="65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Также распространённым видом народного промысла в Краснодарском крае считается плетение из соломы, талаша (листьев кукурузных початков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971640" y="1486080"/>
            <a:ext cx="1633320" cy="2206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79280" y="3641760"/>
            <a:ext cx="66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Исторически на Кубани наиболее широкое распространение получила ковань - кузнечное ремесло. Кузнецы были главными мастерами. В каждой кубанской станице с конца XIX века работали до пяти кузниц. Здесь изготавливалось всё необходимое для быта станичников - подковы, замки, ухваты. Кубанские кузнецы создавали настоящие художественные произведения из металла: кованные надкрылечные зонты – «козырьки», решетки для окон, дверей, балконов, парадные лестницы, ограды, флюгера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Рисунок 4" descr=""/>
          <p:cNvPicPr/>
          <p:nvPr/>
        </p:nvPicPr>
        <p:blipFill>
          <a:blip r:embed="rId3"/>
          <a:stretch/>
        </p:blipFill>
        <p:spPr>
          <a:xfrm>
            <a:off x="6553080" y="4179960"/>
            <a:ext cx="2559240" cy="203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826920" y="495360"/>
            <a:ext cx="288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 Кубани вырос я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не родней, понятне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аши южные края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тепи необъятные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горы хлеба до небес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ветки вишен алые, ес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лес - так южный ле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перед перевала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7C9E-D4CD-42A9-8F1E-E485EE539175}" type="slidenum">
              <a:rPr b="0" lang="ru-RU" sz="1200" spc="-1" strike="noStrike">
                <a:solidFill>
                  <a:srgbClr val="898989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611280" y="3860640"/>
            <a:ext cx="80643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народно – прикладное искусство Кубани является частью народного искусства России и мира. Утрата традиции любого народа может привести к исчезновению самого этноса. Вот почему так важно знать традиции культуры своего народа и народное декоративно – прикладное искусство, как его ча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584520" y="920880"/>
            <a:ext cx="4565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8:45:37Z</dcterms:created>
  <dc:creator>Паровоз</dc:creator>
  <dc:description/>
  <dc:language>en-US</dc:language>
  <cp:lastModifiedBy>паровоз12345</cp:lastModifiedBy>
  <dcterms:modified xsi:type="dcterms:W3CDTF">2015-10-08T17:07:12Z</dcterms:modified>
  <cp:revision>57</cp:revision>
  <dc:subject/>
  <dc:title>Декоративно –прикладное искусство Кубани</dc:title>
</cp:coreProperties>
</file>