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8FF-31F1-4521-936A-3B82C1F5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11C-8E7F-4617-A1F7-746C6E06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B65-FC0C-4D65-A9F7-5FC2D007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63F-4D74-4A66-94A7-BAD8B664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FA1-7F05-4D67-9AD1-28475A18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2E4-EF08-49DB-92EC-E126EBCD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DF1-C9FC-4D2A-9C2C-82BBFC0A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9BF-BF27-4AFD-A6AD-274D9FB9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48E-39D1-4D6E-AFEA-60E2A8BB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EC5-22C8-47B0-B9FF-81330601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0B5-EC4F-449A-ACF0-438A859A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8F3-630C-48FC-88B9-04104828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78C0-429A-4D06-9923-25A9DB25AF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hyperlink" Target="http://www.interactive-english.ru/" TargetMode="External"/><Relationship Id="rId3" Type="http://schemas.openxmlformats.org/officeDocument/2006/relationships/hyperlink" Target="http://nsportal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01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9900"/>
                </a:solidFill>
                <a:latin typeface="Arial"/>
              </a:rPr>
              <a:t>ECOLOGY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860280"/>
            <a:ext cx="828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78dede"/>
                </a:solidFill>
                <a:latin typeface="Arial"/>
              </a:rPr>
              <a:t>ENVIRONMENTAL PROBLEM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Фонд защиты,российский фонд"/>
          <p:cNvPicPr/>
          <p:nvPr/>
        </p:nvPicPr>
        <p:blipFill>
          <a:blip r:embed="rId1"/>
          <a:stretch/>
        </p:blipFill>
        <p:spPr>
          <a:xfrm>
            <a:off x="3429000" y="1857240"/>
            <a:ext cx="2160720" cy="1959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8920" y="1714680"/>
            <a:ext cx="87505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9900"/>
                </a:solidFill>
                <a:latin typeface="Monotype Corsiva"/>
              </a:rPr>
              <a:t>Let’s save our planet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Baskerville Old Face"/>
                <a:hlinkClick r:id="rId1"/>
              </a:rPr>
              <a:t>http://prezentacii.com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Baskerville Old Face"/>
                <a:hlinkClick r:id="rId2"/>
              </a:rPr>
              <a:t>http://www.interactive-english.ru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Baskerville Old Face"/>
                <a:hlinkClick r:id="rId3"/>
              </a:rPr>
              <a:t>http://nsportal.r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50920" y="285480"/>
            <a:ext cx="4848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4d"/>
                </a:solidFill>
                <a:latin typeface="Baskerville Old Face"/>
              </a:rPr>
              <a:t>For thousand of years the Earth has given support to all forms of life – human beings, animals, birds, fishes, insects and pla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134"/>
          <p:cNvPicPr/>
          <p:nvPr/>
        </p:nvPicPr>
        <p:blipFill>
          <a:blip r:embed="rId1"/>
          <a:stretch/>
        </p:blipFill>
        <p:spPr>
          <a:xfrm>
            <a:off x="324000" y="476280"/>
            <a:ext cx="3551040" cy="5326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211280" y="1773000"/>
            <a:ext cx="4932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Baskerville Old Face"/>
              </a:rPr>
              <a:t>But now human beings are killing the planet</a:t>
            </a:r>
            <a:r>
              <a:rPr b="1" i="1" lang="ru-RU" sz="6000" spc="-1" strike="noStrike">
                <a:solidFill>
                  <a:srgbClr val="7030a0"/>
                </a:solidFill>
                <a:latin typeface="Baskerville Old Face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плакаты о защите природы и окружающей среды."/>
          <p:cNvPicPr/>
          <p:nvPr/>
        </p:nvPicPr>
        <p:blipFill>
          <a:blip r:embed="rId1"/>
          <a:stretch/>
        </p:blipFill>
        <p:spPr>
          <a:xfrm>
            <a:off x="324000" y="836640"/>
            <a:ext cx="3960720" cy="4967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680" y="3499920"/>
            <a:ext cx="5000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Baskerville Old Face"/>
              </a:rPr>
              <a:t>Millions of animals and birds have disappeared because man has polluted their natural homes by litter and wastes</a:t>
            </a:r>
            <a:r>
              <a:rPr b="1" i="1" lang="ru-RU" sz="3600" spc="-1" strike="noStrike">
                <a:solidFill>
                  <a:srgbClr val="000066"/>
                </a:solidFill>
                <a:latin typeface="Baskerville Old Face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Новости в фотографиях: красивые фотографии звезд, фото моделей, авто, кино, знаменитости, мода."/>
          <p:cNvPicPr/>
          <p:nvPr/>
        </p:nvPicPr>
        <p:blipFill>
          <a:blip r:embed="rId1"/>
          <a:stretch/>
        </p:blipFill>
        <p:spPr>
          <a:xfrm>
            <a:off x="1643040" y="0"/>
            <a:ext cx="5226120" cy="3479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i?id=575d5edf1d07437c736709747f77a97f-93-144&amp;n=21"/>
          <p:cNvPicPr/>
          <p:nvPr/>
        </p:nvPicPr>
        <p:blipFill>
          <a:blip r:embed="rId2"/>
          <a:stretch/>
        </p:blipFill>
        <p:spPr>
          <a:xfrm>
            <a:off x="5595840" y="4197240"/>
            <a:ext cx="3548160" cy="2660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143680" y="642960"/>
            <a:ext cx="369864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0c0"/>
                </a:solidFill>
                <a:latin typeface="Baskerville Old Face"/>
              </a:rPr>
              <a:t>The country air, once clean and fresh, now is polluted by power stations and factories</a:t>
            </a: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Главные научные знания темы 2 :: Конец света в 2012 году. Предсказания судного дня"/>
          <p:cNvPicPr/>
          <p:nvPr/>
        </p:nvPicPr>
        <p:blipFill>
          <a:blip r:embed="rId1"/>
          <a:stretch/>
        </p:blipFill>
        <p:spPr>
          <a:xfrm>
            <a:off x="285840" y="404640"/>
            <a:ext cx="4857840" cy="4953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71720" y="4000680"/>
            <a:ext cx="7510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Baskerville Old Face"/>
              </a:rPr>
              <a:t>All over the world the forests are disappearing. People cut the trees down because they need wood and paper or new places for farms, houses and roads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0_93bdd_35a926db_XL"/>
          <p:cNvPicPr/>
          <p:nvPr/>
        </p:nvPicPr>
        <p:blipFill>
          <a:blip r:embed="rId1"/>
          <a:stretch/>
        </p:blipFill>
        <p:spPr>
          <a:xfrm>
            <a:off x="1476360" y="189000"/>
            <a:ext cx="6324480" cy="3557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Охрана природы нуждается в науке"/>
          <p:cNvPicPr/>
          <p:nvPr/>
        </p:nvPicPr>
        <p:blipFill>
          <a:blip r:embed="rId1"/>
          <a:stretch/>
        </p:blipFill>
        <p:spPr>
          <a:xfrm>
            <a:off x="0" y="0"/>
            <a:ext cx="4824360" cy="3205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Государственный доклад о состоянии и об охране окружающей среды в Республике Мордовия в 2011 году Официальный сайт органов госуд"/>
          <p:cNvPicPr/>
          <p:nvPr/>
        </p:nvPicPr>
        <p:blipFill>
          <a:blip r:embed="rId2"/>
          <a:stretch/>
        </p:blipFill>
        <p:spPr>
          <a:xfrm>
            <a:off x="4643280" y="3214800"/>
            <a:ext cx="4500720" cy="3643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4920" y="642600"/>
            <a:ext cx="851868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                                  </a:t>
            </a:r>
            <a:r>
              <a:rPr b="1" i="1" lang="en-US" sz="4400" spc="-1" strike="noStrike">
                <a:solidFill>
                  <a:srgbClr val="000066"/>
                </a:solidFill>
                <a:latin typeface="Baskerville Old Face"/>
              </a:rPr>
              <a:t>Even if new trees </a:t>
            </a: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                                     </a:t>
            </a:r>
            <a:r>
              <a:rPr b="1" i="1" lang="en-US" sz="4400" spc="-1" strike="noStrike">
                <a:solidFill>
                  <a:srgbClr val="000066"/>
                </a:solidFill>
                <a:latin typeface="Baskerville Old Face"/>
              </a:rPr>
              <a:t>are </a:t>
            </a:r>
            <a:r>
              <a:rPr b="1" i="1" lang="ru-RU" sz="4400" spc="-1" strike="noStrike">
                <a:solidFill>
                  <a:srgbClr val="000066"/>
                </a:solidFill>
                <a:latin typeface="Baskerville Old Face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Baskerville Old Face"/>
              </a:rPr>
              <a:t>                                    </a:t>
            </a:r>
            <a:r>
              <a:rPr b="1" i="1" lang="en-US" sz="4400" spc="-1" strike="noStrike">
                <a:solidFill>
                  <a:srgbClr val="000066"/>
                </a:solidFill>
                <a:latin typeface="Baskerville Old Face"/>
              </a:rPr>
              <a:t>planted, 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Baskerville Old Face"/>
              </a:rPr>
              <a:t>takes many years </a:t>
            </a: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66"/>
                </a:solidFill>
                <a:latin typeface="Baskerville Old Face"/>
              </a:rPr>
              <a:t>for them to grow</a:t>
            </a:r>
            <a:r>
              <a:rPr b="1" i="1" lang="ru-RU" sz="4400" spc="-1" strike="noStrike">
                <a:solidFill>
                  <a:srgbClr val="000066"/>
                </a:solidFill>
                <a:latin typeface="Baskerville Old Face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427640" y="428400"/>
            <a:ext cx="434160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2f4f4"/>
                </a:solidFill>
                <a:latin typeface="Baskerville Old Face"/>
              </a:rPr>
              <a:t>We live among litter and wastes which we have created ourselves – fumes of cars, throwaway packaging, etc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Провинциальный ТелеграфЪ"/>
          <p:cNvPicPr/>
          <p:nvPr/>
        </p:nvPicPr>
        <p:blipFill>
          <a:blip r:embed="rId1"/>
          <a:stretch/>
        </p:blipFill>
        <p:spPr>
          <a:xfrm>
            <a:off x="214200" y="142920"/>
            <a:ext cx="3959280" cy="2967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Викторина по охране окружающей среды - Новинки софта, игр, музыки"/>
          <p:cNvPicPr/>
          <p:nvPr/>
        </p:nvPicPr>
        <p:blipFill>
          <a:blip r:embed="rId2"/>
          <a:stretch/>
        </p:blipFill>
        <p:spPr>
          <a:xfrm>
            <a:off x="285840" y="3643200"/>
            <a:ext cx="3932280" cy="2951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0" y="475920"/>
            <a:ext cx="427032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These are some of the most serious environmental problems. And they are getting worse all the tim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What will happen if we don’t try to solve th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7" descr="Об образовательных стандартах / МБОУ &quot;Приволжская ООШ&quot; Мариинско-Посадского района / Портал образования ЧР"/>
          <p:cNvPicPr/>
          <p:nvPr/>
        </p:nvPicPr>
        <p:blipFill>
          <a:blip r:embed="rId1"/>
          <a:stretch/>
        </p:blipFill>
        <p:spPr>
          <a:xfrm>
            <a:off x="0" y="0"/>
            <a:ext cx="3782880" cy="4464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79280" y="5734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askerville Old Face"/>
              </a:rPr>
              <a:t>…</a:t>
            </a:r>
            <a:r>
              <a:rPr b="1" i="1" lang="en-US" sz="4000" spc="-1" strike="noStrike">
                <a:solidFill>
                  <a:srgbClr val="cc0000"/>
                </a:solidFill>
                <a:latin typeface="Baskerville Old Face"/>
              </a:rPr>
              <a:t>the scientists’ predictions are alarming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5:00:07Z</dcterms:created>
  <dc:creator>messi</dc:creator>
  <dc:description/>
  <dc:language>en-US</dc:language>
  <cp:lastModifiedBy>Алексей</cp:lastModifiedBy>
  <dcterms:modified xsi:type="dcterms:W3CDTF">2015-10-08T15:03:24Z</dcterms:modified>
  <cp:revision>7</cp:revision>
  <dc:subject/>
  <dc:title>EC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