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C498-6339-48A9-B1C5-ECD32B35EE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BD44-9626-43E4-8F22-62785532414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4776-1420-49F0-B6D1-E418CB36BEC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199C-4DE2-4676-8BC0-204BBAF11CE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D6C9-51DD-43AC-B476-E1BA0B7C0FC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3C7A-04CE-4D97-A71A-10B7E5299B3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F68C-7CEA-4867-BFE6-5DCFCA77C2C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4217-E9D1-4820-94B9-7EA8B452E1B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0315-9BA6-4D27-9D60-2F458B13EE6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CE44-9937-42A0-9B0E-60D6482EF1F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E44C-E38D-4734-90CA-E8F63495CF3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3229-F9E6-4BC5-B59A-0C26A51097D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5766-40E0-475E-B46E-21B36B57749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60C5-889E-4E91-AF80-7EA7EC9DE55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235F-8BA8-4718-89E8-C778EBCE183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D4CD-C214-4345-B419-ADB901118B4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3601-09FB-4A69-8462-8A1203D7EEB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8558-057B-448D-9480-3BE14024F9F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0B82-8605-4B6C-AD3C-AA06C04A505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F09A-AF2C-4B84-A9DC-6342BFE9D12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906C-3122-4AA9-8689-E5AF5B64C73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0652-2D57-4C1B-A713-AA02AAA6E18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B98B-B86B-46E3-802C-391598473F8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073D-41CC-43BE-B8D1-141671E3E5B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620C-FDAC-404B-A15B-EE502E2BCC5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51E1-E170-4B75-B7AF-BBB305DEB70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E8D5-3A61-4AAB-9E3B-D5B58BA3CDB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C615-E0A3-44B7-BA47-86A8DE1C1AE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90E1-7C3D-465F-810A-F51514C6782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9C6D-B7C7-4DD2-8177-294AF7E4F07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72D7-9D85-4FAB-A132-4A0FE8B3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B80D-BE37-4DB6-AFC8-413F2199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7012F0-0C85-42DE-A81C-34504F90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AB9238-E161-4A1E-B25E-461B0376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5710A9-EA3A-4110-A3E9-3D4F5956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1306AA-2DE5-49B3-A2DE-2FDAB92B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4D8D75-5592-4649-8F8D-5DD00463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EDE4EA-18DC-42DF-B91B-129FF311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637126-91B8-4CFF-B41A-61A1FC5E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E03828-B80F-460B-93ED-D3A155E4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2456EF-A993-4558-87D0-1EBDA840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C9C2-B2C7-45CE-8D83-8D36452D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3AB5-60DD-4220-B275-9C7FBC61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67243-9321-447D-8341-83E32F37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0E65C-8DF6-4511-A287-10E2FA16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41F73-5F21-4653-AA73-3EA11C0B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201D0-E417-44FE-B32C-34E282AA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B9159-4482-43B6-ABEB-8F5FBD4E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C2BE9-B4F5-47E0-A19D-D1EE134B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E4963-1B32-44D3-9D39-45A75922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52F-C911-4A5B-BDBB-F674FC81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EA689-97B2-4BC5-9747-E8E94AEB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EC761-525C-4B5A-95E1-7E3DD91C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B947E-57DD-48C5-8FDE-87DD6A24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5CB17-6E7C-44D6-9626-50829E15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EFC9D-F9B5-426A-B823-B14F0E9A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0BF29-9472-4389-9653-7F00E8C6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54D07-8BBB-429C-B016-85130918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E8C24-8BCE-4C97-93B6-84484907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07B27-8E0E-4317-96F4-673E6129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55A57-7258-49E1-8DA0-76C25096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968-8040-451C-B679-0109B3CF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AFA78-B861-443C-AE44-284C7CC1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339F4-F04D-419C-8B72-36D9B886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AAD09-A81F-4E40-AAE5-EAE9D980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313DD-82C1-456A-A2EE-B9AE6EF0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22F50-DFED-4022-9D0C-9F43658B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D6E37-11EC-4ADE-B529-F45B9115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12B1D-E49D-4592-916C-FD728FF3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3FEAAE-E04D-44EC-AB75-44692112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CCAA06-EB40-4690-8456-B456E75A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1F0886-4B54-4C86-8AB5-90066DE0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FB5A-CD70-418B-802D-0C9CD6DC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20FDC9-B5B2-496E-A2F2-C7D9509C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CED312-4481-4B60-BBAE-EB733BB8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E3FC28-B1F2-4975-8D7B-EF26EBF5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1B1AD6-FB9E-4E91-8EC3-43127372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B38E30-36CC-4D7B-A84C-2EB29D92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37841C-78D4-443A-96CB-ECA8608E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646BE8-00A0-4C0C-9F85-A0EC5C3C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A4DA0A-3B2E-41E4-9CEF-D2FDD077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F2AC7F-8803-4220-9FE0-1E59764B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E2232-AAEE-4E6D-ABA8-1E8A9499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7B0B-7D30-48F2-82B7-C31D10BB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C9A73-2CB1-498A-9E6C-774F6499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FBD3B-51DD-4D0B-BDDF-827DB785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DCBFE-28F6-4B82-80FF-DCF56DA3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CB7A9-10A5-4363-AEAA-37F04F6E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8186C-3A31-440B-8DE4-233AF25F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1FF84-BE78-46FC-B231-BB583A7C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51484-17CD-4C5A-A39C-78D42016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25BB2-AAEB-4C65-90D0-DA84B656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B3EE6-9147-4C98-A24C-DFEDA6CF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1E01D-E748-4C4D-AEA1-5A6AA101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382-5CFA-4497-9CFB-C3F21237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604EA-60DB-4C44-A80D-67EF6E09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4AD68-8252-400D-B1FA-AF8D4D5F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BC884-5AE6-4A7A-A77B-6C58E870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E1476-0363-47E7-8259-1D4BBCE6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180B3-C20A-40AA-A994-A6911AC2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0A182-748F-4AEE-BD4B-880E03D4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B5AFB-BF6C-4EDF-BA31-C067819C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B6774-4F4F-475B-86AF-DE7BDA0E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C8C29-5304-41A9-A634-699C6C2D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57925-ABD6-4128-842A-32F24D4E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8A25-6C5D-4C0D-88FF-83CB2549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968FF-C937-4A7D-A78D-19192261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E52F8-C327-4CD8-9A3E-298EAB16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4A342-2AC8-454C-847E-56DA5D8A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A00F2-F177-4C70-A0C8-D08FE7A3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E990B-D38A-40BB-9597-659BE3B6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D2020-5836-4EF2-BE96-139649D4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A2170-6CEE-4125-AE1A-3E1AD80D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48F61-F515-4D3C-AEA6-078B6454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E459E-4BE1-4720-8898-EE74D94E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D0370-C1F4-4034-AAAC-D892344B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546A-8D55-44B3-A4ED-5D9E09A4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7C5DE-6ADE-43AD-B2ED-22683155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F2B59-A8E7-4CEC-8C81-254189C4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BA33C-995B-4896-B3BA-50952F9D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FD2ED-8B2B-4FC2-82F7-DD044340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CECB8-C07B-4181-96AD-7EA5F44C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606A80-078F-4B7B-87DA-A3E3F1E4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7F9ED4-F4C0-4226-9E40-E143F6DD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242FAD-AEA3-4E89-B258-5DE2B08C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4A84CE-4368-4E25-B63B-1FB0FBF2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5BC09D-3076-47B0-A6F8-757B3338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90EE-4A9C-415E-9E71-72AB6430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F4DF9D-76FD-4EF5-8DE8-3470DBD3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00BB4D-1C30-43B8-AC06-F213BC39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8E37A5-CC23-4340-BA37-C1FEC846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C3842E-F899-4AE5-9CAD-F18267AD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4A941F-7FC6-4D49-9C76-148CCE9D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D3C1B5-48E9-456E-8DE5-D54067EC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D46AF8-12D5-4595-BD31-0E4630F3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2C48A8-BB94-470B-A6CC-F16E6086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FD23DA-B834-48DE-AEA1-9F64CE66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BFBE6D-4962-482D-9762-6083AFFD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CC08-AF8F-40BA-9D57-DB4B5B29093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5D08-140E-417C-B2DB-39330EF15F6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47EE-ED22-4076-B9ED-0A4D16385C3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CC19-7D14-41EC-9FEC-FB37C420379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1D8D-05BB-40A0-BA17-295A30253EB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7221-C270-44AE-8F56-4F145A4ED65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2981-03AB-426E-A1DE-DF74FDD2A82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C1EF-EFDE-43CD-A0BF-9905C79A4F2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E429-2892-4624-82A7-31743D9B516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190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443280" y="2819160"/>
            <a:ext cx="2700360" cy="2625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русский поэт-лирик, переводчик мемуарист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(1820-1892)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Picture 2" descr="C:\Users\Пользователь\Desktop\220px-Fet_by_Repin.jpg"/>
          <p:cNvPicPr/>
          <p:nvPr/>
        </p:nvPicPr>
        <p:blipFill>
          <a:blip r:embed="rId2"/>
          <a:stretch/>
        </p:blipFill>
        <p:spPr>
          <a:xfrm>
            <a:off x="2916360" y="1989000"/>
            <a:ext cx="345600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1"/>
          <p:cNvSpPr/>
          <p:nvPr/>
        </p:nvSpPr>
        <p:spPr>
          <a:xfrm>
            <a:off x="468360" y="0"/>
            <a:ext cx="835164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 этом стихотворении нет ни одного глагола.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днако статичное описание пространства передает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амо движение времени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тихотворение принадлежит к числу лучших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этических произведений лирического жанра.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первые опубликовано в журнале «Москвитянин»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(1850 год), потом переработано и в окончательном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арианте, спустя шесть лет, в сборнике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Стихотворения А.А. Фета» (издан под редакцией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. С. Тургенева)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0" name="Прямоугольник 2"/>
          <p:cNvSpPr/>
          <p:nvPr/>
        </p:nvSpPr>
        <p:spPr>
          <a:xfrm>
            <a:off x="324000" y="11970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Шёпот, робкое дыхань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    Трели соловь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Серебро и колыхань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    Сонного ручь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  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Свет ночной, ночные т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    Тени без конц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Ряд волшебных изменени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    Милого лица,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 дымных тучках пурпур розы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    Отблеск янтаря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И лобзания, и слёзы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    И заря, заря!.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263520" y="361440"/>
            <a:ext cx="786600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ереводческая деятельность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бе части «Фауста» Гёте (1882—83)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целый ряд латинских поэтов: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ораций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тихотворения Катулла (1886),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элегии Тибулла(1886),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XV книг «Превращений» Овидия (1887),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«Энеида» Вергилия (1888),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элегии Проперция (1888),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атиры Персия (1889) и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эпиграммы Марциала (1891)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планах Фета был перевод «Критики чистого разума»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днако Н. Страхов отговорил Фета переводить эту книгу Канта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указав, что русский перевод этой книги уже существует.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сле этого Фет обратился к переводу Шопенгауэра.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н перевел два сочинения Шопенгауэра: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«Мир, как воля и представление» (1880, 2-е изд. в 1888 г.) и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«О четверояком корне закона достаточного основания» (1886).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6"/>
          <p:cNvSpPr/>
          <p:nvPr/>
        </p:nvSpPr>
        <p:spPr>
          <a:xfrm>
            <a:off x="539640" y="474840"/>
            <a:ext cx="7777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858 — поэт уходит в отставку в чине гвардейского штаб-ротмистра, живет в Москве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859 — разрыв с журналом «Современник»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863 — выход двухтомного собрания стихотворений Фета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867 — Фет избран мировым судьей на 11 лет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3"/>
          <p:cNvSpPr/>
          <p:nvPr/>
        </p:nvSpPr>
        <p:spPr>
          <a:xfrm>
            <a:off x="324000" y="981000"/>
            <a:ext cx="8675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873 — возвращено дворянство и фамилия Шеншин. Литературные произведения и переводы поэт и в дальнейшем подписывал фамилией Фет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883—1891 — публикация четырёх выпусков сборника «Вечерние огни»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1892, 21 ноября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 — кончина Фета в Москве. По некоторым данным, его смерти от сердечного приступа предшествовала попытка самоубийства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хоронен в селе Клейменово, родовом имении Шеншиных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3"/>
          <p:cNvSpPr/>
          <p:nvPr/>
        </p:nvSpPr>
        <p:spPr>
          <a:xfrm>
            <a:off x="611280" y="404640"/>
            <a:ext cx="79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ервые 14 и последние 19 лет жизни официально носил фамилию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Шенши́н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, 23 ноября 1820, усадьба Новосёлки, Мценский уезд, Орловская губерния — 21 ноября 1892, Москва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Прямоугольник 4"/>
          <p:cNvSpPr/>
          <p:nvPr/>
        </p:nvSpPr>
        <p:spPr>
          <a:xfrm>
            <a:off x="3419640" y="602136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Усадьба Фета в деревне Воробьевка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6" name="Picture 2" descr="C:\Users\Пользователь\Desktop\thumbnail.php.jpg"/>
          <p:cNvPicPr/>
          <p:nvPr/>
        </p:nvPicPr>
        <p:blipFill>
          <a:blip r:embed="rId1"/>
          <a:stretch/>
        </p:blipFill>
        <p:spPr>
          <a:xfrm>
            <a:off x="971640" y="2637000"/>
            <a:ext cx="453708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324000" y="196920"/>
            <a:ext cx="8496000" cy="7043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! Важно !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Фет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(Фёт) - «имя всех его страданий и горестей»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Сын орловского помещика Афанасия Неофитовича Шеншина и привезённой им из Германии Каролины Шарлотты Фёт, он был при рождении записан (вероятно, за взятку) законным сыном своих родителей, хотя родился через месяц после прибытия Шарлотты в Россию и за год до их брака. Когда ему было 14 лет, «ошибка» в документах обнаружилась, и он был лишён фамилии, дворянства и русского подданства и стал «гессендармштадтским подданным Афанасием Фётом» (таким образом, его отцом стал считаться первый муж Шарлотты, немец Фёт; кто в действительности был отцом Афанасия — неизвестно). В 1873 году он официально вернул себе фамилию Шеншин, но литературные произведения и переводы продолжал подписывать фамилией Фет (через «е»)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оугольник 3"/>
          <p:cNvSpPr/>
          <p:nvPr/>
        </p:nvSpPr>
        <p:spPr>
          <a:xfrm>
            <a:off x="611280" y="476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В 1835—1837 годах учился в немецком частном пансионе Крюммера в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ambria"/>
              </a:rPr>
              <a:t>г. Верро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(теперь г. Выру,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ambria"/>
              </a:rPr>
              <a:t>Эстония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). В это время Фет начинает писать стихи, проявляет интерес к классической филологии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Picture 2" descr="C:\Users\Пользователь\Desktop\3208443_large.jpeg"/>
          <p:cNvPicPr/>
          <p:nvPr/>
        </p:nvPicPr>
        <p:blipFill>
          <a:blip r:embed="rId1"/>
          <a:stretch/>
        </p:blipFill>
        <p:spPr>
          <a:xfrm>
            <a:off x="1835280" y="2060640"/>
            <a:ext cx="446724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-360" y="259920"/>
            <a:ext cx="514836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 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В 1838—1844 годах — учёба в </a:t>
            </a:r>
            <a:r>
              <a:rPr b="1" lang="ru-RU" sz="2500" spc="-1" strike="noStrike" u="sng">
                <a:solidFill>
                  <a:srgbClr val="f2f2f2"/>
                </a:solidFill>
                <a:uFillTx/>
                <a:latin typeface="Cambria"/>
              </a:rPr>
              <a:t>Московском Университете.</a:t>
            </a:r>
            <a:r>
              <a:rPr b="1" lang="ru-RU" sz="2500" spc="-1" strike="noStrike" u="sng">
                <a:solidFill>
                  <a:srgbClr val="f2f2f2"/>
                </a:solidFill>
                <a:uFillTx/>
                <a:latin typeface="Cambri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В 1840 году — </a:t>
            </a:r>
            <a:r>
              <a:rPr b="1" lang="ru-RU" sz="2500" spc="-1" strike="noStrike" u="sng">
                <a:solidFill>
                  <a:srgbClr val="f2f2f2"/>
                </a:solidFill>
                <a:uFillTx/>
                <a:latin typeface="Cambria"/>
              </a:rPr>
              <a:t>выход сборника стихов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 Фета «Лирический пантеон» при участии А. Григорьева, друга Фета по университету.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В 1842 году — публикации в журналах «Москвитянин» и «Отечественные записки».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В 1845 году — поступление на военную службу в Кирасирский Военного ордена полк, становится кавалеристом. 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f2f2f2"/>
                </a:solidFill>
                <a:latin typeface="Cambria"/>
              </a:rPr>
              <a:t>В 1846 году ему присвоено первое офицерского звание.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Picture 2" descr="C:\Users\Пользователь\Desktop\650616.jpg"/>
          <p:cNvPicPr/>
          <p:nvPr/>
        </p:nvPicPr>
        <p:blipFill>
          <a:blip r:embed="rId1"/>
          <a:stretch/>
        </p:blipFill>
        <p:spPr>
          <a:xfrm>
            <a:off x="5076720" y="333360"/>
            <a:ext cx="3810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3"/>
          <p:cNvSpPr/>
          <p:nvPr/>
        </p:nvSpPr>
        <p:spPr>
          <a:xfrm>
            <a:off x="539640" y="33336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В 1850 году - второй сборник Фета, положительные отзывы критиков в журналах «Современник», «Москвитянин» и «Отечественные записки»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ибель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ambria"/>
              </a:rPr>
              <a:t>Марии Козьминичны Лазич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, возлюбленной поэта, воспоминаниям о которой посвящена поэма «Талисман», стихотворения «Старые письма», «Ты отстрадала, я ещё страдаю…», «Нет, я не изменил. До старости глубокой…» и многие другие его стихи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Прямоугольник 4"/>
          <p:cNvSpPr/>
          <p:nvPr/>
        </p:nvSpPr>
        <p:spPr>
          <a:xfrm>
            <a:off x="3132000" y="4221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mbria"/>
              </a:rPr>
              <a:t>И хоть жизнь без тебя суждено мне влачить,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Cambria"/>
              </a:rPr>
              <a:t>но мы вместе с тобой, нас нельзя разлучить… 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Cambria"/>
              </a:rPr>
              <a:t>А.Фет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оугольник 3"/>
          <p:cNvSpPr/>
          <p:nvPr/>
        </p:nvSpPr>
        <p:spPr>
          <a:xfrm>
            <a:off x="324000" y="549360"/>
            <a:ext cx="4608360" cy="85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853 — Фета переводят в гвардейский полк, расквартированный под Петербургом. Поэт часто бывает в Петербурге, тогда — столице. Встречи Фета с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ambria"/>
              </a:rPr>
              <a:t>Тургеневым, Некрасовым, Гончаровым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и др. Сближение с редакцией журнала «Современник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5" name="Picture 2" descr="C:\Users\Пользователь\Desktop\5305.jpg"/>
          <p:cNvPicPr/>
          <p:nvPr/>
        </p:nvPicPr>
        <p:blipFill>
          <a:blip r:embed="rId1"/>
          <a:stretch/>
        </p:blipFill>
        <p:spPr>
          <a:xfrm>
            <a:off x="5076720" y="620640"/>
            <a:ext cx="359424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3"/>
          <p:cNvSpPr/>
          <p:nvPr/>
        </p:nvSpPr>
        <p:spPr>
          <a:xfrm>
            <a:off x="395280" y="765000"/>
            <a:ext cx="388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854 — служба в Балтийском Порту, описанная в его мемуарах «Мои воспоминания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856 — третий сборник Фета. Редактор — Тургенев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857 — женитьба Фета на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. П. Боткиной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, сестре врача С. П. Боткина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7" name="Picture 2" descr="C:\Users\Пользователь\Desktop\47127801_Valentin_Serov.jpg"/>
          <p:cNvPicPr/>
          <p:nvPr/>
        </p:nvPicPr>
        <p:blipFill>
          <a:blip r:embed="rId1"/>
          <a:stretch/>
        </p:blipFill>
        <p:spPr>
          <a:xfrm>
            <a:off x="4572000" y="549360"/>
            <a:ext cx="403236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"/>
          <p:cNvSpPr/>
          <p:nvPr/>
        </p:nvSpPr>
        <p:spPr>
          <a:xfrm>
            <a:off x="395280" y="476280"/>
            <a:ext cx="828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Поэзи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Творчество Фета характеризуется стремлением уйти от повседневной действительности в «светлое царство мечты». Основное содержание его поэзии —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любовь и природа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. Стихотворения его отличаются тонкостью поэтического настроения и большим художественным мастерством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Фет — представитель так называемой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«чистой» поэзии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. В связи с этим на протяжении всей жизни он спорил с Н. А. Некрасовым — представителем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социальной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поэзии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Особенность поэтики Фета — разговор о самом важном ограничивается прозрачным намёком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Самый яркий пример — стихотворение «Шёпот, робкое дыханье…»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2:26:14Z</dcterms:created>
  <dc:creator>Пользователь</dc:creator>
  <dc:description/>
  <dc:language>en-US</dc:language>
  <cp:lastModifiedBy>Пользователь</cp:lastModifiedBy>
  <dcterms:modified xsi:type="dcterms:W3CDTF">2011-02-06T16:15:40Z</dcterms:modified>
  <cp:revision>10</cp:revision>
  <dc:subject/>
  <dc:title>Фет Афанасий Афанасьевич</dc:title>
</cp:coreProperties>
</file>