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83D0-311D-4FCE-82C4-607D72C183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7AFC-C4EA-4BB0-B514-B6E96544D12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4174-4859-442C-963F-20A75CFB32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194E-A307-4960-BD0B-5A1ADB5190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8F86-F4E3-4C93-A424-4762E1593BF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7953-FB83-456F-8F8C-D669B22F1C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DEEC-45AF-4372-89E1-A121D1EB09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7F7B-C05D-42BE-B1BB-C053E44EB32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6CE4-1437-4995-80EA-D226A3BBF1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1040-ED16-478B-9C24-7829FFF349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757F-7078-40F3-B933-DCDECCF3D5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D4AE-D096-43C2-BF3B-590517C776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9A7-11CF-4D61-8286-6234DD54DB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B50A-1B6C-407B-B3C9-FC336CC603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5117-F3BA-4BD4-8489-54D83A06D13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3E32-6F4B-494F-B96C-C064A5C057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9521-C719-4485-BE62-D2DB9203D9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5A99-8730-4052-8E5B-F8A791BF4C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D037-30D4-4CD9-8F55-FDA31D5438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FC3A-53AD-4D55-B1FE-85B08AB8F0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5B2E-B530-4B00-BFDF-2EA72289A7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1D31-E92D-4725-9BA9-EBD344105C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815F-6011-43E4-A01D-FBB2AEC5CB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FE38-6B30-4B96-814D-4FCF0F00C93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59C1-6735-4922-B617-FB8DA8D99D4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40E9-DFF8-4A92-9E6C-A316AFDC679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1D48-AF45-430C-951A-80956DDF6F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1862-C9D2-4A39-9721-6607591B7DF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E9A9-59F3-4234-9577-457D19C5366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745D-3016-4F75-900B-4776E08257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37E-C00B-43D1-9F54-6C897841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5F0-302D-44C5-AB45-788BA08B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ED30C-E8B5-4702-8254-34B52210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0213DE-CEE8-4FEA-A010-ABBF42DA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96E871-25F5-405F-8D05-ED3CD050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B3C19-D396-4E10-A1F3-5C29150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B83DB4-B91B-4CBE-8592-2CBE25A0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64D60A-5E9A-4760-87BD-C9E7FF16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8EEB0-7F5F-4E5A-B528-64567E09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80FF89-8547-4C38-90C2-80FAD625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D5DDB7-64F2-40BB-A3F8-190BB4AD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EEA-A773-4BBF-A1EE-975E5D7B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8EE-F6B8-4199-B1B8-54E6D6A2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FD9A4-0FBF-4BDB-BF35-6D3B3CA2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0BA85-46F2-4348-9BC7-8340BC02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05B29-8981-48DB-831E-40AD852B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691A3-E281-4B84-A79C-28EDF5FC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EB6F2-8482-4AAE-A5B9-1A84CAFE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9EA9D-3903-4C18-B167-6A60BB5B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6D083-0235-4A95-8932-969D4DB6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EB8-48FD-43E8-B80F-1F1C4E15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9C4F8-2D1C-4EB7-9ECF-7F923D0F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9B5E1-DBBC-470A-907C-B91BBC61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53DE7-67F6-4B72-BA44-75FA1A8B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C1F9A-6E02-4EDD-B1B5-79021909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9144F-B851-42F4-B1CC-C68115D8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76EA-82BC-4969-BC9C-5B22C09A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40A3-D5B4-4425-92F0-95F35009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8070-D35D-4892-8A65-61484F53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39BF-D0CB-43CC-B900-484EE3F0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5807-7966-4C78-B06B-FB9DB61A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425-E59D-498E-9ADA-38B37399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5D2C-58D4-4D47-8B82-0C250E06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D561-B7BF-4D6F-973F-B9F63B5F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EF03-3F67-4B67-B3D6-76A22652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50CC-B808-4978-A06C-4EF8D3E7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9F09-F667-43F2-B39F-DD0199AF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4999-9A04-47E8-AE08-60155F52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EBDD5-B981-4186-8916-8B07C4CA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764D6-2AC3-486B-B9A6-E8943844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AD986C-D0E0-42A3-B1B6-0A36DF53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10B71A-7D45-490E-B304-49087A33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C43-1903-462F-9DEC-860DFF59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8C670-5FEC-4BCA-8435-D6C4779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80214-A9D6-46E0-88F8-6D455C05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924F1-3E00-44A6-BAA2-73426889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998E3-50E4-4784-A743-34E5C8E3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568A8-090C-4E8B-A829-70982AE4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D66B1-1269-456C-BAB8-ACE3F3BB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F24B6-FCF0-4749-9E94-D7825265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67608-1F59-4099-8C9D-3E7EE251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69A1B3-B167-435D-A620-B7BBD0BE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B5D43-72BF-4F53-898D-FD41EAC3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625-BE17-4C77-B3A1-2F7A8E6B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CD6D3-7095-42A3-8A01-0592B50D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4C831-BCD6-4806-9FF0-C54E611F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ADD02-CCAE-4D0E-9367-F3615079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2CEE6-AC70-4CB2-B405-FA78A03D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C1F19-BE40-4B6D-AEF8-92D5988C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3C32-456D-492A-B762-EC62500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84B5-3E2A-4EE1-80A0-FD642064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6F9D4-9914-4B44-AB01-4FEDD53D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7475-8B6B-4F9D-BE04-98C2341E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A8F94-D67E-4B7E-BA48-DBCF6767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4BA-5803-434F-A500-0F694E8C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1178E-6524-475F-98B1-1466354F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B23C-4233-40E0-A225-BFF8161D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2908-090E-495B-9452-115127C6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A4823-F733-490B-AEA0-3ACED840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6550A-EF9D-451F-9533-1FB04DFB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2F055-5B2F-44B0-BFBA-1F89A49C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8DC46-6E87-4D4B-A1C6-C3B7765B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10E68-AF22-4E81-BD61-1ACA26E1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1870-4C2A-4E6E-A9D5-2B906171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4815F-62A2-40C0-AAA7-AF9AD08C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41B-B395-46FF-82DA-862DAEBA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EC239-1FF9-4C6B-8E77-BD6D23F7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80106-24BA-41BA-8413-A1CA7572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233B9-3D71-43EA-BAE9-C95271BA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B7BE0-B821-4253-A6E3-811270C4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F1B00-9A6A-45A1-8AD7-3CC9E0F5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9B442-4065-4487-B8DC-A67F37A3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ED130-BD87-47E8-BF9F-75E418C7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BDF66-18A9-4548-8DE4-5AE06CA6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1B42F-06B0-4795-A674-447D0A30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E2184-C41A-4700-892D-5EC974C9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656-EAEE-48AC-9507-4587B0D6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00F8A-89DA-4D16-9784-18A0CE7A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89652-DD94-456A-9CCB-DFE73F22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FC719-76D5-40FD-BB22-C8BBA8BA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414C0-FCF2-4733-9E04-6B4057CF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C12DE-1D05-49E6-84AC-B87D0725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8E706D-B313-45D7-B845-E2206A65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E77BD8-87DB-446C-AAD3-A6A910E0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5A6539-9225-478C-ADA7-07D6049E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43656-01F0-4276-A787-01917F27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CE0FEB-62F0-4F04-87F5-B5DBCF0A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720-5D31-4B06-BEB6-44025C25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88D870-01F7-4DF2-A378-E5FF5FDD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06B2C-233C-4F39-938B-AF0D2DCB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F6920-F23A-4AD3-9716-E95F3495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7724A4-3BF3-4E9D-BA9E-C4775FF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5D566C-DF30-47D2-874E-6517BF7F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1A60F-4FBA-4DE1-A9C8-2EB51942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02B328-F424-471C-A3EB-F9A8E04D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904AA5-F0FA-4420-8C01-E00257EA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CB92FE-3B2F-4E1E-B3B9-A8FD07BB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3E9BA-248E-4853-9CE9-A7F43B68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CE60-64E3-4F5E-88AC-8FA68964EA1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86E1-FD10-46F4-A724-5A0E2929564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0A27-679B-44A2-A603-5ADFA273065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3CD9-667E-4503-AA22-5D893F281B3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1CE-0F1D-4C43-B96B-7449A0611E6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D731-D3C0-45C9-A8FA-D5A9FD0F634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FD8D-AD86-4054-9ACB-A4DC8D84C2C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A1AC-3F73-48F3-9EB8-10DE5784F84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FA67-46C9-4078-AA52-4B8C7124D9A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1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443280" y="2819160"/>
            <a:ext cx="2700360" cy="2625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русский поэт-лирик, переводчик мемуарист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(1820-1892)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2" descr="C:\Users\Пользователь\Desktop\220px-Fet_by_Repin.jpg"/>
          <p:cNvPicPr/>
          <p:nvPr/>
        </p:nvPicPr>
        <p:blipFill>
          <a:blip r:embed="rId2"/>
          <a:stretch/>
        </p:blipFill>
        <p:spPr>
          <a:xfrm>
            <a:off x="2916360" y="1989000"/>
            <a:ext cx="345600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468360" y="0"/>
            <a:ext cx="83516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 этом стихотворении нет ни одного глагола.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днако статичное описание пространства передает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мо движение времен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тихотворение принадлежит к числу лучших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этических произведений лирического жанра.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первые опубликовано в журнале «Москвитянин»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(1850 год), потом переработано и в окончательном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арианте, спустя шесть лет, в сборнике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Стихотворения А.А. Фета» (издан под редакцией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. С. Тургенева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Прямоугольник 2"/>
          <p:cNvSpPr/>
          <p:nvPr/>
        </p:nvSpPr>
        <p:spPr>
          <a:xfrm>
            <a:off x="324000" y="1197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Шёпот, робкое дыхань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Трели соловь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еребро и колыхань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Сонного ручь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вет ночной, ночные т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Тени без конц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Ряд волшебных изменени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Милого лица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дымных тучках пурпур роз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Отблеск янтар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И лобзания, и слёз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И заря, заря!.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263520" y="361440"/>
            <a:ext cx="786600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еводческая деятельность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бе части «Фауста» Гёте (1882—83)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целый ряд латинских поэтов: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раций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тихотворения Катулла (1886)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легии Тибулла(1886)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XV книг «Превращений» Овидия (1887)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Энеида» Вергилия (1888)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легии Проперция (1888)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атиры Персия (1889) 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пиграммы Марциала (1891)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планах Фета был перевод «Критики чистого разума»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днако Н. Страхов отговорил Фета переводить эту книгу Канта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казав, что русский перевод этой книги уже существует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сле этого Фет обратился к переводу Шопенгауэра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н перевел два сочинения Шопенгауэра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Мир, как воля и представление» (1880, 2-е изд. в 1888 г.) и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О четверояком корне закона достаточного основания» (1886)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6"/>
          <p:cNvSpPr/>
          <p:nvPr/>
        </p:nvSpPr>
        <p:spPr>
          <a:xfrm>
            <a:off x="539640" y="474840"/>
            <a:ext cx="777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8 — поэт уходит в отставку в чине гвардейского штаб-ротмистра, живет в Москве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9 — разрыв с журналом «Современник»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63 — выход двухтомного собрания стихотворений Фет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67 — Фет избран мировым судьей на 11 лет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3"/>
          <p:cNvSpPr/>
          <p:nvPr/>
        </p:nvSpPr>
        <p:spPr>
          <a:xfrm>
            <a:off x="324000" y="981000"/>
            <a:ext cx="8675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73 — возвращено дворянство и фамилия Шеншин. Литературные произведения и переводы поэт и в дальнейшем подписывал фамилией Фет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83—1891 — публикация четырёх выпусков сборника «Вечерние огни»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1892, 21 ноября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 — кончина Фета в Москве. По некоторым данным, его смерти от сердечного приступа предшествовала попытка самоубийств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хоронен в селе Клейменово, родовом имении Шеншиных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3"/>
          <p:cNvSpPr/>
          <p:nvPr/>
        </p:nvSpPr>
        <p:spPr>
          <a:xfrm>
            <a:off x="611280" y="40464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ервые 14 и последние 19 лет жизни официально носил фамилию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Шенши́н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23 ноября 1820, усадьба Новосёлки, Мценский уезд, Орловская губерния — 21 ноября 1892, Москв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Прямоугольник 4"/>
          <p:cNvSpPr/>
          <p:nvPr/>
        </p:nvSpPr>
        <p:spPr>
          <a:xfrm>
            <a:off x="3419640" y="602136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садьба Фета в деревне Воробьевка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6" name="Picture 2" descr="C:\Users\Пользователь\Desktop\thumbnail.php.jpg"/>
          <p:cNvPicPr/>
          <p:nvPr/>
        </p:nvPicPr>
        <p:blipFill>
          <a:blip r:embed="rId1"/>
          <a:stretch/>
        </p:blipFill>
        <p:spPr>
          <a:xfrm>
            <a:off x="971640" y="2637000"/>
            <a:ext cx="453708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324000" y="196920"/>
            <a:ext cx="8496000" cy="7043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! Важно !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ет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(Фёт) - «имя всех его страданий и горестей»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ын орловского помещика Афанасия Неофитовича Шеншина и привезённой им из Германии Каролины Шарлотты Фёт, он был при рождении записан (вероятно, за взятку) законным сыном своих родителей, хотя родился через месяц после прибытия Шарлотты в Россию и за год до их брака. Когда ему было 14 лет, «ошибка» в документах обнаружилась, и он был лишён фамилии, дворянства и русского подданства и стал «гессендармштадтским подданным Афанасием Фётом» (таким образом, его отцом стал считаться первый муж Шарлотты, немец Фёт; кто в действительности был отцом Афанасия — неизвестно). В 1873 году он официально вернул себе фамилию Шеншин, но литературные произведения и переводы продолжал подписывать фамилией Фет (через «е»)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3"/>
          <p:cNvSpPr/>
          <p:nvPr/>
        </p:nvSpPr>
        <p:spPr>
          <a:xfrm>
            <a:off x="611280" y="476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 1835—1837 годах учился в немецком частном пансионе Крюммера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г. Верро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(теперь г. Выру,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Эстония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). В это время Фет начинает писать стихи, проявляет интерес к классической филологи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2" descr="C:\Users\Пользователь\Desktop\3208443_large.jpeg"/>
          <p:cNvPicPr/>
          <p:nvPr/>
        </p:nvPicPr>
        <p:blipFill>
          <a:blip r:embed="rId1"/>
          <a:stretch/>
        </p:blipFill>
        <p:spPr>
          <a:xfrm>
            <a:off x="1835280" y="2060640"/>
            <a:ext cx="446724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-360" y="259920"/>
            <a:ext cx="514836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 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В 1838—1844 годах — учёба в </a:t>
            </a:r>
            <a:r>
              <a:rPr b="1" lang="ru-RU" sz="2500" spc="-1" strike="noStrike" u="sng">
                <a:solidFill>
                  <a:srgbClr val="f2f2f2"/>
                </a:solidFill>
                <a:uFillTx/>
                <a:latin typeface="Cambria"/>
              </a:rPr>
              <a:t>Московском Университете.</a:t>
            </a:r>
            <a:r>
              <a:rPr b="1" lang="ru-RU" sz="2500" spc="-1" strike="noStrike" u="sng">
                <a:solidFill>
                  <a:srgbClr val="f2f2f2"/>
                </a:solidFill>
                <a:uFillTx/>
                <a:latin typeface="Cambri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В 1840 году — </a:t>
            </a:r>
            <a:r>
              <a:rPr b="1" lang="ru-RU" sz="2500" spc="-1" strike="noStrike" u="sng">
                <a:solidFill>
                  <a:srgbClr val="f2f2f2"/>
                </a:solidFill>
                <a:uFillTx/>
                <a:latin typeface="Cambria"/>
              </a:rPr>
              <a:t>выход сборника стихов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 Фета «Лирический пантеон» при участии А. Григорьева, друга Фета по университету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В 1842 году — публикации в журналах «Москвитянин» и «Отечественные записки»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В 1845 году — поступление на военную службу в Кирасирский Военного ордена полк, становится кавалеристом.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В 1846 году ему присвоено первое офицерского звание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Picture 2" descr="C:\Users\Пользователь\Desktop\650616.jpg"/>
          <p:cNvPicPr/>
          <p:nvPr/>
        </p:nvPicPr>
        <p:blipFill>
          <a:blip r:embed="rId1"/>
          <a:stretch/>
        </p:blipFill>
        <p:spPr>
          <a:xfrm>
            <a:off x="5076720" y="33336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3"/>
          <p:cNvSpPr/>
          <p:nvPr/>
        </p:nvSpPr>
        <p:spPr>
          <a:xfrm>
            <a:off x="539640" y="333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 1850 году - второй сборник Фета, положительные отзывы критиков в журналах «Современник», «Москвитянин» и «Отечественные записки»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ибель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Марии Козьминичны Лазич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возлюбленной поэта, воспоминаниям о которой посвящена поэма «Талисман», стихотворения «Старые письма», «Ты отстрадала, я ещё страдаю…», «Нет, я не изменил. До старости глубокой…» и многие другие его стих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Прямоугольник 4"/>
          <p:cNvSpPr/>
          <p:nvPr/>
        </p:nvSpPr>
        <p:spPr>
          <a:xfrm>
            <a:off x="3132000" y="4221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И хоть жизнь без тебя суждено мне влачить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но мы вместе с тобой, нас нельзя разлучить… 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А.Фе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3"/>
          <p:cNvSpPr/>
          <p:nvPr/>
        </p:nvSpPr>
        <p:spPr>
          <a:xfrm>
            <a:off x="324000" y="549360"/>
            <a:ext cx="460836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3 — Фета переводят в гвардейский полк, расквартированный под Петербургом. Поэт часто бывает в Петербурге, тогда — столице. Встречи Фета с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Тургеневым, Некрасовым, Гончаровым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и др. Сближение с редакцией журнала «Современник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Picture 2" descr="C:\Users\Пользователь\Desktop\5305.jpg"/>
          <p:cNvPicPr/>
          <p:nvPr/>
        </p:nvPicPr>
        <p:blipFill>
          <a:blip r:embed="rId1"/>
          <a:stretch/>
        </p:blipFill>
        <p:spPr>
          <a:xfrm>
            <a:off x="5076720" y="620640"/>
            <a:ext cx="35942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3"/>
          <p:cNvSpPr/>
          <p:nvPr/>
        </p:nvSpPr>
        <p:spPr>
          <a:xfrm>
            <a:off x="395280" y="765000"/>
            <a:ext cx="388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4 — служба в Балтийском Порту, описанная в его мемуарах «Мои воспоминания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6 — третий сборник Фета. Редактор — Тургенев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7 — женитьба Фета на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 П. Боткиной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сестре врача С. П. Боткин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Picture 2" descr="C:\Users\Пользователь\Desktop\47127801_Valentin_Serov.jpg"/>
          <p:cNvPicPr/>
          <p:nvPr/>
        </p:nvPicPr>
        <p:blipFill>
          <a:blip r:embed="rId1"/>
          <a:stretch/>
        </p:blipFill>
        <p:spPr>
          <a:xfrm>
            <a:off x="4572000" y="549360"/>
            <a:ext cx="403236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395280" y="47628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оэз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ворчество Фета характеризуется стремлением уйти от повседневной действительности в «светлое царство мечты». Основное содержание его поэзии —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любовь и природа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 Стихотворения его отличаются тонкостью поэтического настроения и большим художественным мастерство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Фет — представитель так называемой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«чистой» поэзи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 В связи с этим на протяжении всей жизни он спорил с Н. А. Некрасовым — представителем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социальной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поэзи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собенность поэтики Фета — разговор о самом важном ограничивается прозрачным намёко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амый яркий пример — стихотворение «Шёпот, робкое дыханье…»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2:26:14Z</dcterms:created>
  <dc:creator>Пользователь</dc:creator>
  <dc:description/>
  <dc:language>en-US</dc:language>
  <cp:lastModifiedBy>Пользователь</cp:lastModifiedBy>
  <dcterms:modified xsi:type="dcterms:W3CDTF">2011-02-06T16:15:40Z</dcterms:modified>
  <cp:revision>10</cp:revision>
  <dc:subject/>
  <dc:title>Фет Афанасий Афанасьевич</dc:title>
</cp:coreProperties>
</file>