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B00-0F87-4CFC-9678-41431477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D1B-7333-435A-9171-3575793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438-5067-4E53-99F6-F6DC4EDD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478-FD78-43A8-AAF7-53694BC6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876C-1ABD-47C6-9B47-0DAEEE22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6EE5-9915-43B6-8534-6677F5FC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B6A5-DF45-4B02-82D4-FBBD4F30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9B1-C84D-49A7-A075-11AB697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A278-80A2-47FF-AA88-3900055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7CB5-A5D7-4331-B917-EDB4923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949-3D4D-4BAE-92AE-F49CA45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AA1-77E2-4650-88AA-20074079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FCF-74A9-4BA2-9A13-F5C9BC36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C480-9554-46DE-85C8-3CFA772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8B43-D558-4A73-BD2D-D42ED7B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A749-216B-4365-A787-63E9EF1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57B-D673-423D-A248-A2BBDFCF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4D0-24F8-434C-9DB4-E1DC9E9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AC2-A418-4249-A2A3-37B3180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D6E-0435-4839-8365-C49A0437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C62-B17C-40A9-9B29-AE7E76C5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2BC-B282-4C09-8BE3-A1D3E08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925-8430-497A-B0F9-8F285B2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5ED-CD67-49C6-8E8F-EE859CB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BB2-A46E-45C8-8D78-D5DA01EDD5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9FD6-B534-4BF2-AE37-E90B89EA8DB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580.mid" descr=""/>
          <p:cNvPicPr/>
          <p:nvPr/>
        </p:nvPicPr>
        <p:blipFill>
          <a:blip r:embed="rId1"/>
          <a:stretch/>
        </p:blipFill>
        <p:spPr>
          <a:xfrm>
            <a:off x="64296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4" descr=""/>
          <p:cNvPicPr/>
          <p:nvPr/>
        </p:nvPicPr>
        <p:blipFill>
          <a:blip r:embed="rId2"/>
          <a:stretch/>
        </p:blipFill>
        <p:spPr>
          <a:xfrm>
            <a:off x="407880" y="1054080"/>
            <a:ext cx="823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roup 10" descr=""/>
          <p:cNvPicPr/>
          <p:nvPr/>
        </p:nvPicPr>
        <p:blipFill>
          <a:blip r:embed="rId1"/>
          <a:stretch/>
        </p:blipFill>
        <p:spPr>
          <a:xfrm>
            <a:off x="139680" y="2706840"/>
            <a:ext cx="1646280" cy="1579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93802E-007 C 2.5E-006 0.14986 0.08698 0.27313 0.19323 0.27313 C 0.3184 0.27313 0.36354 0.13645 0.38264 0.05435 L 0.40225 -0.05435 C 0.42187 -0.13645 0.46996 -0.27289 0.61128 -0.27289 C 0.70191 -0.27289 0.80486 -0.14986 0.80486 -6.93802E-007 C 0.80486 0.14986 0.70191 0.27313 0.61128 0.27313 C 0.46996 0.27313 0.42187 0.13645 0.40225 0.05435 L 0.38264 -0.05435 C 0.36354 -0.13645 0.3184 -0.27289 0.19323 -0.27289 C 0.08698 -0.27289 2.5E-006 -0.14986 2.5E-006 -6.93802E-007 Z">
                                      <p:cBhvr>
                                        <p:cTn id="12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roup 10" descr=""/>
          <p:cNvPicPr/>
          <p:nvPr/>
        </p:nvPicPr>
        <p:blipFill>
          <a:blip r:embed="rId1"/>
          <a:stretch/>
        </p:blipFill>
        <p:spPr>
          <a:xfrm>
            <a:off x="7211880" y="2567160"/>
            <a:ext cx="1646280" cy="1577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j0336789.gif"/>
          <p:cNvPicPr/>
          <p:nvPr/>
        </p:nvPicPr>
        <p:blipFill>
          <a:blip r:embed="rId3"/>
          <a:stretch/>
        </p:blipFill>
        <p:spPr>
          <a:xfrm>
            <a:off x="7143840" y="428760"/>
            <a:ext cx="1176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3.36725E-006 C 0.04705 0.15656 -0.04827 0.28515 -0.16337 0.28515 C -0.29931 0.28515 -0.34844 0.14246 -0.36945 0.05643 L -0.39046 -0.0569 C -0.41146 -0.1427 -0.46389 -0.28492 -0.61754 -0.28492 C -0.71563 -0.28492 -0.82691 -0.1568 -0.82691 3.36725E-006 C -0.82691 0.15656 -0.71563 0.28515 -0.61754 0.28515 C -0.46389 0.28515 -0.41146 0.14246 -0.39046 0.05643 L -0.36945 -0.0569 C -0.34844 -0.1427 -0.29931 -0.28492 -0.16337 -0.28492 C -0.04827 -0.28492 0.04705 -0.1568 0.04705 3.36725E-006 Z">
                                      <p:cBhvr>
                                        <p:cTn id="23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oup 10" descr=""/>
          <p:cNvPicPr/>
          <p:nvPr/>
        </p:nvPicPr>
        <p:blipFill>
          <a:blip r:embed="rId1"/>
          <a:stretch/>
        </p:blipFill>
        <p:spPr>
          <a:xfrm>
            <a:off x="-133200" y="152280"/>
            <a:ext cx="1901520" cy="183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j0336789.gif"/>
          <p:cNvPicPr/>
          <p:nvPr/>
        </p:nvPicPr>
        <p:blipFill>
          <a:blip r:embed="rId3"/>
          <a:stretch/>
        </p:blipFill>
        <p:spPr>
          <a:xfrm>
            <a:off x="6929280" y="357120"/>
            <a:ext cx="1238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5" descr="j0336789.gif"/>
          <p:cNvPicPr/>
          <p:nvPr/>
        </p:nvPicPr>
        <p:blipFill>
          <a:blip r:embed="rId4"/>
          <a:stretch/>
        </p:blipFill>
        <p:spPr>
          <a:xfrm>
            <a:off x="7429680" y="1071720"/>
            <a:ext cx="1176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4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5236E-006 L 0.61475 1.45236E-006 L 0.86441 0.70282 L 0.24861 0.70282 L 3.61111E-006 1.45236E-006 Z">
                                      <p:cBhvr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428040" y="2428560"/>
            <a:ext cx="1200240" cy="1133640"/>
            <a:chOff x="428040" y="2428560"/>
            <a:chExt cx="1200240" cy="1133640"/>
          </a:xfrm>
        </p:grpSpPr>
        <p:cxnSp>
          <p:nvCxnSpPr>
            <p:cNvPr id="94" name="AutoShape 11"/>
            <p:cNvCxnSpPr/>
            <p:nvPr/>
          </p:nvCxnSpPr>
          <p:spPr>
            <a:xfrm flipH="1" flipV="1">
              <a:off x="485280" y="2828520"/>
              <a:ext cx="1086480" cy="381600"/>
            </a:xfrm>
            <a:prstGeom prst="straightConnector1">
              <a:avLst/>
            </a:prstGeom>
            <a:ln w="76320">
              <a:solidFill>
                <a:srgbClr val="002060"/>
              </a:solidFill>
              <a:prstDash val="dashDot"/>
              <a:miter/>
              <a:headEnd len="med" type="diamond" w="med"/>
              <a:tailEnd len="med" type="diamond" w="med"/>
            </a:ln>
          </p:spPr>
        </p:cxnSp>
        <p:cxnSp>
          <p:nvCxnSpPr>
            <p:cNvPr id="95" name="AutoShape 12"/>
            <p:cNvCxnSpPr/>
            <p:nvPr/>
          </p:nvCxnSpPr>
          <p:spPr>
            <a:xfrm flipH="1">
              <a:off x="428040" y="2990880"/>
              <a:ext cx="1200600" cy="95760"/>
            </a:xfrm>
            <a:prstGeom prst="straightConnector1">
              <a:avLst/>
            </a:prstGeom>
            <a:ln w="76320">
              <a:solidFill>
                <a:srgbClr val="17365d"/>
              </a:solidFill>
              <a:prstDash val="dashDot"/>
              <a:miter/>
              <a:headEnd len="med" type="diamond" w="med"/>
              <a:tailEnd len="med" type="diamond" w="med"/>
            </a:ln>
          </p:spPr>
        </p:cxnSp>
        <p:grpSp>
          <p:nvGrpSpPr>
            <p:cNvPr id="96" name="Group 13"/>
            <p:cNvGrpSpPr/>
            <p:nvPr/>
          </p:nvGrpSpPr>
          <p:grpSpPr>
            <a:xfrm>
              <a:off x="542520" y="2428560"/>
              <a:ext cx="1028520" cy="1133640"/>
              <a:chOff x="542520" y="2428560"/>
              <a:chExt cx="1028520" cy="1133640"/>
            </a:xfrm>
          </p:grpSpPr>
          <p:cxnSp>
            <p:nvCxnSpPr>
              <p:cNvPr id="97" name="AutoShape 14"/>
              <p:cNvCxnSpPr/>
              <p:nvPr/>
            </p:nvCxnSpPr>
            <p:spPr>
              <a:xfrm flipH="1">
                <a:off x="885240" y="2484000"/>
                <a:ext cx="352800" cy="1057680"/>
              </a:xfrm>
              <a:prstGeom prst="straightConnector1">
                <a:avLst/>
              </a:prstGeom>
              <a:ln cap="rnd" w="76320">
                <a:solidFill>
                  <a:srgbClr val="002060"/>
                </a:solidFill>
                <a:custDash>
                  <a:ds d="499000" sp="201000"/>
                  <a:ds d="199000" sp="201000"/>
                </a:custDash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98" name="AutoShape 15"/>
              <p:cNvCxnSpPr/>
              <p:nvPr/>
            </p:nvCxnSpPr>
            <p:spPr>
              <a:xfrm flipH="1" flipV="1">
                <a:off x="990000" y="2428560"/>
                <a:ext cx="86400" cy="113400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99" name="AutoShape 16"/>
              <p:cNvCxnSpPr/>
              <p:nvPr/>
            </p:nvCxnSpPr>
            <p:spPr>
              <a:xfrm>
                <a:off x="819000" y="2533320"/>
                <a:ext cx="419760" cy="1008360"/>
              </a:xfrm>
              <a:prstGeom prst="straightConnector1">
                <a:avLst/>
              </a:prstGeom>
              <a:ln w="76320">
                <a:solidFill>
                  <a:srgbClr val="002060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0" name="AutoShape 17"/>
              <p:cNvCxnSpPr/>
              <p:nvPr/>
            </p:nvCxnSpPr>
            <p:spPr>
              <a:xfrm flipH="1">
                <a:off x="694800" y="2619360"/>
                <a:ext cx="743040" cy="79128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1" name="AutoShape 18"/>
              <p:cNvCxnSpPr/>
              <p:nvPr/>
            </p:nvCxnSpPr>
            <p:spPr>
              <a:xfrm flipH="1">
                <a:off x="542520" y="2771280"/>
                <a:ext cx="1028880" cy="486360"/>
              </a:xfrm>
              <a:prstGeom prst="straightConnector1">
                <a:avLst/>
              </a:prstGeom>
              <a:ln w="76320">
                <a:solidFill>
                  <a:srgbClr val="002060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102" name="AutoShape 19"/>
              <p:cNvCxnSpPr/>
              <p:nvPr/>
            </p:nvCxnSpPr>
            <p:spPr>
              <a:xfrm flipH="1" flipV="1">
                <a:off x="646920" y="2666160"/>
                <a:ext cx="790560" cy="743400"/>
              </a:xfrm>
              <a:prstGeom prst="straightConnector1">
                <a:avLst/>
              </a:prstGeom>
              <a:ln w="76320">
                <a:solidFill>
                  <a:srgbClr val="17365d"/>
                </a:solidFill>
                <a:prstDash val="dashDot"/>
                <a:miter/>
                <a:headEnd len="med" type="diamond" w="med"/>
                <a:tailEnd len="med" type="diamond" w="med"/>
              </a:ln>
            </p:spPr>
          </p:cxnSp>
        </p:grpSp>
      </p:grpSp>
      <p:pic>
        <p:nvPicPr>
          <p:cNvPr id="103" name="Рисунок 12" descr="j0336789.gif"/>
          <p:cNvPicPr/>
          <p:nvPr/>
        </p:nvPicPr>
        <p:blipFill>
          <a:blip r:embed="rId1"/>
          <a:stretch/>
        </p:blipFill>
        <p:spPr>
          <a:xfrm>
            <a:off x="7286760" y="214200"/>
            <a:ext cx="11761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3" descr="j0336789.gif"/>
          <p:cNvPicPr/>
          <p:nvPr/>
        </p:nvPicPr>
        <p:blipFill>
          <a:blip r:embed="rId2"/>
          <a:stretch/>
        </p:blipFill>
        <p:spPr>
          <a:xfrm>
            <a:off x="7643880" y="714240"/>
            <a:ext cx="1176120" cy="1928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j0336789.gif"/>
          <p:cNvPicPr/>
          <p:nvPr/>
        </p:nvPicPr>
        <p:blipFill>
          <a:blip r:embed="rId3"/>
          <a:stretch/>
        </p:blipFill>
        <p:spPr>
          <a:xfrm>
            <a:off x="7215120" y="1428840"/>
            <a:ext cx="117648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j0336789.gif"/>
          <p:cNvPicPr/>
          <p:nvPr/>
        </p:nvPicPr>
        <p:blipFill>
          <a:blip r:embed="rId4"/>
          <a:stretch/>
        </p:blipFill>
        <p:spPr>
          <a:xfrm>
            <a:off x="6572160" y="571680"/>
            <a:ext cx="1176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48011E-006 C 0.00938 -0.02521 0.02222 -0.04926 0.04792 -0.04926 C 0.07708 -0.04926 0.08715 -0.02521 0.09653 -1.48011E-006 C 0.10955 0.02798 0.11892 0.05597 0.15139 0.05597 C 0.18038 0.05597 0.18993 0.02798 0.20278 -1.48011E-006 C 0.20903 -0.02521 0.22188 -0.04926 0.25087 -0.04926 C 0.27656 -0.04926 0.28941 -0.02521 0.29948 -1.48011E-006 C 0.30903 0.02798 0.32188 0.05597 0.35087 0.05597 C 0.38003 0.05597 0.40243 -1.48010999999999E-006 0.40243 0.00023 C 0.41181 -0.02521 0.42188 -0.04926 0.45035 -0.04926 C 0.47951 -0.04926 0.48958 -0.02521 0.49896 -1.48011E-006 C 0.51198 0.02798 0.52135 0.05597 0.55382 0.05597 C 0.58281 0.05597 0.59236 0.02798 0.60191 -1.48011E-006 C 0.61476 -0.02521 0.62431 -0.04926 0.6533 -0.04926 C 0.67899 -0.04926 0.69184 -0.02521 0.70191 -1.48011E-006 C 0.71146 0.02798 0.72431 0.05597 0.7533 0.05597 C 0.78247 0.05597 0.79184 0.02798 0.80486 -1.48011E-006 E">
                                      <p:cBhvr>
                                        <p:cTn id="45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3714840" y="2857680"/>
            <a:ext cx="1200240" cy="1133280"/>
            <a:chOff x="3714840" y="2857680"/>
            <a:chExt cx="1200240" cy="1133280"/>
          </a:xfrm>
        </p:grpSpPr>
        <p:pic>
          <p:nvPicPr>
            <p:cNvPr id="108" name="AutoShape 11" descr=""/>
            <p:cNvPicPr/>
            <p:nvPr/>
          </p:nvPicPr>
          <p:blipFill>
            <a:blip r:embed="rId1"/>
            <a:stretch/>
          </p:blipFill>
          <p:spPr>
            <a:xfrm>
              <a:off x="3759480" y="3121200"/>
              <a:ext cx="1106280" cy="6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AutoShape 12" descr=""/>
            <p:cNvPicPr/>
            <p:nvPr/>
          </p:nvPicPr>
          <p:blipFill>
            <a:blip r:embed="rId2"/>
            <a:stretch/>
          </p:blipFill>
          <p:spPr>
            <a:xfrm>
              <a:off x="3714840" y="3285360"/>
              <a:ext cx="1200240" cy="36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13"/>
            <p:cNvGrpSpPr/>
            <p:nvPr/>
          </p:nvGrpSpPr>
          <p:grpSpPr>
            <a:xfrm>
              <a:off x="3918960" y="2857680"/>
              <a:ext cx="837000" cy="1133280"/>
              <a:chOff x="3918960" y="2857680"/>
              <a:chExt cx="837000" cy="1133280"/>
            </a:xfrm>
          </p:grpSpPr>
          <p:pic>
            <p:nvPicPr>
              <p:cNvPr id="111" name="AutoShap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4138560" y="2906640"/>
                <a:ext cx="400680" cy="106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AutoShap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5160" y="2857680"/>
                <a:ext cx="231480" cy="11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095720" y="2945520"/>
                <a:ext cx="443880" cy="103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4016880" y="3014280"/>
                <a:ext cx="652320" cy="85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AutoShap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918960" y="3137040"/>
                <a:ext cx="83700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AutoShape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3053880"/>
                <a:ext cx="683640" cy="8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7" name="Рисунок 12" descr="j0336789.gif"/>
          <p:cNvPicPr/>
          <p:nvPr/>
        </p:nvPicPr>
        <p:blipFill>
          <a:blip r:embed="rId9"/>
          <a:stretch/>
        </p:blipFill>
        <p:spPr>
          <a:xfrm>
            <a:off x="7715160" y="214200"/>
            <a:ext cx="117648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3" descr="j0336789.gif"/>
          <p:cNvPicPr/>
          <p:nvPr/>
        </p:nvPicPr>
        <p:blipFill>
          <a:blip r:embed="rId10"/>
          <a:stretch/>
        </p:blipFill>
        <p:spPr>
          <a:xfrm>
            <a:off x="7429680" y="714240"/>
            <a:ext cx="1176120" cy="1357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4" descr="j0336789.gif"/>
          <p:cNvPicPr/>
          <p:nvPr/>
        </p:nvPicPr>
        <p:blipFill>
          <a:blip r:embed="rId11"/>
          <a:stretch/>
        </p:blipFill>
        <p:spPr>
          <a:xfrm>
            <a:off x="6715080" y="357120"/>
            <a:ext cx="1176480" cy="3643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j0336789.gif"/>
          <p:cNvPicPr/>
          <p:nvPr/>
        </p:nvPicPr>
        <p:blipFill>
          <a:blip r:embed="rId12"/>
          <a:stretch/>
        </p:blipFill>
        <p:spPr>
          <a:xfrm>
            <a:off x="6643800" y="0"/>
            <a:ext cx="135720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j0336789.gif"/>
          <p:cNvPicPr/>
          <p:nvPr/>
        </p:nvPicPr>
        <p:blipFill>
          <a:blip r:embed="rId13"/>
          <a:stretch/>
        </p:blipFill>
        <p:spPr>
          <a:xfrm>
            <a:off x="6143760" y="357120"/>
            <a:ext cx="117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6 0.00417 C 0.50018 -0.41882 -0.49948 -0.41882 -0.01598 0.00417 C -0.49948 -0.41882 -0.49948 0.47826 -0.01598 0.04325 C -0.49948 0.47826 0.50018 0.47826 0.02796 0.04325 C 0.50018 0.47826 0.50018 -0.41882 0.02796 0.00417 Z">
                                      <p:cBhvr>
                                        <p:cTn id="56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oup 10" descr=""/>
          <p:cNvPicPr/>
          <p:nvPr/>
        </p:nvPicPr>
        <p:blipFill>
          <a:blip r:embed="rId1"/>
          <a:stretch/>
        </p:blipFill>
        <p:spPr>
          <a:xfrm>
            <a:off x="3365640" y="2298600"/>
            <a:ext cx="1901520" cy="1835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j0336789.gif"/>
          <p:cNvPicPr/>
          <p:nvPr/>
        </p:nvPicPr>
        <p:blipFill>
          <a:blip r:embed="rId2"/>
          <a:stretch/>
        </p:blipFill>
        <p:spPr>
          <a:xfrm>
            <a:off x="6215040" y="1071720"/>
            <a:ext cx="11764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j0336789.gif"/>
          <p:cNvPicPr/>
          <p:nvPr/>
        </p:nvPicPr>
        <p:blipFill>
          <a:blip r:embed="rId3"/>
          <a:stretch/>
        </p:blipFill>
        <p:spPr>
          <a:xfrm>
            <a:off x="7000920" y="114300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4" descr="j0336789.gif"/>
          <p:cNvPicPr/>
          <p:nvPr/>
        </p:nvPicPr>
        <p:blipFill>
          <a:blip r:embed="rId4"/>
          <a:stretch/>
        </p:blipFill>
        <p:spPr>
          <a:xfrm>
            <a:off x="7786800" y="64296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j0336789.gif"/>
          <p:cNvPicPr/>
          <p:nvPr/>
        </p:nvPicPr>
        <p:blipFill>
          <a:blip r:embed="rId5"/>
          <a:stretch/>
        </p:blipFill>
        <p:spPr>
          <a:xfrm>
            <a:off x="7000920" y="50004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6" descr="j0336789.gif"/>
          <p:cNvPicPr/>
          <p:nvPr/>
        </p:nvPicPr>
        <p:blipFill>
          <a:blip r:embed="rId6"/>
          <a:stretch/>
        </p:blipFill>
        <p:spPr>
          <a:xfrm>
            <a:off x="7967520" y="1071720"/>
            <a:ext cx="1176480" cy="1357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7" descr="j0336789.gif"/>
          <p:cNvPicPr/>
          <p:nvPr/>
        </p:nvPicPr>
        <p:blipFill>
          <a:blip r:embed="rId7"/>
          <a:stretch/>
        </p:blipFill>
        <p:spPr>
          <a:xfrm>
            <a:off x="7286760" y="1857240"/>
            <a:ext cx="1176120" cy="157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nowmann0002"/>
          <p:cNvPicPr/>
          <p:nvPr/>
        </p:nvPicPr>
        <p:blipFill>
          <a:blip r:embed="rId8"/>
          <a:stretch/>
        </p:blipFill>
        <p:spPr>
          <a:xfrm>
            <a:off x="7072200" y="2714760"/>
            <a:ext cx="1133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6"/>
          <p:cNvSpPr/>
          <p:nvPr/>
        </p:nvSpPr>
        <p:spPr>
          <a:xfrm>
            <a:off x="357120" y="121428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Береги зре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ботая на компьютере помн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ерез каждые 15 минут  необходимо сделать физминутку для глаз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1143000" y="2071800"/>
            <a:ext cx="49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</a:rPr>
              <a:t>http://parkov3.narod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143000" y="250020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</a:rPr>
              <a:t>http://images.google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92896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олезные ссы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6"/>
          <p:cNvSpPr/>
          <p:nvPr/>
        </p:nvSpPr>
        <p:spPr>
          <a:xfrm>
            <a:off x="1071720" y="2928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http://priroda.inc.ru/prazdnik/anima/anima1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6:46:28Z</dcterms:created>
  <dc:creator>Масько Л.Г.</dc:creator>
  <dc:description/>
  <dc:language>en-US</dc:language>
  <cp:lastModifiedBy>8</cp:lastModifiedBy>
  <dcterms:modified xsi:type="dcterms:W3CDTF">2015-10-08T14:17:55Z</dcterms:modified>
  <cp:revision>35</cp:revision>
  <dc:subject/>
  <dc:title>Слайд 1</dc:title>
</cp:coreProperties>
</file>