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5.gif" ContentType="image/gif"/>
  <Override PartName="/ppt/media/image12.png" ContentType="image/png"/>
  <Override PartName="/ppt/media/image17.gif" ContentType="image/gif"/>
  <Override PartName="/ppt/media/image3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28C4-BAC4-4C9F-8B19-9E36D8605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5BBF-EC41-4E31-8F8B-70E0C913A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D060-AFB3-4898-80B7-F7251BE65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6EA9-4902-4953-94F7-3FCAC8D35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EB8A3-2EC0-467F-9FE5-434F0346A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932E4-E0B4-4E20-814B-5990A9C4B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DA8E0-AC79-49C3-8710-5098AC9BE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C0681-0359-475D-B46C-6EF27F0FE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C9C50-23D8-4FEE-AEDC-73997739C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99669-2990-4EFC-998B-0802B9369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5FA9D-20F8-4AFB-BA49-C78045B3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2572-0DC5-4DDC-944E-C055D55F5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C2048-E2F8-419C-A686-983FF199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93F81-EA40-4F8B-AA6D-3AB95CE1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6AEE2-3EBD-417C-9F92-C9A774799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4EB3E-B788-457F-B23E-F5C1013C4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6B77E-7F9B-4C2A-B22E-2D18BDAB0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6B5D-8DF9-4379-93D8-39AC83448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DBED-F3CB-45EB-AAE7-0AA9978D0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B563-4430-4297-907D-6176D2AAD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7348-785A-46BA-8983-338EE13F8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B163-A22F-40A4-B284-605714D2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58CD-7019-4970-A442-E9BFBB349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A5AC-F142-4D0F-9D1A-913044B15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8EC6F-DA8B-4B28-949B-A1B6B60EC652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DAEE3-F26B-4DB3-B30A-57D91EFE1212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17.gi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580.mid" descr=""/>
          <p:cNvPicPr/>
          <p:nvPr/>
        </p:nvPicPr>
        <p:blipFill>
          <a:blip r:embed="rId1"/>
          <a:stretch/>
        </p:blipFill>
        <p:spPr>
          <a:xfrm>
            <a:off x="642960" y="5929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3" name="Прямоугольник 14" descr=""/>
          <p:cNvPicPr/>
          <p:nvPr/>
        </p:nvPicPr>
        <p:blipFill>
          <a:blip r:embed="rId2"/>
          <a:stretch/>
        </p:blipFill>
        <p:spPr>
          <a:xfrm>
            <a:off x="407880" y="1054080"/>
            <a:ext cx="8236080" cy="32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Group 10" descr=""/>
          <p:cNvPicPr/>
          <p:nvPr/>
        </p:nvPicPr>
        <p:blipFill>
          <a:blip r:embed="rId1"/>
          <a:stretch/>
        </p:blipFill>
        <p:spPr>
          <a:xfrm>
            <a:off x="139680" y="2706840"/>
            <a:ext cx="1646280" cy="157932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13" descr="j0336789.gif"/>
          <p:cNvPicPr/>
          <p:nvPr/>
        </p:nvPicPr>
        <p:blipFill>
          <a:blip r:embed="rId2"/>
          <a:stretch/>
        </p:blipFill>
        <p:spPr>
          <a:xfrm>
            <a:off x="7715160" y="214200"/>
            <a:ext cx="117648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6.93802E-007 C 2.5E-006 0.14986 0.08698 0.27313 0.19323 0.27313 C 0.3184 0.27313 0.36354 0.13645 0.38264 0.05435 L 0.40225 -0.05435 C 0.42187 -0.13645 0.46996 -0.27289 0.61128 -0.27289 C 0.70191 -0.27289 0.80486 -0.14986 0.80486 -6.93802E-007 C 0.80486 0.14986 0.70191 0.27313 0.61128 0.27313 C 0.46996 0.27313 0.42187 0.13645 0.40225 0.05435 L 0.38264 -0.05435 C 0.36354 -0.13645 0.3184 -0.27289 0.19323 -0.27289 C 0.08698 -0.27289 2.5E-006 -0.14986 2.5E-006 -6.93802E-007 Z">
                                      <p:cBhvr>
                                        <p:cTn id="12" dur="3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Group 10" descr=""/>
          <p:cNvPicPr/>
          <p:nvPr/>
        </p:nvPicPr>
        <p:blipFill>
          <a:blip r:embed="rId1"/>
          <a:stretch/>
        </p:blipFill>
        <p:spPr>
          <a:xfrm>
            <a:off x="7211880" y="2567160"/>
            <a:ext cx="1646280" cy="157788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13" descr="j0336789.gif"/>
          <p:cNvPicPr/>
          <p:nvPr/>
        </p:nvPicPr>
        <p:blipFill>
          <a:blip r:embed="rId2"/>
          <a:stretch/>
        </p:blipFill>
        <p:spPr>
          <a:xfrm>
            <a:off x="7715160" y="214200"/>
            <a:ext cx="1176480" cy="135756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14" descr="j0336789.gif"/>
          <p:cNvPicPr/>
          <p:nvPr/>
        </p:nvPicPr>
        <p:blipFill>
          <a:blip r:embed="rId3"/>
          <a:stretch/>
        </p:blipFill>
        <p:spPr>
          <a:xfrm>
            <a:off x="7143840" y="428760"/>
            <a:ext cx="11761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pat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705 3.36725E-006 C 0.04705 0.15656 -0.04827 0.28515 -0.16337 0.28515 C -0.29931 0.28515 -0.34844 0.14246 -0.36945 0.05643 L -0.39046 -0.0569 C -0.41146 -0.1427 -0.46389 -0.28492 -0.61754 -0.28492 C -0.71563 -0.28492 -0.82691 -0.1568 -0.82691 3.36725E-006 C -0.82691 0.15656 -0.71563 0.28515 -0.61754 0.28515 C -0.46389 0.28515 -0.41146 0.14246 -0.39046 0.05643 L -0.36945 -0.0569 C -0.34844 -0.1427 -0.29931 -0.28492 -0.16337 -0.28492 C -0.04827 -0.28492 0.04705 -0.1568 0.04705 3.36725E-006 Z">
                                      <p:cBhvr>
                                        <p:cTn id="23" dur="3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Group 10" descr=""/>
          <p:cNvPicPr/>
          <p:nvPr/>
        </p:nvPicPr>
        <p:blipFill>
          <a:blip r:embed="rId1"/>
          <a:stretch/>
        </p:blipFill>
        <p:spPr>
          <a:xfrm>
            <a:off x="-133200" y="152280"/>
            <a:ext cx="1901520" cy="183528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13" descr="j0336789.gif"/>
          <p:cNvPicPr/>
          <p:nvPr/>
        </p:nvPicPr>
        <p:blipFill>
          <a:blip r:embed="rId2"/>
          <a:stretch/>
        </p:blipFill>
        <p:spPr>
          <a:xfrm>
            <a:off x="7715160" y="214200"/>
            <a:ext cx="1176480" cy="135756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14" descr="j0336789.gif"/>
          <p:cNvPicPr/>
          <p:nvPr/>
        </p:nvPicPr>
        <p:blipFill>
          <a:blip r:embed="rId3"/>
          <a:stretch/>
        </p:blipFill>
        <p:spPr>
          <a:xfrm>
            <a:off x="6929280" y="357120"/>
            <a:ext cx="1238400" cy="178596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15" descr="j0336789.gif"/>
          <p:cNvPicPr/>
          <p:nvPr/>
        </p:nvPicPr>
        <p:blipFill>
          <a:blip r:embed="rId4"/>
          <a:stretch/>
        </p:blipFill>
        <p:spPr>
          <a:xfrm>
            <a:off x="7429680" y="1071720"/>
            <a:ext cx="117612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14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45236E-006 L 0.61475 1.45236E-006 L 0.86441 0.70282 L 0.24861 0.70282 L 3.61111E-006 1.45236E-006 Z">
                                      <p:cBhvr>
                                        <p:cTn id="34" dur="3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10"/>
          <p:cNvGrpSpPr/>
          <p:nvPr/>
        </p:nvGrpSpPr>
        <p:grpSpPr>
          <a:xfrm>
            <a:off x="428040" y="2428560"/>
            <a:ext cx="1200240" cy="1133640"/>
            <a:chOff x="428040" y="2428560"/>
            <a:chExt cx="1200240" cy="1133640"/>
          </a:xfrm>
        </p:grpSpPr>
        <p:cxnSp>
          <p:nvCxnSpPr>
            <p:cNvPr id="94" name="AutoShape 11"/>
            <p:cNvCxnSpPr/>
            <p:nvPr/>
          </p:nvCxnSpPr>
          <p:spPr>
            <a:xfrm flipH="1" flipV="1">
              <a:off x="485280" y="2828520"/>
              <a:ext cx="1086480" cy="381600"/>
            </a:xfrm>
            <a:prstGeom prst="straightConnector1">
              <a:avLst/>
            </a:prstGeom>
            <a:ln w="76320">
              <a:solidFill>
                <a:srgbClr val="002060"/>
              </a:solidFill>
              <a:prstDash val="dashDot"/>
              <a:miter/>
              <a:headEnd len="med" type="diamond" w="med"/>
              <a:tailEnd len="med" type="diamond" w="med"/>
            </a:ln>
          </p:spPr>
        </p:cxnSp>
        <p:cxnSp>
          <p:nvCxnSpPr>
            <p:cNvPr id="95" name="AutoShape 12"/>
            <p:cNvCxnSpPr/>
            <p:nvPr/>
          </p:nvCxnSpPr>
          <p:spPr>
            <a:xfrm flipH="1">
              <a:off x="428040" y="2990880"/>
              <a:ext cx="1200600" cy="95760"/>
            </a:xfrm>
            <a:prstGeom prst="straightConnector1">
              <a:avLst/>
            </a:prstGeom>
            <a:ln w="76320">
              <a:solidFill>
                <a:srgbClr val="17365d"/>
              </a:solidFill>
              <a:prstDash val="dashDot"/>
              <a:miter/>
              <a:headEnd len="med" type="diamond" w="med"/>
              <a:tailEnd len="med" type="diamond" w="med"/>
            </a:ln>
          </p:spPr>
        </p:cxnSp>
        <p:grpSp>
          <p:nvGrpSpPr>
            <p:cNvPr id="96" name="Group 13"/>
            <p:cNvGrpSpPr/>
            <p:nvPr/>
          </p:nvGrpSpPr>
          <p:grpSpPr>
            <a:xfrm>
              <a:off x="542520" y="2428560"/>
              <a:ext cx="1028520" cy="1133640"/>
              <a:chOff x="542520" y="2428560"/>
              <a:chExt cx="1028520" cy="1133640"/>
            </a:xfrm>
          </p:grpSpPr>
          <p:cxnSp>
            <p:nvCxnSpPr>
              <p:cNvPr id="97" name="AutoShape 14"/>
              <p:cNvCxnSpPr/>
              <p:nvPr/>
            </p:nvCxnSpPr>
            <p:spPr>
              <a:xfrm flipH="1">
                <a:off x="885240" y="2484000"/>
                <a:ext cx="352800" cy="1057680"/>
              </a:xfrm>
              <a:prstGeom prst="straightConnector1">
                <a:avLst/>
              </a:prstGeom>
              <a:ln cap="rnd" w="76320">
                <a:solidFill>
                  <a:srgbClr val="002060"/>
                </a:solidFill>
                <a:custDash>
                  <a:ds d="499000" sp="201000"/>
                  <a:ds d="199000" sp="201000"/>
                </a:custDash>
                <a:miter/>
                <a:headEnd len="med" type="diamond" w="med"/>
                <a:tailEnd len="med" type="diamond" w="med"/>
              </a:ln>
            </p:spPr>
          </p:cxnSp>
          <p:cxnSp>
            <p:nvCxnSpPr>
              <p:cNvPr id="98" name="AutoShape 15"/>
              <p:cNvCxnSpPr/>
              <p:nvPr/>
            </p:nvCxnSpPr>
            <p:spPr>
              <a:xfrm flipH="1" flipV="1">
                <a:off x="990000" y="2428560"/>
                <a:ext cx="86400" cy="1134000"/>
              </a:xfrm>
              <a:prstGeom prst="straightConnector1">
                <a:avLst/>
              </a:prstGeom>
              <a:ln w="76320">
                <a:solidFill>
                  <a:srgbClr val="17365d"/>
                </a:solidFill>
                <a:prstDash val="dashDot"/>
                <a:miter/>
                <a:headEnd len="med" type="diamond" w="med"/>
                <a:tailEnd len="med" type="diamond" w="med"/>
              </a:ln>
            </p:spPr>
          </p:cxnSp>
          <p:cxnSp>
            <p:nvCxnSpPr>
              <p:cNvPr id="99" name="AutoShape 16"/>
              <p:cNvCxnSpPr/>
              <p:nvPr/>
            </p:nvCxnSpPr>
            <p:spPr>
              <a:xfrm>
                <a:off x="819000" y="2533320"/>
                <a:ext cx="419760" cy="1008360"/>
              </a:xfrm>
              <a:prstGeom prst="straightConnector1">
                <a:avLst/>
              </a:prstGeom>
              <a:ln w="76320">
                <a:solidFill>
                  <a:srgbClr val="002060"/>
                </a:solidFill>
                <a:prstDash val="dashDot"/>
                <a:miter/>
                <a:headEnd len="med" type="diamond" w="med"/>
                <a:tailEnd len="med" type="diamond" w="med"/>
              </a:ln>
            </p:spPr>
          </p:cxnSp>
          <p:cxnSp>
            <p:nvCxnSpPr>
              <p:cNvPr id="100" name="AutoShape 17"/>
              <p:cNvCxnSpPr/>
              <p:nvPr/>
            </p:nvCxnSpPr>
            <p:spPr>
              <a:xfrm flipH="1">
                <a:off x="694800" y="2619360"/>
                <a:ext cx="743040" cy="791280"/>
              </a:xfrm>
              <a:prstGeom prst="straightConnector1">
                <a:avLst/>
              </a:prstGeom>
              <a:ln w="76320">
                <a:solidFill>
                  <a:srgbClr val="17365d"/>
                </a:solidFill>
                <a:prstDash val="dashDot"/>
                <a:miter/>
                <a:headEnd len="med" type="diamond" w="med"/>
                <a:tailEnd len="med" type="diamond" w="med"/>
              </a:ln>
            </p:spPr>
          </p:cxnSp>
          <p:cxnSp>
            <p:nvCxnSpPr>
              <p:cNvPr id="101" name="AutoShape 18"/>
              <p:cNvCxnSpPr/>
              <p:nvPr/>
            </p:nvCxnSpPr>
            <p:spPr>
              <a:xfrm flipH="1">
                <a:off x="542520" y="2771280"/>
                <a:ext cx="1028880" cy="486360"/>
              </a:xfrm>
              <a:prstGeom prst="straightConnector1">
                <a:avLst/>
              </a:prstGeom>
              <a:ln w="76320">
                <a:solidFill>
                  <a:srgbClr val="002060"/>
                </a:solidFill>
                <a:prstDash val="dashDot"/>
                <a:miter/>
                <a:headEnd len="med" type="diamond" w="med"/>
                <a:tailEnd len="med" type="diamond" w="med"/>
              </a:ln>
            </p:spPr>
          </p:cxnSp>
          <p:cxnSp>
            <p:nvCxnSpPr>
              <p:cNvPr id="102" name="AutoShape 19"/>
              <p:cNvCxnSpPr/>
              <p:nvPr/>
            </p:nvCxnSpPr>
            <p:spPr>
              <a:xfrm flipH="1" flipV="1">
                <a:off x="646920" y="2666160"/>
                <a:ext cx="790560" cy="743400"/>
              </a:xfrm>
              <a:prstGeom prst="straightConnector1">
                <a:avLst/>
              </a:prstGeom>
              <a:ln w="76320">
                <a:solidFill>
                  <a:srgbClr val="17365d"/>
                </a:solidFill>
                <a:prstDash val="dashDot"/>
                <a:miter/>
                <a:headEnd len="med" type="diamond" w="med"/>
                <a:tailEnd len="med" type="diamond" w="med"/>
              </a:ln>
            </p:spPr>
          </p:cxnSp>
        </p:grpSp>
      </p:grpSp>
      <p:pic>
        <p:nvPicPr>
          <p:cNvPr id="103" name="Рисунок 12" descr="j0336789.gif"/>
          <p:cNvPicPr/>
          <p:nvPr/>
        </p:nvPicPr>
        <p:blipFill>
          <a:blip r:embed="rId1"/>
          <a:stretch/>
        </p:blipFill>
        <p:spPr>
          <a:xfrm>
            <a:off x="7286760" y="214200"/>
            <a:ext cx="1176120" cy="135756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13" descr="j0336789.gif"/>
          <p:cNvPicPr/>
          <p:nvPr/>
        </p:nvPicPr>
        <p:blipFill>
          <a:blip r:embed="rId2"/>
          <a:stretch/>
        </p:blipFill>
        <p:spPr>
          <a:xfrm>
            <a:off x="7643880" y="714240"/>
            <a:ext cx="1176120" cy="192888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14" descr="j0336789.gif"/>
          <p:cNvPicPr/>
          <p:nvPr/>
        </p:nvPicPr>
        <p:blipFill>
          <a:blip r:embed="rId3"/>
          <a:stretch/>
        </p:blipFill>
        <p:spPr>
          <a:xfrm>
            <a:off x="7215120" y="1428840"/>
            <a:ext cx="1176480" cy="285732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5" descr="j0336789.gif"/>
          <p:cNvPicPr/>
          <p:nvPr/>
        </p:nvPicPr>
        <p:blipFill>
          <a:blip r:embed="rId4"/>
          <a:stretch/>
        </p:blipFill>
        <p:spPr>
          <a:xfrm>
            <a:off x="6572160" y="571680"/>
            <a:ext cx="11764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path" presetID="40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-1.48011E-006 C 0.00938 -0.02521 0.02222 -0.04926 0.04792 -0.04926 C 0.07708 -0.04926 0.08715 -0.02521 0.09653 -1.48011E-006 C 0.10955 0.02798 0.11892 0.05597 0.15139 0.05597 C 0.18038 0.05597 0.18993 0.02798 0.20278 -1.48011E-006 C 0.20903 -0.02521 0.22188 -0.04926 0.25087 -0.04926 C 0.27656 -0.04926 0.28941 -0.02521 0.29948 -1.48011E-006 C 0.30903 0.02798 0.32188 0.05597 0.35087 0.05597 C 0.38003 0.05597 0.40243 -1.48010999999999E-006 0.40243 0.00023 C 0.41181 -0.02521 0.42188 -0.04926 0.45035 -0.04926 C 0.47951 -0.04926 0.48958 -0.02521 0.49896 -1.48011E-006 C 0.51198 0.02798 0.52135 0.05597 0.55382 0.05597 C 0.58281 0.05597 0.59236 0.02798 0.60191 -1.48011E-006 C 0.61476 -0.02521 0.62431 -0.04926 0.6533 -0.04926 C 0.67899 -0.04926 0.69184 -0.02521 0.70191 -1.48011E-006 C 0.71146 0.02798 0.72431 0.05597 0.7533 0.05597 C 0.78247 0.05597 0.79184 0.02798 0.80486 -1.48011E-006 E">
                                      <p:cBhvr>
                                        <p:cTn id="45" dur="3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10"/>
          <p:cNvGrpSpPr/>
          <p:nvPr/>
        </p:nvGrpSpPr>
        <p:grpSpPr>
          <a:xfrm>
            <a:off x="3714840" y="2857680"/>
            <a:ext cx="1200240" cy="1133280"/>
            <a:chOff x="3714840" y="2857680"/>
            <a:chExt cx="1200240" cy="1133280"/>
          </a:xfrm>
        </p:grpSpPr>
        <p:pic>
          <p:nvPicPr>
            <p:cNvPr id="108" name="AutoShape 11" descr=""/>
            <p:cNvPicPr/>
            <p:nvPr/>
          </p:nvPicPr>
          <p:blipFill>
            <a:blip r:embed="rId1"/>
            <a:stretch/>
          </p:blipFill>
          <p:spPr>
            <a:xfrm>
              <a:off x="3759480" y="3121200"/>
              <a:ext cx="1106280" cy="65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AutoShape 12" descr=""/>
            <p:cNvPicPr/>
            <p:nvPr/>
          </p:nvPicPr>
          <p:blipFill>
            <a:blip r:embed="rId2"/>
            <a:stretch/>
          </p:blipFill>
          <p:spPr>
            <a:xfrm>
              <a:off x="3714840" y="3285360"/>
              <a:ext cx="1200240" cy="365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0" name="Group 13"/>
            <p:cNvGrpSpPr/>
            <p:nvPr/>
          </p:nvGrpSpPr>
          <p:grpSpPr>
            <a:xfrm>
              <a:off x="3918960" y="2857680"/>
              <a:ext cx="837000" cy="1133280"/>
              <a:chOff x="3918960" y="2857680"/>
              <a:chExt cx="837000" cy="1133280"/>
            </a:xfrm>
          </p:grpSpPr>
          <p:pic>
            <p:nvPicPr>
              <p:cNvPr id="111" name="AutoShap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4138560" y="2906640"/>
                <a:ext cx="400680" cy="1069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" name="AutoShape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5160" y="2857680"/>
                <a:ext cx="231480" cy="113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" name="AutoShape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4095720" y="2945520"/>
                <a:ext cx="443880" cy="1030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AutoShape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4016880" y="3014280"/>
                <a:ext cx="652320" cy="85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AutoShape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3918960" y="3137040"/>
                <a:ext cx="837000" cy="608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AutoShape 19" descr=""/>
              <p:cNvPicPr/>
              <p:nvPr/>
            </p:nvPicPr>
            <p:blipFill>
              <a:blip r:embed="rId8"/>
              <a:stretch/>
            </p:blipFill>
            <p:spPr>
              <a:xfrm>
                <a:off x="3985560" y="3053880"/>
                <a:ext cx="683640" cy="814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17" name="Рисунок 12" descr="j0336789.gif"/>
          <p:cNvPicPr/>
          <p:nvPr/>
        </p:nvPicPr>
        <p:blipFill>
          <a:blip r:embed="rId9"/>
          <a:stretch/>
        </p:blipFill>
        <p:spPr>
          <a:xfrm>
            <a:off x="7715160" y="214200"/>
            <a:ext cx="1176480" cy="135756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13" descr="j0336789.gif"/>
          <p:cNvPicPr/>
          <p:nvPr/>
        </p:nvPicPr>
        <p:blipFill>
          <a:blip r:embed="rId10"/>
          <a:stretch/>
        </p:blipFill>
        <p:spPr>
          <a:xfrm>
            <a:off x="7429680" y="714240"/>
            <a:ext cx="1176120" cy="135756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14" descr="j0336789.gif"/>
          <p:cNvPicPr/>
          <p:nvPr/>
        </p:nvPicPr>
        <p:blipFill>
          <a:blip r:embed="rId11"/>
          <a:stretch/>
        </p:blipFill>
        <p:spPr>
          <a:xfrm>
            <a:off x="6715080" y="357120"/>
            <a:ext cx="1176480" cy="364356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15" descr="j0336789.gif"/>
          <p:cNvPicPr/>
          <p:nvPr/>
        </p:nvPicPr>
        <p:blipFill>
          <a:blip r:embed="rId12"/>
          <a:stretch/>
        </p:blipFill>
        <p:spPr>
          <a:xfrm>
            <a:off x="6643800" y="0"/>
            <a:ext cx="1357200" cy="156672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16" descr="j0336789.gif"/>
          <p:cNvPicPr/>
          <p:nvPr/>
        </p:nvPicPr>
        <p:blipFill>
          <a:blip r:embed="rId13"/>
          <a:stretch/>
        </p:blipFill>
        <p:spPr>
          <a:xfrm>
            <a:off x="6143760" y="357120"/>
            <a:ext cx="117612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32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796 0.00417 C 0.50018 -0.41882 -0.49948 -0.41882 -0.01598 0.00417 C -0.49948 -0.41882 -0.49948 0.47826 -0.01598 0.04325 C -0.49948 0.47826 0.50018 0.47826 0.02796 0.04325 C 0.50018 0.47826 0.50018 -0.41882 0.02796 0.00417 Z">
                                      <p:cBhvr>
                                        <p:cTn id="56" dur="5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Group 10" descr=""/>
          <p:cNvPicPr/>
          <p:nvPr/>
        </p:nvPicPr>
        <p:blipFill>
          <a:blip r:embed="rId1"/>
          <a:stretch/>
        </p:blipFill>
        <p:spPr>
          <a:xfrm>
            <a:off x="3365640" y="2298600"/>
            <a:ext cx="1901520" cy="183528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12" descr="j0336789.gif"/>
          <p:cNvPicPr/>
          <p:nvPr/>
        </p:nvPicPr>
        <p:blipFill>
          <a:blip r:embed="rId2"/>
          <a:stretch/>
        </p:blipFill>
        <p:spPr>
          <a:xfrm>
            <a:off x="6215040" y="1071720"/>
            <a:ext cx="1176480" cy="214308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13" descr="j0336789.gif"/>
          <p:cNvPicPr/>
          <p:nvPr/>
        </p:nvPicPr>
        <p:blipFill>
          <a:blip r:embed="rId3"/>
          <a:stretch/>
        </p:blipFill>
        <p:spPr>
          <a:xfrm>
            <a:off x="7000920" y="1143000"/>
            <a:ext cx="1176120" cy="135720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14" descr="j0336789.gif"/>
          <p:cNvPicPr/>
          <p:nvPr/>
        </p:nvPicPr>
        <p:blipFill>
          <a:blip r:embed="rId4"/>
          <a:stretch/>
        </p:blipFill>
        <p:spPr>
          <a:xfrm>
            <a:off x="7786800" y="642960"/>
            <a:ext cx="1176120" cy="135720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15" descr="j0336789.gif"/>
          <p:cNvPicPr/>
          <p:nvPr/>
        </p:nvPicPr>
        <p:blipFill>
          <a:blip r:embed="rId5"/>
          <a:stretch/>
        </p:blipFill>
        <p:spPr>
          <a:xfrm>
            <a:off x="7000920" y="500040"/>
            <a:ext cx="1176120" cy="135720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16" descr="j0336789.gif"/>
          <p:cNvPicPr/>
          <p:nvPr/>
        </p:nvPicPr>
        <p:blipFill>
          <a:blip r:embed="rId6"/>
          <a:stretch/>
        </p:blipFill>
        <p:spPr>
          <a:xfrm>
            <a:off x="7967520" y="1071720"/>
            <a:ext cx="1176480" cy="135720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17" descr="j0336789.gif"/>
          <p:cNvPicPr/>
          <p:nvPr/>
        </p:nvPicPr>
        <p:blipFill>
          <a:blip r:embed="rId7"/>
          <a:stretch/>
        </p:blipFill>
        <p:spPr>
          <a:xfrm>
            <a:off x="7286760" y="1857240"/>
            <a:ext cx="1176120" cy="1571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snowmann0002"/>
          <p:cNvPicPr/>
          <p:nvPr/>
        </p:nvPicPr>
        <p:blipFill>
          <a:blip r:embed="rId8"/>
          <a:stretch/>
        </p:blipFill>
        <p:spPr>
          <a:xfrm>
            <a:off x="7072200" y="2714760"/>
            <a:ext cx="113364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76"/>
          <p:cNvSpPr/>
          <p:nvPr/>
        </p:nvSpPr>
        <p:spPr>
          <a:xfrm>
            <a:off x="357120" y="1214280"/>
            <a:ext cx="85726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2060"/>
                </a:solidFill>
                <a:latin typeface="Times New Roman"/>
              </a:rPr>
              <a:t>Береги зрение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i="1" lang="ru-RU" sz="4800" spc="-1" strike="noStrike">
                <a:solidFill>
                  <a:srgbClr val="002060"/>
                </a:solidFill>
                <a:latin typeface="Times New Roman"/>
              </a:rPr>
              <a:t>Работая на компьютере помни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i="1" lang="ru-RU" sz="4800" spc="-1" strike="noStrike">
                <a:solidFill>
                  <a:srgbClr val="002060"/>
                </a:solidFill>
                <a:latin typeface="Times New Roman"/>
              </a:rPr>
              <a:t>через каждые 15 минут  необходимо сделать физминутку для глаз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Прямоугольник 2"/>
          <p:cNvSpPr/>
          <p:nvPr/>
        </p:nvSpPr>
        <p:spPr>
          <a:xfrm>
            <a:off x="1143000" y="2071800"/>
            <a:ext cx="49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Book Antiqua"/>
              </a:rPr>
              <a:t>http://parkov3.narod.ru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Прямоугольник 3"/>
          <p:cNvSpPr/>
          <p:nvPr/>
        </p:nvSpPr>
        <p:spPr>
          <a:xfrm>
            <a:off x="1143000" y="2500200"/>
            <a:ext cx="75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Book Antiqua"/>
              </a:rPr>
              <a:t>http://images.google.r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2928960" y="1071720"/>
            <a:ext cx="46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</a:rPr>
              <a:t>Полезные ссыл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рямоугольник 16"/>
          <p:cNvSpPr/>
          <p:nvPr/>
        </p:nvSpPr>
        <p:spPr>
          <a:xfrm>
            <a:off x="1071720" y="2928960"/>
            <a:ext cx="564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http://priroda.inc.ru/prazdnik/anima/anima15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4T16:46:28Z</dcterms:created>
  <dc:creator>Масько Л.Г.</dc:creator>
  <dc:description/>
  <dc:language>en-US</dc:language>
  <cp:lastModifiedBy>8</cp:lastModifiedBy>
  <dcterms:modified xsi:type="dcterms:W3CDTF">2015-10-08T14:17:55Z</dcterms:modified>
  <cp:revision>35</cp:revision>
  <dc:subject/>
  <dc:title>Слайд 1</dc:title>
</cp:coreProperties>
</file>