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9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578-AD6A-47B9-91E5-F3E5F0B6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E6B-FB79-4BB7-98B9-AA933D4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321-F55F-4722-87C6-1A879706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93D-482B-4D83-8B02-E815EA80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C56-D183-4976-9C41-D4F6358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A54-62E8-496D-BA9B-71BA667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203-F7CF-4BA0-83C7-5D76302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391-1824-4423-86AC-FCB89E33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72C-ADD1-496D-BAB6-9DCD323C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1C3-C043-4439-BF92-EAA2CCC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0FF-2231-47FA-9265-68C24E7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A2C-A7CE-485B-BDD1-BCBE032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462D-1260-4ECC-BDFB-F0C806C831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подготовила 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старший воспитатель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 МБДОУ «Детский сад комбинированного вида №14»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 Смирнова М.П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ород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468360" y="5587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395280" y="26352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а ученым-изобретателем Т.С. Альтшуллер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яет воспитывать и обучать ребенка под девизом «Творчество во всем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дбор иллюстративного материала к занятиям и для оформления стендов, группы, кабинетов (сканирование, интернет, принтер, презентация,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 Использование мультимедийного проектора на занятиях, на педсоветах, Р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4140360" y="5270400"/>
            <a:ext cx="1618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53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етрадиционные техники рисов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В. Никитин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Н. Давыдов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А.Цквитария «Нетрадиционные техники рисования.Интегрированные занятия в ДО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К. Утробина «Увлекательное рисование методом тычка с детьми 3-7 л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1052640"/>
          <a:ext cx="8209080" cy="4519440"/>
        </p:xfrm>
        <a:graphic>
          <a:graphicData uri="http://schemas.openxmlformats.org/drawingml/2006/table">
            <a:tbl>
              <a:tblPr/>
              <a:tblGrid>
                <a:gridCol w="3600720"/>
                <a:gridCol w="46083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 по физической культу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раза в неделю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портивном зале, в группе, на прогулке в соответствии с програм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ення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, в музыкальном и спортивном залах, в группе.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из серии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Шорыгина Т.А. Беседы о здоровье. Авдеева Н.Н., Князева О.Л., Стеркина Р.Б.Безопасность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неделю в режимных процессах, как часть или целая НОД по позн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ные досуги и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квартал. Начиная с младшего возраста в спортивном зале, на прогу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Юрий</cp:lastModifiedBy>
  <dcterms:modified xsi:type="dcterms:W3CDTF">2015-10-08T14:50:14Z</dcterms:modified>
  <cp:revision>109</cp:revision>
  <dc:subject/>
  <dc:title>Слайд 1</dc:title>
</cp:coreProperties>
</file>