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9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4A0-5E2F-46DF-BF62-4C3A4A99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347-5C23-4216-B38B-FC087180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5B1-9F2E-4D1E-AC01-D2ED4D97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F30-B9C6-4A4F-9900-E7F73D7B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B1A-33C6-4C33-9F0F-95E919D8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9AE-0CD6-4ECC-AC20-5B3F7A5E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DC5-9E66-4D29-8B33-690EED92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01D-C810-4FFA-99FB-34E7E76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74A-54E6-49A5-A1B1-9933D76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3E9-828E-496C-8310-A8B9319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753-FE3B-4C73-8D55-5358AE0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970-C4A9-4AE1-884A-501AEF9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672-A027-42E5-A777-528203641F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подготовила 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старший воспитатель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 МБДОУ «Детский сад комбинированного вида №14»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 Смирнова М.П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ород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468360" y="5587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395280" y="26352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а ученым-изобретателем Т.С. Альтшуллер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яет воспитывать и обучать ребенка под девизом «Творчество во всем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дбор иллюстративного материала к занятиям и для оформления стендов, группы, кабинетов (сканирование, интернет, принтер, презентация,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 Использование мультимедийного проектора на занятиях, на педсоветах, Р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4140360" y="5270400"/>
            <a:ext cx="1618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53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етрадиционные техники рисов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В. Никитин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Н. Давыдов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А.Цквитария «Нетрадиционные техники рисования.Интегрированные занятия в ДО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К. Утробина «Увлекательное рисование методом тычка с детьми 3-7 л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1052640"/>
          <a:ext cx="8209080" cy="4519440"/>
        </p:xfrm>
        <a:graphic>
          <a:graphicData uri="http://schemas.openxmlformats.org/drawingml/2006/table">
            <a:tbl>
              <a:tblPr/>
              <a:tblGrid>
                <a:gridCol w="3600720"/>
                <a:gridCol w="46083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 по физической культу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раза в неделю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портивном зале, в группе, на прогулке в соответствии с програм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ення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, в музыкальном и спортивном залах, в группе.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из серии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Шорыгина Т.А. Беседы о здоровье. Авдеева Н.Н., Князева О.Л., Стеркина Р.Б.Безопасность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неделю в режимных процессах, как часть или целая НОД по позн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ные досуги и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квартал. Начиная с младшего возраста в спортивном зале, на прогу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Юрий</cp:lastModifiedBy>
  <dcterms:modified xsi:type="dcterms:W3CDTF">2015-10-08T14:50:14Z</dcterms:modified>
  <cp:revision>109</cp:revision>
  <dc:subject/>
  <dc:title>Слайд 1</dc:title>
</cp:coreProperties>
</file>