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25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a452a"/>
                </a:solidFill>
                <a:latin typeface="Cassandra"/>
                <a:ea typeface="Arial Unicode MS"/>
              </a:rPr>
              <a:t>Испытание любовью, болезнью Евгения Базарова и Павла Петровича</a:t>
            </a:r>
            <a:r>
              <a:rPr b="0" lang="ru-RU" sz="4000" spc="-1" strike="noStrike">
                <a:solidFill>
                  <a:srgbClr val="4a452a"/>
                </a:solidFill>
                <a:latin typeface="Cassandra"/>
                <a:ea typeface="Arial Unicode MS"/>
              </a:rPr>
              <a:t> </a:t>
            </a:r>
            <a:r>
              <a:rPr b="1" lang="ru-RU" sz="4000" spc="-1" strike="noStrike">
                <a:solidFill>
                  <a:srgbClr val="4a452a"/>
                </a:solidFill>
                <a:latin typeface="Cassandra"/>
                <a:ea typeface="Arial Unicode MS"/>
              </a:rPr>
              <a:t>Кирсанова </a:t>
            </a:r>
            <a:br>
              <a:rPr sz="4000"/>
            </a:br>
            <a:r>
              <a:rPr b="1" lang="ru-RU" sz="4000" spc="-1" strike="noStrike">
                <a:solidFill>
                  <a:srgbClr val="4a452a"/>
                </a:solidFill>
                <a:latin typeface="Cassandra"/>
                <a:ea typeface="Arial Unicode MS"/>
              </a:rPr>
              <a:t>в романе И.С. Тургенева </a:t>
            </a:r>
            <a:br>
              <a:rPr sz="4000"/>
            </a:br>
            <a:r>
              <a:rPr b="1" lang="ru-RU" sz="4000" spc="-1" strike="noStrike">
                <a:solidFill>
                  <a:srgbClr val="4a452a"/>
                </a:solidFill>
                <a:latin typeface="Cassandra"/>
                <a:ea typeface="Arial Unicode MS"/>
              </a:rPr>
              <a:t>«Отцы и дети».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4a452a"/>
                </a:solidFill>
                <a:latin typeface="Cassandra"/>
              </a:rPr>
              <a:t>Евгений Базаров</a:t>
            </a:r>
            <a:endParaRPr b="0" lang="en-US" sz="5000" spc="-1" strike="noStrike">
              <a:solidFill>
                <a:srgbClr val="4a452a"/>
              </a:solidFill>
              <a:latin typeface="Cassandra"/>
            </a:endParaRPr>
          </a:p>
        </p:txBody>
      </p:sp>
      <p:pic>
        <p:nvPicPr>
          <p:cNvPr id="78" name="Рисунок 5" descr=""/>
          <p:cNvPicPr/>
          <p:nvPr/>
        </p:nvPicPr>
        <p:blipFill>
          <a:blip r:embed="rId1"/>
          <a:stretch/>
        </p:blipFill>
        <p:spPr>
          <a:xfrm>
            <a:off x="5711760" y="1384200"/>
            <a:ext cx="3170160" cy="48834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9160" y="1391760"/>
            <a:ext cx="558000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4a452a"/>
              </a:buClr>
              <a:buSzPct val="80000"/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Евгений Базаров утверждает, что класс аристократии изжил себя, поэтому они не являются передовой силой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4a452a"/>
              </a:buClr>
              <a:buSzPct val="80000"/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В стране необходимы серьезные преобразования, потому что положение народа тяжёлое, страна не развивается, экономика ухудшается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4" descr=""/>
          <p:cNvPicPr/>
          <p:nvPr/>
        </p:nvPicPr>
        <p:blipFill>
          <a:blip r:embed="rId1"/>
          <a:stretch/>
        </p:blipFill>
        <p:spPr>
          <a:xfrm>
            <a:off x="6010200" y="1457280"/>
            <a:ext cx="2799000" cy="4662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19160" y="1391760"/>
            <a:ext cx="558000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4a452a"/>
              </a:buClr>
              <a:buSzPct val="80000"/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Павел Петрович утверждает, что аристократия – передовой класс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4a452a"/>
              </a:buClr>
              <a:buSzPct val="80000"/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Народ живет нормально, преобразования не нужны, нужно все оставить по-старому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4a452a"/>
                </a:solidFill>
                <a:latin typeface="Cassandra"/>
              </a:rPr>
              <a:t>Павел Петрович Кирсанов</a:t>
            </a:r>
            <a:endParaRPr b="0" lang="en-US" sz="5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a452a"/>
                </a:solidFill>
                <a:latin typeface="Cassandra"/>
              </a:rPr>
              <a:t>Идейный спор Евгения Базарова и Павла Петровича Кирсанова 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6000" y="1844640"/>
            <a:ext cx="4643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Противостояние нигилиста Евгения Базарова с аристократом  Павлом Петровичем Кирсановым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5175360" y="1390680"/>
            <a:ext cx="360828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Гульназ</cp:lastModifiedBy>
  <dcterms:modified xsi:type="dcterms:W3CDTF">2015-10-08T17:02:43Z</dcterms:modified>
  <cp:revision>54</cp:revision>
  <dc:subject/>
  <dc:title>Слайд 1</dc:title>
</cp:coreProperties>
</file>