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4920" y="296640"/>
            <a:ext cx="7920000" cy="13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a452a"/>
                </a:solidFill>
                <a:latin typeface="Cassandra"/>
              </a:rPr>
              <a:t>Роман «Отцы и дети» - это и роман о любви.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7640" y="1593720"/>
            <a:ext cx="874692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«Социальное – преходящее, а любовь вечна, только ею, только любовью держится и движется жизнь».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78" name="Рисунок 2" descr=""/>
          <p:cNvPicPr/>
          <p:nvPr/>
        </p:nvPicPr>
        <p:blipFill>
          <a:blip r:embed="rId1"/>
          <a:stretch/>
        </p:blipFill>
        <p:spPr>
          <a:xfrm>
            <a:off x="1042920" y="2517840"/>
            <a:ext cx="2840040" cy="36273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"/>
          <p:cNvPicPr/>
          <p:nvPr/>
        </p:nvPicPr>
        <p:blipFill>
          <a:blip r:embed="rId2"/>
          <a:stretch/>
        </p:blipFill>
        <p:spPr>
          <a:xfrm>
            <a:off x="4309920" y="2620800"/>
            <a:ext cx="4700880" cy="3646800"/>
          </a:xfrm>
          <a:prstGeom prst="rect">
            <a:avLst/>
          </a:prstGeom>
          <a:ln w="0">
            <a:noFill/>
          </a:ln>
        </p:spPr>
      </p:pic>
      <p:sp>
        <p:nvSpPr>
          <p:cNvPr id="80" name="Текст 4"/>
          <p:cNvSpPr/>
          <p:nvPr/>
        </p:nvSpPr>
        <p:spPr>
          <a:xfrm>
            <a:off x="1317600" y="5904000"/>
            <a:ext cx="2320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Тургенев И.С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Текст 4"/>
          <p:cNvSpPr/>
          <p:nvPr/>
        </p:nvSpPr>
        <p:spPr>
          <a:xfrm>
            <a:off x="5294160" y="6154560"/>
            <a:ext cx="273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Полина Виар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4920" y="981000"/>
            <a:ext cx="79200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ssandra"/>
              </a:rPr>
              <a:t>Павел Петрович Кирсанов</a:t>
            </a:r>
            <a:endParaRPr b="0" lang="en-US" sz="3200" spc="-1" strike="noStrike">
              <a:solidFill>
                <a:srgbClr val="4a452a"/>
              </a:solidFill>
              <a:latin typeface="Cassandra"/>
            </a:endParaRPr>
          </a:p>
        </p:txBody>
      </p:sp>
      <p:pic>
        <p:nvPicPr>
          <p:cNvPr id="83" name="Рисунок 2" descr=""/>
          <p:cNvPicPr/>
          <p:nvPr/>
        </p:nvPicPr>
        <p:blipFill>
          <a:blip r:embed="rId1"/>
          <a:stretch/>
        </p:blipFill>
        <p:spPr>
          <a:xfrm>
            <a:off x="285840" y="1620720"/>
            <a:ext cx="3073320" cy="3573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708000" y="1593720"/>
            <a:ext cx="536436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«Привыкший к победам, Павел Петрович быстро достиг цели. Тяжело было Павлу Петровичу даже тогда, когда княгиня его любила, но когда она охладела к нему, он чуть с ума не сошёл. Он терзался, ревновал, таскался за ней повсюду, ей надоело это неотвязное преследование, и она уехала за границу». 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" name="Текст 4"/>
          <p:cNvSpPr/>
          <p:nvPr/>
        </p:nvSpPr>
        <p:spPr>
          <a:xfrm>
            <a:off x="971640" y="5270400"/>
            <a:ext cx="273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Княгиня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934920" y="152280"/>
            <a:ext cx="7920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4a452a"/>
                </a:solidFill>
                <a:latin typeface="Cassandra"/>
              </a:rPr>
              <a:t>Испытание любовь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780000" y="302760"/>
            <a:ext cx="5256000" cy="61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Он вышел в отставку, несмотря на просьбы начальства остаться на службе, четыре года он гонялся за ней в чужих краях, но она отвергла его, потом Павел Петрович вернулся в Россию. </a:t>
            </a: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Прошло десять лет, он нигде не служил, не женился, посещал только клубы, светские вечера, затем Николай Петрович, брат его, пригласил жить его в своё имение.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88" name="Рисунок 7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29509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Гульназ</cp:lastModifiedBy>
  <dcterms:modified xsi:type="dcterms:W3CDTF">2015-10-08T17:05:21Z</dcterms:modified>
  <cp:revision>55</cp:revision>
  <dc:subject/>
  <dc:title>Слайд 1</dc:title>
</cp:coreProperties>
</file>