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040360" y="907560"/>
            <a:ext cx="3960720" cy="50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Павел Петрович не смог достойно не пройти испытание любовью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Любовное чувство растоптало, уничтожило его планы, выбило из жизненной колеи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77" name="Рисунок 7" descr=""/>
          <p:cNvPicPr/>
          <p:nvPr/>
        </p:nvPicPr>
        <p:blipFill>
          <a:blip r:embed="rId1"/>
          <a:stretch/>
        </p:blipFill>
        <p:spPr>
          <a:xfrm>
            <a:off x="249120" y="573120"/>
            <a:ext cx="4542120" cy="3786120"/>
          </a:xfrm>
          <a:prstGeom prst="rect">
            <a:avLst/>
          </a:prstGeom>
          <a:ln w="0">
            <a:noFill/>
          </a:ln>
        </p:spPr>
      </p:pic>
      <p:sp>
        <p:nvSpPr>
          <p:cNvPr id="78" name="Текст 4"/>
          <p:cNvSpPr/>
          <p:nvPr/>
        </p:nvSpPr>
        <p:spPr>
          <a:xfrm>
            <a:off x="1116000" y="5157720"/>
            <a:ext cx="6973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«Потеряв свою любовь, он потерял всё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148000" y="1593360"/>
            <a:ext cx="3924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До встречи с Одинцовой Базаров говорит об отношении к женщине так: «Нравится тебе женщина, старайся добиться от неё толку; а нельзя,-  ну, не надо, отвернись – земля не клином сошлась»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80" name="Рисунок 3" descr=""/>
          <p:cNvPicPr/>
          <p:nvPr/>
        </p:nvPicPr>
        <p:blipFill>
          <a:blip r:embed="rId1"/>
          <a:stretch/>
        </p:blipFill>
        <p:spPr>
          <a:xfrm>
            <a:off x="396720" y="1816200"/>
            <a:ext cx="4572000" cy="3511440"/>
          </a:xfrm>
          <a:prstGeom prst="rect">
            <a:avLst/>
          </a:prstGeom>
          <a:ln w="0">
            <a:noFill/>
          </a:ln>
        </p:spPr>
      </p:pic>
      <p:sp>
        <p:nvSpPr>
          <p:cNvPr id="81" name="Заголовок 1"/>
          <p:cNvSpPr/>
          <p:nvPr/>
        </p:nvSpPr>
        <p:spPr>
          <a:xfrm>
            <a:off x="934920" y="152280"/>
            <a:ext cx="7920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4a452a"/>
                </a:solidFill>
                <a:latin typeface="Cassandra"/>
              </a:rPr>
              <a:t>Испытание любовь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934920" y="981000"/>
            <a:ext cx="79200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ssandra"/>
              </a:rPr>
              <a:t>Евгений Базаров</a:t>
            </a:r>
            <a:endParaRPr b="0" lang="en-US" sz="32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334800" y="298440"/>
            <a:ext cx="4718160" cy="3524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089680" y="115920"/>
            <a:ext cx="406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Анна Сергеевна Одинцова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Аристократка, которую полюбил Базаров. В Одинцовой проявляются черты, свойственные новому поколению дворян: отсутствие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" name="Текст 2"/>
          <p:cNvSpPr/>
          <p:nvPr/>
        </p:nvSpPr>
        <p:spPr>
          <a:xfrm>
            <a:off x="398520" y="371628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снобизма и высокомерия, свобода суждений и демократизм. Одинцова умна и горда. Ее умерший старик-муж оставил ей огромное наследство. Это позволяет героине жить независимо и делать то, что ей вздум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716000" y="944280"/>
            <a:ext cx="4356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Базаров всем сердцем полюбил Одинцову, Тургенев выявляет в нём глубокие психологические переживания, цельность, силу чувства, он вдруг замечает, что стал романтиком, в нём  происходит переоценка ценностей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87" name="Рисунок 3" descr=""/>
          <p:cNvPicPr/>
          <p:nvPr/>
        </p:nvPicPr>
        <p:blipFill>
          <a:blip r:embed="rId1"/>
          <a:stretch/>
        </p:blipFill>
        <p:spPr>
          <a:xfrm>
            <a:off x="433440" y="658800"/>
            <a:ext cx="396252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Гульназ</cp:lastModifiedBy>
  <dcterms:modified xsi:type="dcterms:W3CDTF">2015-10-08T17:05:53Z</dcterms:modified>
  <cp:revision>54</cp:revision>
  <dc:subject/>
  <dc:title>Слайд 1</dc:title>
</cp:coreProperties>
</file>