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6720" y="11592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a452a"/>
                </a:solidFill>
                <a:latin typeface="Cassandra"/>
              </a:rPr>
              <a:t>Базаров отвергнут. Почему?</a:t>
            </a:r>
            <a:endParaRPr b="0" lang="en-US" sz="5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95280" y="836640"/>
            <a:ext cx="51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отому что он выходец из низов, будущий лекарь, бедняк, она не захотела разделить с ним жизнь, полную неизвестности, борьбы, лишений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Анна Сергеевна была бы вынуждена распрощаться с роскошью, комфортом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Базаров прошел испытание любовью достойно, не уронил себя, не вымаливал любовь, сумел сохранить гордость, достоинство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158760" y="3754440"/>
            <a:ext cx="3187800" cy="27129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"/>
          <p:cNvPicPr/>
          <p:nvPr/>
        </p:nvPicPr>
        <p:blipFill>
          <a:blip r:embed="rId2"/>
          <a:stretch/>
        </p:blipFill>
        <p:spPr>
          <a:xfrm>
            <a:off x="146160" y="89532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a452a"/>
                </a:solidFill>
                <a:latin typeface="Cassandra"/>
              </a:rPr>
              <a:t>Испытание болезнью</a:t>
            </a:r>
            <a:endParaRPr b="0" lang="en-US" sz="5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84360" y="1052280"/>
            <a:ext cx="4896000" cy="61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Павел Петрович Кирсанов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2" name="Текст 2"/>
          <p:cNvSpPr/>
          <p:nvPr/>
        </p:nvSpPr>
        <p:spPr>
          <a:xfrm>
            <a:off x="3608280" y="1631880"/>
            <a:ext cx="52484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Во время дуэли он был легко ранен, лишился чувств, затем у него начался жар, вызвали врача, весь дом ухаживал за ним, а Павел Петрович вёл себя так, как будто получил серьёзную рану, требовал к себе внимания, з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"/>
          <p:cNvPicPr/>
          <p:nvPr/>
        </p:nvPicPr>
        <p:blipFill>
          <a:blip r:embed="rId1"/>
          <a:stretch/>
        </p:blipFill>
        <p:spPr>
          <a:xfrm>
            <a:off x="171360" y="1474920"/>
            <a:ext cx="3535560" cy="4383000"/>
          </a:xfrm>
          <a:prstGeom prst="rect">
            <a:avLst/>
          </a:prstGeom>
          <a:ln w="0">
            <a:noFill/>
          </a:ln>
        </p:spPr>
      </p:pic>
      <p:sp>
        <p:nvSpPr>
          <p:cNvPr id="84" name="Текст 2"/>
          <p:cNvSpPr/>
          <p:nvPr/>
        </p:nvSpPr>
        <p:spPr>
          <a:xfrm>
            <a:off x="2556000" y="5421240"/>
            <a:ext cx="698472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Сценами болезни Павел Петрович доказал свою не состоятельность, слабость перед нигили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a452a"/>
                </a:solidFill>
                <a:latin typeface="Cassandra"/>
              </a:rPr>
              <a:t>Испытание болезнью</a:t>
            </a:r>
            <a:endParaRPr b="0" lang="en-US" sz="5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84360" y="1052280"/>
            <a:ext cx="4896000" cy="61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Евгений Базаров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" name="Текст 2"/>
          <p:cNvSpPr/>
          <p:nvPr/>
        </p:nvSpPr>
        <p:spPr>
          <a:xfrm>
            <a:off x="5162400" y="1542960"/>
            <a:ext cx="39103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ри вскрытии больного  у уездного врача не оказалось адского камня, чтобы прижечь ранку от пореза, в результате чего Базаров заразился тиф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1"/>
          <a:stretch/>
        </p:blipFill>
        <p:spPr>
          <a:xfrm>
            <a:off x="291960" y="1736640"/>
            <a:ext cx="4865760" cy="2738520"/>
          </a:xfrm>
          <a:prstGeom prst="rect">
            <a:avLst/>
          </a:prstGeom>
          <a:ln w="0">
            <a:noFill/>
          </a:ln>
        </p:spPr>
      </p:pic>
      <p:sp>
        <p:nvSpPr>
          <p:cNvPr id="89" name="Текст 2"/>
          <p:cNvSpPr/>
          <p:nvPr/>
        </p:nvSpPr>
        <p:spPr>
          <a:xfrm>
            <a:off x="647640" y="4545000"/>
            <a:ext cx="841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Базаров осознает, что заболевание смертельно, что нужно это принять спокойно.  Позже он  скажет отцу: «Я заражён, и через несколько дней ты меня хоронить будеш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Текст 2"/>
          <p:cNvSpPr/>
          <p:nvPr/>
        </p:nvSpPr>
        <p:spPr>
          <a:xfrm>
            <a:off x="5162400" y="692280"/>
            <a:ext cx="39103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Когда Евгений Базаров понимает, что дни его сочтены, просит послать за Одинц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Базаров пытается бороться с беспамятством до приезда Одинц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Текст 2"/>
          <p:cNvSpPr/>
          <p:nvPr/>
        </p:nvSpPr>
        <p:spPr>
          <a:xfrm>
            <a:off x="647640" y="4437000"/>
            <a:ext cx="841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рощается с ней в последние часы своей жизни как волевой, сильный, мужественный  человек, заботливый сын, любящее сердце, великий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8" descr=""/>
          <p:cNvPicPr/>
          <p:nvPr/>
        </p:nvPicPr>
        <p:blipFill>
          <a:blip r:embed="rId1"/>
          <a:stretch/>
        </p:blipFill>
        <p:spPr>
          <a:xfrm>
            <a:off x="171360" y="907920"/>
            <a:ext cx="49737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90972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452a"/>
                </a:solidFill>
                <a:latin typeface="Calibri"/>
              </a:rPr>
              <a:t>«</a:t>
            </a:r>
            <a:r>
              <a:rPr b="1" i="1" lang="ru-RU" sz="3200" spc="-1" strike="noStrike">
                <a:solidFill>
                  <a:srgbClr val="4a452a"/>
                </a:solidFill>
                <a:latin typeface="Calibri"/>
              </a:rPr>
              <a:t>Умереть так, как умер Базаров, - все равно, что сделать великий подвиг. Оттого, что Базаров умер твёрдо и спокойно, никто не почувствовал себе ни облегчения, ни пользы,  но такой человек,  который умеет умирать спокойно и твёрдо, не отступит перед препятствием и не струсит перед опасностью»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4" name="Текст 2"/>
          <p:cNvSpPr/>
          <p:nvPr/>
        </p:nvSpPr>
        <p:spPr>
          <a:xfrm>
            <a:off x="5435640" y="5157720"/>
            <a:ext cx="32400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Д. Писар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Спасибо за внимание!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04880" y="3968280"/>
            <a:ext cx="8423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резентацию подготовила и выполнила Елькина Н.В., учитель </a:t>
            </a:r>
            <a:r>
              <a:rPr b="0" lang="en-US" sz="2800" spc="-1" strike="noStrike">
                <a:solidFill>
                  <a:srgbClr val="4a452a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 квалификационной категории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г. Нижневартовск,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КОУ «Специальная школа №1»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Гульназ</cp:lastModifiedBy>
  <dcterms:modified xsi:type="dcterms:W3CDTF">2015-10-08T17:08:22Z</dcterms:modified>
  <cp:revision>55</cp:revision>
  <dc:subject/>
  <dc:title>Слайд 1</dc:title>
</cp:coreProperties>
</file>