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82BA-9C06-43F3-87FE-C0260A28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A61D-4335-4F9C-ACEF-23BBDDC7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380-CFA3-4E3E-BE37-B50E2725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AB22-994F-4085-8967-2ACCE22C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BCF8-2398-46D6-9220-6C8794C7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10F6-8B0A-458E-9486-301CE71C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0AA-167B-44C3-B2E1-0B7615B2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F20-411A-41B8-871A-A45FC21D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5751-57ED-41CC-B8A9-63F37DDE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81F6-CC1A-42CD-ADDB-E1D8D0A6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CB67-1301-43E1-B6B2-A7393C43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5EA5-ED10-4349-A973-F6C86AE4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5777-704B-4A5E-820E-29D37DD5F4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557000"/>
            <a:ext cx="8281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Тема: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Исследование функции на монотонность и экстремумы.</a:t>
            </a:r>
            <a:br>
              <a:rPr sz="3600"/>
            </a:b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430440"/>
            <a:ext cx="8229600" cy="26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3b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Монотонность фун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53b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ffff"/>
                </a:solidFill>
                <a:uFillTx/>
                <a:latin typeface="Arial"/>
                <a:hlinkClick r:id="rId2" action="ppaction://hlinksldjump"/>
              </a:rPr>
              <a:t>Экстремумы фун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53b15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c53b15"/>
                </a:solidFill>
                <a:latin typeface="Arial"/>
              </a:rPr>
              <a:t>Учитель математики КОР №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53b15"/>
                </a:solidFill>
                <a:latin typeface="Arial"/>
              </a:rPr>
              <a:t>                                                         </a:t>
            </a:r>
            <a:r>
              <a:rPr b="0" lang="ru-RU" sz="2800" spc="-1" strike="noStrike">
                <a:solidFill>
                  <a:srgbClr val="c53b15"/>
                </a:solidFill>
                <a:latin typeface="Arial"/>
              </a:rPr>
              <a:t>Березина М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Точки экстремума и экстремумы функци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36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53b15"/>
                </a:solidFill>
                <a:uFillTx/>
                <a:latin typeface="Arial"/>
              </a:rPr>
              <a:t>Опр. 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Точк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ывается точкой максимума функци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f(x)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существует такая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окрестность точк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что для все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этой окрестности выполняетс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627280" y="3716280"/>
            <a:ext cx="3456000" cy="2852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53b15"/>
                </a:solidFill>
                <a:uFillTx/>
                <a:latin typeface="Arial"/>
              </a:rPr>
              <a:t>Опр. </a:t>
            </a:r>
            <a:r>
              <a:rPr b="0" i="1" lang="en-US" sz="2800" spc="-1" strike="noStrike" u="sng">
                <a:solidFill>
                  <a:srgbClr val="c53b15"/>
                </a:solidFill>
                <a:uFillTx/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чк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ывается точкой минимума функци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f(x)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существует число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что для всех х,удовлетворяющих условию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&l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&lt;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яетс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 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79640" y="3141720"/>
            <a:ext cx="4464000" cy="293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чка максимума и точка минимума называются точками </a:t>
            </a:r>
            <a:r>
              <a:rPr b="1" i="1" lang="ru-RU" sz="2800" spc="-1" strike="noStrike">
                <a:solidFill>
                  <a:srgbClr val="c53b15"/>
                </a:solidFill>
                <a:latin typeface="Arial"/>
              </a:rPr>
              <a:t>экстремум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чение функции в точках экстремума называется </a:t>
            </a:r>
            <a:r>
              <a:rPr b="1" lang="ru-RU" sz="2800" spc="-1" strike="noStrike">
                <a:solidFill>
                  <a:srgbClr val="c53b15"/>
                </a:solidFill>
                <a:latin typeface="Arial"/>
              </a:rPr>
              <a:t>экстремумом функ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т.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симум фун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нимум фун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Теорема 5.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Необходимое условие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   экстремума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дифференциальная функц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y=f(x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ет экстремум в точк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 ее производная в этой точке равна 0, т.е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=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оказательство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ус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точка максимума, тогда в окрестности точк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ыполняетс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x)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это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 условию существует производная, которая равна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меем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≤0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и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x&gt;0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≥0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и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x&lt;0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ледовательн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=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ч.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51520" y="1600200"/>
            <a:ext cx="3232080" cy="2185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03360" y="3009960"/>
                <a:ext cx="401148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eqArr>
                      <m:e>
                        <m:f>
                          <m:num>
                            <m:r>
                              <m:t xml:space="preserve">Δx</m:t>
                            </m:r>
                          </m:num>
                          <m:den/>
                        </m:f>
                      </m:e>
                    </m:eqAr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если</m:t>
                    </m:r>
                    <m:r>
                      <m:t xml:space="preserve">Δх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00720" y="2997360"/>
                <a:ext cx="36716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если</m:t>
                    </m:r>
                    <m:r>
                      <m:t xml:space="preserve">Δх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020000" y="4005360"/>
                <a:ext cx="1584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Теорема 6.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Достаточное условие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   экстремума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Если непрерывная функция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y=f(x)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ифференцируема в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окружности критической точки 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и при переходе через нее (слева направо)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′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x)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еняет знак, то 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– точка экстремума, причем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если с «+»  на «-», то 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– точка максимума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 «-»   на «+», то 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– точка минимум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Доказательство: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Рассмотрим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окр-сть точки 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. Пусть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′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x) &gt;0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любых х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(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-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;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) и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′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x)&lt;0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любых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Тогда функция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) возрастает на 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-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и убывает на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следовательно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) – наибольшее значение н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-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т.е.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) для х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-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следовательно точка х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– точка максимума функции, ч.т.д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53b15"/>
                </a:solidFill>
                <a:latin typeface="Arial"/>
              </a:rPr>
              <a:t>Пример 2.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Найти экстремумы функции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(y)=R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0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х=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существует при х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вим эти точки на числовой прямой и расставим зна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одной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0,  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0,  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8/3-4=- 4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: у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-4/3;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435640" y="476280"/>
                <a:ext cx="18590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32000" y="1413000"/>
                <a:ext cx="17290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 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3095640" cy="280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96000" y="2205000"/>
            <a:ext cx="2376360" cy="681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Исследование функции по графику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графику функции найдит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межуткивозрастания и убывания фун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чки экстремума и экстремумы фун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09680" y="3124080"/>
            <a:ext cx="4083120" cy="2962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Возрастание и убывание функци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9311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53b15"/>
                </a:solidFill>
                <a:uFillTx/>
                <a:latin typeface="Arial"/>
              </a:rPr>
              <a:t>Опр</a:t>
            </a:r>
            <a:r>
              <a:rPr b="0" i="1" lang="en-US" sz="2800" spc="-1" strike="noStrike" u="sng">
                <a:solidFill>
                  <a:srgbClr val="c53b15"/>
                </a:solidFill>
                <a:uFillTx/>
                <a:latin typeface="Arial"/>
              </a:rPr>
              <a:t>.</a:t>
            </a:r>
            <a:r>
              <a:rPr b="0" i="1" lang="ru-RU" sz="2800" spc="-1" strike="noStrike" u="sng">
                <a:solidFill>
                  <a:srgbClr val="c53b15"/>
                </a:solidFill>
                <a:uFillTx/>
                <a:latin typeface="Arial"/>
              </a:rPr>
              <a:t> 1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f(x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определяемая на интервал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a;b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называется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растающей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этом интервале, если из неравенств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любые две точки из интервала, следует неравенств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&gt;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обозначить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-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____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80000" y="3645000"/>
            <a:ext cx="3324240" cy="2993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H="1">
            <a:off x="486720" y="-660240"/>
            <a:ext cx="7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1052640"/>
            <a:ext cx="8218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53b15"/>
                </a:solidFill>
                <a:uFillTx/>
                <a:latin typeface="Arial"/>
              </a:rPr>
              <a:t>Опр</a:t>
            </a:r>
            <a:r>
              <a:rPr b="0" i="1" lang="en-US" sz="2800" spc="-1" strike="noStrike" u="sng">
                <a:solidFill>
                  <a:srgbClr val="c53b15"/>
                </a:solidFill>
                <a:uFillTx/>
                <a:latin typeface="Arial"/>
              </a:rPr>
              <a:t>.</a:t>
            </a:r>
            <a:r>
              <a:rPr b="0" i="1" lang="ru-RU" sz="2800" spc="-1" strike="noStrike" u="sng">
                <a:solidFill>
                  <a:srgbClr val="c53b15"/>
                </a:solidFill>
                <a:uFillTx/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c53b15"/>
                </a:solidFill>
                <a:uFillTx/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f(x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определяемая на интервал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a;b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называется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бывающей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м интервале, если из неравенств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ледует неравенств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&lt;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метим, что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____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932360" y="3357720"/>
            <a:ext cx="3543480" cy="309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"/>
              </a:rPr>
              <a:t>Теорема 1.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еобходимое условие 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   возрастания функции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фференцируемая в интервале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;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функция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=f(x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озрастает, то ее производная не может быть отрицательной ни в одной точке этого интервала, т.е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x)≥0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л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&lt;x&lt;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оказательство: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Пусть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=f(x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озрастает на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;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гда при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.к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ч.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908000" y="3649680"/>
                <a:ext cx="30546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685800" y="386064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г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851280" y="5157720"/>
                <a:ext cx="11523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362240" y="5734080"/>
                <a:ext cx="3033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651640" y="3789360"/>
            <a:ext cx="3241440" cy="284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"/>
              </a:rPr>
              <a:t>Теорема </a:t>
            </a: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еобходимое условие 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     убывания функции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дифференцируемая в интервале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;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функция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=f(x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бывает, то ее производная не может быть положительной ни в одной точке этого интервала, т.е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x)≤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л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&lt;x&lt;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71640" y="3284640"/>
            <a:ext cx="3529080" cy="312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"/>
              </a:rPr>
              <a:t>Теорема </a:t>
            </a: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0" i="1" lang="ru-RU" sz="32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Достаточное условие 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   возрастания функции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непрерывная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a;b]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функция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=f(x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каждой внутренней точке имеет положительную производную, то функция возрастает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a;b]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оказательство: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Пус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=f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'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ля все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&lt;x&lt;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 Рассмотрим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gt;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з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a;b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 теореме Лагранж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'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этому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условию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'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&gt;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0 имеем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&gt;0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т.е. из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gt;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леду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&gt;f(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, т. е. функция возрастает, ч.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268360" y="4508640"/>
                <a:ext cx="22622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"/>
              </a:rPr>
              <a:t>Теорема </a:t>
            </a: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4</a:t>
            </a:r>
            <a:r>
              <a:rPr b="0" i="1" lang="ru-RU" sz="32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Достаточное условие 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   убывания функции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Если непрерывная на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[a;b]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функция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y=f(x)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в каждой внутренней точке имеет отрицательную производную, то функция убывает на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[a;b]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c53b15"/>
                </a:solidFill>
                <a:latin typeface="Arial"/>
              </a:rPr>
              <a:t>Пример 1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Найти интервал монотонности функции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y=x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-3x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ffffff"/>
                </a:solidFill>
                <a:uFillTx/>
                <a:latin typeface="Arial"/>
              </a:rPr>
              <a:t>Решение.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 Находим область определения функции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D(y)=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4402080" cy="57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ходим производную фун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′=3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′&gt;0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сл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3&gt;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;-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;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′&lt;0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;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твет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ункция возраст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;-1]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и 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1;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ункция убывает 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;1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3521160" cy="4397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rezina</cp:lastModifiedBy>
  <dcterms:modified xsi:type="dcterms:W3CDTF">2015-09-27T16:34:2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