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7F6-29C4-4B2A-A4FD-2AB6D044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BE6-9BF9-4E77-9057-3F44F1A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073-4464-492E-A717-56390EF4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8A0-A13C-4055-8C8C-14335A53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1F6-F1F2-4D73-BC62-0E27165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D65-FF2A-4A03-9F72-AB1AED80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776-3B7A-4A7D-A8E9-73DC66B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20C-12F7-475C-8AE0-F1E9AE55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EFC-F7DA-4991-B78C-CAB9C9EC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0F1-090E-4ED0-918D-9CB9CB3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054-7E92-4F85-9076-791561AC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F21-CB2D-457E-87F9-7FD4FB7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4FCB-D20D-4276-94D9-34B8306715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281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Исследование функции на монотонность и экстремумы.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430440"/>
            <a:ext cx="82296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3b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Монотонность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53b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ff"/>
                </a:solidFill>
                <a:uFillTx/>
                <a:latin typeface="Arial"/>
                <a:hlinkClick r:id="rId2" action="ppaction://hlinksldjump"/>
              </a:rPr>
              <a:t>Экстремумы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Учитель математики КОР №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Березина М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Точки экстремума и экстремумы функ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. 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очк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точкой максимума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уществует такая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крестность точ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для все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этой окрестности выполняетс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371628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. 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точкой минимума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уществует число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для всех х,удовлетворяющих услов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&lt;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етс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464000" cy="29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максимума и точка минимума называются точками </a:t>
            </a:r>
            <a:r>
              <a:rPr b="1" i="1" lang="ru-RU" sz="2800" spc="-1" strike="noStrike">
                <a:solidFill>
                  <a:srgbClr val="c53b15"/>
                </a:solidFill>
                <a:latin typeface="Arial"/>
              </a:rPr>
              <a:t>экстремум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ение функции в точках экстремума называется </a:t>
            </a:r>
            <a:r>
              <a:rPr b="1" lang="ru-RU" sz="2800" spc="-1" strike="noStrike">
                <a:solidFill>
                  <a:srgbClr val="c53b15"/>
                </a:solidFill>
                <a:latin typeface="Arial"/>
              </a:rPr>
              <a:t>экстремумом фун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симум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мум фун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Теорема 5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обходимое условие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экстремума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дифференциальная функ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=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ет экстремум в точ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ее производная в этой точке равна 0, т.е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оказатель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точка максимума, тогда в окрестности точк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полняетс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)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эт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условию существует производная, которая равна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меем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≤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&gt;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≥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&lt;0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едовательн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.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51520" y="1600200"/>
            <a:ext cx="32320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3360" y="3009960"/>
                <a:ext cx="40114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eqArr>
                      <m:e>
                        <m:f>
                          <m:num>
                            <m:r>
                              <m:t xml:space="preserve">Δx</m:t>
                            </m:r>
                          </m:num>
                          <m:den/>
                        </m:f>
                      </m:e>
                    </m:eqAr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Δх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0720" y="2997360"/>
                <a:ext cx="3671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Δх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20000" y="4005360"/>
                <a:ext cx="158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Теорема 6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экстремума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непрерывная функция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=f(x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фференцируема в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кружности критической точки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при переходе через нее (слева направо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няет знак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экстремума, причем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с «+»  на «-»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максимум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 «-»   на «+»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миним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Доказательство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Рассмотрим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кр-сть точки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Пусть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 &gt;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юбых х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(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&lt;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юбых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Тогда функция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возрастает на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убывает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следовательно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– наибольшее значение 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.е.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для х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следовательно точка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точка максимума функции, ч.т.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53b15"/>
                </a:solidFill>
                <a:latin typeface="Arial"/>
              </a:rPr>
              <a:t>Пример 2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Найти экстремумы функции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(y)=R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х=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уществует при х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вим эти точки на числовой прямой и расставим зна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но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, 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,  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8/3-4=- 4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у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-4/3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476280"/>
                <a:ext cx="18590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32000" y="1413000"/>
                <a:ext cx="17290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376360" cy="6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следование функции по графи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графику функции найдит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кивозрастания и убывания фун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и экстремума и экстремумы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083120" cy="296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Возрастание и убывание функ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3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.</a:t>
            </a: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 1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пределяемая на интерва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;b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ающе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этом интервале, если из неравенств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любые две точки из интервала, следует 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обозначить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____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324240" cy="299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486720" y="-660240"/>
            <a:ext cx="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.</a:t>
            </a: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пределяемая на интерва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;b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бывающе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м интервале, если из неравенств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ледует 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тим, чт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____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3357720"/>
            <a:ext cx="3543480" cy="309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1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еобходим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возраст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фференцируемая в интервал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функция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ает, то ее производная не может быть отрицательной ни в одной точке этого интервала, т.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x)≥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&lt;x&lt;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казательство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Пу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ает н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при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.к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ч.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3649680"/>
                <a:ext cx="3054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85800" y="38606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51280" y="5157720"/>
                <a:ext cx="1152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62240" y="5734080"/>
                <a:ext cx="303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241440" cy="28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обходим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  убыв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дифференцируемая в интервал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функция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бывает, то ее производная не может быть положительной ни в одной точке этого интервала, т.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x)≤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&lt;x&lt;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71640" y="3284640"/>
            <a:ext cx="35290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возраст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прерывная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ункция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аждой внутренней точке имеет положительную производную, то функция возрастае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оказательство: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все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&lt;x&lt;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Рассмотри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теореме Лагранж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условию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&gt;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0 имее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&gt;0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.е. и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еду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&gt;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т. е. функция возрастает, ч.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268360" y="4508640"/>
                <a:ext cx="226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убыв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прерывная на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функция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в каждой внутренней точке имеет отрицательную производную, то функция убывает на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53b15"/>
                </a:solidFill>
                <a:latin typeface="Arial"/>
              </a:rPr>
              <a:t>Пример 1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йти интервал монотонности функции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=x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3x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Находим область определения функции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D(y)=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440208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ходим производную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=3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&gt;0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3&gt;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-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;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&lt;0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твет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-1]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;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ункция убывает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1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521160" cy="439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ezina</cp:lastModifiedBy>
  <dcterms:modified xsi:type="dcterms:W3CDTF">2015-09-27T16:34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