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F0F-AC62-472C-B750-BA735A17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489-A0D6-4903-A292-0B37CCA9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5F9-A539-4AFC-98CE-9936D847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D80-3D42-4994-9D2C-E9786BC5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EB02-A521-4B10-A240-8ABAC3B0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9358-5536-44F2-909C-5B1A0D12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4D01-C915-4F05-A793-5BA5060C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9009-7F77-468C-80AB-8626583D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F686-6256-46B0-9C43-02A8B44E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FDF3-6489-4F9E-96F5-A422B4DD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46F0-98B4-420D-94B2-7D5F5D02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D2E-029A-4A49-8BDB-CE867E92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5AE8-610D-409C-9520-604EAB0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0E9E-A480-45F9-9218-92FE6BC7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FF76-8952-4429-9BC4-2A56B51E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7746-A547-4FF5-AEDA-A2B62AAA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D490-1E5D-41BD-A2E5-E82E5547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C2F-3CEB-4D93-9A70-B94630FF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C17-AC14-42F3-878A-B38EA63B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362-9268-4BAD-97E0-3D9A6B62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A72-51F4-490B-A61B-F36C4FCA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AAE-6812-4DF4-A227-430CD430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239-BC60-46A5-A914-E8B6F99C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F60-75D7-4E35-9842-8703F47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5F63-7065-429E-B640-D9DE2A75E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4F95-6DE7-4C5F-8E5C-317092703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ibvernisage.ru/imag/products/doll/391/big/b_qo01010401.0.jpg&amp;imgrefurl=http://agusha.org/forum/index.php%3Fshowtopic%3D141&amp;usg=__ABjpfh7sST1p6qfgd75C0hKmegM=&amp;h=450&amp;w=603&amp;sz=66&amp;hl=ru&amp;start=2&amp;tbnid=mgXD1QIsjYrXdM:&amp;tbnh=101&amp;tbnw=135&amp;prev=/images%3Fq%3D%25D0%25BD%25D0%25B5%25D0%25B2%25D0%25B5%25D1%2581%25D1%2582%25D0%25B0%2B%25D1%2581%2B%25D0%25B6%25D0%25B5%25D0%25BD%25D0%25B8%25D1%2585%25D0%25BE%25D0%25BC%2B%25D1%2580%25D1%2583%25D1%2581%25D1%2581%25D0%25BA%25D0%25B8%25D0%25B5%2B%25D0%25BD%25D0%25B0%25D1%2580%25D0%25BE%25D0%25B4%25D0%25BD%25D1%258B%25D0%25B5%2B%25D0%25BA%25D1%2583%25D0%25BA%25D0%25BB%25D1%258B%26hl%3Dru%26newwindow%3D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19280" y="907920"/>
            <a:ext cx="7704000" cy="568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усская народная кукл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119400" y="1989000"/>
            <a:ext cx="2905200" cy="445608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e0e0"/>
                </a:solidFill>
                <a:latin typeface="Arial Black"/>
              </a:rPr>
              <a:t>     </a:t>
            </a:r>
            <a:r>
              <a:rPr b="0" lang="ru-RU" sz="3300" spc="-1" strike="noStrike">
                <a:solidFill>
                  <a:srgbClr val="d6e0e0"/>
                </a:solidFill>
                <a:latin typeface="Arial Black"/>
              </a:rPr>
              <a:t>РУССКАЯ ИЗБ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038840" cy="302904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429000" cy="257184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34120" y="228600"/>
            <a:ext cx="2571480" cy="342900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00"/>
                </a:solidFill>
                <a:latin typeface="Arial Black"/>
              </a:rPr>
              <a:t>                   </a:t>
            </a:r>
            <a:r>
              <a:rPr b="0" lang="ru-RU" sz="2100" spc="-1" strike="noStrike">
                <a:solidFill>
                  <a:srgbClr val="990000"/>
                </a:solidFill>
                <a:latin typeface="Arial Black"/>
              </a:rPr>
              <a:t>Почему у народной куклы нет лица?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7243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e0e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d6e0e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адиционная тряпичная кукла безлика. Лицо, как правило, не обозначалось, оставалось белым. Кукла без лица считалась предметом неодушевленным, недоступным для вселения в него злых, недобрых сил, а значит, и безвредным для ребенка. Она должна была принести ему благополучие, здоровье, радость. Это было чудо: из нескольких тряпочек, без рук, без ног, без обозначенного лица передавался характер куклы. Кукла была многолика, она могла смеяться и плак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3095640" cy="413676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55432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Пеленашка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древнейшая кукла-оберег. Пеленашка находилась в люльке до крещения ребёнка (При крещении младенец приобретал статус человека). Эту куклу хранили в семье вместе с крестильной рубашкой. Кукла была легка в изготовлении, для неё использовались куски ношеной, чаще домотканой одежды. Спеленутая кукла могла быть использована детьми в играх.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292880" y="3429000"/>
            <a:ext cx="1543320" cy="324000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940360" y="189000"/>
            <a:ext cx="2316240" cy="309564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6e0e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d6e0e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Кукла - бессонн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щё до рождения ребёнка делали куколку и укладывали в колыбельку, чтобы кукла "обогрела" её для будущего малыша. Когда малыш появлялся на свет, кукла и тогда не расставалась с ним. Чтобы малыш крепко и спокойно спал, приговаривала мать: "Сонница- бессонница, не играй с моим дитятком, а играй с этой куколкой". Кукла отвлекала на себя злые духи, оберегая ребёноч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27640" y="4581360"/>
            <a:ext cx="916200" cy="198936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56000" y="4581360"/>
            <a:ext cx="2736720" cy="204948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ЖЕНИХ И НЕВЕСТ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755720"/>
            <a:ext cx="571500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067280" y="476280"/>
            <a:ext cx="5076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990000"/>
                </a:solidFill>
                <a:latin typeface="Arial"/>
              </a:rPr>
              <a:t>Зернушка</a:t>
            </a:r>
            <a:r>
              <a:rPr b="1" i="1" lang="ru-RU" sz="2200" spc="-1" strike="noStrike">
                <a:solidFill>
                  <a:srgbClr val="d6e0e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d6e0e0"/>
                </a:solidFill>
                <a:latin typeface="Arial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укла, которая символизировала достаток в доме, была своего рода оберегом семьи. Иногда ее называли </a:t>
            </a:r>
            <a:r>
              <a:rPr b="0" lang="en" sz="22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зерновка</a:t>
            </a:r>
            <a:r>
              <a:rPr b="0" lang="en" sz="22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" sz="22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крупеничка</a:t>
            </a:r>
            <a:r>
              <a:rPr b="0" lang="en" sz="22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Делали эту куклу после сбора урожая. В основе этой куклы- мешочек, наполненный зерном. Также эту куклу могла делать женщина, чтобы у неё были дети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Э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укла символизировала достаток, благополучие в семье.  Бытовала в районах, где выращивали злаковые культу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6360" y="4437000"/>
            <a:ext cx="1708200" cy="216072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4105440" cy="2808360"/>
          </a:xfrm>
          <a:prstGeom prst="rect">
            <a:avLst/>
          </a:prstGeom>
          <a:ln w="9360">
            <a:solidFill>
              <a:srgbClr val="d6e0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2160360" cy="3743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2160720" cy="3744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95880" y="2133720"/>
            <a:ext cx="223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5:40:51Z</dcterms:created>
  <dc:creator>User</dc:creator>
  <dc:description/>
  <dc:language>en-US</dc:language>
  <cp:lastModifiedBy>User</cp:lastModifiedBy>
  <dcterms:modified xsi:type="dcterms:W3CDTF">2010-04-21T16:07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