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4DB-6864-44C4-A3A3-A75E39A6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B12-EFEE-40F0-AB3F-BC89F1E8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799-3E7C-41F4-967B-F5010545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4CF-417C-45F0-949F-3FD244F2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23B9-3AA7-4947-BA02-220ED9B1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47B4-06A7-4E46-BB07-64DC6A20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550F-FC62-42DA-8954-C9F4CEDB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A04-89E1-4A54-8051-FC5B2CD5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17A0-EBF5-4B49-887E-1EC764E7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D848-3597-4D72-9859-6CF6F6B4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38F7-E6DB-42C1-8D20-2394EA38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E89-7B13-4D0B-B8AB-F7BF575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AD34-1CC5-41F2-9D10-200D66BD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0E4C-F526-4C0D-A5A1-4E222CB7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553E-25FA-47A0-9087-C0188914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CC0C-3972-4B25-A8D1-269152CA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41F4-279B-4626-BDAC-F3C5631A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726-2712-4804-A0B9-99B213D6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EF0-3D60-445A-9B3B-FCAFCC56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12C-E12E-40AE-AF03-9ACE7B12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AD6-ED2A-427D-9CF4-28BBDDB3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6E8-94D7-4F4E-A829-BFE3A59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AFF-FBA9-4F0C-8029-E5703E2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C30-3370-4127-9EBA-DBD0646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662-A54E-4A62-BDDF-BEA5C94E7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CD81-D7E9-47D0-966E-AB05F6424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ibvernisage.ru/imag/products/doll/391/big/b_qo01010401.0.jpg&amp;imgrefurl=http://agusha.org/forum/index.php%3Fshowtopic%3D141&amp;usg=__ABjpfh7sST1p6qfgd75C0hKmegM=&amp;h=450&amp;w=603&amp;sz=66&amp;hl=ru&amp;start=2&amp;tbnid=mgXD1QIsjYrXdM:&amp;tbnh=101&amp;tbnw=135&amp;prev=/images%3Fq%3D%25D0%25BD%25D0%25B5%25D0%25B2%25D0%25B5%25D1%2581%25D1%2582%25D0%25B0%2B%25D1%2581%2B%25D0%25B6%25D0%25B5%25D0%25BD%25D0%25B8%25D1%2585%25D0%25BE%25D0%25BC%2B%25D1%2580%25D1%2583%25D1%2581%25D1%2581%25D0%25BA%25D0%25B8%25D0%25B5%2B%25D0%25BD%25D0%25B0%25D1%2580%25D0%25BE%25D0%25B4%25D0%25BD%25D1%258B%25D0%25B5%2B%25D0%25BA%25D1%2583%25D0%25BA%25D0%25BB%25D1%258B%26hl%3Dru%26newwindow%3D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19280" y="907920"/>
            <a:ext cx="7704000" cy="568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усская народная кук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119400" y="1989000"/>
            <a:ext cx="2905200" cy="445608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e0e0"/>
                </a:solidFill>
                <a:latin typeface="Arial Black"/>
              </a:rPr>
              <a:t>     </a:t>
            </a:r>
            <a:r>
              <a:rPr b="0" lang="ru-RU" sz="3300" spc="-1" strike="noStrike">
                <a:solidFill>
                  <a:srgbClr val="d6e0e0"/>
                </a:solidFill>
                <a:latin typeface="Arial Black"/>
              </a:rPr>
              <a:t>РУССКАЯ ИЗБ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302904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429000" cy="257184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34120" y="228600"/>
            <a:ext cx="2571480" cy="342900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00"/>
                </a:solidFill>
                <a:latin typeface="Arial Black"/>
              </a:rPr>
              <a:t>                   </a:t>
            </a:r>
            <a:r>
              <a:rPr b="0" lang="ru-RU" sz="2100" spc="-1" strike="noStrike">
                <a:solidFill>
                  <a:srgbClr val="990000"/>
                </a:solidFill>
                <a:latin typeface="Arial Black"/>
              </a:rPr>
              <a:t>Почему у народной куклы нет лица?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724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e0e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d6e0e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диционная тряпичная кукла безлика. Лицо, как правило, не обозначалось, оставалось белым. Кукла без лица считалась предметом неодушевленным, недоступным для вселения в него злых, недобрых сил, а значит, и безвредным для ребенка. Она должна была принести ему благополучие, здоровье, радость. Это было чудо: из нескольких тряпочек, без рук, без ног, без обозначенного лица передавался характер куклы. Кукла была многолика, она могла смеяться и плак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3095640" cy="413676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55432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Пеленашка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древнейшая кукла-оберег. Пеленашка находилась в люльке до крещения ребёнка (При крещении младенец приобретал статус человека). Эту куклу хранили в семье вместе с крестильной рубашкой. Кукла была легка в изготовлении, для неё использовались куски ношеной, чаще домотканой одежды. Спеленутая кукла могла быть использована детьми в играх.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292880" y="3429000"/>
            <a:ext cx="1543320" cy="324000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940360" y="189000"/>
            <a:ext cx="2316240" cy="309564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e0e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d6e0e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Кукла - бессонн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до рождения ребёнка делали куколку и укладывали в колыбельку, чтобы кукла "обогрела" её для будущего малыша. Когда малыш появлялся на свет, кукла и тогда не расставалась с ним. Чтобы малыш крепко и спокойно спал, приговаривала мать: "Сонница- бессонница, не играй с моим дитятком, а играй с этой куколкой". Кукла отвлекала на себя злые духи, оберегая ребёноч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27640" y="4581360"/>
            <a:ext cx="916200" cy="198936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56000" y="4581360"/>
            <a:ext cx="2736720" cy="204948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ЖЕНИХ И НЕВЕСТ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755720"/>
            <a:ext cx="57150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5076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990000"/>
                </a:solidFill>
                <a:latin typeface="Arial"/>
              </a:rPr>
              <a:t>Зернушка</a:t>
            </a:r>
            <a:r>
              <a:rPr b="1" i="1" lang="ru-RU" sz="2200" spc="-1" strike="noStrike">
                <a:solidFill>
                  <a:srgbClr val="d6e0e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d6e0e0"/>
                </a:solidFill>
                <a:latin typeface="Arial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укла, которая символизировала достаток в доме, была своего рода оберегом семьи. Иногда ее называли </a:t>
            </a:r>
            <a:r>
              <a:rPr b="0" lang="en" sz="2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зерновка</a:t>
            </a:r>
            <a:r>
              <a:rPr b="0" lang="en" sz="22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" sz="2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крупеничка</a:t>
            </a:r>
            <a:r>
              <a:rPr b="0" lang="en" sz="22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Делали эту куклу после сбора урожая. В основе этой куклы- мешочек, наполненный зерном. Также эту куклу могла делать женщина, чтобы у неё были дети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Э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укла символизировала достаток, благополучие в семье.  Бытовала в районах, где выращивали злаковые культу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4437000"/>
            <a:ext cx="1708200" cy="216072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105440" cy="280836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160360" cy="374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160720" cy="374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95880" y="213372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40:51Z</dcterms:created>
  <dc:creator>User</dc:creator>
  <dc:description/>
  <dc:language>en-US</dc:language>
  <cp:lastModifiedBy>User</cp:lastModifiedBy>
  <dcterms:modified xsi:type="dcterms:W3CDTF">2010-04-21T16:07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