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171-9EB2-4BDE-A4FB-34EB0A5E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72D-FBF9-42D2-BA00-5CC8ED1E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66B-C53A-4E7A-BF04-2A0EA88E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58C-57DA-4CAA-8588-4D67B80C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9733-FCC5-4F75-8F7A-835B247F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D5F3-D795-47E0-860B-248EBF80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5C6A-2E0B-498A-93F0-BDFA158C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2128-49A9-42B7-BA22-DE9E1DA8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B837-8AE0-4D2F-9E6A-C4CD8F8C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9AFC-AC61-4416-B6B3-BAFC8202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8679-073F-4EC3-9489-B10874D1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5C3-8678-4921-A1B3-D1D36A95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FF0D-A67A-482C-8519-736648D2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CD43-3D70-456D-BC96-4081B521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6EA1-489D-444A-9A93-8B7EA4DA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2AE2-419D-4A08-BDE5-2F561224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C6DE-3CBB-4986-9818-67FCE2EA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A34-10BF-4016-8634-4382DD08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E25-6520-4F61-9D58-4A281FB1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073-076E-42FE-A5DF-825C8EA8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24F-19BE-48E8-9765-94588F2E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FF2-39D8-4004-9E02-633FB0F4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A82-E140-4395-B5B6-A7290782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1C8F-403C-4FD1-811D-D9A63CF9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FBD7-A392-4E54-92E8-A3A966DC61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212C-DDB0-4B69-939A-60050B20C9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87280" y="0"/>
            <a:ext cx="7488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з истории создания куко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345780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временная кукла Барб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59280" y="1988640"/>
            <a:ext cx="38116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кла Барби родилась в 1959 г. Рост её был 29 см, вес 135 г. На головке красовался « лошадиный хвост», глазки были подведены, а ногти покрыты красным лаком. В 1964 г. у Барби стали сгибаться колени, в 1967 г. – руки, затем туловище в талии. Сегодняшняя Барби сильно отличается от самой пер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2879640" cy="42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55640" y="1844640"/>
            <a:ext cx="8137440" cy="4392720"/>
          </a:xfrm>
          <a:prstGeom prst="rect">
            <a:avLst/>
          </a:prstGeom>
          <a:solidFill>
            <a:srgbClr val="ffffe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кла – это детская игрушка в ви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гурк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И. Оже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-японски кукла – НИНГ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переводится как «образ челове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330033"/>
                </a:solidFill>
                <a:latin typeface="Times New Roman"/>
              </a:rPr>
              <a:t>Когда появилась кукла?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2920" y="2276640"/>
            <a:ext cx="3922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клы появились задолго до письменности и живопи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а тряпичная кукла неплохо сохранилась, если учесть, что ей больше 2000 лет. Её маленькая хозяйка жила в Древнем Риме за 300 лет до н. 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76160" y="1700280"/>
            <a:ext cx="307512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Какими были куклы фараонов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36165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мым старым египетским куклам около 4 тысяч лет. Их вырезали из тонких дощечек, украшали геометрическими узорами, а головы – шариками из деревянных или глиняных бус. Многие из них не имели ног : в ту пору люди боялись, что игрушка оживет и убежит от умершего хозя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378240" cy="482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330033"/>
                </a:solidFill>
                <a:latin typeface="Times New Roman"/>
              </a:rPr>
              <a:t>Африканские куклы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03640" y="1844280"/>
            <a:ext cx="38116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дном африканском племени мастерили кукол из священного дерева мбуру и дарили их детям на третьем году жизни. Для мальчиков кукла была без украшений, только копьё в руках, чтобы её обладатель вырос отважным воином и охотни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клы для девочек были сложнее. Каждая их деталь имела свой символический смы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366696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4772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толица кукольного цар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3659400" cy="2303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867280" y="1700280"/>
            <a:ext cx="1687680" cy="1871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47640" y="4076640"/>
            <a:ext cx="6696360" cy="2592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е куклы, изготовленные мастер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вились в подмосковном Сергиевом Посаде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Жил тогда великий русский подвижник Сергий Радонеж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монашеском уединении он вырезал из дерева игр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одаривал ими детишек, которых приводили с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гомольцы. Ни один богомолец не возвращался из этих м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з игрушек. И расходились по свету деревянные фигур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званные Троицк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усские куклы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ХІХ ве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2685960" cy="4868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1357560" cy="489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948360" y="1700280"/>
            <a:ext cx="143064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Кто родственник русской матрешки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4653000"/>
            <a:ext cx="7272360" cy="2016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решка – символ России. Своим происхождением 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на старому японскому мудрецу. Был он вырезан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а и содержал в себе целое семейство. Изображал 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жество счастья и долголетия. Эту японскую игруш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идел русский художник С.В. Малютин, он набросал рус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 фигурки. Токарь В.П. Звездочкин выточил для неё фор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Малютин сам расписал её. Настоящая Матре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ервые фарфоровые кукл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59280" y="1844280"/>
            <a:ext cx="38116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709 г. Тюрингии открылась фабрика по производству фарфоровых кукол. Одна из самых красивых кукол создана по портрету жены Наполеон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ІІ красавицы Евгении Богарне. Куклы –дети , сделанные из белоснежного фарфора, выглядели как сладкие конфе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2941560" cy="481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9:17:59Z</dcterms:created>
  <dc:creator>www</dc:creator>
  <dc:description/>
  <dc:language>en-US</dc:language>
  <cp:lastModifiedBy>надежда</cp:lastModifiedBy>
  <dcterms:modified xsi:type="dcterms:W3CDTF">2009-08-14T17:27:42Z</dcterms:modified>
  <cp:revision>7</cp:revision>
  <dc:subject/>
  <dc:title>Слайд 1</dc:title>
</cp:coreProperties>
</file>