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741A-7B5F-4F50-8182-56D0DF90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9CF9-EED5-4CB7-A9F7-D4C4ACBC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FC65-3637-4A24-965A-1C361D13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104-E801-4E28-9B9A-643DDA0C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AC70-E1D4-4E02-B5B7-A4A62E93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C0F6-6883-4524-B47C-2074F4E1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3307-BBAB-4846-B11D-DCEDBC4D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714A-E856-4FDF-A28A-B36330A9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FF39-83F2-4B0F-8DA5-EEBCE350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248D-94BC-4F50-BA8B-8350D8A5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CE20-4B13-46E7-8304-F0C77A62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31E7-7105-458F-B3B6-04CF9C19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579D-0F1B-4373-976E-37F50DD1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4604-FDF0-4559-B9D6-7EA586FC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CB4B-C70B-421C-84BC-3E9EBE5B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6FB8-C5AF-4EAB-B31D-7947EDBD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0475-E592-46BA-B9F6-9A53CE24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3C78-EF19-44BB-9F15-E553645E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127C-A752-48CE-B03E-C851C87E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C4B8-57D2-4246-BDF1-2C5AD98B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F17C-B3BB-414E-9FA6-93EFE481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EC47-4AAA-41BF-8665-B27EAB19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68D4-CFB8-4D00-893E-C10F78C9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BB63-D789-4390-A626-63295F8A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7D12-A0E1-4985-8A59-34E50327ED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498A-C6E0-4D29-B41E-50DA39AF59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187280" y="0"/>
            <a:ext cx="7488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з истории создания куко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132000" y="1844640"/>
            <a:ext cx="345780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овременная кукла Барб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859280" y="1988640"/>
            <a:ext cx="38116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кла Барби родилась в 1959 г. Рост её был 29 см, вес 135 г. На головке красовался « лошадиный хвост», глазки были подведены, а ногти покрыты красным лаком. В 1964 г. у Барби стали сгибаться колени, в 1967 г. – руки, затем туловище в талии. Сегодняшняя Барби сильно отличается от самой пер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2879640" cy="42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55640" y="1844640"/>
            <a:ext cx="8137440" cy="4392720"/>
          </a:xfrm>
          <a:prstGeom prst="rect">
            <a:avLst/>
          </a:prstGeom>
          <a:solidFill>
            <a:srgbClr val="ffffe1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кла – это детская игрушка в ви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игурк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.И. Оже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-японски кукла – НИНГ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переводится как «образ челове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330033"/>
                </a:solidFill>
                <a:latin typeface="Times New Roman"/>
              </a:rPr>
              <a:t>Когда появилась кукла?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2920" y="2276640"/>
            <a:ext cx="3922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уклы появились задолго до письменности и живопи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а тряпичная кукла неплохо сохранилась, если учесть, что ей больше 2000 лет. Её маленькая хозяйка жила в Древнем Риме за 300 лет до н. 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76160" y="1700280"/>
            <a:ext cx="3075120" cy="49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Какими были куклы фараонов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36165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мым старым египетским куклам около 4 тысяч лет. Их вырезали из тонких дощечек, украшали геометрическими узорами, а головы – шариками из деревянных или глиняных бус. Многие из них не имели ног : в ту пору люди боялись, что игрушка оживет и убежит от умершего хозяи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378240" cy="482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330033"/>
                </a:solidFill>
                <a:latin typeface="Times New Roman"/>
              </a:rPr>
              <a:t>Африканские куклы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03640" y="1844280"/>
            <a:ext cx="38116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дном африканском племени мастерили кукол из священного дерева мбуру и дарили их детям на третьем году жизни. Для мальчиков кукла была без украшений, только копьё в руках, чтобы её обладатель вырос отважным воином и охотни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клы для девочек были сложнее. Каждая их деталь имела свой символический смыс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3666960" cy="44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4772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толица кукольного цар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3659400" cy="2303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867280" y="1700280"/>
            <a:ext cx="1687680" cy="1871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47640" y="4076640"/>
            <a:ext cx="6696360" cy="2592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е куклы, изготовленные мастер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явились в подмосковном Сергиевом Посаде 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Жил тогда великий русский подвижник Сергий Радонеж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монашеском уединении он вырезал из дерева игр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одаривал ими детишек, которых приводили с с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гомольцы. Ни один богомолец не возвращался из этих м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з игрушек. И расходились по свету деревянные фигур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званные Троицк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усские куклы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ХІХ ве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2685960" cy="4868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1357560" cy="489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948360" y="1700280"/>
            <a:ext cx="143064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Кто родственник русской матрешки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040360" cy="2879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16000" y="4653000"/>
            <a:ext cx="7272360" cy="2016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решка – символ России. Своим происхождением 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на старому японскому мудрецу. Был он вырезан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ева и содержал в себе целое семейство. Изображал 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жество счастья и долголетия. Эту японскую игруш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идел русский художник С.В. Малютин, он набросал рус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 фигурки. Токарь В.П. Звездочкин выточил для неё фор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Малютин сам расписал её. Настоящая Матре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ервые фарфоровые кукл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859280" y="1844280"/>
            <a:ext cx="38116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709 г. Тюрингии открылась фабрика по производству фарфоровых кукол. Одна из самых красивых кукол создана по портрету жены Наполеон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ІІІ красавицы Евгении Богарне. Куклы –дети , сделанные из белоснежного фарфора, выглядели как сладкие конфе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2941560" cy="481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9:17:59Z</dcterms:created>
  <dc:creator>www</dc:creator>
  <dc:description/>
  <dc:language>en-US</dc:language>
  <cp:lastModifiedBy>надежда</cp:lastModifiedBy>
  <dcterms:modified xsi:type="dcterms:W3CDTF">2009-08-14T17:27:42Z</dcterms:modified>
  <cp:revision>7</cp:revision>
  <dc:subject/>
  <dc:title>Слайд 1</dc:title>
</cp:coreProperties>
</file>