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3E3-C7BD-4740-9DE1-031665D8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1CE-FC94-4938-ACF4-85CB4B9E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F09-EA3C-438D-9AC4-3939AB6A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982-5F5D-4080-96CF-1CD9BEEE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EB7-6D4C-41C8-B22F-408D3C2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A3A-AE12-46C9-B2D5-A9F5A24C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140-553B-460A-9951-DF33A77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072-FC98-4C6B-9036-F7D78185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F82-51CE-4E7A-ACFB-F9409E9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A8E-1B98-4CA4-B14B-05B49DD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386-43C7-46EF-BDEF-8B6B6B6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78E-45D5-4A59-B435-49666CA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aa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045-7EBB-4D1F-93EA-0F5A5A28D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4429080" y="578628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 учитель 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Ртищ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ья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2714760" cy="675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643200" y="150012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ря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донце"/>
          <p:cNvPicPr/>
          <p:nvPr/>
        </p:nvPicPr>
        <p:blipFill>
          <a:blip r:embed="rId1"/>
          <a:stretch/>
        </p:blipFill>
        <p:spPr>
          <a:xfrm>
            <a:off x="392040" y="476280"/>
            <a:ext cx="3059280" cy="62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донце1"/>
          <p:cNvPicPr/>
          <p:nvPr/>
        </p:nvPicPr>
        <p:blipFill>
          <a:blip r:embed="rId2"/>
          <a:stretch/>
        </p:blipFill>
        <p:spPr>
          <a:xfrm>
            <a:off x="3652920" y="476280"/>
            <a:ext cx="5311800" cy="619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271240" y="3816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нце прял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 городецкой роспис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476280"/>
            <a:ext cx="3024360" cy="6192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635280" y="476280"/>
            <a:ext cx="5329440" cy="6192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D:\Работа\Уроки И.З.О\Планы конспекты\5 класс\Урок №4\План урока\Северодвинская росписная прялка.jpg"/>
          <p:cNvPicPr/>
          <p:nvPr/>
        </p:nvPicPr>
        <p:blipFill>
          <a:blip r:embed="rId1"/>
          <a:stretch/>
        </p:blipFill>
        <p:spPr>
          <a:xfrm>
            <a:off x="3071880" y="142920"/>
            <a:ext cx="3035160" cy="57117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60480" y="5718240"/>
            <a:ext cx="92786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rjalka153"/>
          <p:cNvPicPr/>
          <p:nvPr/>
        </p:nvPicPr>
        <p:blipFill>
          <a:blip r:embed="rId1"/>
          <a:stretch/>
        </p:blipFill>
        <p:spPr>
          <a:xfrm>
            <a:off x="468360" y="228600"/>
            <a:ext cx="476388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5655960" y="189000"/>
            <a:ext cx="2831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ЛОП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ОПА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ртикальная часть прял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которой привязыв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д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ermpryalka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618240" y="1628640"/>
            <a:ext cx="2130480" cy="4997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6588000" y="1628640"/>
            <a:ext cx="2160720" cy="496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#"/>
          <p:cNvPicPr/>
          <p:nvPr/>
        </p:nvPicPr>
        <p:blipFill>
          <a:blip r:embed="rId1"/>
          <a:stretch/>
        </p:blipFill>
        <p:spPr>
          <a:xfrm>
            <a:off x="0" y="0"/>
            <a:ext cx="54133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286680" y="2786040"/>
            <a:ext cx="19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резные пря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теремк2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330120"/>
            <a:ext cx="1428840" cy="626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теремков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635280" y="341280"/>
            <a:ext cx="1657440" cy="625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теремковая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6073920" y="333360"/>
            <a:ext cx="1377720" cy="6264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350880" y="-237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емковые пря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rjalka40"/>
          <p:cNvPicPr/>
          <p:nvPr/>
        </p:nvPicPr>
        <p:blipFill>
          <a:blip r:embed="rId1"/>
          <a:stretch/>
        </p:blipFill>
        <p:spPr>
          <a:xfrm>
            <a:off x="928800" y="260280"/>
            <a:ext cx="3317760" cy="639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prjalka41"/>
          <p:cNvPicPr/>
          <p:nvPr/>
        </p:nvPicPr>
        <p:blipFill>
          <a:blip r:embed="rId2"/>
          <a:stretch/>
        </p:blipFill>
        <p:spPr>
          <a:xfrm>
            <a:off x="5291280" y="260280"/>
            <a:ext cx="3168360" cy="633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900000" y="260280"/>
            <a:ext cx="3311640" cy="64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292720" y="260280"/>
            <a:ext cx="3166920" cy="6337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rjalka2"/>
          <p:cNvPicPr/>
          <p:nvPr/>
        </p:nvPicPr>
        <p:blipFill>
          <a:blip r:embed="rId1">
            <a:grayscl/>
            <a:lum contrast="36000"/>
          </a:blip>
          <a:stretch/>
        </p:blipFill>
        <p:spPr>
          <a:xfrm>
            <a:off x="2717640" y="620640"/>
            <a:ext cx="3438720" cy="5616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258920" y="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прялка по тип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готовления изображе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рисун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700360" y="620640"/>
            <a:ext cx="3456000" cy="561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710560" cy="5429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071720" y="28584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ы орн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1432080" y="189000"/>
            <a:ext cx="6383160" cy="227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15#"/>
          <p:cNvPicPr/>
          <p:nvPr/>
        </p:nvPicPr>
        <p:blipFill>
          <a:blip r:embed="rId2"/>
          <a:stretch/>
        </p:blipFill>
        <p:spPr>
          <a:xfrm>
            <a:off x="0" y="2286000"/>
            <a:ext cx="3098880" cy="45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15#"/>
          <p:cNvPicPr/>
          <p:nvPr/>
        </p:nvPicPr>
        <p:blipFill>
          <a:blip r:embed="rId3"/>
          <a:stretch/>
        </p:blipFill>
        <p:spPr>
          <a:xfrm>
            <a:off x="5643720" y="2195640"/>
            <a:ext cx="3159000" cy="466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Perm22a"/>
          <p:cNvPicPr/>
          <p:nvPr/>
        </p:nvPicPr>
        <p:blipFill>
          <a:blip r:embed="rId4"/>
          <a:stretch/>
        </p:blipFill>
        <p:spPr>
          <a:xfrm>
            <a:off x="6357960" y="3357720"/>
            <a:ext cx="174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prjalka41"/>
          <p:cNvPicPr/>
          <p:nvPr/>
        </p:nvPicPr>
        <p:blipFill>
          <a:blip r:embed="rId5"/>
          <a:srcRect l="6614" t="26331" r="5464" b="22950"/>
          <a:stretch/>
        </p:blipFill>
        <p:spPr>
          <a:xfrm>
            <a:off x="142920" y="2928960"/>
            <a:ext cx="2786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676520" y="3049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ритерии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8686800" cy="2163600"/>
        </p:xfrm>
        <a:graphic>
          <a:graphicData uri="http://schemas.openxmlformats.org/drawingml/2006/table">
            <a:tbl>
              <a:tblPr/>
              <a:tblGrid>
                <a:gridCol w="2590920"/>
                <a:gridCol w="1752480"/>
                <a:gridCol w="1828800"/>
                <a:gridCol w="2514600"/>
              </a:tblGrid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ая г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44960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214960" y="571680"/>
            <a:ext cx="3643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изенькой светё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нёк гор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ая пря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окном си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а, крас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ие гл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лечам раз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я к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я голов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мы без конц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о чём взгрусну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ца – кра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000C0A84C2B_93.186.236.92_192.168.76.43_00004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м работалось в нашей мастерс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, что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Untitled - 20"/>
          <p:cNvPicPr/>
          <p:nvPr/>
        </p:nvPicPr>
        <p:blipFill>
          <a:blip r:embed="rId1"/>
          <a:stretch/>
        </p:blipFill>
        <p:spPr>
          <a:xfrm>
            <a:off x="0" y="428760"/>
            <a:ext cx="4459320" cy="612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6" descr="image001"/>
          <p:cNvPicPr/>
          <p:nvPr/>
        </p:nvPicPr>
        <p:blipFill>
          <a:blip r:embed="rId2"/>
          <a:srcRect l="0" t="0" r="-986" b="44910"/>
          <a:stretch/>
        </p:blipFill>
        <p:spPr>
          <a:xfrm>
            <a:off x="4460760" y="0"/>
            <a:ext cx="4683240" cy="464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школа\анимашки\аним\27.gif"/>
          <p:cNvPicPr/>
          <p:nvPr/>
        </p:nvPicPr>
        <p:blipFill>
          <a:blip r:embed="rId3"/>
          <a:stretch/>
        </p:blipFill>
        <p:spPr>
          <a:xfrm>
            <a:off x="6215040" y="2071800"/>
            <a:ext cx="10000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dom07a"/>
          <p:cNvPicPr/>
          <p:nvPr/>
        </p:nvPicPr>
        <p:blipFill>
          <a:blip r:embed="rId1"/>
          <a:stretch/>
        </p:blipFill>
        <p:spPr>
          <a:xfrm>
            <a:off x="255600" y="189000"/>
            <a:ext cx="4892760" cy="648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13920" y="614988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ебневая составная пря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донцем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ородецкая росп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донце2#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156360" y="189000"/>
            <a:ext cx="2440080" cy="640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118160" y="100476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еб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27560" y="13968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85800" y="47480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50920" y="189000"/>
            <a:ext cx="4897440" cy="648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56360" y="189000"/>
            <a:ext cx="2448000" cy="64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786200" y="571680"/>
            <a:ext cx="4214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лка- орудие для ручного прядения – состояла из вертикального стояка с лопаской, к которой привязывалась кудель для прядения, и донца – горизонтального сиденья для пря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prjalka"/>
          <p:cNvPicPr/>
          <p:nvPr/>
        </p:nvPicPr>
        <p:blipFill>
          <a:blip r:embed="rId1"/>
          <a:srcRect l="0" t="0" r="-834" b="56442"/>
          <a:stretch/>
        </p:blipFill>
        <p:spPr>
          <a:xfrm>
            <a:off x="0" y="928800"/>
            <a:ext cx="4888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rjalka"/>
          <p:cNvPicPr/>
          <p:nvPr/>
        </p:nvPicPr>
        <p:blipFill>
          <a:blip r:embed="rId1"/>
          <a:stretch/>
        </p:blipFill>
        <p:spPr>
          <a:xfrm>
            <a:off x="250920" y="100080"/>
            <a:ext cx="3009960" cy="6657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072600" y="115920"/>
            <a:ext cx="5352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ы прялок по способу из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не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Рисунок2"/>
          <p:cNvPicPr/>
          <p:nvPr/>
        </p:nvPicPr>
        <p:blipFill>
          <a:blip r:embed="rId2"/>
          <a:stretch/>
        </p:blipFill>
        <p:spPr>
          <a:xfrm>
            <a:off x="6808680" y="1484280"/>
            <a:ext cx="2084400" cy="518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Рисунок3"/>
          <p:cNvPicPr/>
          <p:nvPr/>
        </p:nvPicPr>
        <p:blipFill>
          <a:blip r:embed="rId3"/>
          <a:stretch/>
        </p:blipFill>
        <p:spPr>
          <a:xfrm>
            <a:off x="4932360" y="1469880"/>
            <a:ext cx="1376280" cy="5272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4932360" y="1484280"/>
            <a:ext cx="1368360" cy="518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ryalka"/>
          <p:cNvPicPr/>
          <p:nvPr/>
        </p:nvPicPr>
        <p:blipFill>
          <a:blip r:embed="rId1"/>
          <a:stretch/>
        </p:blipFill>
        <p:spPr>
          <a:xfrm>
            <a:off x="1332000" y="115920"/>
            <a:ext cx="4211640" cy="6669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492360" y="3645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п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564000" y="4653000"/>
            <a:ext cx="1295280" cy="431640"/>
          </a:xfrm>
          <a:prstGeom prst="rect">
            <a:avLst/>
          </a:prstGeom>
          <a:solidFill>
            <a:srgbClr val="deaa70"/>
          </a:solidFill>
          <a:ln w="9360">
            <a:solidFill>
              <a:srgbClr val="dea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40000" y="5157720"/>
            <a:ext cx="1368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рет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427640" y="6021360"/>
            <a:ext cx="129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л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348000" y="6381720"/>
            <a:ext cx="1079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98520" y="1268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ор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53440" y="227664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Лоп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лоп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972720" y="46022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16320" y="3716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ер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9800" y="5683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Д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57880" y="357120"/>
            <a:ext cx="346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элементы пря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85840" y="428760"/>
            <a:ext cx="5643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лка была не только орудием труда, но и произведением искусств. Чтобы скрасть тяжёлый труд, её украшали резьбой и росписью. Часто прялка была подарком. Подарок каждый хотел сделать на радость и на удивление. Прялка передавалась по наследству от матери к дочери, от бабушки к внучки. Сейчас многие из прялок хранятся  в музеях наше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прялкой обычно трудились два мастера: один вырезал её из дерева, другой украшал роспис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пермогорская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58080" y="189000"/>
            <a:ext cx="2820960" cy="6259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6503040" y="6357960"/>
            <a:ext cx="22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могорская пря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_dom07a"/>
          <p:cNvPicPr/>
          <p:nvPr/>
        </p:nvPicPr>
        <p:blipFill>
          <a:blip r:embed="rId1"/>
          <a:stretch/>
        </p:blipFill>
        <p:spPr>
          <a:xfrm>
            <a:off x="255600" y="189000"/>
            <a:ext cx="489276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13920" y="614988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ебневая составная пря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донцем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ородецкая росп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донце2#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156360" y="189000"/>
            <a:ext cx="2440080" cy="6408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118160" y="100476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еб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127560" y="13968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485800" y="47480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50920" y="189000"/>
            <a:ext cx="4897440" cy="648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156360" y="189000"/>
            <a:ext cx="2448000" cy="64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9:48:11Z</dcterms:created>
  <dc:creator>Балушкин А.И.</dc:creator>
  <dc:description/>
  <dc:language>en-US</dc:language>
  <cp:lastModifiedBy>Андрей</cp:lastModifiedBy>
  <dcterms:modified xsi:type="dcterms:W3CDTF">2015-10-08T17:32:09Z</dcterms:modified>
  <cp:revision>18</cp:revision>
  <dc:subject/>
  <dc:title>Слайд 1</dc:title>
</cp:coreProperties>
</file>