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49C2-D0F0-4F7E-B621-0534F263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E33C-D132-4B4B-BCB9-309BEEF2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C3E3-1B20-4195-AA00-60317ADA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D02A-9786-4FE3-A857-6292AD40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4ADA-A3B2-4BCA-83A7-B5A58D9E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1EF7-BDED-46C9-A856-2B474EAE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2336-5B20-4EDD-914A-4679FC16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09AB-E006-425D-B5D9-E02F8748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C377-9DD6-490B-B8B1-398B420B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11C9-B9E1-495F-A3D7-8B3DA9F7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9A9C-AEE2-44FD-BDE7-1932AD10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1725-5DDA-42ED-BB1C-7F0AB935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73EE-A925-4C4A-8447-08BE8D5D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DA47-EF87-494B-BE78-844F5948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12C5-6E91-4A05-B232-C2DA47FF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5090-87F5-4114-AA8E-FB29A428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414C-278A-4287-A622-1E89DD5A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3722-03F4-46AF-B97C-9B4E4330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0067-AE94-4992-B143-651F1270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4F9A-EF2B-41ED-A4B5-44671A47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E0D7-9B55-45DC-8BE4-3CFFB247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DBB5-6CAF-402C-AE79-44ABE789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FF0B-31F1-4423-B9E9-A38C9E64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12DA-CACB-4914-A41D-6ECB07EB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6C78-AF73-4567-A5B6-913FD8483A6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B1FD-6585-4284-B42A-AF9EDF491B5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8134200" cy="26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ahoma"/>
              </a:rPr>
              <a:t>Как развивать речь ребёнка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5" descr="http://im6-tub-ru.yandex.net/i?id=197232271-71-72&amp;n=21"/>
          <p:cNvPicPr/>
          <p:nvPr/>
        </p:nvPicPr>
        <p:blipFill>
          <a:blip r:embed="rId1"/>
          <a:stretch/>
        </p:blipFill>
        <p:spPr>
          <a:xfrm>
            <a:off x="7115040" y="5214960"/>
            <a:ext cx="2028960" cy="1428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http://im5-tub-ru.yandex.net/i?id=489445054-68-72&amp;n=21"/>
          <p:cNvPicPr/>
          <p:nvPr/>
        </p:nvPicPr>
        <p:blipFill>
          <a:blip r:embed="rId2"/>
          <a:stretch/>
        </p:blipFill>
        <p:spPr>
          <a:xfrm>
            <a:off x="0" y="3643200"/>
            <a:ext cx="1419120" cy="142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http://im2-tub-ru.yandex.net/i?id=392244881-31-72&amp;n=21"/>
          <p:cNvPicPr/>
          <p:nvPr/>
        </p:nvPicPr>
        <p:blipFill>
          <a:blip r:embed="rId3"/>
          <a:stretch/>
        </p:blipFill>
        <p:spPr>
          <a:xfrm rot="21037200">
            <a:off x="7714800" y="3500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http://im2-tub-ru.yandex.net/i?id=123858820-28-72&amp;n=21"/>
          <p:cNvPicPr/>
          <p:nvPr/>
        </p:nvPicPr>
        <p:blipFill>
          <a:blip r:embed="rId4"/>
          <a:stretch/>
        </p:blipFill>
        <p:spPr>
          <a:xfrm rot="20969400">
            <a:off x="2499840" y="42858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http://im0-tub-ru.yandex.net/i?id=173987318-28-72&amp;n=21"/>
          <p:cNvPicPr/>
          <p:nvPr/>
        </p:nvPicPr>
        <p:blipFill>
          <a:blip r:embed="rId5"/>
          <a:stretch/>
        </p:blipFill>
        <p:spPr>
          <a:xfrm>
            <a:off x="428760" y="5286240"/>
            <a:ext cx="215244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http://im2-tub-ru.yandex.net/i?id=466204864-30-72&amp;n=21"/>
          <p:cNvPicPr/>
          <p:nvPr/>
        </p:nvPicPr>
        <p:blipFill>
          <a:blip r:embed="rId6"/>
          <a:stretch/>
        </p:blipFill>
        <p:spPr>
          <a:xfrm rot="632400">
            <a:off x="6130440" y="341604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http://im0-tub-ru.yandex.net/i?id=269989659-26-72&amp;n=21"/>
          <p:cNvPicPr/>
          <p:nvPr/>
        </p:nvPicPr>
        <p:blipFill>
          <a:blip r:embed="rId7"/>
          <a:stretch/>
        </p:blipFill>
        <p:spPr>
          <a:xfrm>
            <a:off x="3859200" y="4211640"/>
            <a:ext cx="26384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WordArt 9"/>
          <p:cNvSpPr txBox="1"/>
          <p:nvPr/>
        </p:nvSpPr>
        <p:spPr>
          <a:xfrm>
            <a:off x="571680" y="2357280"/>
            <a:ext cx="792936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70b8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70b8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ahoma"/>
              </a:rPr>
              <a:t>Уважаемые родители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вое слово - самый первый ш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бёнка на пути овладения великим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гучим родным языком. Теп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стоит самое слож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крепить интере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лыша к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4" descr=""/>
          <p:cNvPicPr/>
          <p:nvPr/>
        </p:nvPicPr>
        <p:blipFill>
          <a:blip r:embed="rId1"/>
          <a:stretch/>
        </p:blipFill>
        <p:spPr>
          <a:xfrm>
            <a:off x="5635800" y="3314880"/>
            <a:ext cx="35082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Правила для усвоения и </a:t>
            </a:r>
            <a:r>
              <a:rPr b="0" i="1" lang="ru-RU" sz="3800" spc="-1" strike="noStrike" u="sng">
                <a:solidFill>
                  <a:srgbClr val="ffffff"/>
                </a:solidFill>
                <a:uFillTx/>
                <a:latin typeface="Tahoma"/>
              </a:rPr>
              <a:t>закрепления речи дошкольника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Tahoma"/>
                <a:hlinkClick r:id="rId1" action="ppaction://hlinksldjump"/>
              </a:rPr>
              <a:t>Правило пер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Tahoma"/>
                <a:hlinkClick r:id="rId2" action="ppaction://hlinksldjump"/>
              </a:rPr>
              <a:t>Правило втор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Tahoma"/>
                <a:hlinkClick r:id="rId3" action="ppaction://hlinksldjump"/>
              </a:rPr>
              <a:t>Правило тре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Tahoma"/>
                <a:hlinkClick r:id="rId4" action="ppaction://hlinksldjump"/>
              </a:rPr>
              <a:t>Правило четверт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Tahoma"/>
                <a:hlinkClick r:id="rId5" action="ppaction://hlinksldjump"/>
              </a:rPr>
              <a:t>Правило пят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Tahoma"/>
                <a:hlinkClick r:id="rId6" action="ppaction://hlinksldjump"/>
              </a:rPr>
              <a:t>Правило шест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7"/>
          <a:stretch/>
        </p:blipFill>
        <p:spPr>
          <a:xfrm>
            <a:off x="5286240" y="3143160"/>
            <a:ext cx="397836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Не угадывайте мысли ребёнка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давайте ему вопросы и ждите ответов, даже если Вы и знаете буквально, что ответит Вам ваше чадо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>
            <a:hlinkClick r:id="rId1" action="ppaction://hlinksldjump"/>
          </p:cNvPr>
          <p:cNvSpPr/>
          <p:nvPr/>
        </p:nvSpPr>
        <p:spPr>
          <a:xfrm>
            <a:off x="8459640" y="6165720"/>
            <a:ext cx="540000" cy="540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C:\Users\TOSHIBA\AppData\Local\Microsoft\Windows\Temporary Internet Files\Content.IE5\J87HW4IU\MP900316850[1].jpg"/>
          <p:cNvPicPr/>
          <p:nvPr/>
        </p:nvPicPr>
        <p:blipFill>
          <a:blip r:embed="rId2"/>
          <a:stretch/>
        </p:blipFill>
        <p:spPr>
          <a:xfrm>
            <a:off x="712800" y="1427040"/>
            <a:ext cx="3127320" cy="47786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вило перво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71320" y="1428480"/>
            <a:ext cx="7962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Разговаривайте со своим ребёнком.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енно разговаривайте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С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бёнком, а не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ВОЗЛ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его, даже если он молчит. Стимулируйте ребёнка отвечать на вопросы, а не отвечайте на вопросы сами. А когда он ответит, задавайте вопросы ещё и ещё. Ребёнок в этом возрасте мыслит вслух. </a:t>
            </a:r>
            <a:br>
              <a:rPr sz="1800"/>
            </a:br>
            <a:br>
              <a:rPr sz="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>
            <a:hlinkClick r:id="rId1" action="ppaction://hlinksldjump"/>
          </p:cNvPr>
          <p:cNvSpPr/>
          <p:nvPr/>
        </p:nvSpPr>
        <p:spPr>
          <a:xfrm>
            <a:off x="8317080" y="616572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6920" y="7493"/>
                </a:moveTo>
                <a:lnTo>
                  <a:pt x="10428" y="7493"/>
                </a:lnTo>
                <a:lnTo>
                  <a:pt x="10428" y="12828"/>
                </a:lnTo>
                <a:cubicBezTo>
                  <a:pt x="10428" y="13751"/>
                  <a:pt x="11228" y="14482"/>
                  <a:pt x="12264" y="14482"/>
                </a:cubicBezTo>
                <a:lnTo>
                  <a:pt x="13927" y="14482"/>
                </a:lnTo>
                <a:cubicBezTo>
                  <a:pt x="14962" y="14482"/>
                  <a:pt x="15763" y="13751"/>
                  <a:pt x="15763" y="12828"/>
                </a:cubicBezTo>
                <a:lnTo>
                  <a:pt x="15763" y="7493"/>
                </a:lnTo>
                <a:lnTo>
                  <a:pt x="13927" y="7493"/>
                </a:lnTo>
                <a:lnTo>
                  <a:pt x="17434" y="3985"/>
                </a:lnTo>
                <a:lnTo>
                  <a:pt x="21107" y="7493"/>
                </a:lnTo>
                <a:lnTo>
                  <a:pt x="19271" y="7493"/>
                </a:lnTo>
                <a:lnTo>
                  <a:pt x="19271" y="12828"/>
                </a:lnTo>
                <a:cubicBezTo>
                  <a:pt x="19271" y="15596"/>
                  <a:pt x="16694" y="18155"/>
                  <a:pt x="13927" y="18155"/>
                </a:cubicBezTo>
                <a:lnTo>
                  <a:pt x="12264" y="18155"/>
                </a:lnTo>
                <a:cubicBezTo>
                  <a:pt x="9496" y="18155"/>
                  <a:pt x="6920" y="15596"/>
                  <a:pt x="6920" y="12828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вило второ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вило треть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Учите ребёнка говорить предложениями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начала любой малыш осваивает слова, затем словосочетания, фразы, а уж потом предложения. Помогите ему качественно пройти все эти три этапа усвоения речи. На прогулке, дома, в гостях, и везде. Указывая на предмет, узнайте у малыша, </a:t>
            </a:r>
            <a:r>
              <a:rPr b="1" lang="ru-RU" sz="2800" spc="-1" strike="noStrike">
                <a:solidFill>
                  <a:srgbClr val="7030a0"/>
                </a:solidFill>
                <a:latin typeface="Tahoma"/>
              </a:rPr>
              <a:t>ЧТО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о, затем </a:t>
            </a:r>
            <a:r>
              <a:rPr b="1" lang="ru-RU" sz="2800" spc="-1" strike="noStrike">
                <a:solidFill>
                  <a:srgbClr val="7030a0"/>
                </a:solidFill>
                <a:latin typeface="Tahoma"/>
              </a:rPr>
              <a:t>КАКО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это, а затем </a:t>
            </a:r>
            <a:r>
              <a:rPr b="1" lang="ru-RU" sz="2800" spc="-1" strike="noStrike">
                <a:solidFill>
                  <a:srgbClr val="7030a0"/>
                </a:solidFill>
                <a:latin typeface="Tahoma"/>
              </a:rPr>
              <a:t>ЗАЧЕ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это нужно. Повторите вслух всё, что сказал Ваш малыш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>
            <a:hlinkClick r:id="rId1" action="ppaction://hlinksldjump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7493"/>
                </a:moveTo>
                <a:lnTo>
                  <a:pt x="8409" y="7493"/>
                </a:lnTo>
                <a:lnTo>
                  <a:pt x="8409" y="12828"/>
                </a:lnTo>
                <a:cubicBezTo>
                  <a:pt x="8409" y="13751"/>
                  <a:pt x="9210" y="14482"/>
                  <a:pt x="10246" y="14482"/>
                </a:cubicBezTo>
                <a:lnTo>
                  <a:pt x="11908" y="14482"/>
                </a:lnTo>
                <a:cubicBezTo>
                  <a:pt x="12944" y="14482"/>
                  <a:pt x="13745" y="13751"/>
                  <a:pt x="13745" y="12828"/>
                </a:cubicBezTo>
                <a:lnTo>
                  <a:pt x="13745" y="7493"/>
                </a:lnTo>
                <a:lnTo>
                  <a:pt x="11908" y="7493"/>
                </a:lnTo>
                <a:lnTo>
                  <a:pt x="15416" y="3985"/>
                </a:lnTo>
                <a:lnTo>
                  <a:pt x="19089" y="7493"/>
                </a:lnTo>
                <a:lnTo>
                  <a:pt x="17252" y="7493"/>
                </a:lnTo>
                <a:lnTo>
                  <a:pt x="17252" y="12828"/>
                </a:lnTo>
                <a:cubicBezTo>
                  <a:pt x="17252" y="15596"/>
                  <a:pt x="14676" y="18155"/>
                  <a:pt x="11908" y="18155"/>
                </a:cubicBezTo>
                <a:lnTo>
                  <a:pt x="10246" y="18155"/>
                </a:lnTo>
                <a:cubicBezTo>
                  <a:pt x="7478" y="18155"/>
                  <a:pt x="4902" y="15596"/>
                  <a:pt x="4902" y="12828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вило четверто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Переживайте день ещё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ечером, перед сном, вспомните всё, что Вы с ребенком видели, слышали. Поговорите о том, чего бы хотел Ваш ребенок увидеть завтра. Стройте планы вместе на завтрашний день. Если Ваш ребёнок сегодня был не с Вами, узнайте у него, что было интересного, кого 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идел, что узнал нового и интересного, чем чем занимался в течение дня.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" descr="http://im2-tub.yandex.net/i?id=141530940-34-72"/>
          <p:cNvPicPr/>
          <p:nvPr/>
        </p:nvPicPr>
        <p:blipFill>
          <a:blip r:embed="rId1"/>
          <a:stretch/>
        </p:blipFill>
        <p:spPr>
          <a:xfrm>
            <a:off x="7572240" y="4438800"/>
            <a:ext cx="157176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6"/>
          <p:cNvSpPr/>
          <p:nvPr/>
        </p:nvSpPr>
        <p:spPr>
          <a:xfrm>
            <a:off x="7164360" y="638172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7493"/>
                </a:moveTo>
                <a:lnTo>
                  <a:pt x="11580" y="7493"/>
                </a:lnTo>
                <a:lnTo>
                  <a:pt x="11580" y="12828"/>
                </a:lnTo>
                <a:cubicBezTo>
                  <a:pt x="11580" y="13751"/>
                  <a:pt x="12381" y="14482"/>
                  <a:pt x="13417" y="14482"/>
                </a:cubicBezTo>
                <a:lnTo>
                  <a:pt x="15079" y="14482"/>
                </a:lnTo>
                <a:cubicBezTo>
                  <a:pt x="16115" y="14482"/>
                  <a:pt x="16916" y="13751"/>
                  <a:pt x="16916" y="12828"/>
                </a:cubicBezTo>
                <a:lnTo>
                  <a:pt x="16916" y="7493"/>
                </a:lnTo>
                <a:lnTo>
                  <a:pt x="15079" y="7493"/>
                </a:lnTo>
                <a:lnTo>
                  <a:pt x="18587" y="3985"/>
                </a:lnTo>
                <a:lnTo>
                  <a:pt x="22260" y="7493"/>
                </a:lnTo>
                <a:lnTo>
                  <a:pt x="20423" y="7493"/>
                </a:lnTo>
                <a:lnTo>
                  <a:pt x="20423" y="12828"/>
                </a:lnTo>
                <a:cubicBezTo>
                  <a:pt x="20423" y="15596"/>
                  <a:pt x="17847" y="18155"/>
                  <a:pt x="15079" y="18155"/>
                </a:cubicBezTo>
                <a:lnTo>
                  <a:pt x="13417" y="18155"/>
                </a:lnTo>
                <a:cubicBezTo>
                  <a:pt x="10649" y="18155"/>
                  <a:pt x="8073" y="15596"/>
                  <a:pt x="8073" y="12828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вило пято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Описывайте предметы сами, и просите описать предмет малы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ждый раз, когда Вы видите что-то яркое, обращайте внимание ребёнка на это и рассказывайте ребёнку об этом предмете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9" descr="kniga2.png"/>
          <p:cNvPicPr/>
          <p:nvPr/>
        </p:nvPicPr>
        <p:blipFill>
          <a:blip r:embed="rId1"/>
          <a:stretch/>
        </p:blipFill>
        <p:spPr>
          <a:xfrm>
            <a:off x="5276880" y="3714840"/>
            <a:ext cx="3898800" cy="314316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5"/>
          <p:cNvSpPr/>
          <p:nvPr/>
        </p:nvSpPr>
        <p:spPr>
          <a:xfrm>
            <a:off x="8388360" y="6453360"/>
            <a:ext cx="755640" cy="404640"/>
          </a:xfrm>
          <a:custGeom>
            <a:avLst/>
            <a:gdLst>
              <a:gd name="textAreaLeft" fmla="*/ 25920 w 755640"/>
              <a:gd name="textAreaRight" fmla="*/ 729720 w 755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0320" h="21600">
                <a:moveTo>
                  <a:pt x="0" y="0"/>
                </a:moveTo>
                <a:lnTo>
                  <a:pt x="40320" y="0"/>
                </a:lnTo>
                <a:lnTo>
                  <a:pt x="40320" y="21600"/>
                </a:lnTo>
                <a:lnTo>
                  <a:pt x="0" y="21600"/>
                </a:lnTo>
                <a:close/>
              </a:path>
              <a:path fill="lightenLess" w="40320" h="21600">
                <a:moveTo>
                  <a:pt x="0" y="0"/>
                </a:moveTo>
                <a:lnTo>
                  <a:pt x="40320" y="0"/>
                </a:lnTo>
                <a:lnTo>
                  <a:pt x="38920" y="1400"/>
                </a:lnTo>
                <a:lnTo>
                  <a:pt x="1400" y="1400"/>
                </a:lnTo>
                <a:close/>
              </a:path>
              <a:path fill="darken" w="40320" h="21600">
                <a:moveTo>
                  <a:pt x="40320" y="0"/>
                </a:moveTo>
                <a:lnTo>
                  <a:pt x="40320" y="21600"/>
                </a:lnTo>
                <a:lnTo>
                  <a:pt x="38920" y="20200"/>
                </a:lnTo>
                <a:lnTo>
                  <a:pt x="38920" y="1400"/>
                </a:lnTo>
                <a:close/>
              </a:path>
              <a:path fill="darkenLess" w="40320" h="21600">
                <a:moveTo>
                  <a:pt x="40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920" y="20200"/>
                </a:lnTo>
                <a:close/>
              </a:path>
              <a:path fill="lighten" w="40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320" h="21600">
                <a:moveTo>
                  <a:pt x="13154" y="7493"/>
                </a:moveTo>
                <a:lnTo>
                  <a:pt x="16661" y="7493"/>
                </a:lnTo>
                <a:lnTo>
                  <a:pt x="16661" y="12828"/>
                </a:lnTo>
                <a:cubicBezTo>
                  <a:pt x="16661" y="13751"/>
                  <a:pt x="17462" y="14482"/>
                  <a:pt x="18498" y="14482"/>
                </a:cubicBezTo>
                <a:lnTo>
                  <a:pt x="20160" y="14482"/>
                </a:lnTo>
                <a:cubicBezTo>
                  <a:pt x="21196" y="14482"/>
                  <a:pt x="21996" y="13751"/>
                  <a:pt x="21996" y="12828"/>
                </a:cubicBezTo>
                <a:lnTo>
                  <a:pt x="21996" y="7493"/>
                </a:lnTo>
                <a:lnTo>
                  <a:pt x="20160" y="7493"/>
                </a:lnTo>
                <a:lnTo>
                  <a:pt x="23668" y="3985"/>
                </a:lnTo>
                <a:lnTo>
                  <a:pt x="27341" y="7493"/>
                </a:lnTo>
                <a:lnTo>
                  <a:pt x="25504" y="7493"/>
                </a:lnTo>
                <a:lnTo>
                  <a:pt x="25504" y="12828"/>
                </a:lnTo>
                <a:cubicBezTo>
                  <a:pt x="25504" y="15596"/>
                  <a:pt x="22928" y="18155"/>
                  <a:pt x="20160" y="18155"/>
                </a:cubicBezTo>
                <a:lnTo>
                  <a:pt x="18498" y="18155"/>
                </a:lnTo>
                <a:cubicBezTo>
                  <a:pt x="15730" y="18155"/>
                  <a:pt x="13154" y="15596"/>
                  <a:pt x="13154" y="12828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>
            <a:hlinkClick r:id="" action="ppaction://hlinkshowjump?jump=previousslide"/>
          </p:cNvPr>
          <p:cNvSpPr/>
          <p:nvPr/>
        </p:nvSpPr>
        <p:spPr>
          <a:xfrm>
            <a:off x="8675640" y="6597720"/>
            <a:ext cx="73080" cy="71280"/>
          </a:xfrm>
          <a:custGeom>
            <a:avLst/>
            <a:gdLst>
              <a:gd name="textAreaLeft" fmla="*/ 4320 w 73080"/>
              <a:gd name="textAreaRight" fmla="*/ 68760 w 7308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22143" h="21600">
                <a:moveTo>
                  <a:pt x="0" y="0"/>
                </a:moveTo>
                <a:lnTo>
                  <a:pt x="22143" y="0"/>
                </a:lnTo>
                <a:lnTo>
                  <a:pt x="22143" y="21600"/>
                </a:lnTo>
                <a:lnTo>
                  <a:pt x="0" y="21600"/>
                </a:lnTo>
                <a:close/>
              </a:path>
              <a:path fill="lightenLess" w="22143" h="21600">
                <a:moveTo>
                  <a:pt x="0" y="0"/>
                </a:moveTo>
                <a:lnTo>
                  <a:pt x="22143" y="0"/>
                </a:lnTo>
                <a:lnTo>
                  <a:pt x="20743" y="1400"/>
                </a:lnTo>
                <a:lnTo>
                  <a:pt x="1400" y="1400"/>
                </a:lnTo>
                <a:close/>
              </a:path>
              <a:path fill="darken" w="22143" h="21600">
                <a:moveTo>
                  <a:pt x="22143" y="0"/>
                </a:moveTo>
                <a:lnTo>
                  <a:pt x="22143" y="21600"/>
                </a:lnTo>
                <a:lnTo>
                  <a:pt x="20743" y="20200"/>
                </a:lnTo>
                <a:lnTo>
                  <a:pt x="20743" y="1400"/>
                </a:lnTo>
                <a:close/>
              </a:path>
              <a:path fill="darkenLess" w="22143" h="21600">
                <a:moveTo>
                  <a:pt x="22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43" y="20200"/>
                </a:lnTo>
                <a:close/>
              </a:path>
              <a:path fill="lighten" w="22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43" h="21600">
                <a:moveTo>
                  <a:pt x="4065" y="7493"/>
                </a:moveTo>
                <a:lnTo>
                  <a:pt x="7572" y="7493"/>
                </a:lnTo>
                <a:lnTo>
                  <a:pt x="7572" y="12828"/>
                </a:lnTo>
                <a:cubicBezTo>
                  <a:pt x="7572" y="13751"/>
                  <a:pt x="8373" y="14482"/>
                  <a:pt x="9409" y="14482"/>
                </a:cubicBezTo>
                <a:lnTo>
                  <a:pt x="11071" y="14482"/>
                </a:lnTo>
                <a:cubicBezTo>
                  <a:pt x="12107" y="14482"/>
                  <a:pt x="12908" y="13751"/>
                  <a:pt x="12908" y="12828"/>
                </a:cubicBezTo>
                <a:lnTo>
                  <a:pt x="12908" y="7493"/>
                </a:lnTo>
                <a:lnTo>
                  <a:pt x="11071" y="7493"/>
                </a:lnTo>
                <a:lnTo>
                  <a:pt x="14579" y="3985"/>
                </a:lnTo>
                <a:lnTo>
                  <a:pt x="18252" y="7493"/>
                </a:lnTo>
                <a:lnTo>
                  <a:pt x="16415" y="7493"/>
                </a:lnTo>
                <a:lnTo>
                  <a:pt x="16415" y="12828"/>
                </a:lnTo>
                <a:cubicBezTo>
                  <a:pt x="16415" y="15596"/>
                  <a:pt x="13839" y="18155"/>
                  <a:pt x="11071" y="18155"/>
                </a:cubicBezTo>
                <a:lnTo>
                  <a:pt x="9409" y="18155"/>
                </a:lnTo>
                <a:cubicBezTo>
                  <a:pt x="6641" y="18155"/>
                  <a:pt x="4065" y="15596"/>
                  <a:pt x="4065" y="12828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вило шесто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28400" y="1357200"/>
            <a:ext cx="842940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Говорите правильно.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гда говорите правильно, не «сюсюкайте» с ребёнком. Ребёнок всегда должен слышать правильную речь для подражания. Запомните: Ваш ребёнок – это Ваше зерка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Все, что Вы говорит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все, что Вы делает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говорит и делает Ваш малыш.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8244000" y="6308640"/>
            <a:ext cx="720720" cy="549360"/>
          </a:xfrm>
          <a:custGeom>
            <a:avLst/>
            <a:gdLst>
              <a:gd name="textAreaLeft" fmla="*/ 35280 w 720720"/>
              <a:gd name="textAreaRight" fmla="*/ 685440 w 7207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333" h="21600">
                <a:moveTo>
                  <a:pt x="0" y="0"/>
                </a:moveTo>
                <a:lnTo>
                  <a:pt x="28333" y="0"/>
                </a:lnTo>
                <a:lnTo>
                  <a:pt x="28333" y="21600"/>
                </a:lnTo>
                <a:lnTo>
                  <a:pt x="0" y="21600"/>
                </a:lnTo>
                <a:close/>
              </a:path>
              <a:path fill="lightenLess" w="28333" h="21600">
                <a:moveTo>
                  <a:pt x="0" y="0"/>
                </a:moveTo>
                <a:lnTo>
                  <a:pt x="28333" y="0"/>
                </a:lnTo>
                <a:lnTo>
                  <a:pt x="26933" y="1400"/>
                </a:lnTo>
                <a:lnTo>
                  <a:pt x="1400" y="1400"/>
                </a:lnTo>
                <a:close/>
              </a:path>
              <a:path fill="darken" w="28333" h="21600">
                <a:moveTo>
                  <a:pt x="28333" y="0"/>
                </a:moveTo>
                <a:lnTo>
                  <a:pt x="28333" y="21600"/>
                </a:lnTo>
                <a:lnTo>
                  <a:pt x="26933" y="20200"/>
                </a:lnTo>
                <a:lnTo>
                  <a:pt x="26933" y="1400"/>
                </a:lnTo>
                <a:close/>
              </a:path>
              <a:path fill="darkenLess" w="28333" h="21600">
                <a:moveTo>
                  <a:pt x="283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3" y="20200"/>
                </a:lnTo>
                <a:close/>
              </a:path>
              <a:path fill="lighten" w="283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33" h="21600">
                <a:moveTo>
                  <a:pt x="7160" y="7493"/>
                </a:moveTo>
                <a:lnTo>
                  <a:pt x="10668" y="7493"/>
                </a:lnTo>
                <a:lnTo>
                  <a:pt x="10668" y="12828"/>
                </a:lnTo>
                <a:cubicBezTo>
                  <a:pt x="10668" y="13751"/>
                  <a:pt x="11468" y="14482"/>
                  <a:pt x="12504" y="14482"/>
                </a:cubicBezTo>
                <a:lnTo>
                  <a:pt x="14167" y="14482"/>
                </a:lnTo>
                <a:cubicBezTo>
                  <a:pt x="15202" y="14482"/>
                  <a:pt x="16003" y="13751"/>
                  <a:pt x="16003" y="12828"/>
                </a:cubicBezTo>
                <a:lnTo>
                  <a:pt x="16003" y="7493"/>
                </a:lnTo>
                <a:lnTo>
                  <a:pt x="14167" y="7493"/>
                </a:lnTo>
                <a:lnTo>
                  <a:pt x="17674" y="3985"/>
                </a:lnTo>
                <a:lnTo>
                  <a:pt x="21347" y="7493"/>
                </a:lnTo>
                <a:lnTo>
                  <a:pt x="19511" y="7493"/>
                </a:lnTo>
                <a:lnTo>
                  <a:pt x="19511" y="12828"/>
                </a:lnTo>
                <a:cubicBezTo>
                  <a:pt x="19511" y="15596"/>
                  <a:pt x="16934" y="18155"/>
                  <a:pt x="14167" y="18155"/>
                </a:cubicBezTo>
                <a:lnTo>
                  <a:pt x="12504" y="18155"/>
                </a:lnTo>
                <a:cubicBezTo>
                  <a:pt x="9736" y="18155"/>
                  <a:pt x="7160" y="15596"/>
                  <a:pt x="7160" y="12828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3:15:14Z</dcterms:created>
  <dc:creator>Ученик</dc:creator>
  <dc:description/>
  <dc:language>en-US</dc:language>
  <cp:lastModifiedBy>Егор</cp:lastModifiedBy>
  <dcterms:modified xsi:type="dcterms:W3CDTF">2015-10-06T05:31:58Z</dcterms:modified>
  <cp:revision>19</cp:revision>
  <dc:subject/>
  <dc:title>Как развивать речь ребенка?</dc:title>
</cp:coreProperties>
</file>