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839-FE61-4242-9E7A-9CBC6FDF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BE8-554D-4244-9AB1-1F6CC7D9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520-A090-4A09-97C2-A5D6009E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8EB-EE06-460A-B0B3-AC9B4F57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FD24-2233-49DB-A409-FA7ABA1D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BA9-303E-4178-9135-9154AEB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F1D4-6D4E-4CFC-A931-2265577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97A-C572-4B4B-8849-218138D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53D-3479-4A78-BCE3-808FF2EE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F52B-F0CF-49E9-8FFB-9E40F8F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82D-9F4E-49D1-A78D-7F71E905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93D-89B3-49A7-8A43-E3CDB4B5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FF87-7EE6-4CD8-AE1E-2441138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5B9E-3C7B-47B1-BDAD-6C9B794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4E7E-1B9E-42FC-AF48-28D31C3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97C-11C6-41D8-9BE8-94F0E22A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808-B709-412B-98C3-43EF64E4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453-2B35-4DE2-B5CE-9BEFE25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0D5-6681-4368-97DE-C54716B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EC5-6661-4F7D-AAC0-46191B05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BEC-7C34-4566-B049-9CBDB67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757-A159-455D-9BC0-B6CC3BA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588-0354-43CA-B016-BEEC3D4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846-DC79-4A78-B663-36CDD8E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82E-6F27-4CB7-96A7-FC94319255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E74-2F21-4AB9-A2C2-64D450710D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134200" cy="26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Как развивать речь ребёнк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http://im6-tub-ru.yandex.net/i?id=197232271-71-72&amp;n=21"/>
          <p:cNvPicPr/>
          <p:nvPr/>
        </p:nvPicPr>
        <p:blipFill>
          <a:blip r:embed="rId1"/>
          <a:stretch/>
        </p:blipFill>
        <p:spPr>
          <a:xfrm>
            <a:off x="7115040" y="5214960"/>
            <a:ext cx="20289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im5-tub-ru.yandex.net/i?id=489445054-68-72&amp;n=21"/>
          <p:cNvPicPr/>
          <p:nvPr/>
        </p:nvPicPr>
        <p:blipFill>
          <a:blip r:embed="rId2"/>
          <a:stretch/>
        </p:blipFill>
        <p:spPr>
          <a:xfrm>
            <a:off x="0" y="36432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2-tub-ru.yandex.net/i?id=392244881-31-72&amp;n=21"/>
          <p:cNvPicPr/>
          <p:nvPr/>
        </p:nvPicPr>
        <p:blipFill>
          <a:blip r:embed="rId3"/>
          <a:stretch/>
        </p:blipFill>
        <p:spPr>
          <a:xfrm rot="21037200">
            <a:off x="7714800" y="35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://im2-tub-ru.yandex.net/i?id=123858820-28-72&amp;n=21"/>
          <p:cNvPicPr/>
          <p:nvPr/>
        </p:nvPicPr>
        <p:blipFill>
          <a:blip r:embed="rId4"/>
          <a:stretch/>
        </p:blipFill>
        <p:spPr>
          <a:xfrm rot="20969400">
            <a:off x="2499840" y="42858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0-tub-ru.yandex.net/i?id=173987318-28-72&amp;n=21"/>
          <p:cNvPicPr/>
          <p:nvPr/>
        </p:nvPicPr>
        <p:blipFill>
          <a:blip r:embed="rId5"/>
          <a:stretch/>
        </p:blipFill>
        <p:spPr>
          <a:xfrm>
            <a:off x="428760" y="528624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http://im2-tub-ru.yandex.net/i?id=466204864-30-72&amp;n=21"/>
          <p:cNvPicPr/>
          <p:nvPr/>
        </p:nvPicPr>
        <p:blipFill>
          <a:blip r:embed="rId6"/>
          <a:stretch/>
        </p:blipFill>
        <p:spPr>
          <a:xfrm rot="632400">
            <a:off x="6130440" y="34160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http://im0-tub-ru.yandex.net/i?id=269989659-26-72&amp;n=21"/>
          <p:cNvPicPr/>
          <p:nvPr/>
        </p:nvPicPr>
        <p:blipFill>
          <a:blip r:embed="rId7"/>
          <a:stretch/>
        </p:blipFill>
        <p:spPr>
          <a:xfrm>
            <a:off x="3859200" y="4211640"/>
            <a:ext cx="2638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571680" y="2357280"/>
            <a:ext cx="7929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70b8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70b8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Уважаемые родители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ое слово - самый первый ш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ёнка на пути овладения велики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гучим родным языком.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оит самое слож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епить интер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ыша к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5635800" y="3314880"/>
            <a:ext cx="35082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Правила для усвоения и </a:t>
            </a: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Tahoma"/>
              </a:rPr>
              <a:t>закрепления речи дошкольник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1" action="ppaction://hlinksldjump"/>
              </a:rPr>
              <a:t>Правило пер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2" action="ppaction://hlinksldjump"/>
              </a:rPr>
              <a:t>Правило вто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3" action="ppaction://hlinksldjump"/>
              </a:rPr>
              <a:t>Правило тре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4" action="ppaction://hlinksldjump"/>
              </a:rPr>
              <a:t>Правило четвер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5" action="ppaction://hlinksldjump"/>
              </a:rPr>
              <a:t>Правило п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6" action="ppaction://hlinksldjump"/>
              </a:rPr>
              <a:t>Правило шес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5286240" y="3143160"/>
            <a:ext cx="39783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Не угадывайте мысли ребёнка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вайте ему вопросы и ждите ответов, даже если Вы и знаете буквально, что ответит Вам ваше чад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Users\TOSHIBA\AppData\Local\Microsoft\Windows\Temporary Internet Files\Content.IE5\J87HW4IU\MP900316850[1].jpg"/>
          <p:cNvPicPr/>
          <p:nvPr/>
        </p:nvPicPr>
        <p:blipFill>
          <a:blip r:embed="rId2"/>
          <a:stretch/>
        </p:blipFill>
        <p:spPr>
          <a:xfrm>
            <a:off x="712800" y="1427040"/>
            <a:ext cx="3127320" cy="477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перв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азговаривайте со своим ребёнком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но разговаривайт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ёнком, а н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ВОЗЛ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го, даже если он молчит. Стимулируйте ребёнка отвечать на вопросы, а не отвечайте на вопросы сами. А когда он ответит, задавайте вопросы ещё и ещё. Ребёнок в этом возрасте мыслит вслух. </a:t>
            </a:r>
            <a:br>
              <a:rPr sz="1800"/>
            </a:br>
            <a:br>
              <a:rPr sz="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31708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7493"/>
                </a:moveTo>
                <a:lnTo>
                  <a:pt x="10428" y="7493"/>
                </a:lnTo>
                <a:lnTo>
                  <a:pt x="10428" y="12828"/>
                </a:lnTo>
                <a:cubicBezTo>
                  <a:pt x="10428" y="13751"/>
                  <a:pt x="11228" y="14482"/>
                  <a:pt x="12264" y="14482"/>
                </a:cubicBezTo>
                <a:lnTo>
                  <a:pt x="13927" y="14482"/>
                </a:lnTo>
                <a:cubicBezTo>
                  <a:pt x="14962" y="14482"/>
                  <a:pt x="15763" y="13751"/>
                  <a:pt x="15763" y="12828"/>
                </a:cubicBezTo>
                <a:lnTo>
                  <a:pt x="15763" y="7493"/>
                </a:lnTo>
                <a:lnTo>
                  <a:pt x="13927" y="7493"/>
                </a:lnTo>
                <a:lnTo>
                  <a:pt x="17434" y="3985"/>
                </a:lnTo>
                <a:lnTo>
                  <a:pt x="21107" y="7493"/>
                </a:lnTo>
                <a:lnTo>
                  <a:pt x="19271" y="7493"/>
                </a:lnTo>
                <a:lnTo>
                  <a:pt x="19271" y="12828"/>
                </a:lnTo>
                <a:cubicBezTo>
                  <a:pt x="19271" y="15596"/>
                  <a:pt x="16694" y="18155"/>
                  <a:pt x="13927" y="18155"/>
                </a:cubicBezTo>
                <a:lnTo>
                  <a:pt x="12264" y="18155"/>
                </a:lnTo>
                <a:cubicBezTo>
                  <a:pt x="9496" y="18155"/>
                  <a:pt x="6920" y="15596"/>
                  <a:pt x="6920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втор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треть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Учите ребёнка говорить предложениями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начала любой малыш осваивает слова, затем словосочетания, фразы, а уж потом предложения. Помогите ему качественно пройти все эти три этапа усвоения речи. На прогулке, дома, в гостях, и везде. Указывая на предмет, узнайте у малыша,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, затем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КАК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то, а затем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ЗАЧ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то нужно. Повторите вслух всё, что сказал Ваш малыш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четвер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Переживайте день ещё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чером, перед сном, вспомните всё, что Вы с ребенком видели, слышали. Поговорите о том, чего бы хотел Ваш ребенок увидеть завтра. Стройте планы вместе на завтрашний день. Если Ваш ребёнок сегодня был не с Вами, узнайте у него, что было интересного, кого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дел, что узнал нового и интересного, чем чем занимался в течение дня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http://im2-tub.yandex.net/i?id=141530940-34-72"/>
          <p:cNvPicPr/>
          <p:nvPr/>
        </p:nvPicPr>
        <p:blipFill>
          <a:blip r:embed="rId1"/>
          <a:stretch/>
        </p:blipFill>
        <p:spPr>
          <a:xfrm>
            <a:off x="7572240" y="4438800"/>
            <a:ext cx="157176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6"/>
          <p:cNvSpPr/>
          <p:nvPr/>
        </p:nvSpPr>
        <p:spPr>
          <a:xfrm>
            <a:off x="7164360" y="638172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493"/>
                </a:moveTo>
                <a:lnTo>
                  <a:pt x="11580" y="7493"/>
                </a:lnTo>
                <a:lnTo>
                  <a:pt x="11580" y="12828"/>
                </a:lnTo>
                <a:cubicBezTo>
                  <a:pt x="11580" y="13751"/>
                  <a:pt x="12381" y="14482"/>
                  <a:pt x="13417" y="14482"/>
                </a:cubicBezTo>
                <a:lnTo>
                  <a:pt x="15079" y="14482"/>
                </a:lnTo>
                <a:cubicBezTo>
                  <a:pt x="16115" y="14482"/>
                  <a:pt x="16916" y="13751"/>
                  <a:pt x="16916" y="12828"/>
                </a:cubicBezTo>
                <a:lnTo>
                  <a:pt x="16916" y="7493"/>
                </a:lnTo>
                <a:lnTo>
                  <a:pt x="15079" y="7493"/>
                </a:lnTo>
                <a:lnTo>
                  <a:pt x="18587" y="3985"/>
                </a:lnTo>
                <a:lnTo>
                  <a:pt x="22260" y="7493"/>
                </a:lnTo>
                <a:lnTo>
                  <a:pt x="20423" y="7493"/>
                </a:lnTo>
                <a:lnTo>
                  <a:pt x="20423" y="12828"/>
                </a:lnTo>
                <a:cubicBezTo>
                  <a:pt x="20423" y="15596"/>
                  <a:pt x="17847" y="18155"/>
                  <a:pt x="15079" y="18155"/>
                </a:cubicBezTo>
                <a:lnTo>
                  <a:pt x="13417" y="18155"/>
                </a:lnTo>
                <a:cubicBezTo>
                  <a:pt x="10649" y="18155"/>
                  <a:pt x="8073" y="15596"/>
                  <a:pt x="8073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пя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Описывайте предметы сами, и просите описать предмет малы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ждый раз, когда Вы видите что-то яркое, обращайте внимание ребёнка на это и рассказывайте ребёнку об этом предмет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9" descr="kniga2.png"/>
          <p:cNvPicPr/>
          <p:nvPr/>
        </p:nvPicPr>
        <p:blipFill>
          <a:blip r:embed="rId1"/>
          <a:stretch/>
        </p:blipFill>
        <p:spPr>
          <a:xfrm>
            <a:off x="5276880" y="3714840"/>
            <a:ext cx="3898800" cy="31431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7493"/>
                </a:moveTo>
                <a:lnTo>
                  <a:pt x="16661" y="7493"/>
                </a:lnTo>
                <a:lnTo>
                  <a:pt x="16661" y="12828"/>
                </a:lnTo>
                <a:cubicBezTo>
                  <a:pt x="16661" y="13751"/>
                  <a:pt x="17462" y="14482"/>
                  <a:pt x="18498" y="14482"/>
                </a:cubicBezTo>
                <a:lnTo>
                  <a:pt x="20160" y="14482"/>
                </a:lnTo>
                <a:cubicBezTo>
                  <a:pt x="21196" y="14482"/>
                  <a:pt x="21996" y="13751"/>
                  <a:pt x="21996" y="12828"/>
                </a:cubicBezTo>
                <a:lnTo>
                  <a:pt x="21996" y="7493"/>
                </a:lnTo>
                <a:lnTo>
                  <a:pt x="20160" y="7493"/>
                </a:lnTo>
                <a:lnTo>
                  <a:pt x="23668" y="3985"/>
                </a:lnTo>
                <a:lnTo>
                  <a:pt x="27341" y="7493"/>
                </a:lnTo>
                <a:lnTo>
                  <a:pt x="25504" y="7493"/>
                </a:lnTo>
                <a:lnTo>
                  <a:pt x="25504" y="12828"/>
                </a:lnTo>
                <a:cubicBezTo>
                  <a:pt x="25504" y="15596"/>
                  <a:pt x="22928" y="18155"/>
                  <a:pt x="20160" y="18155"/>
                </a:cubicBezTo>
                <a:lnTo>
                  <a:pt x="18498" y="18155"/>
                </a:lnTo>
                <a:cubicBezTo>
                  <a:pt x="15730" y="18155"/>
                  <a:pt x="13154" y="15596"/>
                  <a:pt x="1315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previousslide"/>
          </p:cNvPr>
          <p:cNvSpPr/>
          <p:nvPr/>
        </p:nvSpPr>
        <p:spPr>
          <a:xfrm>
            <a:off x="8675640" y="659772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43" y="1400"/>
                </a:lnTo>
                <a:lnTo>
                  <a:pt x="1400" y="140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43" y="20200"/>
                </a:lnTo>
                <a:lnTo>
                  <a:pt x="20743" y="140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43" y="2020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43" h="21600">
                <a:moveTo>
                  <a:pt x="4065" y="7493"/>
                </a:moveTo>
                <a:lnTo>
                  <a:pt x="7572" y="7493"/>
                </a:lnTo>
                <a:lnTo>
                  <a:pt x="7572" y="12828"/>
                </a:lnTo>
                <a:cubicBezTo>
                  <a:pt x="7572" y="13751"/>
                  <a:pt x="8373" y="14482"/>
                  <a:pt x="9409" y="14482"/>
                </a:cubicBezTo>
                <a:lnTo>
                  <a:pt x="11071" y="14482"/>
                </a:lnTo>
                <a:cubicBezTo>
                  <a:pt x="12107" y="14482"/>
                  <a:pt x="12908" y="13751"/>
                  <a:pt x="12908" y="12828"/>
                </a:cubicBezTo>
                <a:lnTo>
                  <a:pt x="12908" y="7493"/>
                </a:lnTo>
                <a:lnTo>
                  <a:pt x="11071" y="7493"/>
                </a:lnTo>
                <a:lnTo>
                  <a:pt x="14579" y="3985"/>
                </a:lnTo>
                <a:lnTo>
                  <a:pt x="18252" y="7493"/>
                </a:lnTo>
                <a:lnTo>
                  <a:pt x="16415" y="7493"/>
                </a:lnTo>
                <a:lnTo>
                  <a:pt x="16415" y="12828"/>
                </a:lnTo>
                <a:cubicBezTo>
                  <a:pt x="16415" y="15596"/>
                  <a:pt x="13839" y="18155"/>
                  <a:pt x="11071" y="18155"/>
                </a:cubicBezTo>
                <a:lnTo>
                  <a:pt x="9409" y="18155"/>
                </a:lnTo>
                <a:cubicBezTo>
                  <a:pt x="6641" y="18155"/>
                  <a:pt x="4065" y="15596"/>
                  <a:pt x="4065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шес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429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Говорите правильно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гда говорите правильно, не «сюсюкайте» с ребёнком. Ребёнок всегда должен слышать правильную речь для подражания. Запомните: Ваш ребёнок – это Ваше зерка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се, что Вы говор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се, что Вы делае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говорит и делает Ваш малыш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24400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7493"/>
                </a:moveTo>
                <a:lnTo>
                  <a:pt x="10668" y="7493"/>
                </a:lnTo>
                <a:lnTo>
                  <a:pt x="10668" y="12828"/>
                </a:lnTo>
                <a:cubicBezTo>
                  <a:pt x="10668" y="13751"/>
                  <a:pt x="11468" y="14482"/>
                  <a:pt x="12504" y="14482"/>
                </a:cubicBezTo>
                <a:lnTo>
                  <a:pt x="14167" y="14482"/>
                </a:lnTo>
                <a:cubicBezTo>
                  <a:pt x="15202" y="14482"/>
                  <a:pt x="16003" y="13751"/>
                  <a:pt x="16003" y="12828"/>
                </a:cubicBezTo>
                <a:lnTo>
                  <a:pt x="16003" y="7493"/>
                </a:lnTo>
                <a:lnTo>
                  <a:pt x="14167" y="7493"/>
                </a:lnTo>
                <a:lnTo>
                  <a:pt x="17674" y="3985"/>
                </a:lnTo>
                <a:lnTo>
                  <a:pt x="21347" y="7493"/>
                </a:lnTo>
                <a:lnTo>
                  <a:pt x="19511" y="7493"/>
                </a:lnTo>
                <a:lnTo>
                  <a:pt x="19511" y="12828"/>
                </a:lnTo>
                <a:cubicBezTo>
                  <a:pt x="19511" y="15596"/>
                  <a:pt x="16934" y="18155"/>
                  <a:pt x="14167" y="18155"/>
                </a:cubicBezTo>
                <a:lnTo>
                  <a:pt x="12504" y="18155"/>
                </a:lnTo>
                <a:cubicBezTo>
                  <a:pt x="9736" y="18155"/>
                  <a:pt x="7160" y="15596"/>
                  <a:pt x="7160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3:15:14Z</dcterms:created>
  <dc:creator>Ученик</dc:creator>
  <dc:description/>
  <dc:language>en-US</dc:language>
  <cp:lastModifiedBy>Егор</cp:lastModifiedBy>
  <dcterms:modified xsi:type="dcterms:W3CDTF">2015-10-06T05:31:58Z</dcterms:modified>
  <cp:revision>19</cp:revision>
  <dc:subject/>
  <dc:title>Как развивать речь ребенка?</dc:title>
</cp:coreProperties>
</file>